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7.wmf" ContentType="image/x-wmf"/>
  <Override PartName="/ppt/media/image8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BAEA-D9EF-492F-AC5B-044F551ECE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57C1-ED4F-4E13-8211-3A455619A3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3BC5-674B-434A-9630-D82A33D772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02C1-4930-46EE-A1A9-E128EAB5B1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AD0B-7D0A-4CEF-9D19-A2DEC0B0CC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BD69-656C-4DA3-908A-E083319DAA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3C97-BAE1-4E4D-85E1-087DC8EE17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FAC5-4AA5-4133-AB43-96EFDC71CC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FDBD-E206-4722-B7EB-1AC72092F0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9D6A-B021-4702-857F-F6F492AEA9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228-E9CC-4474-B6B7-BDA6E308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61C-967A-4838-810D-8170EFFE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407-3157-473B-BCBB-9CF85B86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038-BEC7-42CF-86A0-0C6188FF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8DD-5143-476B-AB59-6C344B96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483-C2D0-47C0-AD0B-14D74A03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CED2-79EE-4D22-891A-6792B5FC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01A7-90B4-4622-89FA-27A66241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DE2-CE60-426C-8831-3C28C8D4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54F-6238-43B4-A243-D77FBDE6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8A4-CBE3-464E-BB98-606190A1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41F-9A6D-4995-BCF2-06DC78EC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DE42-75A6-4C61-ADF8-05E0D8DE23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990160" y="35712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БОУ «СОШ №1» г. Ем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492360" y="5734080"/>
            <a:ext cx="18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714240" y="1928880"/>
            <a:ext cx="7678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грессия в школ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143240" y="4214880"/>
            <a:ext cx="44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шакова Ирина Рыз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785960" y="128592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Методическая копи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500040" y="500040"/>
            <a:ext cx="8136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и  преодоления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Схема 3" descr=""/>
          <p:cNvPicPr/>
          <p:nvPr/>
        </p:nvPicPr>
        <p:blipFill>
          <a:blip r:embed="rId1"/>
          <a:stretch/>
        </p:blipFill>
        <p:spPr>
          <a:xfrm>
            <a:off x="390600" y="1639800"/>
            <a:ext cx="8418600" cy="4584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500040" y="665640"/>
            <a:ext cx="817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 дружб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филактика агрессивного поведения учащихся младшего школьного возраста в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пражнение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Сказки о добре и зл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пражнение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Разукрась шар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пражнение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Считалоч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пражнение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Бумаж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пражнение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Бумажный волейбол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520" y="2880"/>
            <a:ext cx="23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1800" y="1500120"/>
            <a:ext cx="18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57120" y="23760"/>
            <a:ext cx="835812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2. «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 дружный клас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дружного коллекти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пражнение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зывалки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пражнение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кончи предложения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пражнение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кажи, где в твоем теле прячется злост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пражнение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огоним нашу злость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826920" y="288360"/>
            <a:ext cx="685800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 добрый кла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детского коллекти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пражнение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работу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пражнение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ерево настроения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пражнение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Цветки желаний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ллективная работа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м из кирпичей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пражнение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зывалки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483"/>
          <p:cNvPicPr/>
          <p:nvPr/>
        </p:nvPicPr>
        <p:blipFill>
          <a:blip r:embed="rId1"/>
          <a:stretch/>
        </p:blipFill>
        <p:spPr>
          <a:xfrm>
            <a:off x="6786720" y="4071960"/>
            <a:ext cx="2143080" cy="2670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469"/>
          <p:cNvPicPr/>
          <p:nvPr/>
        </p:nvPicPr>
        <p:blipFill>
          <a:blip r:embed="rId1"/>
          <a:stretch/>
        </p:blipFill>
        <p:spPr>
          <a:xfrm>
            <a:off x="1763640" y="4365720"/>
            <a:ext cx="2762280" cy="2104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1619280" y="1628640"/>
            <a:ext cx="67309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Удачи в работ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4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000080" y="1545480"/>
            <a:ext cx="73580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Агресс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деструктивное поведение, которое противоречит нормам и правилам существования людей в обществе, приносящее физический и моральный ущерб людям, или вызывающее у них    психологический дискомфор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новные понят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Агрессивное поведен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действие, в ходе которого один человек наносит вред друг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Агрессивность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ойство лич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Агрессор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т, кто умышленно наносит вред другому: насмехается, дерётся, портит вещи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Жертва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к, которому умышленно наносит вред агрессо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Зрители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ппа свидетелей агрессивного поведения, которые сами не являются инициаторами агрессии, но, наблюдая, не встают на сторону жертвы, а иногда даже помогают агрессор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384200" y="1289160"/>
            <a:ext cx="592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239840" y="1504800"/>
            <a:ext cx="6861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ФИЗИЧЕСКАЯ АГР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ВЕРБАЛЬНАЯ АГР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КОСВЕННАЯ АГР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РАЗДРА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ПОДОЗРИ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ОБИ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НЕГАТИВ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WordArt 8" descr=""/>
          <p:cNvPicPr/>
          <p:nvPr/>
        </p:nvPicPr>
        <p:blipFill>
          <a:blip r:embed="rId1"/>
          <a:stretch/>
        </p:blipFill>
        <p:spPr>
          <a:xfrm>
            <a:off x="828720" y="401760"/>
            <a:ext cx="7169040" cy="155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hld128"/>
          <p:cNvPicPr/>
          <p:nvPr/>
        </p:nvPicPr>
        <p:blipFill>
          <a:blip r:embed="rId2"/>
          <a:stretch/>
        </p:blipFill>
        <p:spPr>
          <a:xfrm>
            <a:off x="7143840" y="477216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539640" y="404640"/>
            <a:ext cx="799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чины агрессии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14200" y="1773360"/>
            <a:ext cx="864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НИЗКИЙ УРОВЕНЬ ОБЩ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ОГРАНИЧЕНИЕ СВОБОДЫ, АКТИВНОСТИ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САМОВЫРА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ОТКЛОНЕНИЕ В ПОВЕДЕНИИ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 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(АЛКОГОЛИЗМ, НАРКОМА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ПРОБЛЕМЫ ВОС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НЕУМЕНИЕ ОТВЕЧАТЬ ЗА СВОИ ПОСТУП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КОМПЛЕКС НЕПОЛНОЦ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ЗАЩИТНАЯ РЕАКЦИЯ НА СТР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500040" y="428760"/>
            <a:ext cx="799308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явление агрессии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571760" y="1571760"/>
            <a:ext cx="568944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Д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УГРОЗ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ГРУБ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ОСКОРБ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ВСПЫЛЬЧИВ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КР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ОБИ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ЗЛ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443"/>
          <p:cNvPicPr/>
          <p:nvPr/>
        </p:nvPicPr>
        <p:blipFill>
          <a:blip r:embed="rId1"/>
          <a:stretch/>
        </p:blipFill>
        <p:spPr>
          <a:xfrm>
            <a:off x="6443640" y="4149720"/>
            <a:ext cx="2232000" cy="2519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00"/>
                            </p:stCondLst>
                            <p:childTnLst>
                              <p:par>
                                <p:cTn id="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50"/>
                            </p:stCondLst>
                            <p:childTnLst>
                              <p:par>
                                <p:cTn id="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300"/>
                            </p:stCondLst>
                            <p:childTnLst>
                              <p:par>
                                <p:cTn id="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30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40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100"/>
                            </p:stCondLst>
                            <p:childTnLst>
                              <p:par>
                                <p:cTn id="1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800"/>
                            </p:stCondLst>
                            <p:childTnLst>
                              <p:par>
                                <p:cTn id="1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785880" y="357120"/>
            <a:ext cx="741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едствия  агрессии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785960" y="1643040"/>
            <a:ext cx="705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УНИ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НАПР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ОЗЛОБЛ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РАЗОЧА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НЕВОЗМОЖНОСТЬ ДОСТИЧЬ Ц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БЕЗЫСХОД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ТРЕВО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БЕСПОМОЩ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НЕНУЖ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ОТВЕТНАЯ АГРЕСС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416"/>
          <p:cNvPicPr/>
          <p:nvPr/>
        </p:nvPicPr>
        <p:blipFill>
          <a:blip r:embed="rId1"/>
          <a:stretch/>
        </p:blipFill>
        <p:spPr>
          <a:xfrm>
            <a:off x="7380360" y="494172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451"/>
          <p:cNvPicPr/>
          <p:nvPr/>
        </p:nvPicPr>
        <p:blipFill>
          <a:blip r:embed="rId2"/>
          <a:stretch/>
        </p:blipFill>
        <p:spPr>
          <a:xfrm>
            <a:off x="0" y="3429000"/>
            <a:ext cx="1979640" cy="31035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750240" y="333360"/>
            <a:ext cx="775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</a:rPr>
              <a:t>ПОРТРЕТ АГРЕССИВНОГО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Овальная выноска 5"/>
          <p:cNvSpPr/>
          <p:nvPr/>
        </p:nvSpPr>
        <p:spPr>
          <a:xfrm>
            <a:off x="357120" y="928800"/>
            <a:ext cx="3214800" cy="2286000"/>
          </a:xfrm>
          <a:prstGeom prst="wedgeEllipseCallout">
            <a:avLst>
              <a:gd name="adj1" fmla="val 52027"/>
              <a:gd name="adj2" fmla="val 3678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214280" y="10000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рж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озрител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торож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иж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навиж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Блок-схема: магнитный диск 7"/>
          <p:cNvSpPr/>
          <p:nvPr/>
        </p:nvSpPr>
        <p:spPr>
          <a:xfrm>
            <a:off x="3571920" y="3714840"/>
            <a:ext cx="1785960" cy="2500200"/>
          </a:xfrm>
          <a:prstGeom prst="flowChartMagneticDisk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нутренний дискомфо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J0079099"/>
          <p:cNvPicPr/>
          <p:nvPr/>
        </p:nvPicPr>
        <p:blipFill>
          <a:blip r:embed="rId1"/>
          <a:stretch/>
        </p:blipFill>
        <p:spPr>
          <a:xfrm>
            <a:off x="3643200" y="2203560"/>
            <a:ext cx="1571760" cy="1771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500040" y="1357200"/>
            <a:ext cx="71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Солнце 9"/>
          <p:cNvSpPr/>
          <p:nvPr/>
        </p:nvSpPr>
        <p:spPr>
          <a:xfrm>
            <a:off x="6429240" y="928800"/>
            <a:ext cx="2286000" cy="1714320"/>
          </a:xfrm>
          <a:prstGeom prst="sun">
            <a:avLst>
              <a:gd name="adj" fmla="val 19375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Выгнутая вправо стрелка 10"/>
          <p:cNvSpPr/>
          <p:nvPr/>
        </p:nvSpPr>
        <p:spPr>
          <a:xfrm rot="7322400">
            <a:off x="2123640" y="3116160"/>
            <a:ext cx="839880" cy="1900440"/>
          </a:xfrm>
          <a:custGeom>
            <a:avLst/>
            <a:gdLst>
              <a:gd name="textAreaLeft" fmla="*/ 112320 w 839880"/>
              <a:gd name="textAreaRight" fmla="*/ 727560 w 839880"/>
              <a:gd name="textAreaTop" fmla="*/ 399240 h 1900440"/>
              <a:gd name="textAreaBottom" fmla="*/ 1384200 h 190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78" stAng="-5400000" swAng="5400000"/>
                <a:lnTo>
                  <a:pt x="21600" y="11193"/>
                </a:lnTo>
                <a:arcTo wR="21600" hR="9078" stAng="0" swAng="3506123"/>
                <a:lnTo>
                  <a:pt x="5400" y="21312"/>
                </a:lnTo>
                <a:lnTo>
                  <a:pt x="0" y="19214"/>
                </a:lnTo>
                <a:lnTo>
                  <a:pt x="5400" y="16539"/>
                </a:lnTo>
                <a:lnTo>
                  <a:pt x="5400" y="17868"/>
                </a:lnTo>
                <a:arcTo wR="21600" hR="9078" stAng="3506123" swAng="-3336800"/>
                <a:lnTo>
                  <a:pt x="21453" y="10136"/>
                </a:lnTo>
                <a:arcTo wR="21600" hR="9078" stAng="-169323" swAng="-5230677"/>
                <a:close/>
              </a:path>
              <a:path fill="darkenLess" w="21600" h="21600">
                <a:moveTo>
                  <a:pt x="0" y="0"/>
                </a:moveTo>
                <a:arcTo wR="21600" hR="9078" stAng="-5400000" swAng="5400000"/>
                <a:lnTo>
                  <a:pt x="21600" y="11193"/>
                </a:lnTo>
                <a:arcTo wR="21600" hR="9078" stAng="0" swAng="-169323"/>
                <a:lnTo>
                  <a:pt x="21453" y="10136"/>
                </a:lnTo>
                <a:arcTo wR="21600" hR="9078" stAng="-169323" swAng="-5230677"/>
                <a:close/>
              </a:path>
            </a:pathLst>
          </a:cu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Выгнутая влево стрелка 11"/>
          <p:cNvSpPr/>
          <p:nvPr/>
        </p:nvSpPr>
        <p:spPr>
          <a:xfrm rot="15267000">
            <a:off x="5982120" y="3408480"/>
            <a:ext cx="831960" cy="1928880"/>
          </a:xfrm>
          <a:custGeom>
            <a:avLst/>
            <a:gdLst>
              <a:gd name="textAreaLeft" fmla="*/ 111240 w 831960"/>
              <a:gd name="textAreaRight" fmla="*/ 720720 w 831960"/>
              <a:gd name="textAreaTop" fmla="*/ 404280 h 1928880"/>
              <a:gd name="textAreaBottom" fmla="*/ 1420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54" stAng="-5400000" swAng="-5400000"/>
                <a:lnTo>
                  <a:pt x="0" y="11382"/>
                </a:lnTo>
                <a:arcTo wR="21600" hR="9054" stAng="10800000" swAng="-3501977"/>
                <a:lnTo>
                  <a:pt x="16200" y="21313"/>
                </a:lnTo>
                <a:lnTo>
                  <a:pt x="21600" y="19271"/>
                </a:lnTo>
                <a:lnTo>
                  <a:pt x="16200" y="16655"/>
                </a:lnTo>
                <a:lnTo>
                  <a:pt x="16200" y="17820"/>
                </a:lnTo>
                <a:arcTo wR="21600" hR="9054" stAng="7298023" swAng="3315354"/>
                <a:lnTo>
                  <a:pt x="179" y="10217"/>
                </a:lnTo>
                <a:arcTo wR="21600" hR="9054" stAng="-10613377" swAng="5213377"/>
                <a:close/>
              </a:path>
              <a:path fill="darkenLess" w="21600" h="21600">
                <a:moveTo>
                  <a:pt x="21600" y="0"/>
                </a:moveTo>
                <a:arcTo wR="21600" hR="9054" stAng="-5400000" swAng="-5400000"/>
                <a:lnTo>
                  <a:pt x="0" y="9054"/>
                </a:lnTo>
                <a:arcTo wR="21600" hR="9054" stAng="10800000" swAng="-186623"/>
                <a:lnTo>
                  <a:pt x="179" y="10217"/>
                </a:lnTo>
                <a:arcTo wR="21600" hR="9054" stAng="-10613377" swAng="5213377"/>
                <a:close/>
              </a:path>
            </a:pathLst>
          </a:cu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5643720" y="2571840"/>
            <a:ext cx="307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Щ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место под солнце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7000920" y="128592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пл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6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6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82692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ритерии агрессив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ено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Часто теряет контроль над соб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Часто спорит, ругается с взросл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Часто отказывается выполнять прав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Часто специально раздражает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Часто винит других в своих ошиб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Часто сердится и отказывается сделать что-либ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Часто завистлив, мстител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Чувствителен, очень быстро реагирует  на различные действия окружающих (детей и взрослых), которые нередко раздражают е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дположить, что ребенок агрессивен, можно лишь в    том случае, если в течение не менее чем 6 месяцев в его поведении проявлялись хотя бы 4 из перечисленных призна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oycehovskiy</dc:creator>
  <dc:description/>
  <dc:language>en-US</dc:language>
  <cp:lastModifiedBy>Admin</cp:lastModifiedBy>
  <dcterms:modified xsi:type="dcterms:W3CDTF">2012-02-24T20:24:55Z</dcterms:modified>
  <cp:revision>46</cp:revision>
  <dc:subject/>
  <dc:title>PowerPoint Presentation</dc:title>
</cp:coreProperties>
</file>