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C92F-AA03-4DC4-AB5F-95B207B2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4B75-E8E0-445B-9AB5-6D14B89D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57A5-198E-4E1C-8C5D-F569BB77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967-B915-470B-80D4-E289A0D4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92D0A-4976-4EC1-9E06-10EE83E9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D0745-31F0-4D69-8D26-8E645265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16925-5CAB-44F0-A95E-5076A943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45ADB-7BD0-42E2-AB66-C2C4D8C3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53D6A-6439-49BD-8023-0B983F1F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2E10F-F67C-499D-8E9D-5F4A1F25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4DE3C-36BF-4BE2-B53E-1BC213FD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1D2A-D960-4A9A-A76B-82BB070D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F2A9B-A921-4D90-B801-614761A8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08915-DD84-4E55-9C90-11CE5D3A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CC3E5-A4CA-4A02-A54B-FEB0D9BD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C0A97-D6B8-4BF0-ABDE-C7F9BF48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0A8D0-41BB-4EB1-A8CB-D4E1947A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3329-651F-4132-80A6-0D647B21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DD04-1DF0-433F-AC73-65D0E3AE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4015-AE21-4AC2-BEE8-DF64DC1A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8151-0D84-4BA8-A9E6-BEEF8373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32D-93FD-45DA-A3D7-B7704D85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054A-82C8-4C50-97D5-CAD4B30B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ED19-514B-4A26-B031-01898250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3F6E-96A2-4309-991E-26C18CDDDB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5F9B-DCD3-440F-8930-D9D1B56D4A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Bradley Hand ITC"/>
              </a:rPr>
              <a:t>Disaster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6" descr="natural_disasters"/>
          <p:cNvPicPr/>
          <p:nvPr/>
        </p:nvPicPr>
        <p:blipFill>
          <a:blip r:embed="rId1"/>
          <a:stretch/>
        </p:blipFill>
        <p:spPr>
          <a:xfrm>
            <a:off x="1143000" y="988920"/>
            <a:ext cx="800100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 must be in safety in this situation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6" descr="Pompeii_the_last_day_1"/>
          <p:cNvPicPr/>
          <p:nvPr/>
        </p:nvPicPr>
        <p:blipFill>
          <a:blip r:embed="rId1"/>
          <a:stretch/>
        </p:blipFill>
        <p:spPr>
          <a:xfrm>
            <a:off x="2286000" y="1981080"/>
            <a:ext cx="4389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876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Our planet is in danger! Let's save the Earth!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6" descr="051910-Katrina-full1"/>
          <p:cNvPicPr/>
          <p:nvPr/>
        </p:nvPicPr>
        <p:blipFill>
          <a:blip r:embed="rId1"/>
          <a:stretch/>
        </p:blipFill>
        <p:spPr>
          <a:xfrm>
            <a:off x="1371600" y="380880"/>
            <a:ext cx="6583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These people keep our li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fe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8" descr="59a749b304ae661c4d7b3792a6d094c4"/>
          <p:cNvPicPr/>
          <p:nvPr/>
        </p:nvPicPr>
        <p:blipFill>
          <a:blip r:embed="rId1"/>
          <a:srcRect l="0" t="0" r="0" b="4758"/>
          <a:stretch/>
        </p:blipFill>
        <p:spPr>
          <a:xfrm>
            <a:off x="1066680" y="2468520"/>
            <a:ext cx="66531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t’s hurricane. It’s very dangerou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6" descr="519f6b"/>
          <p:cNvPicPr/>
          <p:nvPr/>
        </p:nvPicPr>
        <p:blipFill>
          <a:blip r:embed="rId1"/>
          <a:stretch/>
        </p:blipFill>
        <p:spPr>
          <a:xfrm>
            <a:off x="2514600" y="2446200"/>
            <a:ext cx="662940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t’s tornado. Be careful during this disaster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6" descr="2922559_f520"/>
          <p:cNvPicPr/>
          <p:nvPr/>
        </p:nvPicPr>
        <p:blipFill>
          <a:blip r:embed="rId1"/>
          <a:stretch/>
        </p:blipFill>
        <p:spPr>
          <a:xfrm>
            <a:off x="914400" y="2062080"/>
            <a:ext cx="61722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t’s flood. Be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careful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)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8" descr="050831_ex_floodHouse_Ex"/>
          <p:cNvPicPr/>
          <p:nvPr/>
        </p:nvPicPr>
        <p:blipFill>
          <a:blip r:embed="rId1"/>
          <a:stretch/>
        </p:blipFill>
        <p:spPr>
          <a:xfrm>
            <a:off x="990720" y="194328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t’s volcano. This disaster is very dangerous  for people)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" descr="VolcanoEruption"/>
          <p:cNvPicPr/>
          <p:nvPr/>
        </p:nvPicPr>
        <p:blipFill>
          <a:blip r:embed="rId1"/>
          <a:stretch/>
        </p:blipFill>
        <p:spPr>
          <a:xfrm>
            <a:off x="685800" y="1981080"/>
            <a:ext cx="4695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n’t worry) Be happy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6" descr="27354-149352-DisasterDayofCrisis8jpg-620x"/>
          <p:cNvPicPr/>
          <p:nvPr/>
        </p:nvPicPr>
        <p:blipFill>
          <a:blip r:embed="rId1"/>
          <a:stretch/>
        </p:blipFill>
        <p:spPr>
          <a:xfrm>
            <a:off x="1143000" y="1967040"/>
            <a:ext cx="720252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 careful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6" descr="27354-149352-DisasterDayofCrisis8jpg-620x"/>
          <p:cNvPicPr/>
          <p:nvPr/>
        </p:nvPicPr>
        <p:blipFill>
          <a:blip r:embed="rId1"/>
          <a:stretch/>
        </p:blipFill>
        <p:spPr>
          <a:xfrm>
            <a:off x="914400" y="1839960"/>
            <a:ext cx="739152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It can happen to you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6" descr="270508_180418_62253_15"/>
          <p:cNvPicPr/>
          <p:nvPr/>
        </p:nvPicPr>
        <p:blipFill>
          <a:blip r:embed="rId1"/>
          <a:stretch/>
        </p:blipFill>
        <p:spPr>
          <a:xfrm>
            <a:off x="838080" y="1957320"/>
            <a:ext cx="73152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2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t’s very dangerous)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6" descr="big-disaster-list"/>
          <p:cNvPicPr/>
          <p:nvPr/>
        </p:nvPicPr>
        <p:blipFill>
          <a:blip r:embed="rId1"/>
          <a:stretch/>
        </p:blipFill>
        <p:spPr>
          <a:xfrm>
            <a:off x="1981080" y="1905120"/>
            <a:ext cx="4953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охадзе </cp:lastModifiedBy>
  <dcterms:modified xsi:type="dcterms:W3CDTF">2012-02-23T10:04:3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