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7.jpeg" ContentType="image/jpeg"/>
  <Override PartName="/ppt/media/image12.png" ContentType="image/png"/>
  <Override PartName="/ppt/media/image20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6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B15-FFAD-4479-B121-8D3F7262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2F0-F29A-4586-95D8-CC68C039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BB3-D5CE-48BC-BC4F-0069990B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598-A8E8-4118-9923-82474CB5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DB15-9F72-4C5F-B367-10F15003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CEC3-6B27-41F0-BE25-836CD08F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54BD-C0EC-42FD-8A48-9128536F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951C-CD95-4CD2-8BD5-A413A27B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AFEF-FF92-43B7-9115-E404431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2B60-8880-48F6-B619-36632A3F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394E-F8E6-4B0D-9E1B-EF9AB81F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44E-8872-4D80-9C5D-B4E2FE93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EBDE-2E15-46E5-AC2F-7DBE6C22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5ECD-E9B8-4E17-A338-34215A32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A76B-23CD-4492-A1B2-789BB475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AFB5-48A2-405D-B8DA-9B28AC39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71A9-6E30-40E5-9DBF-AEC8729F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62694-E5B4-4DFF-B320-E71DA17B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C33D-54A2-49E5-B1AA-6328E9F7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B81C-A3C3-40FB-84CC-C227912C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845C0-8F9B-4AA8-BDA5-A604CB1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6411-B4C7-4878-8A98-137A1506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628-5BAF-4242-A8E7-DA9AF729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53F7-C863-4DCE-BDB2-8DD66C09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2A47-7FA9-4676-8600-747A4EFA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705DD-CD88-447A-A452-C3FC33CB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CF29-92D2-474F-9E19-97894AE9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8E84-95BC-437E-A0C4-184545E8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39A7-9A52-492B-8927-42540C65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D0337-9E3D-4AC2-BE50-6D14B3FA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F899-F2A4-48E7-89B5-21D8EB64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314C9-42DB-4C8D-AC64-616F22C7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2B16-37E4-4E3B-BCFA-60E08527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697-D667-496D-9715-FF745E43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21D2-ACAC-4A95-8C02-A464DACE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E048-8AEA-48C1-A6B5-3C4CA274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438CD-00CC-4B40-AE0B-E9224CEA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3BC0-3647-4F3D-A26F-8D780222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9C47C-A30C-4CA0-8A74-6CFE4546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2F4C1-80B2-4498-AE20-4256B6A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38467-6967-4521-AD7A-17EF3137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385F-554D-412F-8FA3-900F2CD3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279B-2CAE-41B4-8253-D2BCDC48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543-26F8-4F4D-8A0B-C98945CD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75E-3225-4E49-9617-F990D704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E35-3824-475A-9000-1A735B4D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716-6E8D-4C7C-A22E-8E0542C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445-85B6-4A4C-AF38-74A25E72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A57B-7470-40B6-AF8B-167527B20B9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AF4C-59FE-40C8-9790-C1661946DBD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7770-0A22-4DA6-B599-754D0E36D3C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24FE-6F58-4C69-9A9E-78DC3B94F77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alibri"/>
              </a:rPr>
              <a:t>Решение уравнений</a:t>
            </a:r>
            <a:br>
              <a:rPr sz="5000"/>
            </a:br>
            <a:r>
              <a:rPr b="1" lang="ru-RU" sz="5000" spc="-1" strike="noStrike">
                <a:solidFill>
                  <a:srgbClr val="c00000"/>
                </a:solidFill>
                <a:latin typeface="Calibri"/>
              </a:rPr>
              <a:t> сводящихся к квадратны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499840" y="3429000"/>
            <a:ext cx="62866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«Предмет математики настолько серьезен,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что полезно не упускать случаев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делать  его немного занимательным»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О. Паскал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4" descr="G:\Из школы\Коллекция картинок (Microsoft)\j0428261.wmf"/>
          <p:cNvPicPr/>
          <p:nvPr/>
        </p:nvPicPr>
        <p:blipFill>
          <a:blip r:embed="rId1"/>
          <a:stretch/>
        </p:blipFill>
        <p:spPr>
          <a:xfrm>
            <a:off x="428760" y="4500720"/>
            <a:ext cx="1649160" cy="157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714240" y="1071720"/>
            <a:ext cx="757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2)  Решить уравнение     2х</a:t>
            </a:r>
            <a:r>
              <a:rPr b="0" lang="ru-RU" sz="4800" spc="-1" strike="noStrike" baseline="30000">
                <a:solidFill>
                  <a:srgbClr val="c00000"/>
                </a:solidFill>
                <a:latin typeface="Times New Roman"/>
                <a:ea typeface="Calibri"/>
              </a:rPr>
              <a:t>2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=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0" lang="ru-RU" sz="4800" spc="-1" strike="noStrike" baseline="30000">
                <a:solidFill>
                  <a:srgbClr val="c00000"/>
                </a:solidFill>
                <a:latin typeface="Times New Roman"/>
                <a:ea typeface="Calibri"/>
              </a:rPr>
              <a:t>2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=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х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2143080" y="4357800"/>
            <a:ext cx="55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a839"/>
                </a:solidFill>
                <a:latin typeface="Times New Roman"/>
                <a:ea typeface="Calibri"/>
              </a:rPr>
              <a:t>верное решение: х = ±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420840" y="781200"/>
            <a:ext cx="11387160" cy="30844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643040" y="3428640"/>
            <a:ext cx="678672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2428"/>
                </a:solidFill>
                <a:latin typeface="Constantia"/>
              </a:rPr>
              <a:t>верное решение: х</a:t>
            </a:r>
            <a:r>
              <a:rPr b="1" lang="ru-RU" sz="3200" spc="-1" strike="noStrike" baseline="-25000">
                <a:solidFill>
                  <a:srgbClr val="072428"/>
                </a:solidFill>
                <a:latin typeface="Constantia"/>
              </a:rPr>
              <a:t>1</a:t>
            </a:r>
            <a:r>
              <a:rPr b="1" lang="ru-RU" sz="3200" spc="-1" strike="noStrike">
                <a:solidFill>
                  <a:srgbClr val="072428"/>
                </a:solidFill>
                <a:latin typeface="Constantia"/>
              </a:rPr>
              <a:t>+х</a:t>
            </a:r>
            <a:r>
              <a:rPr b="1" lang="ru-RU" sz="3200" spc="-1" strike="noStrike" baseline="-25000">
                <a:solidFill>
                  <a:srgbClr val="072428"/>
                </a:solidFill>
                <a:latin typeface="Constantia"/>
              </a:rPr>
              <a:t>2</a:t>
            </a:r>
            <a:r>
              <a:rPr b="1" lang="ru-RU" sz="3200" spc="-1" strike="noStrike">
                <a:solidFill>
                  <a:srgbClr val="072428"/>
                </a:solidFill>
                <a:latin typeface="Constanti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2428"/>
                </a:solidFill>
                <a:latin typeface="Constantia"/>
              </a:rPr>
              <a:t>                                                                 </a:t>
            </a:r>
            <a:r>
              <a:rPr b="1" lang="ru-RU" sz="3200" spc="-1" strike="noStrike">
                <a:solidFill>
                  <a:srgbClr val="072428"/>
                </a:solidFill>
                <a:latin typeface="Constantia"/>
              </a:rPr>
              <a:t>х</a:t>
            </a:r>
            <a:r>
              <a:rPr b="1" lang="ru-RU" sz="3200" spc="-1" strike="noStrike" baseline="-25000">
                <a:solidFill>
                  <a:srgbClr val="072428"/>
                </a:solidFill>
                <a:latin typeface="Constantia"/>
              </a:rPr>
              <a:t>1</a:t>
            </a:r>
            <a:r>
              <a:rPr b="1" lang="ru-RU" sz="3200" spc="-1" strike="noStrike">
                <a:solidFill>
                  <a:srgbClr val="072428"/>
                </a:solidFill>
                <a:latin typeface="Constantia"/>
              </a:rPr>
              <a:t>х</a:t>
            </a:r>
            <a:r>
              <a:rPr b="1" lang="ru-RU" sz="3200" spc="-1" strike="noStrike" baseline="-25000">
                <a:solidFill>
                  <a:srgbClr val="072428"/>
                </a:solidFill>
                <a:latin typeface="Constantia"/>
              </a:rPr>
              <a:t>2</a:t>
            </a:r>
            <a:r>
              <a:rPr b="1" lang="ru-RU" sz="3200" spc="-1" strike="noStrike">
                <a:solidFill>
                  <a:srgbClr val="072428"/>
                </a:solidFill>
                <a:latin typeface="Constanti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3"/>
          <a:stretch/>
        </p:blipFill>
        <p:spPr>
          <a:xfrm>
            <a:off x="7358040" y="3286080"/>
            <a:ext cx="285840" cy="9730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4"/>
          <a:stretch/>
        </p:blipFill>
        <p:spPr>
          <a:xfrm>
            <a:off x="5572080" y="4357800"/>
            <a:ext cx="285840" cy="85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Экскурсия</a:t>
            </a: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.</a:t>
            </a: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619440" y="349740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428760" y="122544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387360" y="1643040"/>
            <a:ext cx="2398680" cy="1857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3500280" y="4857840"/>
            <a:ext cx="1857600" cy="1235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4"/>
          <a:stretch/>
        </p:blipFill>
        <p:spPr>
          <a:xfrm>
            <a:off x="3429000" y="1714680"/>
            <a:ext cx="1928880" cy="1282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5"/>
          <a:stretch/>
        </p:blipFill>
        <p:spPr>
          <a:xfrm>
            <a:off x="6429240" y="4500720"/>
            <a:ext cx="2381400" cy="1571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6"/>
          <a:stretch/>
        </p:blipFill>
        <p:spPr>
          <a:xfrm>
            <a:off x="6072120" y="1714680"/>
            <a:ext cx="2643120" cy="183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7"/>
          <a:stretch/>
        </p:blipFill>
        <p:spPr>
          <a:xfrm>
            <a:off x="428760" y="4500720"/>
            <a:ext cx="2286000" cy="1687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14240" y="5349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714240" y="571680"/>
            <a:ext cx="7523280" cy="564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onstantia"/>
              </a:rPr>
              <a:t>Главный соборный храм Цогчен-дуган построен в 1976 году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857160" y="785880"/>
            <a:ext cx="7520040" cy="50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Constantia"/>
              </a:rPr>
              <a:t>Вес скульптуры памятника В.И. Ленину -42 тонны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784080" y="928800"/>
            <a:ext cx="7577280" cy="50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2"/>
          <a:stretch/>
        </p:blipFill>
        <p:spPr>
          <a:xfrm>
            <a:off x="450720" y="1749600"/>
            <a:ext cx="8521920" cy="458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928800" y="539640"/>
            <a:ext cx="7500960" cy="503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-214200" y="0"/>
            <a:ext cx="9874080" cy="7072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щадь этнографического музея 37 гектар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357200" y="555480"/>
            <a:ext cx="6000840" cy="565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Constantia"/>
              </a:rPr>
              <a:t>Высота памятника Гэсэру  составляет 9 метров ( вместе с копьем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7286400" cy="484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ерный театр основан в 1939 году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400960" cy="351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ru-RU" sz="9600" spc="-1" strike="noStrike">
                <a:solidFill>
                  <a:srgbClr val="c00000"/>
                </a:solidFill>
                <a:latin typeface="Calibri"/>
              </a:rPr>
              <a:t>Мастер-класс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оект №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760" y="1500120"/>
            <a:ext cx="85010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Докажите, что уравнение не имеет корн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(х</a:t>
            </a:r>
            <a:r>
              <a:rPr b="1" lang="ru-RU" sz="2600" spc="-1" strike="noStrike">
                <a:solidFill>
                  <a:srgbClr val="c00000"/>
                </a:solidFill>
                <a:latin typeface="Cambria Math"/>
                <a:ea typeface="Cambria Math"/>
              </a:rPr>
              <a:t>² +2х +2)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 (х</a:t>
            </a:r>
            <a:r>
              <a:rPr b="1" lang="ru-RU" sz="2600" spc="-1" strike="noStrike">
                <a:solidFill>
                  <a:srgbClr val="c00000"/>
                </a:solidFill>
                <a:latin typeface="Cambria Math"/>
                <a:ea typeface="Cambria Math"/>
              </a:rPr>
              <a:t>² -4х +5) =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Решение:   (( </a:t>
            </a: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х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² +2х +1) +1)(( </a:t>
            </a: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х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² -4х +4) +1) =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                        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((х+1)² +1)((х-2)² +1) =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                         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т.к. (х+1)² ≥0, то  (х+1)² +1 ≥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          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аналогично    (х-2)²≥ 0, то (х-2)² + 1 ≥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          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значит      </a:t>
            </a: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х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² +2х +2 = 1 и   </a:t>
            </a: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х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² -4х +5 =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                             </a:t>
            </a: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х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² +2х +1= 0          </a:t>
            </a: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х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² -4х +4=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                             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х =-1                           х=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                                                    </a:t>
            </a:r>
            <a:r>
              <a:rPr b="1" lang="ru-RU" sz="2600" spc="-1" strike="noStrike">
                <a:solidFill>
                  <a:srgbClr val="0070c0"/>
                </a:solidFill>
                <a:latin typeface="Cambria Math"/>
                <a:ea typeface="Cambria Math"/>
              </a:rPr>
              <a:t>Ответ: нет реш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2"/>
          <a:stretch/>
        </p:blipFill>
        <p:spPr>
          <a:xfrm>
            <a:off x="566640" y="281160"/>
            <a:ext cx="7656480" cy="1285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28400" y="1571400"/>
            <a:ext cx="8715240" cy="4786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95959"/>
                </a:solidFill>
                <a:latin typeface="Constantia"/>
              </a:rPr>
              <a:t>Решить уравнение   2(х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² +    </a:t>
            </a:r>
            <a:r>
              <a:rPr b="1" lang="ru-RU" sz="3200" spc="-1" strike="noStrike">
                <a:solidFill>
                  <a:srgbClr val="595959"/>
                </a:solidFill>
                <a:latin typeface="Cambria Math"/>
                <a:ea typeface="Cambria Math"/>
              </a:rPr>
              <a:t>    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) – 7( х +       ) +9 =0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Решение:  Заменим  х+          = </a:t>
            </a:r>
            <a:r>
              <a:rPr b="1" lang="en-US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t 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;  </a:t>
            </a:r>
            <a:r>
              <a:rPr b="1" lang="en-US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 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⇒</a:t>
            </a:r>
            <a:r>
              <a:rPr b="1" lang="ru-RU" sz="2600" spc="-1" strike="noStrike">
                <a:solidFill>
                  <a:srgbClr val="595959"/>
                </a:solidFill>
                <a:latin typeface="Constantia"/>
              </a:rPr>
              <a:t> (х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 +    </a:t>
            </a:r>
            <a:r>
              <a:rPr b="1" lang="ru-RU" sz="3200" spc="-1" strike="noStrike">
                <a:solidFill>
                  <a:srgbClr val="595959"/>
                </a:solidFill>
                <a:latin typeface="Cambria Math"/>
                <a:ea typeface="Cambria Math"/>
              </a:rPr>
              <a:t>    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) ² =</a:t>
            </a:r>
            <a:r>
              <a:rPr b="1" lang="en-US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t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         ⇒   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х²+2х          +            = </a:t>
            </a:r>
            <a:r>
              <a:rPr b="1" lang="en-US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t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²      ⇒   х² +          = </a:t>
            </a:r>
            <a:r>
              <a:rPr b="1" lang="en-US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t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² -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        ⇒    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2(</a:t>
            </a:r>
            <a:r>
              <a:rPr b="1" lang="en-US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t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²-2 )- 7</a:t>
            </a:r>
            <a:r>
              <a:rPr b="1" lang="en-US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t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  +9 = 0       ⇒ ⇒    2</a:t>
            </a:r>
            <a:r>
              <a:rPr b="1" lang="en-US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t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²- 7</a:t>
            </a:r>
            <a:r>
              <a:rPr b="1" lang="en-US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t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  +5 = 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         ⇒</a:t>
            </a:r>
            <a:r>
              <a:rPr b="1" lang="en-US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t₁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 =1; </a:t>
            </a:r>
            <a:r>
              <a:rPr b="1" lang="en-US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 t</a:t>
            </a:r>
            <a:r>
              <a:rPr b="1" lang="ru-RU" sz="2600" spc="-1" strike="noStrike">
                <a:solidFill>
                  <a:srgbClr val="595959"/>
                </a:solidFill>
                <a:latin typeface="Cambria Math"/>
                <a:ea typeface="Cambria Math"/>
              </a:rPr>
              <a:t>₂ =2,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5"/>
              <p:cNvSpPr txBox="1"/>
              <p:nvPr/>
            </p:nvSpPr>
            <p:spPr>
              <a:xfrm>
                <a:off x="4572000" y="1285920"/>
                <a:ext cx="50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6"/>
              <p:cNvSpPr txBox="1"/>
              <p:nvPr/>
            </p:nvSpPr>
            <p:spPr>
              <a:xfrm>
                <a:off x="6357960" y="1285920"/>
                <a:ext cx="6429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6"/>
              <p:cNvSpPr txBox="1"/>
              <p:nvPr/>
            </p:nvSpPr>
            <p:spPr>
              <a:xfrm>
                <a:off x="3857760" y="2357280"/>
                <a:ext cx="64296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9"/>
              <p:cNvSpPr txBox="1"/>
              <p:nvPr/>
            </p:nvSpPr>
            <p:spPr>
              <a:xfrm>
                <a:off x="6357960" y="2214720"/>
                <a:ext cx="6429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0"/>
              <p:cNvSpPr txBox="1"/>
              <p:nvPr/>
            </p:nvSpPr>
            <p:spPr>
              <a:xfrm>
                <a:off x="3500280" y="3357720"/>
                <a:ext cx="50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1"/>
              <p:cNvSpPr txBox="1"/>
              <p:nvPr/>
            </p:nvSpPr>
            <p:spPr>
              <a:xfrm>
                <a:off x="2500200" y="3286080"/>
                <a:ext cx="64296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2"/>
              <p:cNvSpPr txBox="1"/>
              <p:nvPr/>
            </p:nvSpPr>
            <p:spPr>
              <a:xfrm>
                <a:off x="6429240" y="3357720"/>
                <a:ext cx="50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2"/>
          <a:stretch/>
        </p:blipFill>
        <p:spPr>
          <a:xfrm>
            <a:off x="566640" y="853920"/>
            <a:ext cx="8180640" cy="18892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571320" y="34290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3600" spc="-1" strike="noStrike">
                <a:solidFill>
                  <a:srgbClr val="262626"/>
                </a:solidFill>
                <a:latin typeface="Constantia"/>
              </a:rPr>
              <a:t>Ответ : х₁ = 0,</a:t>
            </a:r>
            <a:r>
              <a:rPr b="0" lang="en-US" sz="3600" spc="-1" strike="noStrike">
                <a:solidFill>
                  <a:srgbClr val="262626"/>
                </a:solidFill>
                <a:latin typeface="Constantia"/>
              </a:rPr>
              <a:t>5</a:t>
            </a:r>
            <a:r>
              <a:rPr b="0" lang="ru-RU" sz="3600" spc="-1" strike="noStrike">
                <a:solidFill>
                  <a:srgbClr val="262626"/>
                </a:solidFill>
                <a:latin typeface="Constantia"/>
              </a:rPr>
              <a:t>;     х₂ =2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3357720" y="185724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6715080" y="1857240"/>
                <a:ext cx="642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2"/>
          <a:stretch/>
        </p:blipFill>
        <p:spPr>
          <a:xfrm>
            <a:off x="566640" y="480960"/>
            <a:ext cx="7583760" cy="11588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28400" y="1714320"/>
            <a:ext cx="8358120" cy="450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Решить уравнение     (х</a:t>
            </a:r>
            <a:r>
              <a:rPr b="1" lang="ru-RU" sz="2600" spc="-1" strike="noStrike">
                <a:solidFill>
                  <a:srgbClr val="c00000"/>
                </a:solidFill>
                <a:latin typeface="Cambria Math"/>
                <a:ea typeface="Cambria Math"/>
              </a:rPr>
              <a:t>² -2х -3)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ambria Math"/>
                <a:ea typeface="Cambria Math"/>
              </a:rPr>
              <a:t>²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+(х</a:t>
            </a:r>
            <a:r>
              <a:rPr b="1" lang="ru-RU" sz="2600" spc="-1" strike="noStrike">
                <a:solidFill>
                  <a:srgbClr val="c00000"/>
                </a:solidFill>
                <a:latin typeface="Cambria Math"/>
                <a:ea typeface="Cambria Math"/>
              </a:rPr>
              <a:t>² -5х +6) ²= 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6a3"/>
                </a:solidFill>
                <a:latin typeface="Cambria Math"/>
                <a:ea typeface="Cambria Math"/>
              </a:rPr>
              <a:t>Решение:     </a:t>
            </a:r>
            <a:r>
              <a:rPr b="1" lang="ru-RU" sz="2600" spc="-1" strike="noStrike">
                <a:solidFill>
                  <a:srgbClr val="0076a3"/>
                </a:solidFill>
                <a:latin typeface="Constantia"/>
              </a:rPr>
              <a:t>(х</a:t>
            </a:r>
            <a:r>
              <a:rPr b="1" lang="ru-RU" sz="2600" spc="-1" strike="noStrike">
                <a:solidFill>
                  <a:srgbClr val="0076a3"/>
                </a:solidFill>
                <a:latin typeface="Cambria Math"/>
                <a:ea typeface="Cambria Math"/>
              </a:rPr>
              <a:t>² -2х -3)</a:t>
            </a:r>
            <a:r>
              <a:rPr b="1" lang="ru-RU" sz="26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76a3"/>
                </a:solidFill>
                <a:latin typeface="Cambria Math"/>
                <a:ea typeface="Cambria Math"/>
              </a:rPr>
              <a:t>² = 0   и               </a:t>
            </a:r>
            <a:r>
              <a:rPr b="1" lang="ru-RU" sz="2600" spc="-1" strike="noStrike">
                <a:solidFill>
                  <a:srgbClr val="0076a3"/>
                </a:solidFill>
                <a:latin typeface="Constantia"/>
              </a:rPr>
              <a:t>(х</a:t>
            </a:r>
            <a:r>
              <a:rPr b="1" lang="ru-RU" sz="2600" spc="-1" strike="noStrike">
                <a:solidFill>
                  <a:srgbClr val="0076a3"/>
                </a:solidFill>
                <a:latin typeface="Cambria Math"/>
                <a:ea typeface="Cambria Math"/>
              </a:rPr>
              <a:t>² -5х +6) ² = 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6a3"/>
                </a:solidFill>
                <a:latin typeface="Cambria Math"/>
                <a:ea typeface="Cambria Math"/>
              </a:rPr>
              <a:t>                          </a:t>
            </a:r>
            <a:r>
              <a:rPr b="1" lang="ru-RU" sz="2600" spc="-1" strike="noStrike">
                <a:solidFill>
                  <a:srgbClr val="0076a3"/>
                </a:solidFill>
                <a:latin typeface="Constantia"/>
              </a:rPr>
              <a:t>х</a:t>
            </a:r>
            <a:r>
              <a:rPr b="1" lang="ru-RU" sz="2600" spc="-1" strike="noStrike">
                <a:solidFill>
                  <a:srgbClr val="0076a3"/>
                </a:solidFill>
                <a:latin typeface="Cambria Math"/>
                <a:ea typeface="Cambria Math"/>
              </a:rPr>
              <a:t>² -2х -3 = 0                            </a:t>
            </a:r>
            <a:r>
              <a:rPr b="1" lang="ru-RU" sz="2600" spc="-1" strike="noStrike">
                <a:solidFill>
                  <a:srgbClr val="0076a3"/>
                </a:solidFill>
                <a:latin typeface="Constantia"/>
              </a:rPr>
              <a:t>х</a:t>
            </a:r>
            <a:r>
              <a:rPr b="1" lang="ru-RU" sz="2600" spc="-1" strike="noStrike">
                <a:solidFill>
                  <a:srgbClr val="0076a3"/>
                </a:solidFill>
                <a:latin typeface="Cambria Math"/>
                <a:ea typeface="Cambria Math"/>
              </a:rPr>
              <a:t>² -5х +6 = 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6a3"/>
                </a:solidFill>
                <a:latin typeface="Cambria Math"/>
                <a:ea typeface="Cambria Math"/>
              </a:rPr>
              <a:t>                           </a:t>
            </a:r>
            <a:r>
              <a:rPr b="1" lang="ru-RU" sz="2600" spc="-1" strike="noStrike">
                <a:solidFill>
                  <a:srgbClr val="0076a3"/>
                </a:solidFill>
                <a:latin typeface="Cambria Math"/>
                <a:ea typeface="Cambria Math"/>
              </a:rPr>
              <a:t>х₁ = 3;  х ₂= - 1                       х₁ = 3;  х ₂= 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6a3"/>
                </a:solidFill>
                <a:latin typeface="Cambria Math"/>
                <a:ea typeface="Cambria Math"/>
              </a:rPr>
              <a:t>                                                                </a:t>
            </a:r>
            <a:r>
              <a:rPr b="1" lang="ru-RU" sz="2600" spc="-1" strike="noStrike">
                <a:solidFill>
                  <a:srgbClr val="0076a3"/>
                </a:solidFill>
                <a:latin typeface="Cambria Math"/>
                <a:ea typeface="Cambria Math"/>
              </a:rPr>
              <a:t>Ответ:  х = 3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Тип урока: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рок совершенствования и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           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систематизации знаний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4200" y="1571760"/>
            <a:ext cx="8715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разовательная: Повторить и систематизировать знания по данной теме при этом максимально развивая способности учеников, закрепить способы решения уравн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ющая: развивать мышление, накапливать способы математической деятельности с помощью наблюдения опыта , обобще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итательная: Привить интерес и любовь к родному город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7626240" cy="5072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Constantia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Constantia"/>
              </a:rPr>
              <a:t>за урок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9e6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714240" y="1019520"/>
            <a:ext cx="77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лан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Организационный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Проверка готовности к путешеств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Устранение неисправ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Достопримечательности Буря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Мастер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Итог ур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d0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 rot="21373800">
            <a:off x="369720" y="263160"/>
            <a:ext cx="8137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Arial Black"/>
              </a:rPr>
              <a:t>Проверка готовности экипаж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Arial Black"/>
              <a:ea typeface="Arial Black"/>
            </a:endParaRPr>
          </a:p>
        </p:txBody>
      </p:sp>
      <p:sp>
        <p:nvSpPr>
          <p:cNvPr id="204" name="Прямоугольник 12"/>
          <p:cNvSpPr/>
          <p:nvPr/>
        </p:nvSpPr>
        <p:spPr>
          <a:xfrm>
            <a:off x="214200" y="1143000"/>
            <a:ext cx="86439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52480" indent="-38088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285840" y="1428840"/>
            <a:ext cx="8572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атематика - это история, история развития человеческой мысли, интеллекта. А когда люди научились решать квадратные урав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ревние греки - Евклид и другие ученые - решали геометрическим путем. Задачи, которые они решали, имели практическую направленность. Например, найти сторону квадрата по его площади, или радиус круга тоже по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357120" y="1214280"/>
            <a:ext cx="857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 Древнем Вавилоне образованные люди (это были жрецы и чиновники) умели решать задачи на определение длины и ширины прямоугольника по площади и перимет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агдад 9 век. Математик аль-Хорезми предлагает правило решения квадратных уравнений в точности соответствующее действиям по нашим формулам, но изложено риторически.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у x²+10x=39 он формулировал так: квадрат и десять его корней равно 39. Затем дальше действовали по правилу и поверьте, считали устно, но очень быстро, находя корни таких уравнений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4929120" y="178596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Франсуа Ви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viet"/>
          <p:cNvPicPr/>
          <p:nvPr/>
        </p:nvPicPr>
        <p:blipFill>
          <a:blip r:embed="rId1"/>
          <a:stretch/>
        </p:blipFill>
        <p:spPr>
          <a:xfrm>
            <a:off x="357120" y="2286000"/>
            <a:ext cx="7858080" cy="431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285840" y="285840"/>
          <a:ext cx="7215120" cy="2041560"/>
        </p:xfrm>
        <a:graphic>
          <a:graphicData uri="http://schemas.openxmlformats.org/drawingml/2006/table">
            <a:tbl>
              <a:tblPr/>
              <a:tblGrid>
                <a:gridCol w="7215120"/>
              </a:tblGrid>
              <a:tr h="174600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10b0"/>
                          </a:solidFill>
                          <a:latin typeface="Constantia"/>
                        </a:rPr>
                        <a:t>Выдающий французский математик 16 века Франсуа Виет ввел для коэффициентов буквы и получил равенство, связывающее корни уравнения (и не только второй степени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10b0"/>
                          </a:solidFill>
                          <a:latin typeface="Times New Roman"/>
                          <a:ea typeface="Times New Roman"/>
                        </a:rPr>
                        <a:t>Виет (1540-1603) сделал решающий шаг, введя символику во все алгебраические доказательства путем применения буквенных обо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7920" rIns="7920" tIns="7920" bIns="79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249120" y="208080"/>
            <a:ext cx="8613720" cy="871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500040" y="1500120"/>
            <a:ext cx="82152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357120" y="1643040"/>
            <a:ext cx="8358120" cy="45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равнение вида ax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x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=0 называется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скриминант находится по формуле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=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. Есл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&gt; 0, то квадратное уравнение имеет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. Если D =0, то уравнение имеет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. Есл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 &lt;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то уравн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. Уравнение ax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x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=0  примет вид линейного, ес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7. Какие знаки имеют корни уравнения 2х² +6х – 2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8. Уравнение вида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x +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=0 называ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9. Уравнения вида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x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=0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x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x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=0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x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=0, где а ≠ 0, b ≠ 0, с ≠ 0 называю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357120" y="1092240"/>
            <a:ext cx="82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Устранение неисправ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йди ошибку: 1) Решить уравнение    х</a:t>
            </a:r>
            <a:r>
              <a:rPr b="1" lang="ru-RU" sz="3600" spc="-1" strike="noStrike" baseline="30000">
                <a:solidFill>
                  <a:srgbClr val="ff0000"/>
                </a:solidFill>
                <a:latin typeface="Times New Roman"/>
                <a:ea typeface="Calibri"/>
              </a:rPr>
              <a:t>2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–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(х-2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Times New Roman"/>
                <a:ea typeface="Calibri"/>
              </a:rPr>
              <a:t>2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-8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х</a:t>
            </a:r>
            <a:r>
              <a:rPr b="1" lang="ru-RU" sz="3600" spc="-1" strike="noStrike" baseline="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- х</a:t>
            </a:r>
            <a:r>
              <a:rPr b="1" lang="ru-RU" sz="3600" spc="-1" strike="noStrike" baseline="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-4х+4-8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-4х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х=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c9b74"/>
                </a:solidFill>
                <a:latin typeface="Times New Roman"/>
                <a:ea typeface="Calibri"/>
              </a:rPr>
              <a:t>верное решение: х = ±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2:38:04Z</dcterms:created>
  <dc:creator>Shurik</dc:creator>
  <dc:description/>
  <dc:language>en-US</dc:language>
  <cp:lastModifiedBy>Shurik</cp:lastModifiedBy>
  <dcterms:modified xsi:type="dcterms:W3CDTF">2011-04-11T14:15:14Z</dcterms:modified>
  <cp:revision>117</cp:revision>
  <dc:subject/>
  <dc:title>Слайд 1</dc:title>
</cp:coreProperties>
</file>