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A39-CA3C-4C73-9CA5-C4451FD3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FA4-97A3-4F22-9F2D-BF7ED390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046-75F0-4BEE-9669-475449F4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0F5-3336-44C3-838D-A3A474CE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B44-637E-41EC-9747-6486BF67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A1F9-3147-45F4-A175-B41C4367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15F-9FF6-4519-84CE-F40A29E1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917-60A1-4406-9473-A2589B14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2E0-696C-4475-B82B-1CDA1703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BF0-8AB1-4B39-983E-69B6A36A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CAF-E7AF-44FE-A543-120E21EF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3E1F-029E-44B7-9499-2E49600B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6CF5-EC8C-4498-9289-293582CD4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31/346/31346460_JohnIsaac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delmangallery.com/balog2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laycast.ru/uploads/work/306864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llf.ru/uploads/posts/2007-10/thumbs/1192654245_75747640.ue8oxahu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lovari.yandex.ru/~&#1082;&#1085;&#1080;&#1075;&#1080;/&#1041;&#1057;&#1069;/&#1052;&#1086;&#1088;&#1072;&#1083;&#1100;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ический ди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артинка 16 из 10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819520"/>
            <a:ext cx="5077080" cy="363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Картинка 46 из 10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209680"/>
            <a:ext cx="4057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«Открытый» финал как возможность последующего индивидуального размышления над пробле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утверждения и отрицания рождается истина (Л.Фейхванг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11 из 10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2971800"/>
            <a:ext cx="5077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щение к истокам этической мысли: «В гостях у философов». Последовательность логически связанных проблем и альтернативных суждений мыслителей с включением афоризмов, различных высказываний, биографических и исторических свед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дение аналогий и сопоставлений с актуальными вопросами и проблемами современной жизни, вычленение и осмысление тождественного в них. Включение эмоционально-образных элементов: игровых моментов, стимулирующих материалов, музыкальных и художественных фрагментов, упражнений, экспериментов, тес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Говорят, истина лежит между двумя противоположными мнениями. Неверно! Между ними лежит проблем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И.В.Ге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Картинка 12 из 64000"/>
          <p:cNvPicPr/>
          <p:nvPr/>
        </p:nvPicPr>
        <p:blipFill>
          <a:blip r:embed="rId1"/>
          <a:stretch/>
        </p:blipFill>
        <p:spPr>
          <a:xfrm>
            <a:off x="2057400" y="2362320"/>
            <a:ext cx="4848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есть истина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есть добро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есть зл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10 из 10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819520"/>
            <a:ext cx="5077080" cy="356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Картинка 44 из 1018"/>
          <p:cNvPicPr/>
          <p:nvPr/>
        </p:nvPicPr>
        <p:blipFill>
          <a:blip r:embed="rId3"/>
          <a:stretch/>
        </p:blipFill>
        <p:spPr>
          <a:xfrm>
            <a:off x="5029200" y="2743200"/>
            <a:ext cx="3800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42670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философская наука, объектом изучения которой является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ораль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нравственность как форма общественного сознания, как одна из важнейших сторон жизнедеятельности человека, специфическое явление общественно-историческ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1 из 40824"/>
          <p:cNvPicPr/>
          <p:nvPr/>
        </p:nvPicPr>
        <p:blipFill>
          <a:blip r:embed="rId2"/>
          <a:stretch/>
        </p:blipFill>
        <p:spPr>
          <a:xfrm>
            <a:off x="4724280" y="914400"/>
            <a:ext cx="3600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19360" y="457200"/>
            <a:ext cx="4267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стина не рождается и не находится в голове отдельного человека. Она рождается между людьми, совместно ищущими истину, в процессе их диалогического общения» (М.М.Бахт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стина есть совместное мышление»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льгельм Виндельбан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9 из 64000"/>
          <p:cNvPicPr/>
          <p:nvPr/>
        </p:nvPicPr>
        <p:blipFill>
          <a:blip r:embed="rId1"/>
          <a:stretch/>
        </p:blipFill>
        <p:spPr>
          <a:xfrm>
            <a:off x="457200" y="27432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ический диалог с подростками — четко и логически выстроенный педагогом сюжет, начало, развитие и кульминация которого позволяет погружать детей на уровне их возрастных особенностей и способностей личного восприятия в мир этических категорий и культур, в сферу мышления выдающихся философов, в противоречия этических учений, в историю развития этической мы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Завязка, выявляющая пробле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агностирующая метод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блемная ситу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ьтернативное су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равственная коллиз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инка 9 из 40824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роцесс диалогического общения по выявленной проблеме и обращение к личности уча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видуальные и групповые обоснования альтернативных суж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ленение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улирование определившихся поз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 высказываний, афор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Точка интеллектуального и эмоционального напряжения как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льминация сопряжения альтернативных позиций, суж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153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ждение, которое объективно выводит на нерешенные «вечные» проблемы человеческого бытия, не заканчивается в данном диалоге. Оно оставляется для индивидуального размыш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Нравственный выбор как внутренний диалог подростка с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ой, как самоопределение, самооц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9:15:12Z</dcterms:created>
  <dc:creator>User</dc:creator>
  <dc:description/>
  <dc:language>en-US</dc:language>
  <cp:lastModifiedBy>Customer</cp:lastModifiedBy>
  <dcterms:modified xsi:type="dcterms:W3CDTF">2010-11-01T20:59:2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