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BEC11-DCD6-4064-B385-61B8EA8CD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0E22E-4B74-47F5-BA80-5128D51F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A9ABC-BD67-44CF-AEFA-CE216EEFC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2A99B-EAEA-4E1B-990B-932880FA0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FA1B2-413D-4E0D-871F-DD6AA8EB1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22BA-DE6B-4D00-ABEB-208E9666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A681-64D3-493C-90B3-557CD2F6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04BF3-C54E-4AD2-BF9E-3FABCD54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A323-BEE1-47DC-AE48-69C83DA9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51342-6317-46EE-B7D1-6612A745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93912-C245-4AA2-9B2C-02E8F890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8E5D6-E1A9-4C21-B797-F030045A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A98F-7839-4779-A39E-D270C458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CE8C-1A97-440A-954E-4268DCB2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493C-C86C-4DA6-831C-5325CD7F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A7B0-340E-4325-8F22-2D70C23A6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3B3F9-7BF2-43A7-AE37-D566B47F8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B41F6-4EDC-4BEF-A7FB-67F49C6A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2F81A-01FB-4CC4-BED4-C5C49BA5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B984E-93BA-43E6-B358-DAFECA6B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1D826-F904-4D40-AB54-A688D251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428F5-E67C-4D09-854E-A63EFFC3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39C75-31FF-4F22-A97F-4EB2DF5E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CBF8B-BBEA-421D-8589-89995A52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A7A1-B06D-4315-BD88-066D19C02FF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88B9-F56F-4CED-AE48-69EEB07C424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5640" y="836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aa68"/>
                </a:solidFill>
                <a:latin typeface="Tahoma"/>
              </a:rPr>
              <a:t>Дворцовые перевороты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25892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Tahoma"/>
              </a:rPr>
              <a:t>Внутренняя политик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492360" y="2421000"/>
            <a:ext cx="1914840" cy="20667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2aa68"/>
                </a:solidFill>
                <a:latin typeface="Tahoma"/>
              </a:rPr>
              <a:t>Государственные деятел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6920" y="1600200"/>
            <a:ext cx="252108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19280" y="1700280"/>
            <a:ext cx="2521080" cy="32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219640" y="1700280"/>
            <a:ext cx="2519280" cy="32367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292720" y="515772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Tahoma"/>
              </a:rPr>
              <a:t>Бурхард Кристо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Tahoma"/>
              </a:rPr>
              <a:t>Мин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187280" y="1628640"/>
            <a:ext cx="2522880" cy="32594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258920" y="51004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Tahoma"/>
              </a:rPr>
              <a:t>Эрнст - Иога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Tahoma"/>
              </a:rPr>
              <a:t>Бир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2aa68"/>
                </a:solidFill>
                <a:latin typeface="Tahoma"/>
              </a:rPr>
              <a:t>Иван Антонович 1740 - 1741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359892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рауншвейгская династия на российском престол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странение от власти Бирона усилиями Б.Х.Миних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рьба за власть внутри правящей верхуш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овый дворцовый переворот, свержение Ивана Антонович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царение Елизаветы Петров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8320" y="1700280"/>
            <a:ext cx="30924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643280" y="1700280"/>
            <a:ext cx="3097440" cy="3657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2aa68"/>
                </a:solidFill>
                <a:latin typeface="Tahoma"/>
              </a:rPr>
              <a:t>Елизавета Петровна 1741 - 1761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29509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995640" y="1599840"/>
            <a:ext cx="4176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сстановила Сена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Tahoma"/>
              </a:rPr>
              <a:t>1753 г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– отмена внутренних таможенных пошли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Tahoma"/>
              </a:rPr>
              <a:t>1744 – 1747 гг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– проведена перепись податного насел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Tahoma"/>
              </a:rPr>
              <a:t>1753 г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– открытие Дворянского бан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Усилился крепостной гнет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не разрешалось крестьянам по собственной воле поступать на военную служб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разрешалось дворянам продавать крестьян в рекру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помещики получили право ссылать неугодных крестьян в Сибир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2933640" cy="3600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203640" y="1773360"/>
            <a:ext cx="2352600" cy="28796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2325600" cy="2880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5867280" y="476280"/>
            <a:ext cx="2295720" cy="28814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276720" y="508464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Иван Ива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Шувал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3716280"/>
            <a:ext cx="24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Алексей Григорьевич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Разумов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39200" y="3716280"/>
            <a:ext cx="246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Михаил Василь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Ломоно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2aa68"/>
                </a:solidFill>
                <a:latin typeface="Tahoma"/>
              </a:rPr>
              <a:t>Пётр </a:t>
            </a:r>
            <a:r>
              <a:rPr b="0" lang="en-US" sz="4200" spc="-1" strike="noStrike">
                <a:solidFill>
                  <a:srgbClr val="f2aa68"/>
                </a:solidFill>
                <a:latin typeface="Tahoma"/>
              </a:rPr>
              <a:t>III 1761 - 1762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икчемный монарх , отрицательно относившийся ко всему русском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Tahoma"/>
              </a:rPr>
              <a:t>1762 г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– издал Манифест «О вольности дворянской» - освободил дворян от обязательной военной служб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Tahoma"/>
              </a:rPr>
              <a:t>1762 г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– провел секуляризацию церковных земел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иквидировал тайную канцеляри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03640" y="1628280"/>
            <a:ext cx="237672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003640" y="1628640"/>
            <a:ext cx="2379960" cy="33130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993200" y="5172120"/>
            <a:ext cx="23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Карл Петер Ульр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2aa68"/>
                </a:solidFill>
                <a:latin typeface="Tahoma"/>
              </a:rPr>
              <a:t>Екатерина </a:t>
            </a:r>
            <a:r>
              <a:rPr b="0" lang="en-US" sz="4200" spc="-1" strike="noStrike">
                <a:solidFill>
                  <a:srgbClr val="f2aa68"/>
                </a:solidFill>
                <a:latin typeface="Tahoma"/>
              </a:rPr>
              <a:t>II </a:t>
            </a:r>
            <a:r>
              <a:rPr b="0" lang="ru-RU" sz="4200" spc="-1" strike="noStrike">
                <a:solidFill>
                  <a:srgbClr val="f2aa68"/>
                </a:solidFill>
                <a:latin typeface="Tahoma"/>
              </a:rPr>
              <a:t>1762 - 1796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259272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995640" y="1599840"/>
            <a:ext cx="446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«Просвещенный абсолютизм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овела ряд прогрессивных реформ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государственно- административные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губернская реформ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полицейская рефор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финансовая рефор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образовательная рефор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1800" spc="-1" strike="noStrike">
                <a:solidFill>
                  <a:srgbClr val="66ff33"/>
                </a:solidFill>
                <a:latin typeface="Tahoma"/>
              </a:rPr>
              <a:t>Ликвидировала гетман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Издала 2 «Жалованные грамоты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. Дворянств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Города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2640240" cy="33847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900000" y="5229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00000" y="5084640"/>
            <a:ext cx="246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Tahoma"/>
              </a:rPr>
              <a:t>Софья Августа Фредер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Tahoma"/>
              </a:rPr>
              <a:t>Ангальт - Цербст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2aa68"/>
                </a:solidFill>
                <a:latin typeface="Tahoma"/>
              </a:rPr>
              <a:t>Павел </a:t>
            </a:r>
            <a:r>
              <a:rPr b="0" lang="en-US" sz="4200" spc="-1" strike="noStrike">
                <a:solidFill>
                  <a:srgbClr val="f2aa68"/>
                </a:solidFill>
                <a:latin typeface="Tahoma"/>
              </a:rPr>
              <a:t>I </a:t>
            </a:r>
            <a:r>
              <a:rPr b="0" lang="ru-RU" sz="4200" spc="-1" strike="noStrike">
                <a:solidFill>
                  <a:srgbClr val="f2aa68"/>
                </a:solidFill>
                <a:latin typeface="Tahoma"/>
              </a:rPr>
              <a:t>1796 - 1801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Tahoma"/>
              </a:rPr>
              <a:t>1797 г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– принял закон о престолонаслед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граничил привилегии дворя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апретил ношение шляп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граничил барщину до 3 д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становил налоги для дворя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вел телесные наказания по суд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апретил ввоз иностранных кни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03640" y="1628280"/>
            <a:ext cx="26640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003640" y="1628640"/>
            <a:ext cx="2686320" cy="3384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2aa68"/>
                </a:solidFill>
                <a:latin typeface="Tahoma"/>
              </a:rPr>
              <a:t>Дворцовые переворот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мена власти в результате борьбы группировок внутри господствующего класса при опоре на гвардейские пол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иод дворцовых переворотов </a:t>
            </a:r>
            <a:r>
              <a:rPr b="0" lang="ru-RU" sz="1800" spc="-1" strike="noStrike">
                <a:solidFill>
                  <a:srgbClr val="0066ff"/>
                </a:solidFill>
                <a:latin typeface="Tahoma"/>
              </a:rPr>
              <a:t>1725 – 176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 это время сменилось 6 правител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результате 7 был убит Павел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престол перешёл к Александру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76360" y="1557360"/>
            <a:ext cx="251964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076720" y="1557360"/>
            <a:ext cx="2519640" cy="3527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654440" y="5229360"/>
            <a:ext cx="320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Tahoma"/>
              </a:rPr>
              <a:t>И.Никити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Tahoma"/>
              </a:rPr>
              <a:t>«Пётр </a:t>
            </a: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I </a:t>
            </a:r>
            <a:r>
              <a:rPr b="0" lang="ru-RU" sz="1800" spc="-1" strike="noStrike">
                <a:solidFill>
                  <a:srgbClr val="0066ff"/>
                </a:solidFill>
                <a:latin typeface="Tahoma"/>
              </a:rPr>
              <a:t>на смертном одр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2aa68"/>
                </a:solidFill>
                <a:latin typeface="Tahoma"/>
              </a:rPr>
              <a:t>Предпосылки переворот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1640" y="1483920"/>
            <a:ext cx="3600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тиворечие между группировкой «старой» знати и «новой», выдвинувшейся в эпоху петровских рефор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5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страя борьба за вла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5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бострение проблем престолонаследия </a:t>
            </a:r>
            <a:r>
              <a:rPr b="0" lang="en-US" sz="2000" spc="-1" strike="noStrike">
                <a:solidFill>
                  <a:srgbClr val="0066ff"/>
                </a:solidFill>
                <a:latin typeface="Tahoma"/>
              </a:rPr>
              <a:t>1722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5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рушение традиц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4000" y="2349360"/>
            <a:ext cx="39607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3962160" cy="2457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77480" y="5084640"/>
            <a:ext cx="43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Зимний дворец. Художник М.Махае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2aa68"/>
                </a:solidFill>
                <a:latin typeface="Tahoma"/>
              </a:rPr>
              <a:t>Правители эпох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3382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катерина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ётр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нна Ивано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ван Антонови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лизавета Петро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ётр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I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катерина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авел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4720" y="1844280"/>
            <a:ext cx="395928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284720" y="1844640"/>
            <a:ext cx="3960720" cy="3541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2aa68"/>
                </a:solidFill>
                <a:latin typeface="Tahoma"/>
              </a:rPr>
              <a:t>Екатерина </a:t>
            </a:r>
            <a:r>
              <a:rPr b="0" lang="en-US" sz="4200" spc="-1" strike="noStrike">
                <a:solidFill>
                  <a:srgbClr val="f2aa68"/>
                </a:solidFill>
                <a:latin typeface="Tahoma"/>
              </a:rPr>
              <a:t>I </a:t>
            </a:r>
            <a:r>
              <a:rPr b="0" lang="ru-RU" sz="4200" spc="-1" strike="noStrike">
                <a:solidFill>
                  <a:srgbClr val="f2aa68"/>
                </a:solidFill>
                <a:latin typeface="Tahoma"/>
              </a:rPr>
              <a:t>1725 - 1727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28083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1164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33"/>
                </a:solidFill>
                <a:latin typeface="Tahoma"/>
              </a:rPr>
              <a:t>1725 г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– открытие Академии нау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33"/>
                </a:solidFill>
                <a:latin typeface="Tahoma"/>
              </a:rPr>
              <a:t>1726 г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– создание Верховного Тайного Сове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совет вошли 7 человек: </a:t>
            </a:r>
            <a:r>
              <a:rPr b="0" lang="ru-RU" sz="1800" spc="-1" strike="noStrike">
                <a:solidFill>
                  <a:srgbClr val="0066ff"/>
                </a:solidFill>
                <a:latin typeface="Tahoma"/>
              </a:rPr>
              <a:t>А.Д.Меншиков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Ф.М.Апраксин, П.А.Толстой, Д.М.Голицын, Г.И.Головкин, </a:t>
            </a:r>
            <a:r>
              <a:rPr b="0" lang="ru-RU" sz="1800" spc="-1" strike="noStrike">
                <a:solidFill>
                  <a:srgbClr val="0066ff"/>
                </a:solidFill>
                <a:latin typeface="Tahoma"/>
              </a:rPr>
              <a:t>А.И.Остерман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А.Г.Долгорук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Верховники» - так в исторической литературе называют членов последнего состава сове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33"/>
                </a:solidFill>
                <a:latin typeface="Tahoma"/>
              </a:rPr>
              <a:t>1730 г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– распущен Анной Ивановн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2832120" cy="3529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52400" y="5373720"/>
            <a:ext cx="23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Tahoma"/>
              </a:rPr>
              <a:t>Марта Скаврон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ерховник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2305080" cy="31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580000" y="1557360"/>
            <a:ext cx="230040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2378160" cy="32385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24160" y="4941720"/>
            <a:ext cx="26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Tahoma"/>
              </a:rPr>
              <a:t>Александр Данил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Tahoma"/>
              </a:rPr>
              <a:t>Менш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580000" y="1557360"/>
            <a:ext cx="2303640" cy="3240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569920" y="5013360"/>
            <a:ext cx="227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Андрей Иванович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Остерм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3780000" y="2349360"/>
            <a:ext cx="1143000" cy="18860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2aa68"/>
                </a:solidFill>
                <a:latin typeface="Tahoma"/>
              </a:rPr>
              <a:t>Пётр </a:t>
            </a:r>
            <a:r>
              <a:rPr b="0" lang="en-US" sz="4200" spc="-1" strike="noStrike">
                <a:solidFill>
                  <a:srgbClr val="f2aa68"/>
                </a:solidFill>
                <a:latin typeface="Tahoma"/>
              </a:rPr>
              <a:t>II </a:t>
            </a:r>
            <a:r>
              <a:rPr b="0" lang="ru-RU" sz="4200" spc="-1" strike="noStrike">
                <a:solidFill>
                  <a:srgbClr val="f2aa68"/>
                </a:solidFill>
                <a:latin typeface="Tahoma"/>
              </a:rPr>
              <a:t>1727 - 1730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зошел на престол по завещанию Екатерины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рьба за власть между А.Д.Меншиковым и князьями Долгорукими, а так же А.И.Остерман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727 г. – ссылка Меншикова и его семью в Сибирь </a:t>
            </a:r>
            <a:r>
              <a:rPr b="0" lang="ru-RU" sz="1800" spc="-1" strike="noStrike">
                <a:solidFill>
                  <a:srgbClr val="0066ff"/>
                </a:solidFill>
                <a:latin typeface="Tahoma"/>
              </a:rPr>
              <a:t>«полудержавного властелина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88000" y="1628280"/>
            <a:ext cx="302400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788000" y="1628640"/>
            <a:ext cx="3036960" cy="3981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2aa68"/>
                </a:solidFill>
                <a:latin typeface="Tahoma"/>
              </a:rPr>
              <a:t>Анна Ивановна 1730 - 1740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295092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995640" y="1557000"/>
            <a:ext cx="4330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ставление «Кондиций» для будущей императриц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3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Эрнст-Иоганн Бирон – фаворит Анны Иванов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3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аспустила ВТС, создала Кабинет министров – </a:t>
            </a:r>
            <a:r>
              <a:rPr b="0" lang="en-US" sz="1800" spc="-1" strike="noStrike">
                <a:solidFill>
                  <a:srgbClr val="66ff33"/>
                </a:solidFill>
                <a:latin typeface="Tahoma"/>
              </a:rPr>
              <a:t>1731 г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из 3 министров во главе с </a:t>
            </a: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А.И.Остерман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3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тменила указ о престолонаслед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3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Tahoma"/>
              </a:rPr>
              <a:t>1736 г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– сократила срок службы до 25 л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2968560" cy="3957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14:01:46Z</dcterms:created>
  <dc:creator>Boeva</dc:creator>
  <dc:description/>
  <dc:language>en-US</dc:language>
  <cp:lastModifiedBy>Boeva</cp:lastModifiedBy>
  <dcterms:modified xsi:type="dcterms:W3CDTF">2008-02-07T20:23:05Z</dcterms:modified>
  <cp:revision>5</cp:revision>
  <dc:subject/>
  <dc:title>Дворцовые перевороты</dc:title>
</cp:coreProperties>
</file>