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519-01C3-4780-9FCD-6C213967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E2C-3BCD-4C63-834C-51DFA931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63C-1A9D-4739-AB5C-06298EFE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844-92A2-4060-8080-782FB425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763-900D-4F29-9114-702D5AD4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A5F-A471-44E0-8CFC-BA8F8972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80C-A1DB-4F90-8ECE-F49CEEDE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D0D-22A6-49C1-923D-528AAB52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89C-FE6F-40E8-8B2A-0884B155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DD9-DFCA-4A7E-A806-4C5C172F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028-0504-4C52-82B0-82996BB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D17-DB15-40BA-AE63-5DA7621A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34FA-F4A2-4DAF-A779-3686D4676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осфор и его 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сфор  Р +15)2е)8е)5е        15р,15е,16п   степени окисл -3,0,+3,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бел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ёрн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ё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молекулярная Р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ом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омна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9687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Качественная реакц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 фосфат ион- ионы сереб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3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3=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g3PO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K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этом выпадает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жёлтый осад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итрата сер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3206880"/>
            <a:ext cx="74880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ллотропные модификации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450072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381560" cy="1771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27640" y="1557360"/>
            <a:ext cx="471636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9480" y="3564000"/>
            <a:ext cx="33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ёрный фос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920" y="59929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асный  фос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9800" y="105264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ый фос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имические свойства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72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496000" cy="5042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41640" y="176040"/>
            <a:ext cx="49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Горение фос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6021360"/>
            <a:ext cx="7775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88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сиды фос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заимодействие оксида фосфора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 во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904000" cy="4249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8136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217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сфорные кисл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войства ортофосфорной кисл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411280" y="1844280"/>
            <a:ext cx="1368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411280" y="2565000"/>
            <a:ext cx="1152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11280" y="3499920"/>
            <a:ext cx="1079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365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1916280"/>
            <a:ext cx="7308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74400" y="147492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аллы до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57680" y="2266920"/>
            <a:ext cx="500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и амфоте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16200" y="334800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19080" y="418932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7480" y="4859280"/>
            <a:ext cx="361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3РО4+Са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3РО4+СаО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3РО4+Са(ОН)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3РО4+СаСО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9120" y="248760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Измен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крас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индик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сфорная кислота и её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9:31:35Z</dcterms:created>
  <dc:creator>Comp</dc:creator>
  <dc:description/>
  <dc:language>en-US</dc:language>
  <cp:lastModifiedBy>николай</cp:lastModifiedBy>
  <dcterms:modified xsi:type="dcterms:W3CDTF">2012-02-25T17:06:27Z</dcterms:modified>
  <cp:revision>3</cp:revision>
  <dc:subject/>
  <dc:title>Фосфор и его соединения</dc:title>
</cp:coreProperties>
</file>