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87C-C49A-455D-8E6F-E57B6D37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129-4FBF-4902-A3A5-E95E2550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63B-F8C9-4888-8C81-742D327D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04B-C0A2-4C06-81E7-5D682A0F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E387-0BDB-468C-A052-48B02393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CF17-B09B-4A61-B9F8-7AF930DE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FDAF-AFF0-4411-9CA2-E773D2BF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5067-CA9D-46C9-A005-0FD2C5E1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8ADB-FBF5-4693-BDB2-63ED9BEF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C44D-98A9-46CC-9283-8204D27A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162E-8033-47CF-9076-E27F969B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146-D998-4F4A-9206-4304D73B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4759-E26A-49B9-A04C-A0E73178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A2FF-84BE-4239-91D2-5D9EE54E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2F48-167E-41F4-AD6E-44BE4F49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0F5F-888E-40D0-9AF4-7CBD42C3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5483-6B9D-4229-BEFD-88F8F581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9E5-7887-49AB-97FD-006B7689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CF4-A99F-4031-8C5F-AB8AC839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01B3-8561-4440-AD29-E13C2688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665-6B9D-4B41-963E-4517B794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F22-2051-4B05-9D97-C9687836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C30-26CA-4BF9-AC97-0F25FFF1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650-D6A0-4E4B-989B-0B0AD518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3E42-9B67-4A07-B9CE-455EB74793F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130A-47F4-40E6-8C69-53554A9FA52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 Black"/>
              </a:rPr>
              <a:t>ГОРОДСКОЙ ТРАНСПОР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Презентация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логопеда ГДОУ «Кудесница» Вдовенко М.О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ГРУЗОВ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50800" y="1598760"/>
            <a:ext cx="62341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 Black"/>
              </a:rPr>
              <a:t>Чем отличаются автобус и троллейбус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68440" y="24177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757760" y="24177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 Black"/>
              </a:rPr>
              <a:t>Чем отличаются</a:t>
            </a: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Arial Black"/>
              </a:rPr>
              <a:t>машины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5760" y="2382840"/>
            <a:ext cx="4037040" cy="2928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5080" y="2970360"/>
            <a:ext cx="403704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Цель: закрепление темы транспорт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Назвать транспорт на картинках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Назови и покажи части машин: кабина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салон, кузов, колеса, фары, штанги, рул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Кто водит автобус, трамвай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Назначение автобуса, троллейбуса, грузовика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АВТОБУ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93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ТРОЛЛЕЙБУ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985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ТРАМВА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97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ТАКС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00000" y="1805040"/>
            <a:ext cx="741708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МАРШРУТНОЕ ТАКС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42920" y="1830240"/>
            <a:ext cx="720108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МОТОЦИК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840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 Black"/>
              </a:rPr>
              <a:t>АВТОМОБИ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6680" y="1598760"/>
            <a:ext cx="64627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15:29:01Z</dcterms:created>
  <dc:creator>Марина</dc:creator>
  <dc:description/>
  <dc:language>en-US</dc:language>
  <cp:lastModifiedBy>Марина</cp:lastModifiedBy>
  <dcterms:modified xsi:type="dcterms:W3CDTF">2012-02-25T07:53:59Z</dcterms:modified>
  <cp:revision>3</cp:revision>
  <dc:subject/>
  <dc:title>ГОРОДСКОЙ ТРАНСПОРТ</dc:title>
</cp:coreProperties>
</file>