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4E4-A140-4650-8933-D456BB30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B9A-F893-4850-97E8-71388621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B80-EE45-4926-A52E-F89EDAD8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258-29EA-43E7-87D4-98258DE0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E6D-9491-4A53-A188-84F2DE66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604-D5C6-4099-BF24-4098469C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237-A516-44A1-8C82-3860A3B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7F9-31BB-4182-9784-CAD8B78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441-B574-4029-85F2-E348E9E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2B3-8EAB-4EDB-960A-D43CA11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96-7A90-4EE1-A1DE-197E269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6B7-A919-47C7-8049-F5B42B34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9E2-CA1A-476E-86B3-BA01FF4D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757"/>
            </a:gs>
            <a:gs pos="100000">
              <a:srgbClr val="7536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судар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ие, признаки, структура, функции и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larendon Condensed"/>
              </a:rPr>
              <a:t>Государство – особая форма организации государственной власти общества, средство обеспечения социального мира  и согл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В.И. Ленин – это аппарат поддержания господства одного класса над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М. Вебер – это такая организация внутри общества, которая имеет право на законное насил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Б.Чичерин – «есть высшая форма общежития, высшее проявление народности в общественной сфе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60280"/>
            <a:ext cx="662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larendon Condensed"/>
              </a:rPr>
              <a:t>Признак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125360"/>
            <a:ext cx="42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84000" y="1484280"/>
            <a:ext cx="158292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92360" y="907920"/>
            <a:ext cx="194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208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981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51840" y="147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1484280"/>
            <a:ext cx="2016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1484280"/>
            <a:ext cx="2232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84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98900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5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565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997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57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149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7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300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877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492280"/>
            <a:ext cx="158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1700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0000" y="1700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667280" y="522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667280" y="44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667280" y="357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96000" y="2781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242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292428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429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ч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400536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4581360"/>
            <a:ext cx="316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5084640"/>
            <a:ext cx="2592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566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630864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вере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70828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500280"/>
            <a:ext cx="2592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436572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еж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157720"/>
            <a:ext cx="32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84360" y="907920"/>
            <a:ext cx="4464000" cy="79236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м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58560" y="119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205000"/>
            <a:ext cx="3095640" cy="43200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ые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2924280"/>
            <a:ext cx="3528720" cy="43344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276640"/>
            <a:ext cx="3384720" cy="50292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119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005360"/>
            <a:ext cx="4464000" cy="201600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астные полномо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тупает от имени    госуд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ет определенную    компетен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ущество, финансы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разуется в порядке,   предусмотр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о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404640"/>
            <a:ext cx="72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функций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844640"/>
            <a:ext cx="2159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фо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1916280"/>
            <a:ext cx="215928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ыраж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916280"/>
            <a:ext cx="215892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1268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1268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429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36572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530064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429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37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3500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58136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349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93080" y="206064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74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60436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89000"/>
            <a:ext cx="3600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внутрен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й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89000"/>
            <a:ext cx="3600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70028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27664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852640"/>
            <a:ext cx="338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культуры, науки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500280"/>
            <a:ext cx="338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22100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1336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 и свобод гражд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ости, право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177336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249228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еспечение и поддержание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3284640"/>
            <a:ext cx="3384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407664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341360"/>
            <a:ext cx="71280" cy="41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836640"/>
            <a:ext cx="7308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8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492280"/>
            <a:ext cx="28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7138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правления характеризует орган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сударственной власти, систему высших государственных орган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также порядок их образования, взаимоотношения между соб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жда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492360" y="1341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34136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844640"/>
            <a:ext cx="2448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нарх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1916280"/>
            <a:ext cx="244800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403280" y="242100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2492280"/>
            <a:ext cx="86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492280"/>
            <a:ext cx="73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708280"/>
            <a:ext cx="2447640" cy="50472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идентс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президент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357720"/>
            <a:ext cx="244800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ламент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508640"/>
            <a:ext cx="2448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окра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084640"/>
            <a:ext cx="244800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истокра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4076640"/>
            <a:ext cx="180036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ламентар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997360"/>
            <a:ext cx="1511280" cy="1368360"/>
          </a:xfrm>
          <a:prstGeom prst="ellipse">
            <a:avLst/>
          </a:prstGeom>
          <a:solidFill>
            <a:srgbClr val="d0c7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852640"/>
            <a:ext cx="1728720" cy="1368360"/>
          </a:xfrm>
          <a:prstGeom prst="ellipse">
            <a:avLst/>
          </a:prstGeom>
          <a:solidFill>
            <a:srgbClr val="a3dc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алис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8000" y="476280"/>
            <a:ext cx="5904000" cy="93672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844640"/>
            <a:ext cx="2592360" cy="720720"/>
          </a:xfrm>
          <a:prstGeom prst="rect">
            <a:avLst/>
          </a:prstGeom>
          <a:solidFill>
            <a:srgbClr val="e2f7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игосудар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1916280"/>
            <a:ext cx="259236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213000"/>
            <a:ext cx="2519280" cy="576360"/>
          </a:xfrm>
          <a:prstGeom prst="rect">
            <a:avLst/>
          </a:prstGeom>
          <a:solidFill>
            <a:srgbClr val="a5e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33720"/>
            <a:ext cx="2519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299736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в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2997360"/>
            <a:ext cx="2340000" cy="57600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иль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3860640"/>
            <a:ext cx="2158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50864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22936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95008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860640"/>
            <a:ext cx="2158920" cy="57636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4581360"/>
            <a:ext cx="2158920" cy="57636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84720" y="2708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70828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79640" y="836640"/>
            <a:ext cx="518472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политических режим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емов совокуп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 осущест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2637000"/>
            <a:ext cx="3311280" cy="504720"/>
          </a:xfrm>
          <a:prstGeom prst="rect">
            <a:avLst/>
          </a:prstGeom>
          <a:solidFill>
            <a:srgbClr val="a5e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мокр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2781360"/>
            <a:ext cx="3311640" cy="50472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идемокр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03640" y="227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227664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3716280"/>
            <a:ext cx="3527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437000"/>
            <a:ext cx="3527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талит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5084640"/>
            <a:ext cx="35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5734080"/>
            <a:ext cx="352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4:36:46Z</dcterms:created>
  <dc:creator>Вася</dc:creator>
  <dc:description/>
  <dc:language>en-US</dc:language>
  <cp:lastModifiedBy>Вася</cp:lastModifiedBy>
  <dcterms:modified xsi:type="dcterms:W3CDTF">2002-12-10T18:37:17Z</dcterms:modified>
  <cp:revision>9</cp:revision>
  <dc:subject/>
  <dc:title>Государство:</dc:title>
</cp:coreProperties>
</file>