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87ED-2FE4-4A72-9422-0641FA96D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96E8-9F1D-4282-976F-DF7AB647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8C03-190D-475D-B0D1-540D692E9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D63C-B714-4C00-B9C3-891EC79B5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8889-2B7F-42E0-BA19-0AC33CA4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F68F-26A5-48EC-8061-5F27E655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3390-1325-4584-ADCB-AAC4ECDA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2C1C-1A83-440E-BB76-DB17CD89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3F9F-A3A1-4007-9182-358B7E77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DD72-0EAC-47D0-8939-85D7B550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0A69-77F0-45CC-95E0-442763D0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7317-75C7-4C75-AF98-E92D5918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BAC1-FFB8-4584-BEA2-AA7793712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757"/>
            </a:gs>
            <a:gs pos="100000">
              <a:srgbClr val="75362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осударств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нятие, признаки, структура, функции и фор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larendon Condensed"/>
              </a:rPr>
              <a:t>Государство – особая форма организации государственной власти общества, средство обеспечения социального мира  и соглас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larendon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larendon Condensed"/>
              </a:rPr>
              <a:t>В.И. Ленин – это аппарат поддержания господства одного класса над друг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larendon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larendon Condensed"/>
              </a:rPr>
              <a:t>М. Вебер – это такая организация внутри общества, которая имеет право на законное насил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larendon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larendon Condensed"/>
              </a:rPr>
              <a:t>Б.Чичерин – «есть высшая форма общежития, высшее проявление народности в общественной сфер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larendon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larendon Condensed"/>
              </a:rPr>
              <a:t>……</a:t>
            </a:r>
            <a:r>
              <a:rPr b="0" lang="en-US" sz="2800" spc="-1" strike="noStrike">
                <a:solidFill>
                  <a:srgbClr val="000000"/>
                </a:solidFill>
                <a:latin typeface="Clarendon Condense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32000" y="260280"/>
            <a:ext cx="6624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larendon Condensed"/>
              </a:rPr>
              <a:t>Признаки госуда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00360" y="1125360"/>
            <a:ext cx="4248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484000" y="1484280"/>
            <a:ext cx="1582920" cy="576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692360" y="907920"/>
            <a:ext cx="1944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2087640" cy="358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981000"/>
            <a:ext cx="1513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51840" y="147492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1484280"/>
            <a:ext cx="2016000" cy="719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но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1484280"/>
            <a:ext cx="223200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полни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684000" y="1989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1989000"/>
            <a:ext cx="0" cy="446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645336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4360" y="256536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299736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357336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4149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472428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30064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587700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32000" y="2492280"/>
            <a:ext cx="1584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101080" y="170028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820000" y="170028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7667280" y="5229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667280" y="44370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667280" y="3573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7596000" y="2781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32000" y="2421000"/>
            <a:ext cx="2592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рри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332000" y="2924280"/>
            <a:ext cx="2592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се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32000" y="3429000"/>
            <a:ext cx="2592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убличная в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32000" y="4005360"/>
            <a:ext cx="2592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а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16000" y="4581360"/>
            <a:ext cx="3168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воохранительные орг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32000" y="5084640"/>
            <a:ext cx="259236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рм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32000" y="5661000"/>
            <a:ext cx="2592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03280" y="6308640"/>
            <a:ext cx="2592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веренит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88000" y="2708280"/>
            <a:ext cx="2592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сударственный язы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3500280"/>
            <a:ext cx="259236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анспортная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59280" y="4365720"/>
            <a:ext cx="2592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нежная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00720" y="5157720"/>
            <a:ext cx="3240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формационная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484360" y="907920"/>
            <a:ext cx="4464000" cy="792360"/>
          </a:xfrm>
          <a:prstGeom prst="rect">
            <a:avLst/>
          </a:prstGeom>
          <a:solidFill>
            <a:srgbClr val="ffff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ханизм государ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258560" y="1197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2205000"/>
            <a:ext cx="3095640" cy="432000"/>
          </a:xfrm>
          <a:prstGeom prst="rect">
            <a:avLst/>
          </a:prstGeom>
          <a:solidFill>
            <a:srgbClr val="ffff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осударственные орг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56000" y="2924280"/>
            <a:ext cx="3528720" cy="433440"/>
          </a:xfrm>
          <a:prstGeom prst="rect">
            <a:avLst/>
          </a:prstGeom>
          <a:solidFill>
            <a:srgbClr val="ffff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сударственные учре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80000" y="2276640"/>
            <a:ext cx="3384720" cy="502920"/>
          </a:xfrm>
          <a:prstGeom prst="rect">
            <a:avLst/>
          </a:prstGeom>
          <a:solidFill>
            <a:srgbClr val="ffff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сударственные пред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20000" y="11970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58920" y="1197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56000" y="1773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172360" y="1197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00000" y="2708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4005360"/>
            <a:ext cx="4464000" cy="2016000"/>
          </a:xfrm>
          <a:prstGeom prst="rect">
            <a:avLst/>
          </a:prstGeom>
          <a:solidFill>
            <a:srgbClr val="ffff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ластные полномоч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ступает от имени    государ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меет определенную    компетенц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мущество, финансы и п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разуется в порядке,   предусмотренн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кон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00000" y="404640"/>
            <a:ext cx="7272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ассификация функций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00000" y="1844640"/>
            <a:ext cx="21592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форм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92360" y="1916280"/>
            <a:ext cx="215928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выражаем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тере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00720" y="1916280"/>
            <a:ext cx="215892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должи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197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00720" y="126828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08720" y="126828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0000" y="3429000"/>
            <a:ext cx="2087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ниверс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0000" y="4365720"/>
            <a:ext cx="208764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нутрен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5300640"/>
            <a:ext cx="2087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неш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3429000"/>
            <a:ext cx="2087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щесоци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08360" y="4437000"/>
            <a:ext cx="2087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ласс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43640" y="3500280"/>
            <a:ext cx="2087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тоя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16720" y="4581360"/>
            <a:ext cx="2087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рем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234936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893080" y="2060640"/>
            <a:ext cx="0" cy="26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472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3789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16360" y="2924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16360" y="414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8748360" y="472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8604360" y="3789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24000" y="189000"/>
            <a:ext cx="360036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новные внутрен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оссийского государ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32360" y="189000"/>
            <a:ext cx="360036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новные внеш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ун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ссийского госуд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1700280"/>
            <a:ext cx="338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оном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2276640"/>
            <a:ext cx="338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циа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2852640"/>
            <a:ext cx="3384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звитие культуры, науки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3500280"/>
            <a:ext cx="3384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4221000"/>
            <a:ext cx="3384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л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5013360"/>
            <a:ext cx="33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в и свобод граждан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бственности, правопоря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76720" y="1773360"/>
            <a:ext cx="338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ор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48360" y="2492280"/>
            <a:ext cx="3384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еспечение и поддержание ми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48360" y="3284640"/>
            <a:ext cx="33843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трудни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48360" y="4076640"/>
            <a:ext cx="3384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теграц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1341360"/>
            <a:ext cx="71280" cy="417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5516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43280" y="836640"/>
            <a:ext cx="73080" cy="35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16360" y="4365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3280" y="83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16360" y="3500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1636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716360" y="206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4000" y="3860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3141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1989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04000" y="2492280"/>
            <a:ext cx="28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50920" y="260280"/>
            <a:ext cx="871380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Форма правления характеризует организац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осударственной власти, систему высших государственных орган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 также порядок их образования, взаимоотношения между собой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ражданам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492360" y="134136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16360" y="1341360"/>
            <a:ext cx="1152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03280" y="1844640"/>
            <a:ext cx="2448000" cy="504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онарх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64000" y="1916280"/>
            <a:ext cx="244800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спубл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403280" y="2421000"/>
            <a:ext cx="720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59280" y="2492280"/>
            <a:ext cx="865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27280" y="2492280"/>
            <a:ext cx="7308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51640" y="2708280"/>
            <a:ext cx="2447640" cy="504720"/>
          </a:xfrm>
          <a:prstGeom prst="rect">
            <a:avLst/>
          </a:prstGeom>
          <a:solidFill>
            <a:srgbClr val="ff77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зидентска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уперпрезидент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24360" y="3357720"/>
            <a:ext cx="2448000" cy="504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ламент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67280" y="4508640"/>
            <a:ext cx="244800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тократ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67280" y="5084640"/>
            <a:ext cx="2448000" cy="50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истократ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19280" y="4076640"/>
            <a:ext cx="1800360" cy="1368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арламентар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997360"/>
            <a:ext cx="1511280" cy="1368360"/>
          </a:xfrm>
          <a:prstGeom prst="ellipse">
            <a:avLst/>
          </a:prstGeom>
          <a:solidFill>
            <a:srgbClr val="d0c7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бсолют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3640" y="2852640"/>
            <a:ext cx="1728720" cy="1368360"/>
          </a:xfrm>
          <a:prstGeom prst="ellipse">
            <a:avLst/>
          </a:prstGeom>
          <a:solidFill>
            <a:srgbClr val="a3dc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уалистиче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908000" y="476280"/>
            <a:ext cx="5904000" cy="936720"/>
          </a:xfrm>
          <a:prstGeom prst="rect">
            <a:avLst/>
          </a:prstGeom>
          <a:solidFill>
            <a:srgbClr val="ffff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рмы государствен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строй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4360" y="1844640"/>
            <a:ext cx="2592360" cy="720720"/>
          </a:xfrm>
          <a:prstGeom prst="rect">
            <a:avLst/>
          </a:prstGeom>
          <a:solidFill>
            <a:srgbClr val="e2f7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нутригосударстве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трой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56360" y="1916280"/>
            <a:ext cx="259236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жгосударстве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3213000"/>
            <a:ext cx="2519280" cy="576360"/>
          </a:xfrm>
          <a:prstGeom prst="rect">
            <a:avLst/>
          </a:prstGeom>
          <a:solidFill>
            <a:srgbClr val="a5e9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нитар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47640" y="3933720"/>
            <a:ext cx="2519640" cy="576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едератив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84720" y="2997360"/>
            <a:ext cx="2158920" cy="57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брово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88000" y="2997360"/>
            <a:ext cx="2340000" cy="576000"/>
          </a:xfrm>
          <a:prstGeom prst="rect">
            <a:avLst/>
          </a:prstGeom>
          <a:solidFill>
            <a:srgbClr val="ff77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сильстве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27640" y="3860640"/>
            <a:ext cx="215892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федер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27640" y="4508640"/>
            <a:ext cx="2158920" cy="57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друж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27640" y="5229360"/>
            <a:ext cx="2158920" cy="57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общ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0720" y="5950080"/>
            <a:ext cx="2158920" cy="57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ссоци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32720" y="3860640"/>
            <a:ext cx="2158920" cy="576360"/>
          </a:xfrm>
          <a:prstGeom prst="rect">
            <a:avLst/>
          </a:prstGeom>
          <a:solidFill>
            <a:srgbClr val="ff77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пе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732720" y="4581360"/>
            <a:ext cx="2158920" cy="576360"/>
          </a:xfrm>
          <a:prstGeom prst="rect">
            <a:avLst/>
          </a:prstGeom>
          <a:solidFill>
            <a:srgbClr val="ff77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ю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8728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3640" y="2708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6084720" y="2708280"/>
            <a:ext cx="648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77080" y="2708280"/>
            <a:ext cx="431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6400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740720" y="3645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979640" y="836640"/>
            <a:ext cx="5184720" cy="129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ды политических режимов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емов совокупност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ханизм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редств осуществ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сударственной в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4360" y="2637000"/>
            <a:ext cx="3311280" cy="504720"/>
          </a:xfrm>
          <a:prstGeom prst="rect">
            <a:avLst/>
          </a:prstGeom>
          <a:solidFill>
            <a:srgbClr val="a5e9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емократическ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64000" y="2781360"/>
            <a:ext cx="3311640" cy="504720"/>
          </a:xfrm>
          <a:prstGeom prst="rect">
            <a:avLst/>
          </a:prstGeom>
          <a:solidFill>
            <a:srgbClr val="ff77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тидемокра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3203640" y="2276640"/>
            <a:ext cx="792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76720" y="2276640"/>
            <a:ext cx="1079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3716280"/>
            <a:ext cx="352728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втократ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4437000"/>
            <a:ext cx="352728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талита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64000" y="5084640"/>
            <a:ext cx="35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вторитар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64000" y="5734080"/>
            <a:ext cx="3527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ократ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14:36:46Z</dcterms:created>
  <dc:creator>Вася</dc:creator>
  <dc:description/>
  <dc:language>en-US</dc:language>
  <cp:lastModifiedBy>Вася</cp:lastModifiedBy>
  <dcterms:modified xsi:type="dcterms:W3CDTF">2002-12-10T18:37:17Z</dcterms:modified>
  <cp:revision>9</cp:revision>
  <dc:subject/>
  <dc:title>Государство:</dc:title>
</cp:coreProperties>
</file>