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8B54-05CC-4695-8B85-53BDAB22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FD14-27DA-4049-94A9-76AC8EC5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6C98-EE5A-4D61-AB57-FA9A5A72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E9FD-0780-450B-A6C2-D5C4E797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610F-3E93-4C4E-A768-24CE90D7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52F8-2753-4F84-A14F-0D0D776F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DC3D-9A04-4F3D-BFF4-A26167A0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6B71-04C4-4EC7-AF44-B7824C49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8316-24D8-47FC-931D-08DDFCB7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D9C5-42FF-4B33-9005-7A0C05E9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CD66-B55A-459F-92D5-6A282046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D4EE-8B8B-433A-8690-C95AC311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7F8B-07C9-43E7-942A-A500B0F23B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748720" y="0"/>
            <a:ext cx="712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8360" y="0"/>
            <a:ext cx="28728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005840" y="875160"/>
            <a:ext cx="9364320" cy="6310440"/>
            <a:chOff x="1005840" y="875160"/>
            <a:chExt cx="9364320" cy="6310440"/>
          </a:xfrm>
        </p:grpSpPr>
        <p:sp>
          <p:nvSpPr>
            <p:cNvPr id="44" name=""/>
            <p:cNvSpPr/>
            <p:nvPr/>
          </p:nvSpPr>
          <p:spPr>
            <a:xfrm rot="795600">
              <a:off x="1403280" y="1798200"/>
              <a:ext cx="8569080" cy="44640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795600">
              <a:off x="1664640" y="877680"/>
              <a:ext cx="231120" cy="44654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 txBox="1"/>
          <p:nvPr/>
        </p:nvSpPr>
        <p:spPr>
          <a:xfrm>
            <a:off x="2268360" y="3211560"/>
            <a:ext cx="648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Логарифмические неравенства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68360" y="3716280"/>
            <a:ext cx="6480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их типы и методы решения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468360" y="-27000"/>
            <a:ext cx="8686440" cy="1838160"/>
            <a:chOff x="468360" y="-27000"/>
            <a:chExt cx="8686440" cy="1838160"/>
          </a:xfrm>
        </p:grpSpPr>
        <p:grpSp>
          <p:nvGrpSpPr>
            <p:cNvPr id="442" name=""/>
            <p:cNvGrpSpPr/>
            <p:nvPr/>
          </p:nvGrpSpPr>
          <p:grpSpPr>
            <a:xfrm>
              <a:off x="502560" y="-27000"/>
              <a:ext cx="8636760" cy="1152000"/>
              <a:chOff x="502560" y="-27000"/>
              <a:chExt cx="8636760" cy="1152000"/>
            </a:xfrm>
          </p:grpSpPr>
          <p:sp>
            <p:nvSpPr>
              <p:cNvPr id="443" name=""/>
              <p:cNvSpPr/>
              <p:nvPr/>
            </p:nvSpPr>
            <p:spPr>
              <a:xfrm>
                <a:off x="502560" y="-27000"/>
                <a:ext cx="8636760" cy="115200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eaeaea"/>
                    </a:solidFill>
                    <a:latin typeface="Arial Black"/>
                  </a:rPr>
                  <a:t>ВЫВОД №2: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02560" y="743040"/>
                <a:ext cx="198000" cy="3819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468360" y="1019160"/>
              <a:ext cx="8686440" cy="792000"/>
            </a:xfrm>
            <a:custGeom>
              <a:avLst/>
              <a:gdLst/>
              <a:ahLst/>
              <a:rect l="l" t="t" r="r" b="b"/>
              <a:pathLst>
                <a:path w="4264" h="454">
                  <a:moveTo>
                    <a:pt x="0" y="46"/>
                  </a:moveTo>
                  <a:lnTo>
                    <a:pt x="4264" y="454"/>
                  </a:lnTo>
                  <a:lnTo>
                    <a:pt x="4264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2268360" y="1557360"/>
            <a:ext cx="6912000" cy="5327640"/>
          </a:xfrm>
          <a:custGeom>
            <a:avLst/>
            <a:gdLst/>
            <a:ahLst/>
            <a:rect l="l" t="t" r="r" b="b"/>
            <a:pathLst>
              <a:path w="3674" h="771">
                <a:moveTo>
                  <a:pt x="0" y="771"/>
                </a:moveTo>
                <a:lnTo>
                  <a:pt x="317" y="272"/>
                </a:lnTo>
                <a:lnTo>
                  <a:pt x="3674" y="0"/>
                </a:lnTo>
                <a:lnTo>
                  <a:pt x="3674" y="771"/>
                </a:lnTo>
                <a:lnTo>
                  <a:pt x="0" y="771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448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451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Показательны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341964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-1440" y="836640"/>
            <a:ext cx="4356000" cy="4862520"/>
            <a:chOff x="-1440" y="836640"/>
            <a:chExt cx="4356000" cy="4862520"/>
          </a:xfrm>
        </p:grpSpPr>
        <p:grpSp>
          <p:nvGrpSpPr>
            <p:cNvPr id="457" name=""/>
            <p:cNvGrpSpPr/>
            <p:nvPr/>
          </p:nvGrpSpPr>
          <p:grpSpPr>
            <a:xfrm>
              <a:off x="-1440" y="836640"/>
              <a:ext cx="4356000" cy="4862520"/>
              <a:chOff x="-1440" y="836640"/>
              <a:chExt cx="4356000" cy="486252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-1440" y="836640"/>
                <a:ext cx="4356000" cy="4862520"/>
                <a:chOff x="-1440" y="836640"/>
                <a:chExt cx="4356000" cy="486252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-1440" y="873000"/>
                  <a:ext cx="4356000" cy="4826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-1440" y="873000"/>
                  <a:ext cx="3097080" cy="378000"/>
                </a:xfrm>
                <a:prstGeom prst="rect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47640" y="836640"/>
                  <a:ext cx="18907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cc"/>
                      </a:solidFill>
                      <a:latin typeface="Times New Roman"/>
                    </a:rPr>
                    <a:t>y</a:t>
                  </a:r>
                  <a:r>
                    <a:rPr b="1" lang="ru-RU" sz="2000" spc="-1" strike="noStrike">
                      <a:solidFill>
                        <a:srgbClr val="ffffcc"/>
                      </a:solidFill>
                      <a:latin typeface="Times New Roman"/>
                    </a:rPr>
                    <a:t>=</a:t>
                  </a:r>
                  <a:r>
                    <a:rPr b="1" lang="en-US" sz="2000" spc="-1" strike="noStrike">
                      <a:solidFill>
                        <a:srgbClr val="ffffcc"/>
                      </a:solidFill>
                      <a:latin typeface="Times New Roman"/>
                    </a:rPr>
                    <a:t>log</a:t>
                  </a:r>
                  <a:r>
                    <a:rPr b="1" lang="en-US" sz="2000" spc="-1" strike="noStrike" baseline="-25000">
                      <a:solidFill>
                        <a:srgbClr val="ffffcc"/>
                      </a:solidFill>
                      <a:latin typeface="Times New Roman"/>
                    </a:rPr>
                    <a:t>a</a:t>
                  </a:r>
                  <a:r>
                    <a:rPr b="1" lang="en-US" sz="2000" spc="-1" strike="noStrike">
                      <a:solidFill>
                        <a:srgbClr val="ffffcc"/>
                      </a:solidFill>
                      <a:latin typeface="Times New Roman"/>
                    </a:rPr>
                    <a:t>x (</a:t>
                  </a:r>
                  <a:r>
                    <a:rPr b="1" lang="ru-RU" sz="2000" spc="-1" strike="noStrike">
                      <a:solidFill>
                        <a:srgbClr val="ffffcc"/>
                      </a:solidFill>
                      <a:latin typeface="Times New Roman"/>
                    </a:rPr>
                    <a:t>0</a:t>
                  </a:r>
                  <a:r>
                    <a:rPr b="1" lang="en-US" sz="2000" spc="-1" strike="noStrike">
                      <a:solidFill>
                        <a:srgbClr val="ffffcc"/>
                      </a:solidFill>
                      <a:latin typeface="Times New Roman"/>
                    </a:rPr>
                    <a:t>&lt;a&lt;1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>
                <a:off x="150840" y="2602080"/>
                <a:ext cx="388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366840" y="2025720"/>
                <a:ext cx="0" cy="22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95200" y="188136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822840" y="252900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92160" y="255420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333360" y="2562120"/>
              <a:ext cx="7164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1230480" y="3465360"/>
            <a:ext cx="1225440" cy="1079640"/>
          </a:xfrm>
          <a:custGeom>
            <a:avLst/>
            <a:gdLst/>
            <a:ahLst/>
            <a:rect l="l" t="t" r="r" b="b"/>
            <a:pathLst>
              <a:path w="772" h="680">
                <a:moveTo>
                  <a:pt x="0" y="680"/>
                </a:moveTo>
                <a:lnTo>
                  <a:pt x="681" y="635"/>
                </a:lnTo>
                <a:lnTo>
                  <a:pt x="772" y="0"/>
                </a:lnTo>
                <a:lnTo>
                  <a:pt x="454" y="49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03280" y="873360"/>
            <a:ext cx="7089480" cy="2592360"/>
            <a:chOff x="503280" y="873360"/>
            <a:chExt cx="7089480" cy="2592360"/>
          </a:xfrm>
        </p:grpSpPr>
        <p:grpSp>
          <p:nvGrpSpPr>
            <p:cNvPr id="470" name=""/>
            <p:cNvGrpSpPr/>
            <p:nvPr/>
          </p:nvGrpSpPr>
          <p:grpSpPr>
            <a:xfrm>
              <a:off x="503280" y="873360"/>
              <a:ext cx="7089480" cy="2592360"/>
              <a:chOff x="503280" y="873360"/>
              <a:chExt cx="7089480" cy="2592360"/>
            </a:xfrm>
          </p:grpSpPr>
          <p:sp>
            <p:nvSpPr>
              <p:cNvPr id="471" name=""/>
              <p:cNvSpPr/>
              <p:nvPr/>
            </p:nvSpPr>
            <p:spPr>
              <a:xfrm>
                <a:off x="503280" y="260208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536400" y="873000"/>
                <a:ext cx="7055640" cy="259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256" y="10"/>
                    </a:moveTo>
                    <a:arcTo wR="10800" hR="10800" stAng="-5254948" swAng="51785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256" y="10"/>
                    </a:moveTo>
                    <a:arcTo wR="10800" hR="10800" stAng="-5254948" swAng="5178528"/>
                  </a:path>
                </a:pathLst>
              </a:custGeom>
              <a:noFill/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701640" y="2562120"/>
              <a:ext cx="7164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50840" y="3321000"/>
            <a:ext cx="4168800" cy="637560"/>
            <a:chOff x="150840" y="3321000"/>
            <a:chExt cx="4168800" cy="637560"/>
          </a:xfrm>
        </p:grpSpPr>
        <p:sp>
          <p:nvSpPr>
            <p:cNvPr id="475" name=""/>
            <p:cNvSpPr/>
            <p:nvPr/>
          </p:nvSpPr>
          <p:spPr>
            <a:xfrm>
              <a:off x="2627280" y="3621240"/>
              <a:ext cx="169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33"/>
                  </a:solidFill>
                  <a:latin typeface="Times New Roman"/>
                </a:rPr>
                <a:t>y=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50840" y="3321000"/>
              <a:ext cx="3778200" cy="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400480" y="2530440"/>
            <a:ext cx="523800" cy="825480"/>
            <a:chOff x="2400480" y="2530440"/>
            <a:chExt cx="523800" cy="825480"/>
          </a:xfrm>
        </p:grpSpPr>
        <p:sp>
          <p:nvSpPr>
            <p:cNvPr id="478" name=""/>
            <p:cNvSpPr/>
            <p:nvPr/>
          </p:nvSpPr>
          <p:spPr>
            <a:xfrm>
              <a:off x="2489040" y="2602080"/>
              <a:ext cx="0" cy="720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400480" y="2530440"/>
              <a:ext cx="523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455920" y="3282840"/>
              <a:ext cx="7128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455920" y="2567160"/>
              <a:ext cx="7128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33280" y="2265480"/>
            <a:ext cx="3421080" cy="1191960"/>
            <a:chOff x="233280" y="2265480"/>
            <a:chExt cx="3421080" cy="1191960"/>
          </a:xfrm>
        </p:grpSpPr>
        <p:grpSp>
          <p:nvGrpSpPr>
            <p:cNvPr id="483" name=""/>
            <p:cNvGrpSpPr/>
            <p:nvPr/>
          </p:nvGrpSpPr>
          <p:grpSpPr>
            <a:xfrm>
              <a:off x="233280" y="2265480"/>
              <a:ext cx="523800" cy="659520"/>
              <a:chOff x="233280" y="2265480"/>
              <a:chExt cx="523800" cy="65952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515880" y="2265480"/>
                <a:ext cx="71640" cy="371520"/>
                <a:chOff x="515880" y="2265480"/>
                <a:chExt cx="71640" cy="37152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555480" y="2313000"/>
                  <a:ext cx="0" cy="28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15880" y="2265480"/>
                  <a:ext cx="71640" cy="73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15880" y="2563920"/>
                  <a:ext cx="71640" cy="73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8" name=""/>
              <p:cNvSpPr/>
              <p:nvPr/>
            </p:nvSpPr>
            <p:spPr>
              <a:xfrm>
                <a:off x="233280" y="2484360"/>
                <a:ext cx="523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r>
                  <a:rPr b="0" lang="ru-RU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3125880" y="2523960"/>
              <a:ext cx="528480" cy="933480"/>
              <a:chOff x="3125880" y="2523960"/>
              <a:chExt cx="528480" cy="933480"/>
            </a:xfrm>
          </p:grpSpPr>
          <p:sp>
            <p:nvSpPr>
              <p:cNvPr id="490" name=""/>
              <p:cNvSpPr/>
              <p:nvPr/>
            </p:nvSpPr>
            <p:spPr>
              <a:xfrm>
                <a:off x="3130560" y="2523960"/>
                <a:ext cx="523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r>
                  <a:rPr b="0" lang="ru-RU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162240" y="2595600"/>
                <a:ext cx="0" cy="82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125880" y="3384720"/>
                <a:ext cx="71280" cy="72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132000" y="2565360"/>
                <a:ext cx="71640" cy="7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4" name=""/>
          <p:cNvGrpSpPr/>
          <p:nvPr/>
        </p:nvGrpSpPr>
        <p:grpSpPr>
          <a:xfrm>
            <a:off x="4340160" y="2046240"/>
            <a:ext cx="5421240" cy="4260600"/>
            <a:chOff x="4340160" y="2046240"/>
            <a:chExt cx="5421240" cy="4260600"/>
          </a:xfrm>
        </p:grpSpPr>
        <p:grpSp>
          <p:nvGrpSpPr>
            <p:cNvPr id="495" name=""/>
            <p:cNvGrpSpPr/>
            <p:nvPr/>
          </p:nvGrpSpPr>
          <p:grpSpPr>
            <a:xfrm>
              <a:off x="7077240" y="2046240"/>
              <a:ext cx="2336760" cy="459720"/>
              <a:chOff x="7077240" y="2046240"/>
              <a:chExt cx="2336760" cy="459720"/>
            </a:xfrm>
          </p:grpSpPr>
          <mc:AlternateContent>
            <mc:Choice xmlns:a14="http://schemas.microsoft.com/office/drawing/2010/main" Requires="a14">
              <p:sp>
                <p:nvSpPr>
                  <p:cNvPr id="496" name=""/>
                  <p:cNvSpPr txBox="1"/>
                  <p:nvPr/>
                </p:nvSpPr>
                <p:spPr>
                  <a:xfrm>
                    <a:off x="8020080" y="2098800"/>
                    <a:ext cx="1217520" cy="393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a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97" name=""/>
              <p:cNvSpPr/>
              <p:nvPr/>
            </p:nvSpPr>
            <p:spPr>
              <a:xfrm>
                <a:off x="7077240" y="2046240"/>
                <a:ext cx="2336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cc"/>
                    </a:solidFill>
                    <a:latin typeface="Arial Black"/>
                  </a:rPr>
                  <a:t>Есл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4541760" y="2457360"/>
              <a:ext cx="5219640" cy="2113200"/>
              <a:chOff x="4541760" y="2457360"/>
              <a:chExt cx="5219640" cy="2113200"/>
            </a:xfrm>
          </p:grpSpPr>
          <p:sp>
            <p:nvSpPr>
              <p:cNvPr id="499" name=""/>
              <p:cNvSpPr/>
              <p:nvPr/>
            </p:nvSpPr>
            <p:spPr>
              <a:xfrm>
                <a:off x="4541760" y="2457360"/>
                <a:ext cx="5219640" cy="21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cc"/>
                    </a:solidFill>
                    <a:latin typeface="Arial Black"/>
                  </a:rPr>
                  <a:t>          </a:t>
                </a:r>
                <a:r>
                  <a:rPr b="0" lang="ru-RU" sz="2400" spc="-1" strike="noStrike">
                    <a:solidFill>
                      <a:srgbClr val="ffffcc"/>
                    </a:solidFill>
                    <a:latin typeface="Arial Black"/>
                  </a:rPr>
                  <a:t>для каждого            соответствующая точка графика функции                     находится ниже прямой</a:t>
                </a:r>
                <a:r>
                  <a:rPr b="1" lang="ru-RU" sz="2400" spc="-1" strike="noStrike">
                    <a:solidFill>
                      <a:srgbClr val="ffff66"/>
                    </a:solidFill>
                    <a:latin typeface="Arial Black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 Black"/>
                  </a:rPr>
                  <a:t>                 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00" name=""/>
                  <p:cNvSpPr txBox="1"/>
                  <p:nvPr/>
                </p:nvSpPr>
                <p:spPr>
                  <a:xfrm>
                    <a:off x="7974000" y="2463840"/>
                    <a:ext cx="1081080" cy="498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01" name=""/>
                  <p:cNvSpPr txBox="1"/>
                  <p:nvPr/>
                </p:nvSpPr>
                <p:spPr>
                  <a:xfrm>
                    <a:off x="7799400" y="3184560"/>
                    <a:ext cx="1390680" cy="498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02" name=""/>
                  <p:cNvSpPr txBox="1"/>
                  <p:nvPr/>
                </p:nvSpPr>
                <p:spPr>
                  <a:xfrm>
                    <a:off x="4660920" y="3932280"/>
                    <a:ext cx="833400" cy="436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03" name=""/>
            <p:cNvGrpSpPr/>
            <p:nvPr/>
          </p:nvGrpSpPr>
          <p:grpSpPr>
            <a:xfrm>
              <a:off x="4340160" y="4202280"/>
              <a:ext cx="4673520" cy="2104560"/>
              <a:chOff x="4340160" y="4202280"/>
              <a:chExt cx="4673520" cy="2104560"/>
            </a:xfrm>
          </p:grpSpPr>
          <p:grpSp>
            <p:nvGrpSpPr>
              <p:cNvPr id="504" name=""/>
              <p:cNvGrpSpPr/>
              <p:nvPr/>
            </p:nvGrpSpPr>
            <p:grpSpPr>
              <a:xfrm>
                <a:off x="4454280" y="4202280"/>
                <a:ext cx="4559400" cy="1962000"/>
                <a:chOff x="4454280" y="4202280"/>
                <a:chExt cx="4559400" cy="196200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505" name=""/>
                    <p:cNvSpPr txBox="1"/>
                    <p:nvPr/>
                  </p:nvSpPr>
                  <p:spPr>
                    <a:xfrm>
                      <a:off x="7205400" y="4214880"/>
                      <a:ext cx="1578240" cy="49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0</m:t>
                          </m:r>
                          <m:r>
                            <m:t xml:space="preserve">&lt;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&lt;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06" name=""/>
                    <p:cNvSpPr txBox="1"/>
                    <p:nvPr/>
                  </p:nvSpPr>
                  <p:spPr>
                    <a:xfrm>
                      <a:off x="4454280" y="5727960"/>
                      <a:ext cx="833400" cy="436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b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07" name=""/>
                    <p:cNvSpPr txBox="1"/>
                    <p:nvPr/>
                  </p:nvSpPr>
                  <p:spPr>
                    <a:xfrm>
                      <a:off x="7623000" y="4935600"/>
                      <a:ext cx="1390680" cy="49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x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508" name=""/>
                <p:cNvSpPr/>
                <p:nvPr/>
              </p:nvSpPr>
              <p:spPr>
                <a:xfrm>
                  <a:off x="4613040" y="4202280"/>
                  <a:ext cx="2793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cc"/>
                      </a:solidFill>
                      <a:latin typeface="Arial Black"/>
                    </a:rPr>
                    <a:t>для каждого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>
                <a:off x="4340160" y="4559400"/>
                <a:ext cx="4608360" cy="174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cc"/>
                    </a:solidFill>
                    <a:latin typeface="Arial Black"/>
                  </a:rPr>
                  <a:t>соответствующая точка графика функции                       находится выше прямой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cc"/>
                    </a:solidFill>
                    <a:latin typeface="Arial Black"/>
                  </a:rPr>
                  <a:t>                            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strips dir="ru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538200" y="1655640"/>
            <a:ext cx="7968600" cy="4177080"/>
            <a:chOff x="538200" y="1655640"/>
            <a:chExt cx="7968600" cy="4177080"/>
          </a:xfrm>
        </p:grpSpPr>
        <p:sp>
          <p:nvSpPr>
            <p:cNvPr id="511" name=""/>
            <p:cNvSpPr/>
            <p:nvPr/>
          </p:nvSpPr>
          <p:spPr>
            <a:xfrm rot="20485800">
              <a:off x="5289120" y="2001600"/>
              <a:ext cx="2738520" cy="345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982200">
              <a:off x="969480" y="2060640"/>
              <a:ext cx="2738520" cy="345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2674800" y="-27000"/>
            <a:ext cx="6480360" cy="1838160"/>
            <a:chOff x="2674800" y="-27000"/>
            <a:chExt cx="6480360" cy="1838160"/>
          </a:xfrm>
        </p:grpSpPr>
        <p:grpSp>
          <p:nvGrpSpPr>
            <p:cNvPr id="514" name=""/>
            <p:cNvGrpSpPr/>
            <p:nvPr/>
          </p:nvGrpSpPr>
          <p:grpSpPr>
            <a:xfrm>
              <a:off x="2700360" y="-27000"/>
              <a:ext cx="6443280" cy="1152000"/>
              <a:chOff x="2700360" y="-27000"/>
              <a:chExt cx="6443280" cy="1152000"/>
            </a:xfrm>
          </p:grpSpPr>
          <p:sp>
            <p:nvSpPr>
              <p:cNvPr id="515" name=""/>
              <p:cNvSpPr/>
              <p:nvPr/>
            </p:nvSpPr>
            <p:spPr>
              <a:xfrm>
                <a:off x="2700360" y="-27000"/>
                <a:ext cx="6443280" cy="115200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ffffff"/>
                    </a:solidFill>
                    <a:latin typeface="Arial"/>
                  </a:rPr>
                  <a:t>Простейшие логарифмические неравенства</a:t>
                </a:r>
                <a:r>
                  <a:rPr b="1" lang="ru-RU" sz="21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700360" y="743040"/>
                <a:ext cx="147600" cy="3819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2674800" y="1019160"/>
              <a:ext cx="6480360" cy="792000"/>
            </a:xfrm>
            <a:custGeom>
              <a:avLst/>
              <a:gdLst/>
              <a:ahLst/>
              <a:rect l="l" t="t" r="r" b="b"/>
              <a:pathLst>
                <a:path w="4264" h="454">
                  <a:moveTo>
                    <a:pt x="0" y="46"/>
                  </a:moveTo>
                  <a:lnTo>
                    <a:pt x="4264" y="454"/>
                  </a:lnTo>
                  <a:lnTo>
                    <a:pt x="4264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519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522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Показательны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25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22200" y="2235240"/>
            <a:ext cx="1873080" cy="720720"/>
            <a:chOff x="322200" y="2235240"/>
            <a:chExt cx="1873080" cy="720720"/>
          </a:xfrm>
        </p:grpSpPr>
        <p:grpSp>
          <p:nvGrpSpPr>
            <p:cNvPr id="527" name=""/>
            <p:cNvGrpSpPr/>
            <p:nvPr/>
          </p:nvGrpSpPr>
          <p:grpSpPr>
            <a:xfrm>
              <a:off x="322200" y="2235240"/>
              <a:ext cx="1873080" cy="720720"/>
              <a:chOff x="322200" y="2235240"/>
              <a:chExt cx="1873080" cy="720720"/>
            </a:xfrm>
          </p:grpSpPr>
          <p:sp>
            <p:nvSpPr>
              <p:cNvPr id="528" name=""/>
              <p:cNvSpPr/>
              <p:nvPr/>
            </p:nvSpPr>
            <p:spPr>
              <a:xfrm>
                <a:off x="322200" y="2235240"/>
                <a:ext cx="1873080" cy="7207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22200" y="2235240"/>
                <a:ext cx="73080" cy="72072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30" name=""/>
                <p:cNvSpPr txBox="1"/>
                <p:nvPr/>
              </p:nvSpPr>
              <p:spPr>
                <a:xfrm>
                  <a:off x="617400" y="2330280"/>
                  <a:ext cx="126864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x</m:t>
                      </m:r>
                      <m:r>
                        <m:t xml:space="preserve">&gt;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1" name=""/>
          <p:cNvGrpSpPr/>
          <p:nvPr/>
        </p:nvGrpSpPr>
        <p:grpSpPr>
          <a:xfrm>
            <a:off x="322200" y="3243240"/>
            <a:ext cx="1873080" cy="720720"/>
            <a:chOff x="322200" y="3243240"/>
            <a:chExt cx="1873080" cy="720720"/>
          </a:xfrm>
        </p:grpSpPr>
        <p:grpSp>
          <p:nvGrpSpPr>
            <p:cNvPr id="532" name=""/>
            <p:cNvGrpSpPr/>
            <p:nvPr/>
          </p:nvGrpSpPr>
          <p:grpSpPr>
            <a:xfrm>
              <a:off x="322200" y="3243240"/>
              <a:ext cx="1873080" cy="720720"/>
              <a:chOff x="322200" y="3243240"/>
              <a:chExt cx="1873080" cy="720720"/>
            </a:xfrm>
          </p:grpSpPr>
          <p:sp>
            <p:nvSpPr>
              <p:cNvPr id="533" name=""/>
              <p:cNvSpPr/>
              <p:nvPr/>
            </p:nvSpPr>
            <p:spPr>
              <a:xfrm>
                <a:off x="322200" y="3243240"/>
                <a:ext cx="1873080" cy="7207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22200" y="3243240"/>
                <a:ext cx="73080" cy="72072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35" name=""/>
                <p:cNvSpPr txBox="1"/>
                <p:nvPr/>
              </p:nvSpPr>
              <p:spPr>
                <a:xfrm>
                  <a:off x="338040" y="3305160"/>
                  <a:ext cx="185112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x</m:t>
                      </m:r>
                      <m:r>
                        <m:t xml:space="preserve">&gt;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b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6" name=""/>
          <p:cNvGrpSpPr/>
          <p:nvPr/>
        </p:nvGrpSpPr>
        <p:grpSpPr>
          <a:xfrm>
            <a:off x="322200" y="4251240"/>
            <a:ext cx="1945800" cy="1007640"/>
            <a:chOff x="322200" y="4251240"/>
            <a:chExt cx="1945800" cy="1007640"/>
          </a:xfrm>
        </p:grpSpPr>
        <p:grpSp>
          <p:nvGrpSpPr>
            <p:cNvPr id="537" name=""/>
            <p:cNvGrpSpPr/>
            <p:nvPr/>
          </p:nvGrpSpPr>
          <p:grpSpPr>
            <a:xfrm>
              <a:off x="322200" y="4251240"/>
              <a:ext cx="1945800" cy="1007640"/>
              <a:chOff x="322200" y="4251240"/>
              <a:chExt cx="1945800" cy="1007640"/>
            </a:xfrm>
          </p:grpSpPr>
          <p:sp>
            <p:nvSpPr>
              <p:cNvPr id="538" name=""/>
              <p:cNvSpPr/>
              <p:nvPr/>
            </p:nvSpPr>
            <p:spPr>
              <a:xfrm>
                <a:off x="322200" y="4251240"/>
                <a:ext cx="1945800" cy="100764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22200" y="4251240"/>
                <a:ext cx="75600" cy="100764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684360" y="4251240"/>
                  <a:ext cx="1069920" cy="97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1" name=""/>
          <p:cNvGrpSpPr/>
          <p:nvPr/>
        </p:nvGrpSpPr>
        <p:grpSpPr>
          <a:xfrm>
            <a:off x="896760" y="1368360"/>
            <a:ext cx="2232360" cy="649440"/>
            <a:chOff x="896760" y="1368360"/>
            <a:chExt cx="2232360" cy="649440"/>
          </a:xfrm>
        </p:grpSpPr>
        <p:grpSp>
          <p:nvGrpSpPr>
            <p:cNvPr id="542" name=""/>
            <p:cNvGrpSpPr/>
            <p:nvPr/>
          </p:nvGrpSpPr>
          <p:grpSpPr>
            <a:xfrm>
              <a:off x="896760" y="1368360"/>
              <a:ext cx="2232360" cy="649440"/>
              <a:chOff x="896760" y="1368360"/>
              <a:chExt cx="2232360" cy="649440"/>
            </a:xfrm>
          </p:grpSpPr>
          <p:sp>
            <p:nvSpPr>
              <p:cNvPr id="543" name=""/>
              <p:cNvSpPr/>
              <p:nvPr/>
            </p:nvSpPr>
            <p:spPr>
              <a:xfrm>
                <a:off x="896760" y="1368360"/>
                <a:ext cx="2232360" cy="6494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96760" y="1959120"/>
                <a:ext cx="2232360" cy="583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45" name=""/>
                <p:cNvSpPr txBox="1"/>
                <p:nvPr/>
              </p:nvSpPr>
              <p:spPr>
                <a:xfrm>
                  <a:off x="1589040" y="1467000"/>
                  <a:ext cx="66348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&g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6" name=""/>
          <p:cNvGrpSpPr/>
          <p:nvPr/>
        </p:nvGrpSpPr>
        <p:grpSpPr>
          <a:xfrm>
            <a:off x="324000" y="5403960"/>
            <a:ext cx="1944000" cy="720720"/>
            <a:chOff x="324000" y="5403960"/>
            <a:chExt cx="1944000" cy="720720"/>
          </a:xfrm>
        </p:grpSpPr>
        <p:grpSp>
          <p:nvGrpSpPr>
            <p:cNvPr id="547" name=""/>
            <p:cNvGrpSpPr/>
            <p:nvPr/>
          </p:nvGrpSpPr>
          <p:grpSpPr>
            <a:xfrm>
              <a:off x="324000" y="5403960"/>
              <a:ext cx="1944000" cy="720720"/>
              <a:chOff x="324000" y="5403960"/>
              <a:chExt cx="1944000" cy="720720"/>
            </a:xfrm>
          </p:grpSpPr>
          <p:sp>
            <p:nvSpPr>
              <p:cNvPr id="548" name=""/>
              <p:cNvSpPr/>
              <p:nvPr/>
            </p:nvSpPr>
            <p:spPr>
              <a:xfrm>
                <a:off x="324000" y="5403960"/>
                <a:ext cx="1944000" cy="7207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24000" y="5403960"/>
                <a:ext cx="75600" cy="72072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50" name=""/>
                <p:cNvSpPr txBox="1"/>
                <p:nvPr/>
              </p:nvSpPr>
              <p:spPr>
                <a:xfrm>
                  <a:off x="803160" y="5541840"/>
                  <a:ext cx="917640" cy="4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gt;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b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1" name=""/>
          <p:cNvGrpSpPr/>
          <p:nvPr/>
        </p:nvGrpSpPr>
        <p:grpSpPr>
          <a:xfrm>
            <a:off x="2545920" y="2189520"/>
            <a:ext cx="1877400" cy="768960"/>
            <a:chOff x="2545920" y="2189520"/>
            <a:chExt cx="1877400" cy="768960"/>
          </a:xfrm>
        </p:grpSpPr>
        <p:grpSp>
          <p:nvGrpSpPr>
            <p:cNvPr id="552" name=""/>
            <p:cNvGrpSpPr/>
            <p:nvPr/>
          </p:nvGrpSpPr>
          <p:grpSpPr>
            <a:xfrm>
              <a:off x="2545920" y="2189520"/>
              <a:ext cx="1877400" cy="768960"/>
              <a:chOff x="2545920" y="2189520"/>
              <a:chExt cx="1877400" cy="768960"/>
            </a:xfrm>
          </p:grpSpPr>
          <p:sp>
            <p:nvSpPr>
              <p:cNvPr id="553" name=""/>
              <p:cNvSpPr/>
              <p:nvPr/>
            </p:nvSpPr>
            <p:spPr>
              <a:xfrm rot="21588000">
                <a:off x="2547000" y="2219760"/>
                <a:ext cx="1873440" cy="7351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21588000">
                <a:off x="4377960" y="2189160"/>
                <a:ext cx="43920" cy="7365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55" name=""/>
                <p:cNvSpPr txBox="1"/>
                <p:nvPr/>
              </p:nvSpPr>
              <p:spPr>
                <a:xfrm>
                  <a:off x="2855880" y="2379600"/>
                  <a:ext cx="124308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x</m:t>
                      </m:r>
                      <m:r>
                        <m:t xml:space="preserve">≥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6" name=""/>
          <p:cNvGrpSpPr/>
          <p:nvPr/>
        </p:nvGrpSpPr>
        <p:grpSpPr>
          <a:xfrm>
            <a:off x="2545920" y="3197520"/>
            <a:ext cx="1877400" cy="768960"/>
            <a:chOff x="2545920" y="3197520"/>
            <a:chExt cx="1877400" cy="768960"/>
          </a:xfrm>
        </p:grpSpPr>
        <p:grpSp>
          <p:nvGrpSpPr>
            <p:cNvPr id="557" name=""/>
            <p:cNvGrpSpPr/>
            <p:nvPr/>
          </p:nvGrpSpPr>
          <p:grpSpPr>
            <a:xfrm>
              <a:off x="2545920" y="3197520"/>
              <a:ext cx="1877400" cy="768960"/>
              <a:chOff x="2545920" y="3197520"/>
              <a:chExt cx="1877400" cy="768960"/>
            </a:xfrm>
          </p:grpSpPr>
          <p:sp>
            <p:nvSpPr>
              <p:cNvPr id="558" name=""/>
              <p:cNvSpPr/>
              <p:nvPr/>
            </p:nvSpPr>
            <p:spPr>
              <a:xfrm rot="21588000">
                <a:off x="2547000" y="3227760"/>
                <a:ext cx="1873440" cy="7351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21588000">
                <a:off x="4377960" y="3197160"/>
                <a:ext cx="43920" cy="7365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60" name=""/>
                <p:cNvSpPr txBox="1"/>
                <p:nvPr/>
              </p:nvSpPr>
              <p:spPr>
                <a:xfrm>
                  <a:off x="2556000" y="3316320"/>
                  <a:ext cx="185076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x</m:t>
                      </m:r>
                      <m:r>
                        <m:t xml:space="preserve">≥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b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1" name=""/>
          <p:cNvGrpSpPr/>
          <p:nvPr/>
        </p:nvGrpSpPr>
        <p:grpSpPr>
          <a:xfrm>
            <a:off x="2522880" y="4148640"/>
            <a:ext cx="2038320" cy="1075680"/>
            <a:chOff x="2522880" y="4148640"/>
            <a:chExt cx="2038320" cy="1075680"/>
          </a:xfrm>
        </p:grpSpPr>
        <p:grpSp>
          <p:nvGrpSpPr>
            <p:cNvPr id="562" name=""/>
            <p:cNvGrpSpPr/>
            <p:nvPr/>
          </p:nvGrpSpPr>
          <p:grpSpPr>
            <a:xfrm>
              <a:off x="2522880" y="4148640"/>
              <a:ext cx="2038320" cy="1041840"/>
              <a:chOff x="2522880" y="4148640"/>
              <a:chExt cx="2038320" cy="1041840"/>
            </a:xfrm>
          </p:grpSpPr>
          <p:sp>
            <p:nvSpPr>
              <p:cNvPr id="563" name=""/>
              <p:cNvSpPr/>
              <p:nvPr/>
            </p:nvSpPr>
            <p:spPr>
              <a:xfrm rot="21588000">
                <a:off x="2524320" y="4213080"/>
                <a:ext cx="2030400" cy="9738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21588000">
                <a:off x="4511880" y="4148280"/>
                <a:ext cx="47520" cy="97560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65" name=""/>
                <p:cNvSpPr txBox="1"/>
                <p:nvPr/>
              </p:nvSpPr>
              <p:spPr>
                <a:xfrm>
                  <a:off x="2857680" y="4253040"/>
                  <a:ext cx="1069920" cy="97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6" name=""/>
          <p:cNvGrpSpPr/>
          <p:nvPr/>
        </p:nvGrpSpPr>
        <p:grpSpPr>
          <a:xfrm>
            <a:off x="2576160" y="5386680"/>
            <a:ext cx="1877400" cy="768960"/>
            <a:chOff x="2576160" y="5386680"/>
            <a:chExt cx="1877400" cy="768960"/>
          </a:xfrm>
        </p:grpSpPr>
        <p:grpSp>
          <p:nvGrpSpPr>
            <p:cNvPr id="567" name=""/>
            <p:cNvGrpSpPr/>
            <p:nvPr/>
          </p:nvGrpSpPr>
          <p:grpSpPr>
            <a:xfrm>
              <a:off x="2576160" y="5386680"/>
              <a:ext cx="1877400" cy="768960"/>
              <a:chOff x="2576160" y="5386680"/>
              <a:chExt cx="1877400" cy="768960"/>
            </a:xfrm>
          </p:grpSpPr>
          <p:sp>
            <p:nvSpPr>
              <p:cNvPr id="568" name=""/>
              <p:cNvSpPr/>
              <p:nvPr/>
            </p:nvSpPr>
            <p:spPr>
              <a:xfrm rot="21588000">
                <a:off x="2577240" y="5416920"/>
                <a:ext cx="1873440" cy="7351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21588000">
                <a:off x="4408200" y="5386320"/>
                <a:ext cx="43920" cy="7365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70" name=""/>
                <p:cNvSpPr txBox="1"/>
                <p:nvPr/>
              </p:nvSpPr>
              <p:spPr>
                <a:xfrm>
                  <a:off x="3059280" y="5548320"/>
                  <a:ext cx="91728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≥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b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1" name=""/>
          <p:cNvGrpSpPr/>
          <p:nvPr/>
        </p:nvGrpSpPr>
        <p:grpSpPr>
          <a:xfrm>
            <a:off x="4714920" y="2235240"/>
            <a:ext cx="1873080" cy="720720"/>
            <a:chOff x="4714920" y="2235240"/>
            <a:chExt cx="1873080" cy="720720"/>
          </a:xfrm>
        </p:grpSpPr>
        <p:grpSp>
          <p:nvGrpSpPr>
            <p:cNvPr id="572" name=""/>
            <p:cNvGrpSpPr/>
            <p:nvPr/>
          </p:nvGrpSpPr>
          <p:grpSpPr>
            <a:xfrm>
              <a:off x="4714920" y="2235240"/>
              <a:ext cx="1873080" cy="720720"/>
              <a:chOff x="4714920" y="2235240"/>
              <a:chExt cx="1873080" cy="720720"/>
            </a:xfrm>
          </p:grpSpPr>
          <p:sp>
            <p:nvSpPr>
              <p:cNvPr id="573" name=""/>
              <p:cNvSpPr/>
              <p:nvPr/>
            </p:nvSpPr>
            <p:spPr>
              <a:xfrm>
                <a:off x="4714920" y="2235240"/>
                <a:ext cx="1873080" cy="7207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714920" y="2235240"/>
                <a:ext cx="73080" cy="72072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75" name=""/>
                <p:cNvSpPr txBox="1"/>
                <p:nvPr/>
              </p:nvSpPr>
              <p:spPr>
                <a:xfrm>
                  <a:off x="5016600" y="2308320"/>
                  <a:ext cx="1241280" cy="45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6" name=""/>
          <p:cNvGrpSpPr/>
          <p:nvPr/>
        </p:nvGrpSpPr>
        <p:grpSpPr>
          <a:xfrm>
            <a:off x="6867360" y="2189520"/>
            <a:ext cx="1877040" cy="768960"/>
            <a:chOff x="6867360" y="2189520"/>
            <a:chExt cx="1877040" cy="768960"/>
          </a:xfrm>
        </p:grpSpPr>
        <p:grpSp>
          <p:nvGrpSpPr>
            <p:cNvPr id="577" name=""/>
            <p:cNvGrpSpPr/>
            <p:nvPr/>
          </p:nvGrpSpPr>
          <p:grpSpPr>
            <a:xfrm>
              <a:off x="6867360" y="2189520"/>
              <a:ext cx="1877040" cy="768960"/>
              <a:chOff x="6867360" y="2189520"/>
              <a:chExt cx="1877040" cy="768960"/>
            </a:xfrm>
          </p:grpSpPr>
          <p:sp>
            <p:nvSpPr>
              <p:cNvPr id="578" name=""/>
              <p:cNvSpPr/>
              <p:nvPr/>
            </p:nvSpPr>
            <p:spPr>
              <a:xfrm rot="21588000">
                <a:off x="6868440" y="2219760"/>
                <a:ext cx="1873080" cy="7351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21588000">
                <a:off x="8699040" y="2189160"/>
                <a:ext cx="43920" cy="7365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80" name=""/>
                <p:cNvSpPr txBox="1"/>
                <p:nvPr/>
              </p:nvSpPr>
              <p:spPr>
                <a:xfrm>
                  <a:off x="7105680" y="2308320"/>
                  <a:ext cx="1243080" cy="45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1" name=""/>
          <p:cNvGrpSpPr/>
          <p:nvPr/>
        </p:nvGrpSpPr>
        <p:grpSpPr>
          <a:xfrm>
            <a:off x="4713120" y="3257640"/>
            <a:ext cx="1873080" cy="720720"/>
            <a:chOff x="4713120" y="3257640"/>
            <a:chExt cx="1873080" cy="720720"/>
          </a:xfrm>
        </p:grpSpPr>
        <p:grpSp>
          <p:nvGrpSpPr>
            <p:cNvPr id="582" name=""/>
            <p:cNvGrpSpPr/>
            <p:nvPr/>
          </p:nvGrpSpPr>
          <p:grpSpPr>
            <a:xfrm>
              <a:off x="4713120" y="3257640"/>
              <a:ext cx="1873080" cy="720720"/>
              <a:chOff x="4713120" y="3257640"/>
              <a:chExt cx="1873080" cy="720720"/>
            </a:xfrm>
          </p:grpSpPr>
          <p:sp>
            <p:nvSpPr>
              <p:cNvPr id="583" name=""/>
              <p:cNvSpPr/>
              <p:nvPr/>
            </p:nvSpPr>
            <p:spPr>
              <a:xfrm>
                <a:off x="4713120" y="3257640"/>
                <a:ext cx="1873080" cy="7207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713120" y="3257640"/>
                <a:ext cx="73080" cy="72072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4716360" y="3316320"/>
                  <a:ext cx="185112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x</m:t>
                      </m:r>
                      <m:r>
                        <m:t xml:space="preserve">&lt;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b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6" name=""/>
          <p:cNvGrpSpPr/>
          <p:nvPr/>
        </p:nvGrpSpPr>
        <p:grpSpPr>
          <a:xfrm>
            <a:off x="6867360" y="3197520"/>
            <a:ext cx="1877040" cy="768960"/>
            <a:chOff x="6867360" y="3197520"/>
            <a:chExt cx="1877040" cy="768960"/>
          </a:xfrm>
        </p:grpSpPr>
        <p:grpSp>
          <p:nvGrpSpPr>
            <p:cNvPr id="587" name=""/>
            <p:cNvGrpSpPr/>
            <p:nvPr/>
          </p:nvGrpSpPr>
          <p:grpSpPr>
            <a:xfrm>
              <a:off x="6867360" y="3197520"/>
              <a:ext cx="1877040" cy="768960"/>
              <a:chOff x="6867360" y="3197520"/>
              <a:chExt cx="1877040" cy="768960"/>
            </a:xfrm>
          </p:grpSpPr>
          <p:sp>
            <p:nvSpPr>
              <p:cNvPr id="588" name=""/>
              <p:cNvSpPr/>
              <p:nvPr/>
            </p:nvSpPr>
            <p:spPr>
              <a:xfrm rot="21588000">
                <a:off x="6868440" y="3227760"/>
                <a:ext cx="1873080" cy="7351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21588000">
                <a:off x="8699040" y="3197160"/>
                <a:ext cx="43920" cy="7365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90" name=""/>
                <p:cNvSpPr txBox="1"/>
                <p:nvPr/>
              </p:nvSpPr>
              <p:spPr>
                <a:xfrm>
                  <a:off x="6877080" y="3344760"/>
                  <a:ext cx="185112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x</m:t>
                      </m:r>
                      <m:r>
                        <m:t xml:space="preserve">≤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b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1" name=""/>
          <p:cNvGrpSpPr/>
          <p:nvPr/>
        </p:nvGrpSpPr>
        <p:grpSpPr>
          <a:xfrm>
            <a:off x="4714920" y="4251240"/>
            <a:ext cx="1873080" cy="1007640"/>
            <a:chOff x="4714920" y="4251240"/>
            <a:chExt cx="1873080" cy="1007640"/>
          </a:xfrm>
        </p:grpSpPr>
        <p:grpSp>
          <p:nvGrpSpPr>
            <p:cNvPr id="592" name=""/>
            <p:cNvGrpSpPr/>
            <p:nvPr/>
          </p:nvGrpSpPr>
          <p:grpSpPr>
            <a:xfrm>
              <a:off x="4714920" y="4251240"/>
              <a:ext cx="1873080" cy="1007640"/>
              <a:chOff x="4714920" y="4251240"/>
              <a:chExt cx="1873080" cy="1007640"/>
            </a:xfrm>
          </p:grpSpPr>
          <p:sp>
            <p:nvSpPr>
              <p:cNvPr id="593" name=""/>
              <p:cNvSpPr/>
              <p:nvPr/>
            </p:nvSpPr>
            <p:spPr>
              <a:xfrm>
                <a:off x="4714920" y="4251240"/>
                <a:ext cx="1873080" cy="100764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714920" y="4251240"/>
                <a:ext cx="73080" cy="100764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5003640" y="4251240"/>
                  <a:ext cx="1070280" cy="97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6" name=""/>
          <p:cNvGrpSpPr/>
          <p:nvPr/>
        </p:nvGrpSpPr>
        <p:grpSpPr>
          <a:xfrm>
            <a:off x="6846840" y="4161600"/>
            <a:ext cx="1895760" cy="1077120"/>
            <a:chOff x="6846840" y="4161600"/>
            <a:chExt cx="1895760" cy="1077120"/>
          </a:xfrm>
        </p:grpSpPr>
        <p:grpSp>
          <p:nvGrpSpPr>
            <p:cNvPr id="597" name=""/>
            <p:cNvGrpSpPr/>
            <p:nvPr/>
          </p:nvGrpSpPr>
          <p:grpSpPr>
            <a:xfrm>
              <a:off x="6846840" y="4161600"/>
              <a:ext cx="1895760" cy="1057320"/>
              <a:chOff x="6846840" y="4161600"/>
              <a:chExt cx="1895760" cy="1057320"/>
            </a:xfrm>
          </p:grpSpPr>
          <p:sp>
            <p:nvSpPr>
              <p:cNvPr id="598" name=""/>
              <p:cNvSpPr/>
              <p:nvPr/>
            </p:nvSpPr>
            <p:spPr>
              <a:xfrm rot="21588000">
                <a:off x="6848280" y="4234680"/>
                <a:ext cx="1886040" cy="9806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21588000">
                <a:off x="8696160" y="4161240"/>
                <a:ext cx="44280" cy="98244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00" name=""/>
                <p:cNvSpPr txBox="1"/>
                <p:nvPr/>
              </p:nvSpPr>
              <p:spPr>
                <a:xfrm>
                  <a:off x="7164360" y="4267080"/>
                  <a:ext cx="1069920" cy="97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1" name=""/>
          <p:cNvGrpSpPr/>
          <p:nvPr/>
        </p:nvGrpSpPr>
        <p:grpSpPr>
          <a:xfrm>
            <a:off x="4716360" y="5403960"/>
            <a:ext cx="1873080" cy="720720"/>
            <a:chOff x="4716360" y="5403960"/>
            <a:chExt cx="1873080" cy="720720"/>
          </a:xfrm>
        </p:grpSpPr>
        <p:grpSp>
          <p:nvGrpSpPr>
            <p:cNvPr id="602" name=""/>
            <p:cNvGrpSpPr/>
            <p:nvPr/>
          </p:nvGrpSpPr>
          <p:grpSpPr>
            <a:xfrm>
              <a:off x="4716360" y="5403960"/>
              <a:ext cx="1873080" cy="720720"/>
              <a:chOff x="4716360" y="5403960"/>
              <a:chExt cx="1873080" cy="720720"/>
            </a:xfrm>
          </p:grpSpPr>
          <p:sp>
            <p:nvSpPr>
              <p:cNvPr id="603" name=""/>
              <p:cNvSpPr/>
              <p:nvPr/>
            </p:nvSpPr>
            <p:spPr>
              <a:xfrm>
                <a:off x="4716360" y="5403960"/>
                <a:ext cx="1873080" cy="7207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16360" y="5403960"/>
                <a:ext cx="73080" cy="72072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05" name=""/>
                <p:cNvSpPr txBox="1"/>
                <p:nvPr/>
              </p:nvSpPr>
              <p:spPr>
                <a:xfrm>
                  <a:off x="4976640" y="5548320"/>
                  <a:ext cx="137664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&lt;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b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6" name=""/>
          <p:cNvGrpSpPr/>
          <p:nvPr/>
        </p:nvGrpSpPr>
        <p:grpSpPr>
          <a:xfrm>
            <a:off x="6854400" y="5357880"/>
            <a:ext cx="1877400" cy="769680"/>
            <a:chOff x="6854400" y="5357880"/>
            <a:chExt cx="1877400" cy="769680"/>
          </a:xfrm>
        </p:grpSpPr>
        <p:grpSp>
          <p:nvGrpSpPr>
            <p:cNvPr id="607" name=""/>
            <p:cNvGrpSpPr/>
            <p:nvPr/>
          </p:nvGrpSpPr>
          <p:grpSpPr>
            <a:xfrm>
              <a:off x="6854400" y="5357880"/>
              <a:ext cx="1877400" cy="769680"/>
              <a:chOff x="6854400" y="5357880"/>
              <a:chExt cx="1877400" cy="769680"/>
            </a:xfrm>
          </p:grpSpPr>
          <p:sp>
            <p:nvSpPr>
              <p:cNvPr id="608" name=""/>
              <p:cNvSpPr/>
              <p:nvPr/>
            </p:nvSpPr>
            <p:spPr>
              <a:xfrm rot="21588000">
                <a:off x="6855480" y="5388480"/>
                <a:ext cx="1873440" cy="7354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21588000">
                <a:off x="8686440" y="5357520"/>
                <a:ext cx="43920" cy="7369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7135920" y="5548320"/>
                  <a:ext cx="137628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&lt;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b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trips dir="ru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"/>
          <p:cNvGrpSpPr/>
          <p:nvPr/>
        </p:nvGrpSpPr>
        <p:grpSpPr>
          <a:xfrm>
            <a:off x="538200" y="1655640"/>
            <a:ext cx="7968600" cy="4177080"/>
            <a:chOff x="538200" y="1655640"/>
            <a:chExt cx="7968600" cy="4177080"/>
          </a:xfrm>
        </p:grpSpPr>
        <p:sp>
          <p:nvSpPr>
            <p:cNvPr id="612" name=""/>
            <p:cNvSpPr/>
            <p:nvPr/>
          </p:nvSpPr>
          <p:spPr>
            <a:xfrm rot="20485800">
              <a:off x="5289120" y="2001600"/>
              <a:ext cx="2738520" cy="345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982200">
              <a:off x="969480" y="2060640"/>
              <a:ext cx="2738520" cy="345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674800" y="-27000"/>
            <a:ext cx="6480360" cy="1838160"/>
            <a:chOff x="2674800" y="-27000"/>
            <a:chExt cx="6480360" cy="1838160"/>
          </a:xfrm>
        </p:grpSpPr>
        <p:grpSp>
          <p:nvGrpSpPr>
            <p:cNvPr id="615" name=""/>
            <p:cNvGrpSpPr/>
            <p:nvPr/>
          </p:nvGrpSpPr>
          <p:grpSpPr>
            <a:xfrm>
              <a:off x="2700360" y="-27000"/>
              <a:ext cx="6443280" cy="1152000"/>
              <a:chOff x="2700360" y="-27000"/>
              <a:chExt cx="6443280" cy="1152000"/>
            </a:xfrm>
          </p:grpSpPr>
          <p:sp>
            <p:nvSpPr>
              <p:cNvPr id="616" name=""/>
              <p:cNvSpPr/>
              <p:nvPr/>
            </p:nvSpPr>
            <p:spPr>
              <a:xfrm>
                <a:off x="2700360" y="-27000"/>
                <a:ext cx="6443280" cy="115200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ffffff"/>
                    </a:solidFill>
                    <a:latin typeface="Arial"/>
                  </a:rPr>
                  <a:t>Простейшие логарифмические неравенства</a:t>
                </a:r>
                <a:r>
                  <a:rPr b="1" lang="ru-RU" sz="21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700360" y="743040"/>
                <a:ext cx="147600" cy="3819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2674800" y="1019160"/>
              <a:ext cx="6480360" cy="792000"/>
            </a:xfrm>
            <a:custGeom>
              <a:avLst/>
              <a:gdLst/>
              <a:ahLst/>
              <a:rect l="l" t="t" r="r" b="b"/>
              <a:pathLst>
                <a:path w="4264" h="454">
                  <a:moveTo>
                    <a:pt x="0" y="46"/>
                  </a:moveTo>
                  <a:lnTo>
                    <a:pt x="4264" y="454"/>
                  </a:lnTo>
                  <a:lnTo>
                    <a:pt x="4264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620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623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Показательны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26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322200" y="2235240"/>
            <a:ext cx="1873080" cy="720720"/>
            <a:chOff x="322200" y="2235240"/>
            <a:chExt cx="1873080" cy="720720"/>
          </a:xfrm>
        </p:grpSpPr>
        <p:grpSp>
          <p:nvGrpSpPr>
            <p:cNvPr id="628" name=""/>
            <p:cNvGrpSpPr/>
            <p:nvPr/>
          </p:nvGrpSpPr>
          <p:grpSpPr>
            <a:xfrm>
              <a:off x="322200" y="2235240"/>
              <a:ext cx="1873080" cy="720720"/>
              <a:chOff x="322200" y="2235240"/>
              <a:chExt cx="1873080" cy="720720"/>
            </a:xfrm>
          </p:grpSpPr>
          <p:sp>
            <p:nvSpPr>
              <p:cNvPr id="629" name=""/>
              <p:cNvSpPr/>
              <p:nvPr/>
            </p:nvSpPr>
            <p:spPr>
              <a:xfrm>
                <a:off x="322200" y="2235240"/>
                <a:ext cx="1873080" cy="7207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22200" y="2235240"/>
                <a:ext cx="73080" cy="72072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31" name=""/>
                <p:cNvSpPr txBox="1"/>
                <p:nvPr/>
              </p:nvSpPr>
              <p:spPr>
                <a:xfrm>
                  <a:off x="617400" y="2330280"/>
                  <a:ext cx="126864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x</m:t>
                      </m:r>
                      <m:r>
                        <m:t xml:space="preserve">&gt;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2" name=""/>
          <p:cNvGrpSpPr/>
          <p:nvPr/>
        </p:nvGrpSpPr>
        <p:grpSpPr>
          <a:xfrm>
            <a:off x="322200" y="3243240"/>
            <a:ext cx="1873080" cy="720720"/>
            <a:chOff x="322200" y="3243240"/>
            <a:chExt cx="1873080" cy="720720"/>
          </a:xfrm>
        </p:grpSpPr>
        <p:grpSp>
          <p:nvGrpSpPr>
            <p:cNvPr id="633" name=""/>
            <p:cNvGrpSpPr/>
            <p:nvPr/>
          </p:nvGrpSpPr>
          <p:grpSpPr>
            <a:xfrm>
              <a:off x="322200" y="3243240"/>
              <a:ext cx="1873080" cy="720720"/>
              <a:chOff x="322200" y="3243240"/>
              <a:chExt cx="1873080" cy="720720"/>
            </a:xfrm>
          </p:grpSpPr>
          <p:sp>
            <p:nvSpPr>
              <p:cNvPr id="634" name=""/>
              <p:cNvSpPr/>
              <p:nvPr/>
            </p:nvSpPr>
            <p:spPr>
              <a:xfrm>
                <a:off x="322200" y="3243240"/>
                <a:ext cx="1873080" cy="7207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22200" y="3243240"/>
                <a:ext cx="73080" cy="72072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36" name=""/>
                <p:cNvSpPr txBox="1"/>
                <p:nvPr/>
              </p:nvSpPr>
              <p:spPr>
                <a:xfrm>
                  <a:off x="338040" y="3305160"/>
                  <a:ext cx="185112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x</m:t>
                      </m:r>
                      <m:r>
                        <m:t xml:space="preserve">&gt;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b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7" name=""/>
          <p:cNvGrpSpPr/>
          <p:nvPr/>
        </p:nvGrpSpPr>
        <p:grpSpPr>
          <a:xfrm>
            <a:off x="4643280" y="4221000"/>
            <a:ext cx="1945800" cy="1007640"/>
            <a:chOff x="4643280" y="4221000"/>
            <a:chExt cx="1945800" cy="1007640"/>
          </a:xfrm>
        </p:grpSpPr>
        <p:grpSp>
          <p:nvGrpSpPr>
            <p:cNvPr id="638" name=""/>
            <p:cNvGrpSpPr/>
            <p:nvPr/>
          </p:nvGrpSpPr>
          <p:grpSpPr>
            <a:xfrm>
              <a:off x="4643280" y="4221000"/>
              <a:ext cx="1945800" cy="1007640"/>
              <a:chOff x="4643280" y="4221000"/>
              <a:chExt cx="1945800" cy="1007640"/>
            </a:xfrm>
          </p:grpSpPr>
          <p:sp>
            <p:nvSpPr>
              <p:cNvPr id="639" name=""/>
              <p:cNvSpPr/>
              <p:nvPr/>
            </p:nvSpPr>
            <p:spPr>
              <a:xfrm>
                <a:off x="4643280" y="4221000"/>
                <a:ext cx="1945800" cy="100764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643280" y="4221000"/>
                <a:ext cx="75600" cy="100764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41" name=""/>
                <p:cNvSpPr txBox="1"/>
                <p:nvPr/>
              </p:nvSpPr>
              <p:spPr>
                <a:xfrm>
                  <a:off x="5005440" y="4221000"/>
                  <a:ext cx="1069920" cy="97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2" name=""/>
          <p:cNvGrpSpPr/>
          <p:nvPr/>
        </p:nvGrpSpPr>
        <p:grpSpPr>
          <a:xfrm>
            <a:off x="896760" y="1368360"/>
            <a:ext cx="2232360" cy="649440"/>
            <a:chOff x="896760" y="1368360"/>
            <a:chExt cx="2232360" cy="649440"/>
          </a:xfrm>
        </p:grpSpPr>
        <p:grpSp>
          <p:nvGrpSpPr>
            <p:cNvPr id="643" name=""/>
            <p:cNvGrpSpPr/>
            <p:nvPr/>
          </p:nvGrpSpPr>
          <p:grpSpPr>
            <a:xfrm>
              <a:off x="896760" y="1368360"/>
              <a:ext cx="2232360" cy="649440"/>
              <a:chOff x="896760" y="1368360"/>
              <a:chExt cx="2232360" cy="649440"/>
            </a:xfrm>
          </p:grpSpPr>
          <p:sp>
            <p:nvSpPr>
              <p:cNvPr id="644" name=""/>
              <p:cNvSpPr/>
              <p:nvPr/>
            </p:nvSpPr>
            <p:spPr>
              <a:xfrm>
                <a:off x="896760" y="1368360"/>
                <a:ext cx="2232360" cy="6494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896760" y="1959120"/>
                <a:ext cx="2232360" cy="583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46" name=""/>
                <p:cNvSpPr txBox="1"/>
                <p:nvPr/>
              </p:nvSpPr>
              <p:spPr>
                <a:xfrm>
                  <a:off x="1360440" y="1467000"/>
                  <a:ext cx="112248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&lt;</m:t>
                      </m:r>
                      <m:r>
                        <m:t xml:space="preserve">a</m:t>
                      </m:r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5938920" y="1766880"/>
                <a:ext cx="11271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8" name=""/>
          <p:cNvGrpSpPr/>
          <p:nvPr/>
        </p:nvGrpSpPr>
        <p:grpSpPr>
          <a:xfrm>
            <a:off x="4643280" y="5373720"/>
            <a:ext cx="1944000" cy="720720"/>
            <a:chOff x="4643280" y="5373720"/>
            <a:chExt cx="1944000" cy="720720"/>
          </a:xfrm>
        </p:grpSpPr>
        <p:grpSp>
          <p:nvGrpSpPr>
            <p:cNvPr id="649" name=""/>
            <p:cNvGrpSpPr/>
            <p:nvPr/>
          </p:nvGrpSpPr>
          <p:grpSpPr>
            <a:xfrm>
              <a:off x="4643280" y="5373720"/>
              <a:ext cx="1944000" cy="720720"/>
              <a:chOff x="4643280" y="5373720"/>
              <a:chExt cx="1944000" cy="720720"/>
            </a:xfrm>
          </p:grpSpPr>
          <p:sp>
            <p:nvSpPr>
              <p:cNvPr id="650" name=""/>
              <p:cNvSpPr/>
              <p:nvPr/>
            </p:nvSpPr>
            <p:spPr>
              <a:xfrm>
                <a:off x="4643280" y="5373720"/>
                <a:ext cx="1944000" cy="7207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643280" y="5373720"/>
                <a:ext cx="75600" cy="72072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52" name=""/>
                <p:cNvSpPr txBox="1"/>
                <p:nvPr/>
              </p:nvSpPr>
              <p:spPr>
                <a:xfrm>
                  <a:off x="5122440" y="5511600"/>
                  <a:ext cx="917640" cy="4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gt;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b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3" name=""/>
          <p:cNvGrpSpPr/>
          <p:nvPr/>
        </p:nvGrpSpPr>
        <p:grpSpPr>
          <a:xfrm>
            <a:off x="2545920" y="2189520"/>
            <a:ext cx="1877400" cy="768960"/>
            <a:chOff x="2545920" y="2189520"/>
            <a:chExt cx="1877400" cy="768960"/>
          </a:xfrm>
        </p:grpSpPr>
        <p:grpSp>
          <p:nvGrpSpPr>
            <p:cNvPr id="654" name=""/>
            <p:cNvGrpSpPr/>
            <p:nvPr/>
          </p:nvGrpSpPr>
          <p:grpSpPr>
            <a:xfrm>
              <a:off x="2545920" y="2189520"/>
              <a:ext cx="1877400" cy="768960"/>
              <a:chOff x="2545920" y="2189520"/>
              <a:chExt cx="1877400" cy="768960"/>
            </a:xfrm>
          </p:grpSpPr>
          <p:sp>
            <p:nvSpPr>
              <p:cNvPr id="655" name=""/>
              <p:cNvSpPr/>
              <p:nvPr/>
            </p:nvSpPr>
            <p:spPr>
              <a:xfrm rot="21588000">
                <a:off x="2547000" y="2219760"/>
                <a:ext cx="1873440" cy="7351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21588000">
                <a:off x="4377960" y="2189160"/>
                <a:ext cx="43920" cy="7365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57" name=""/>
                <p:cNvSpPr txBox="1"/>
                <p:nvPr/>
              </p:nvSpPr>
              <p:spPr>
                <a:xfrm>
                  <a:off x="2855880" y="2379600"/>
                  <a:ext cx="124308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x</m:t>
                      </m:r>
                      <m:r>
                        <m:t xml:space="preserve">≥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8" name=""/>
          <p:cNvGrpSpPr/>
          <p:nvPr/>
        </p:nvGrpSpPr>
        <p:grpSpPr>
          <a:xfrm>
            <a:off x="2545920" y="3197520"/>
            <a:ext cx="1877400" cy="768960"/>
            <a:chOff x="2545920" y="3197520"/>
            <a:chExt cx="1877400" cy="768960"/>
          </a:xfrm>
        </p:grpSpPr>
        <p:grpSp>
          <p:nvGrpSpPr>
            <p:cNvPr id="659" name=""/>
            <p:cNvGrpSpPr/>
            <p:nvPr/>
          </p:nvGrpSpPr>
          <p:grpSpPr>
            <a:xfrm>
              <a:off x="2545920" y="3197520"/>
              <a:ext cx="1877400" cy="768960"/>
              <a:chOff x="2545920" y="3197520"/>
              <a:chExt cx="1877400" cy="768960"/>
            </a:xfrm>
          </p:grpSpPr>
          <p:sp>
            <p:nvSpPr>
              <p:cNvPr id="660" name=""/>
              <p:cNvSpPr/>
              <p:nvPr/>
            </p:nvSpPr>
            <p:spPr>
              <a:xfrm rot="21588000">
                <a:off x="2547000" y="3227760"/>
                <a:ext cx="1873440" cy="7351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21588000">
                <a:off x="4377960" y="3197160"/>
                <a:ext cx="43920" cy="7365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62" name=""/>
                <p:cNvSpPr txBox="1"/>
                <p:nvPr/>
              </p:nvSpPr>
              <p:spPr>
                <a:xfrm>
                  <a:off x="2556000" y="3316320"/>
                  <a:ext cx="185076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x</m:t>
                      </m:r>
                      <m:r>
                        <m:t xml:space="preserve">≥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b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3" name=""/>
          <p:cNvGrpSpPr/>
          <p:nvPr/>
        </p:nvGrpSpPr>
        <p:grpSpPr>
          <a:xfrm>
            <a:off x="6821640" y="4153320"/>
            <a:ext cx="2038320" cy="1075680"/>
            <a:chOff x="6821640" y="4153320"/>
            <a:chExt cx="2038320" cy="1075680"/>
          </a:xfrm>
        </p:grpSpPr>
        <p:grpSp>
          <p:nvGrpSpPr>
            <p:cNvPr id="664" name=""/>
            <p:cNvGrpSpPr/>
            <p:nvPr/>
          </p:nvGrpSpPr>
          <p:grpSpPr>
            <a:xfrm>
              <a:off x="6821640" y="4153320"/>
              <a:ext cx="2038320" cy="1041840"/>
              <a:chOff x="6821640" y="4153320"/>
              <a:chExt cx="2038320" cy="1041840"/>
            </a:xfrm>
          </p:grpSpPr>
          <p:sp>
            <p:nvSpPr>
              <p:cNvPr id="665" name=""/>
              <p:cNvSpPr/>
              <p:nvPr/>
            </p:nvSpPr>
            <p:spPr>
              <a:xfrm rot="21588000">
                <a:off x="6823080" y="4217760"/>
                <a:ext cx="2030400" cy="9738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21588000">
                <a:off x="8810640" y="4152960"/>
                <a:ext cx="47520" cy="97560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67" name=""/>
                <p:cNvSpPr txBox="1"/>
                <p:nvPr/>
              </p:nvSpPr>
              <p:spPr>
                <a:xfrm>
                  <a:off x="7156440" y="4257720"/>
                  <a:ext cx="1069920" cy="97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8" name=""/>
          <p:cNvGrpSpPr/>
          <p:nvPr/>
        </p:nvGrpSpPr>
        <p:grpSpPr>
          <a:xfrm>
            <a:off x="6881400" y="5328000"/>
            <a:ext cx="1877400" cy="768960"/>
            <a:chOff x="6881400" y="5328000"/>
            <a:chExt cx="1877400" cy="768960"/>
          </a:xfrm>
        </p:grpSpPr>
        <p:grpSp>
          <p:nvGrpSpPr>
            <p:cNvPr id="669" name=""/>
            <p:cNvGrpSpPr/>
            <p:nvPr/>
          </p:nvGrpSpPr>
          <p:grpSpPr>
            <a:xfrm>
              <a:off x="6881400" y="5328000"/>
              <a:ext cx="1877400" cy="768960"/>
              <a:chOff x="6881400" y="5328000"/>
              <a:chExt cx="1877400" cy="768960"/>
            </a:xfrm>
          </p:grpSpPr>
          <p:sp>
            <p:nvSpPr>
              <p:cNvPr id="670" name=""/>
              <p:cNvSpPr/>
              <p:nvPr/>
            </p:nvSpPr>
            <p:spPr>
              <a:xfrm rot="21588000">
                <a:off x="6882480" y="5358240"/>
                <a:ext cx="1873440" cy="7351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21588000">
                <a:off x="8713440" y="5327640"/>
                <a:ext cx="43920" cy="7365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72" name=""/>
                <p:cNvSpPr txBox="1"/>
                <p:nvPr/>
              </p:nvSpPr>
              <p:spPr>
                <a:xfrm>
                  <a:off x="7364520" y="5489640"/>
                  <a:ext cx="91728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≥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b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73" name=""/>
          <p:cNvGrpSpPr/>
          <p:nvPr/>
        </p:nvGrpSpPr>
        <p:grpSpPr>
          <a:xfrm>
            <a:off x="4714920" y="2235240"/>
            <a:ext cx="1873080" cy="720720"/>
            <a:chOff x="4714920" y="2235240"/>
            <a:chExt cx="1873080" cy="720720"/>
          </a:xfrm>
        </p:grpSpPr>
        <p:grpSp>
          <p:nvGrpSpPr>
            <p:cNvPr id="674" name=""/>
            <p:cNvGrpSpPr/>
            <p:nvPr/>
          </p:nvGrpSpPr>
          <p:grpSpPr>
            <a:xfrm>
              <a:off x="4714920" y="2235240"/>
              <a:ext cx="1873080" cy="720720"/>
              <a:chOff x="4714920" y="2235240"/>
              <a:chExt cx="1873080" cy="720720"/>
            </a:xfrm>
          </p:grpSpPr>
          <p:sp>
            <p:nvSpPr>
              <p:cNvPr id="675" name=""/>
              <p:cNvSpPr/>
              <p:nvPr/>
            </p:nvSpPr>
            <p:spPr>
              <a:xfrm>
                <a:off x="4714920" y="2235240"/>
                <a:ext cx="1873080" cy="7207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714920" y="2235240"/>
                <a:ext cx="73080" cy="72072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77" name=""/>
                <p:cNvSpPr txBox="1"/>
                <p:nvPr/>
              </p:nvSpPr>
              <p:spPr>
                <a:xfrm>
                  <a:off x="5016600" y="2308320"/>
                  <a:ext cx="1241280" cy="45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78" name=""/>
          <p:cNvGrpSpPr/>
          <p:nvPr/>
        </p:nvGrpSpPr>
        <p:grpSpPr>
          <a:xfrm>
            <a:off x="6867360" y="2189520"/>
            <a:ext cx="1877040" cy="768960"/>
            <a:chOff x="6867360" y="2189520"/>
            <a:chExt cx="1877040" cy="768960"/>
          </a:xfrm>
        </p:grpSpPr>
        <p:grpSp>
          <p:nvGrpSpPr>
            <p:cNvPr id="679" name=""/>
            <p:cNvGrpSpPr/>
            <p:nvPr/>
          </p:nvGrpSpPr>
          <p:grpSpPr>
            <a:xfrm>
              <a:off x="6867360" y="2189520"/>
              <a:ext cx="1877040" cy="768960"/>
              <a:chOff x="6867360" y="2189520"/>
              <a:chExt cx="1877040" cy="768960"/>
            </a:xfrm>
          </p:grpSpPr>
          <p:sp>
            <p:nvSpPr>
              <p:cNvPr id="680" name=""/>
              <p:cNvSpPr/>
              <p:nvPr/>
            </p:nvSpPr>
            <p:spPr>
              <a:xfrm rot="21588000">
                <a:off x="6868440" y="2219760"/>
                <a:ext cx="1873080" cy="7351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21588000">
                <a:off x="8699040" y="2189160"/>
                <a:ext cx="43920" cy="7365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7105680" y="2308320"/>
                  <a:ext cx="1243080" cy="45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3" name=""/>
          <p:cNvGrpSpPr/>
          <p:nvPr/>
        </p:nvGrpSpPr>
        <p:grpSpPr>
          <a:xfrm>
            <a:off x="4713120" y="3257640"/>
            <a:ext cx="1873080" cy="720720"/>
            <a:chOff x="4713120" y="3257640"/>
            <a:chExt cx="1873080" cy="720720"/>
          </a:xfrm>
        </p:grpSpPr>
        <p:grpSp>
          <p:nvGrpSpPr>
            <p:cNvPr id="684" name=""/>
            <p:cNvGrpSpPr/>
            <p:nvPr/>
          </p:nvGrpSpPr>
          <p:grpSpPr>
            <a:xfrm>
              <a:off x="4713120" y="3257640"/>
              <a:ext cx="1873080" cy="720720"/>
              <a:chOff x="4713120" y="3257640"/>
              <a:chExt cx="1873080" cy="720720"/>
            </a:xfrm>
          </p:grpSpPr>
          <p:sp>
            <p:nvSpPr>
              <p:cNvPr id="685" name=""/>
              <p:cNvSpPr/>
              <p:nvPr/>
            </p:nvSpPr>
            <p:spPr>
              <a:xfrm>
                <a:off x="4713120" y="3257640"/>
                <a:ext cx="1873080" cy="7207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713120" y="3257640"/>
                <a:ext cx="73080" cy="72072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87" name=""/>
                <p:cNvSpPr txBox="1"/>
                <p:nvPr/>
              </p:nvSpPr>
              <p:spPr>
                <a:xfrm>
                  <a:off x="4716360" y="3316320"/>
                  <a:ext cx="185112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x</m:t>
                      </m:r>
                      <m:r>
                        <m:t xml:space="preserve">&lt;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b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8" name=""/>
          <p:cNvGrpSpPr/>
          <p:nvPr/>
        </p:nvGrpSpPr>
        <p:grpSpPr>
          <a:xfrm>
            <a:off x="6867360" y="3197520"/>
            <a:ext cx="1877040" cy="768960"/>
            <a:chOff x="6867360" y="3197520"/>
            <a:chExt cx="1877040" cy="768960"/>
          </a:xfrm>
        </p:grpSpPr>
        <p:grpSp>
          <p:nvGrpSpPr>
            <p:cNvPr id="689" name=""/>
            <p:cNvGrpSpPr/>
            <p:nvPr/>
          </p:nvGrpSpPr>
          <p:grpSpPr>
            <a:xfrm>
              <a:off x="6867360" y="3197520"/>
              <a:ext cx="1877040" cy="768960"/>
              <a:chOff x="6867360" y="3197520"/>
              <a:chExt cx="1877040" cy="768960"/>
            </a:xfrm>
          </p:grpSpPr>
          <p:sp>
            <p:nvSpPr>
              <p:cNvPr id="690" name=""/>
              <p:cNvSpPr/>
              <p:nvPr/>
            </p:nvSpPr>
            <p:spPr>
              <a:xfrm rot="21588000">
                <a:off x="6868440" y="3227760"/>
                <a:ext cx="1873080" cy="7351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21588000">
                <a:off x="8699040" y="3197160"/>
                <a:ext cx="43920" cy="7365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92" name=""/>
                <p:cNvSpPr txBox="1"/>
                <p:nvPr/>
              </p:nvSpPr>
              <p:spPr>
                <a:xfrm>
                  <a:off x="6877080" y="3344760"/>
                  <a:ext cx="185112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x</m:t>
                      </m:r>
                      <m:r>
                        <m:t xml:space="preserve">≤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b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3" name=""/>
          <p:cNvGrpSpPr/>
          <p:nvPr/>
        </p:nvGrpSpPr>
        <p:grpSpPr>
          <a:xfrm>
            <a:off x="324000" y="4221000"/>
            <a:ext cx="1873080" cy="1007640"/>
            <a:chOff x="324000" y="4221000"/>
            <a:chExt cx="1873080" cy="1007640"/>
          </a:xfrm>
        </p:grpSpPr>
        <p:grpSp>
          <p:nvGrpSpPr>
            <p:cNvPr id="694" name=""/>
            <p:cNvGrpSpPr/>
            <p:nvPr/>
          </p:nvGrpSpPr>
          <p:grpSpPr>
            <a:xfrm>
              <a:off x="324000" y="4221000"/>
              <a:ext cx="1873080" cy="1007640"/>
              <a:chOff x="324000" y="4221000"/>
              <a:chExt cx="1873080" cy="1007640"/>
            </a:xfrm>
          </p:grpSpPr>
          <p:sp>
            <p:nvSpPr>
              <p:cNvPr id="695" name=""/>
              <p:cNvSpPr/>
              <p:nvPr/>
            </p:nvSpPr>
            <p:spPr>
              <a:xfrm>
                <a:off x="324000" y="4221000"/>
                <a:ext cx="1873080" cy="100764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24000" y="4221000"/>
                <a:ext cx="73080" cy="100764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97" name=""/>
                <p:cNvSpPr txBox="1"/>
                <p:nvPr/>
              </p:nvSpPr>
              <p:spPr>
                <a:xfrm>
                  <a:off x="612720" y="4221000"/>
                  <a:ext cx="1070280" cy="97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8" name=""/>
          <p:cNvGrpSpPr/>
          <p:nvPr/>
        </p:nvGrpSpPr>
        <p:grpSpPr>
          <a:xfrm>
            <a:off x="2544840" y="4147560"/>
            <a:ext cx="1895400" cy="1076400"/>
            <a:chOff x="2544840" y="4147560"/>
            <a:chExt cx="1895400" cy="1076400"/>
          </a:xfrm>
        </p:grpSpPr>
        <p:grpSp>
          <p:nvGrpSpPr>
            <p:cNvPr id="699" name=""/>
            <p:cNvGrpSpPr/>
            <p:nvPr/>
          </p:nvGrpSpPr>
          <p:grpSpPr>
            <a:xfrm>
              <a:off x="2544840" y="4147560"/>
              <a:ext cx="1895400" cy="1056960"/>
              <a:chOff x="2544840" y="4147560"/>
              <a:chExt cx="1895400" cy="1056960"/>
            </a:xfrm>
          </p:grpSpPr>
          <p:sp>
            <p:nvSpPr>
              <p:cNvPr id="700" name=""/>
              <p:cNvSpPr/>
              <p:nvPr/>
            </p:nvSpPr>
            <p:spPr>
              <a:xfrm rot="21588000">
                <a:off x="2546280" y="4220640"/>
                <a:ext cx="1885680" cy="9802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21588000">
                <a:off x="4393800" y="4147200"/>
                <a:ext cx="44280" cy="98208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02" name=""/>
                <p:cNvSpPr txBox="1"/>
                <p:nvPr/>
              </p:nvSpPr>
              <p:spPr>
                <a:xfrm>
                  <a:off x="2862000" y="4252680"/>
                  <a:ext cx="1069560" cy="97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3" name=""/>
          <p:cNvGrpSpPr/>
          <p:nvPr/>
        </p:nvGrpSpPr>
        <p:grpSpPr>
          <a:xfrm>
            <a:off x="324000" y="5416560"/>
            <a:ext cx="1873080" cy="720720"/>
            <a:chOff x="324000" y="5416560"/>
            <a:chExt cx="1873080" cy="720720"/>
          </a:xfrm>
        </p:grpSpPr>
        <p:grpSp>
          <p:nvGrpSpPr>
            <p:cNvPr id="704" name=""/>
            <p:cNvGrpSpPr/>
            <p:nvPr/>
          </p:nvGrpSpPr>
          <p:grpSpPr>
            <a:xfrm>
              <a:off x="324000" y="5416560"/>
              <a:ext cx="1873080" cy="720720"/>
              <a:chOff x="324000" y="5416560"/>
              <a:chExt cx="1873080" cy="720720"/>
            </a:xfrm>
          </p:grpSpPr>
          <p:sp>
            <p:nvSpPr>
              <p:cNvPr id="705" name=""/>
              <p:cNvSpPr/>
              <p:nvPr/>
            </p:nvSpPr>
            <p:spPr>
              <a:xfrm>
                <a:off x="324000" y="5416560"/>
                <a:ext cx="1873080" cy="7207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24000" y="5416560"/>
                <a:ext cx="73080" cy="72072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07" name=""/>
                <p:cNvSpPr txBox="1"/>
                <p:nvPr/>
              </p:nvSpPr>
              <p:spPr>
                <a:xfrm>
                  <a:off x="583920" y="5560920"/>
                  <a:ext cx="137628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&lt;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b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8" name=""/>
          <p:cNvGrpSpPr/>
          <p:nvPr/>
        </p:nvGrpSpPr>
        <p:grpSpPr>
          <a:xfrm>
            <a:off x="2547720" y="5357880"/>
            <a:ext cx="1877040" cy="769680"/>
            <a:chOff x="2547720" y="5357880"/>
            <a:chExt cx="1877040" cy="769680"/>
          </a:xfrm>
        </p:grpSpPr>
        <p:grpSp>
          <p:nvGrpSpPr>
            <p:cNvPr id="709" name=""/>
            <p:cNvGrpSpPr/>
            <p:nvPr/>
          </p:nvGrpSpPr>
          <p:grpSpPr>
            <a:xfrm>
              <a:off x="2547720" y="5357880"/>
              <a:ext cx="1877040" cy="769680"/>
              <a:chOff x="2547720" y="5357880"/>
              <a:chExt cx="1877040" cy="769680"/>
            </a:xfrm>
          </p:grpSpPr>
          <p:sp>
            <p:nvSpPr>
              <p:cNvPr id="710" name=""/>
              <p:cNvSpPr/>
              <p:nvPr/>
            </p:nvSpPr>
            <p:spPr>
              <a:xfrm rot="21588000">
                <a:off x="2548800" y="5388480"/>
                <a:ext cx="1873080" cy="7354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21588000">
                <a:off x="4379400" y="5357520"/>
                <a:ext cx="43920" cy="7369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12" name=""/>
                <p:cNvSpPr txBox="1"/>
                <p:nvPr/>
              </p:nvSpPr>
              <p:spPr>
                <a:xfrm>
                  <a:off x="2828880" y="5548320"/>
                  <a:ext cx="137592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&lt;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b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trips dir="ru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"/>
          <p:cNvGrpSpPr/>
          <p:nvPr/>
        </p:nvGrpSpPr>
        <p:grpSpPr>
          <a:xfrm>
            <a:off x="298440" y="-1440"/>
            <a:ext cx="8881920" cy="1465200"/>
            <a:chOff x="298440" y="-1440"/>
            <a:chExt cx="8881920" cy="1465200"/>
          </a:xfrm>
        </p:grpSpPr>
        <p:sp>
          <p:nvSpPr>
            <p:cNvPr id="714" name=""/>
            <p:cNvSpPr/>
            <p:nvPr/>
          </p:nvSpPr>
          <p:spPr>
            <a:xfrm>
              <a:off x="298440" y="874800"/>
              <a:ext cx="8881920" cy="588960"/>
            </a:xfrm>
            <a:custGeom>
              <a:avLst/>
              <a:gdLst/>
              <a:ahLst/>
              <a:rect l="l" t="t" r="r" b="b"/>
              <a:pathLst>
                <a:path w="5579" h="635">
                  <a:moveTo>
                    <a:pt x="0" y="46"/>
                  </a:moveTo>
                  <a:lnTo>
                    <a:pt x="5579" y="635"/>
                  </a:lnTo>
                  <a:lnTo>
                    <a:pt x="5579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324000" y="-1440"/>
              <a:ext cx="8855640" cy="1049040"/>
              <a:chOff x="324000" y="-1440"/>
              <a:chExt cx="8855640" cy="1049040"/>
            </a:xfrm>
          </p:grpSpPr>
          <p:grpSp>
            <p:nvGrpSpPr>
              <p:cNvPr id="716" name=""/>
              <p:cNvGrpSpPr/>
              <p:nvPr/>
            </p:nvGrpSpPr>
            <p:grpSpPr>
              <a:xfrm>
                <a:off x="324000" y="-1440"/>
                <a:ext cx="8855640" cy="1049040"/>
                <a:chOff x="324000" y="-1440"/>
                <a:chExt cx="8855640" cy="1049040"/>
              </a:xfrm>
            </p:grpSpPr>
            <p:grpSp>
              <p:nvGrpSpPr>
                <p:cNvPr id="717" name=""/>
                <p:cNvGrpSpPr/>
                <p:nvPr/>
              </p:nvGrpSpPr>
              <p:grpSpPr>
                <a:xfrm>
                  <a:off x="324000" y="-1440"/>
                  <a:ext cx="8855640" cy="936360"/>
                  <a:chOff x="324000" y="-1440"/>
                  <a:chExt cx="8855640" cy="936360"/>
                </a:xfrm>
              </p:grpSpPr>
              <p:sp>
                <p:nvSpPr>
                  <p:cNvPr id="718" name=""/>
                  <p:cNvSpPr/>
                  <p:nvPr/>
                </p:nvSpPr>
                <p:spPr>
                  <a:xfrm>
                    <a:off x="324000" y="-1440"/>
                    <a:ext cx="8855640" cy="93636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324000" y="-1440"/>
                    <a:ext cx="202680" cy="22824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0" name=""/>
                <p:cNvSpPr/>
                <p:nvPr/>
              </p:nvSpPr>
              <p:spPr>
                <a:xfrm>
                  <a:off x="821880" y="69840"/>
                  <a:ext cx="8158680" cy="97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ffffcc"/>
                      </a:solidFill>
                      <a:latin typeface="Arial"/>
                    </a:rPr>
                    <a:t>Типы и методы решения логарифмических неравенств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1) </a:t>
                  </a:r>
                  <a:r>
                    <a:rPr b="1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Простейшие логарифмические неравенства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1" name=""/>
              <p:cNvSpPr/>
              <p:nvPr/>
            </p:nvSpPr>
            <p:spPr>
              <a:xfrm>
                <a:off x="324000" y="-1440"/>
                <a:ext cx="144360" cy="2872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2" name=""/>
          <p:cNvSpPr/>
          <p:nvPr/>
        </p:nvSpPr>
        <p:spPr>
          <a:xfrm>
            <a:off x="4642920" y="112536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82360" y="112536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941200" y="133812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-54360" y="614988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-36360" y="2205000"/>
            <a:ext cx="2160360" cy="432000"/>
          </a:xfrm>
          <a:custGeom>
            <a:avLst/>
            <a:gdLst/>
            <a:ahLst/>
            <a:rect l="l" t="t" r="r" b="b"/>
            <a:pathLst>
              <a:path w="1361" h="272">
                <a:moveTo>
                  <a:pt x="0" y="272"/>
                </a:moveTo>
                <a:lnTo>
                  <a:pt x="1361" y="0"/>
                </a:lnTo>
                <a:lnTo>
                  <a:pt x="45" y="0"/>
                </a:lnTo>
                <a:lnTo>
                  <a:pt x="318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535800" y="907920"/>
            <a:ext cx="2644200" cy="1282680"/>
            <a:chOff x="6535800" y="907920"/>
            <a:chExt cx="2644200" cy="1282680"/>
          </a:xfrm>
        </p:grpSpPr>
        <p:sp>
          <p:nvSpPr>
            <p:cNvPr id="728" name=""/>
            <p:cNvSpPr/>
            <p:nvPr/>
          </p:nvSpPr>
          <p:spPr>
            <a:xfrm>
              <a:off x="6535800" y="907920"/>
              <a:ext cx="2623680" cy="10080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aeaea"/>
                  </a:solidFill>
                  <a:latin typeface="Arial Black"/>
                </a:rPr>
                <a:t>Пример №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535800" y="1903320"/>
              <a:ext cx="2644200" cy="287280"/>
            </a:xfrm>
            <a:custGeom>
              <a:avLst/>
              <a:gdLst/>
              <a:ahLst/>
              <a:rect l="l" t="t" r="r" b="b"/>
              <a:pathLst>
                <a:path w="1361" h="181">
                  <a:moveTo>
                    <a:pt x="1361" y="0"/>
                  </a:moveTo>
                  <a:lnTo>
                    <a:pt x="0" y="181"/>
                  </a:lnTo>
                  <a:lnTo>
                    <a:pt x="0" y="0"/>
                  </a:lnTo>
                  <a:lnTo>
                    <a:pt x="1361" y="0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6535800" y="907920"/>
            <a:ext cx="144360" cy="358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877080" y="6165720"/>
            <a:ext cx="2232000" cy="287640"/>
          </a:xfrm>
          <a:custGeom>
            <a:avLst/>
            <a:gdLst/>
            <a:ahLst/>
            <a:rect l="l" t="t" r="r" b="b"/>
            <a:pathLst>
              <a:path w="1406" h="181">
                <a:moveTo>
                  <a:pt x="0" y="0"/>
                </a:moveTo>
                <a:lnTo>
                  <a:pt x="1406" y="181"/>
                </a:lnTo>
                <a:lnTo>
                  <a:pt x="1406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-181080" y="1268280"/>
            <a:ext cx="2449440" cy="1008000"/>
            <a:chOff x="-181080" y="1268280"/>
            <a:chExt cx="2449440" cy="1008000"/>
          </a:xfrm>
        </p:grpSpPr>
        <p:sp>
          <p:nvSpPr>
            <p:cNvPr id="733" name=""/>
            <p:cNvSpPr/>
            <p:nvPr/>
          </p:nvSpPr>
          <p:spPr>
            <a:xfrm>
              <a:off x="-11160" y="1268280"/>
              <a:ext cx="2279520" cy="1008000"/>
            </a:xfrm>
            <a:custGeom>
              <a:avLst/>
              <a:gdLst/>
              <a:ahLst/>
              <a:rect l="l" t="t" r="r" b="b"/>
              <a:pathLst>
                <a:path w="1769" h="998">
                  <a:moveTo>
                    <a:pt x="0" y="136"/>
                  </a:moveTo>
                  <a:lnTo>
                    <a:pt x="1633" y="0"/>
                  </a:lnTo>
                  <a:lnTo>
                    <a:pt x="1769" y="499"/>
                  </a:lnTo>
                  <a:lnTo>
                    <a:pt x="0" y="998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-181080" y="1412640"/>
              <a:ext cx="22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742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745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7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Логарифмически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8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6888240" y="1424160"/>
                <a:ext cx="181764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5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1" name=""/>
          <p:cNvGrpSpPr/>
          <p:nvPr/>
        </p:nvGrpSpPr>
        <p:grpSpPr>
          <a:xfrm>
            <a:off x="6659640" y="5818320"/>
            <a:ext cx="2485440" cy="1066320"/>
            <a:chOff x="6659640" y="5818320"/>
            <a:chExt cx="2485440" cy="1066320"/>
          </a:xfrm>
        </p:grpSpPr>
        <p:sp>
          <p:nvSpPr>
            <p:cNvPr id="752" name=""/>
            <p:cNvSpPr/>
            <p:nvPr/>
          </p:nvSpPr>
          <p:spPr>
            <a:xfrm>
              <a:off x="6697080" y="5818320"/>
              <a:ext cx="2446200" cy="7203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659640" y="6524640"/>
              <a:ext cx="2485440" cy="360000"/>
            </a:xfrm>
            <a:custGeom>
              <a:avLst/>
              <a:gdLst/>
              <a:ahLst/>
              <a:rect l="l" t="t" r="r" b="b"/>
              <a:pathLst>
                <a:path w="1406" h="227">
                  <a:moveTo>
                    <a:pt x="1406" y="227"/>
                  </a:moveTo>
                  <a:lnTo>
                    <a:pt x="1406" y="0"/>
                  </a:lnTo>
                  <a:lnTo>
                    <a:pt x="0" y="0"/>
                  </a:lnTo>
                  <a:lnTo>
                    <a:pt x="1406" y="227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372960" y="2871720"/>
                <a:ext cx="378324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4427640" y="2698920"/>
                <a:ext cx="2406600" cy="80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8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3132000" y="3619440"/>
                <a:ext cx="11764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b>
                    </m:sSub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395280" y="4395960"/>
                <a:ext cx="13240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2435400" y="4397400"/>
                <a:ext cx="11286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2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4361040" y="4579920"/>
                <a:ext cx="15062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,2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0,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"/>
          <p:cNvSpPr/>
          <p:nvPr/>
        </p:nvSpPr>
        <p:spPr>
          <a:xfrm>
            <a:off x="7597080" y="616464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0,2; 0,4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95280" y="35470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и определения 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414680" y="3547080"/>
            <a:ext cx="42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 неравенство равносильно систем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823080" y="2874960"/>
            <a:ext cx="19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бывает на вс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0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000"/>
                            </p:stCondLst>
                            <p:childTnLst>
                              <p:par>
                                <p:cTn id="8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"/>
          <p:cNvGrpSpPr/>
          <p:nvPr/>
        </p:nvGrpSpPr>
        <p:grpSpPr>
          <a:xfrm>
            <a:off x="298440" y="-1440"/>
            <a:ext cx="8881920" cy="1465200"/>
            <a:chOff x="298440" y="-1440"/>
            <a:chExt cx="8881920" cy="1465200"/>
          </a:xfrm>
        </p:grpSpPr>
        <p:sp>
          <p:nvSpPr>
            <p:cNvPr id="770" name=""/>
            <p:cNvSpPr/>
            <p:nvPr/>
          </p:nvSpPr>
          <p:spPr>
            <a:xfrm>
              <a:off x="298440" y="874800"/>
              <a:ext cx="8881920" cy="588960"/>
            </a:xfrm>
            <a:custGeom>
              <a:avLst/>
              <a:gdLst/>
              <a:ahLst/>
              <a:rect l="l" t="t" r="r" b="b"/>
              <a:pathLst>
                <a:path w="5579" h="635">
                  <a:moveTo>
                    <a:pt x="0" y="46"/>
                  </a:moveTo>
                  <a:lnTo>
                    <a:pt x="5579" y="635"/>
                  </a:lnTo>
                  <a:lnTo>
                    <a:pt x="5579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324000" y="-1440"/>
              <a:ext cx="8855640" cy="1049040"/>
              <a:chOff x="324000" y="-1440"/>
              <a:chExt cx="8855640" cy="1049040"/>
            </a:xfrm>
          </p:grpSpPr>
          <p:grpSp>
            <p:nvGrpSpPr>
              <p:cNvPr id="772" name=""/>
              <p:cNvGrpSpPr/>
              <p:nvPr/>
            </p:nvGrpSpPr>
            <p:grpSpPr>
              <a:xfrm>
                <a:off x="324000" y="-1440"/>
                <a:ext cx="8855640" cy="1049040"/>
                <a:chOff x="324000" y="-1440"/>
                <a:chExt cx="8855640" cy="1049040"/>
              </a:xfrm>
            </p:grpSpPr>
            <p:grpSp>
              <p:nvGrpSpPr>
                <p:cNvPr id="773" name=""/>
                <p:cNvGrpSpPr/>
                <p:nvPr/>
              </p:nvGrpSpPr>
              <p:grpSpPr>
                <a:xfrm>
                  <a:off x="324000" y="-1440"/>
                  <a:ext cx="8855640" cy="936360"/>
                  <a:chOff x="324000" y="-1440"/>
                  <a:chExt cx="8855640" cy="936360"/>
                </a:xfrm>
              </p:grpSpPr>
              <p:sp>
                <p:nvSpPr>
                  <p:cNvPr id="774" name=""/>
                  <p:cNvSpPr/>
                  <p:nvPr/>
                </p:nvSpPr>
                <p:spPr>
                  <a:xfrm>
                    <a:off x="324000" y="-1440"/>
                    <a:ext cx="8855640" cy="93636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324000" y="-1440"/>
                    <a:ext cx="202680" cy="22824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6" name=""/>
                <p:cNvSpPr/>
                <p:nvPr/>
              </p:nvSpPr>
              <p:spPr>
                <a:xfrm>
                  <a:off x="821880" y="69840"/>
                  <a:ext cx="8158680" cy="97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ffffcc"/>
                      </a:solidFill>
                      <a:latin typeface="Arial"/>
                    </a:rPr>
                    <a:t>Типы и методы решения логарифмических неравенств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1) </a:t>
                  </a:r>
                  <a:r>
                    <a:rPr b="1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Простейшие логарифмические неравенства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7" name=""/>
              <p:cNvSpPr/>
              <p:nvPr/>
            </p:nvSpPr>
            <p:spPr>
              <a:xfrm>
                <a:off x="324000" y="-1440"/>
                <a:ext cx="144360" cy="2872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8" name=""/>
          <p:cNvSpPr/>
          <p:nvPr/>
        </p:nvSpPr>
        <p:spPr>
          <a:xfrm>
            <a:off x="4642920" y="112536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82360" y="112536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941200" y="133812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-54360" y="614988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5364000" y="907920"/>
            <a:ext cx="3816000" cy="1282680"/>
            <a:chOff x="5364000" y="907920"/>
            <a:chExt cx="3816000" cy="1282680"/>
          </a:xfrm>
        </p:grpSpPr>
        <p:sp>
          <p:nvSpPr>
            <p:cNvPr id="783" name=""/>
            <p:cNvSpPr/>
            <p:nvPr/>
          </p:nvSpPr>
          <p:spPr>
            <a:xfrm>
              <a:off x="5364000" y="907920"/>
              <a:ext cx="3786120" cy="10080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aeaea"/>
                  </a:solidFill>
                  <a:latin typeface="Arial Black"/>
                </a:rPr>
                <a:t>Пример №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364000" y="1903320"/>
              <a:ext cx="3816000" cy="287280"/>
            </a:xfrm>
            <a:custGeom>
              <a:avLst/>
              <a:gdLst/>
              <a:ahLst/>
              <a:rect l="l" t="t" r="r" b="b"/>
              <a:pathLst>
                <a:path w="1361" h="181">
                  <a:moveTo>
                    <a:pt x="1361" y="0"/>
                  </a:moveTo>
                  <a:lnTo>
                    <a:pt x="0" y="181"/>
                  </a:lnTo>
                  <a:lnTo>
                    <a:pt x="0" y="0"/>
                  </a:lnTo>
                  <a:lnTo>
                    <a:pt x="1361" y="0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5364000" y="907920"/>
            <a:ext cx="144720" cy="358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77080" y="6165720"/>
            <a:ext cx="2232000" cy="287640"/>
          </a:xfrm>
          <a:custGeom>
            <a:avLst/>
            <a:gdLst/>
            <a:ahLst/>
            <a:rect l="l" t="t" r="r" b="b"/>
            <a:pathLst>
              <a:path w="1406" h="181">
                <a:moveTo>
                  <a:pt x="0" y="0"/>
                </a:moveTo>
                <a:lnTo>
                  <a:pt x="1406" y="181"/>
                </a:lnTo>
                <a:lnTo>
                  <a:pt x="1406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-181080" y="1268280"/>
            <a:ext cx="2449440" cy="1008000"/>
            <a:chOff x="-181080" y="1268280"/>
            <a:chExt cx="2449440" cy="1008000"/>
          </a:xfrm>
        </p:grpSpPr>
        <p:sp>
          <p:nvSpPr>
            <p:cNvPr id="788" name=""/>
            <p:cNvSpPr/>
            <p:nvPr/>
          </p:nvSpPr>
          <p:spPr>
            <a:xfrm>
              <a:off x="-11160" y="1268280"/>
              <a:ext cx="2279520" cy="1008000"/>
            </a:xfrm>
            <a:custGeom>
              <a:avLst/>
              <a:gdLst/>
              <a:ahLst/>
              <a:rect l="l" t="t" r="r" b="b"/>
              <a:pathLst>
                <a:path w="1769" h="998">
                  <a:moveTo>
                    <a:pt x="0" y="136"/>
                  </a:moveTo>
                  <a:lnTo>
                    <a:pt x="1633" y="0"/>
                  </a:lnTo>
                  <a:lnTo>
                    <a:pt x="1769" y="499"/>
                  </a:lnTo>
                  <a:lnTo>
                    <a:pt x="0" y="998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-181080" y="1412640"/>
              <a:ext cx="22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797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9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800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2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Логарифмически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3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6659640" y="5818320"/>
            <a:ext cx="2485440" cy="1066320"/>
            <a:chOff x="6659640" y="5818320"/>
            <a:chExt cx="2485440" cy="1066320"/>
          </a:xfrm>
        </p:grpSpPr>
        <p:sp>
          <p:nvSpPr>
            <p:cNvPr id="805" name=""/>
            <p:cNvSpPr/>
            <p:nvPr/>
          </p:nvSpPr>
          <p:spPr>
            <a:xfrm>
              <a:off x="6697080" y="5818320"/>
              <a:ext cx="2446200" cy="7203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659640" y="6524640"/>
              <a:ext cx="2485440" cy="360000"/>
            </a:xfrm>
            <a:custGeom>
              <a:avLst/>
              <a:gdLst/>
              <a:ahLst/>
              <a:rect l="l" t="t" r="r" b="b"/>
              <a:pathLst>
                <a:path w="1406" h="227">
                  <a:moveTo>
                    <a:pt x="1406" y="227"/>
                  </a:moveTo>
                  <a:lnTo>
                    <a:pt x="1406" y="0"/>
                  </a:lnTo>
                  <a:lnTo>
                    <a:pt x="0" y="0"/>
                  </a:lnTo>
                  <a:lnTo>
                    <a:pt x="1406" y="227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5724360" y="1393920"/>
                <a:ext cx="32403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,5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&gt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,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539640" y="3068640"/>
                <a:ext cx="39229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4643280" y="3046320"/>
                <a:ext cx="26640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,5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0,5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6" name=""/>
          <p:cNvSpPr/>
          <p:nvPr/>
        </p:nvSpPr>
        <p:spPr>
          <a:xfrm>
            <a:off x="504720" y="375192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 всей области определения, то неравенство равносильно систем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0" y="259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1343160" y="4508640"/>
                <a:ext cx="18334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3780000" y="4508640"/>
                <a:ext cx="1242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5807160" y="4707000"/>
                <a:ext cx="15048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,75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1" name=""/>
          <p:cNvSpPr/>
          <p:nvPr/>
        </p:nvSpPr>
        <p:spPr>
          <a:xfrm>
            <a:off x="7320960" y="3043080"/>
            <a:ext cx="106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быва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668360" y="6164640"/>
            <a:ext cx="13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0,75; 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000"/>
                            </p:stCondLst>
                            <p:childTnLst>
                              <p:par>
                                <p:cTn id="9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"/>
          <p:cNvGrpSpPr/>
          <p:nvPr/>
        </p:nvGrpSpPr>
        <p:grpSpPr>
          <a:xfrm>
            <a:off x="298440" y="-1440"/>
            <a:ext cx="8881920" cy="1689120"/>
            <a:chOff x="298440" y="-1440"/>
            <a:chExt cx="8881920" cy="1689120"/>
          </a:xfrm>
        </p:grpSpPr>
        <p:sp>
          <p:nvSpPr>
            <p:cNvPr id="824" name=""/>
            <p:cNvSpPr/>
            <p:nvPr/>
          </p:nvSpPr>
          <p:spPr>
            <a:xfrm>
              <a:off x="298440" y="874800"/>
              <a:ext cx="8881920" cy="588960"/>
            </a:xfrm>
            <a:custGeom>
              <a:avLst/>
              <a:gdLst/>
              <a:ahLst/>
              <a:rect l="l" t="t" r="r" b="b"/>
              <a:pathLst>
                <a:path w="5579" h="635">
                  <a:moveTo>
                    <a:pt x="0" y="46"/>
                  </a:moveTo>
                  <a:lnTo>
                    <a:pt x="5579" y="635"/>
                  </a:lnTo>
                  <a:lnTo>
                    <a:pt x="5579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324000" y="-1440"/>
              <a:ext cx="8855640" cy="1689120"/>
              <a:chOff x="324000" y="-1440"/>
              <a:chExt cx="8855640" cy="1689120"/>
            </a:xfrm>
          </p:grpSpPr>
          <p:grpSp>
            <p:nvGrpSpPr>
              <p:cNvPr id="826" name=""/>
              <p:cNvGrpSpPr/>
              <p:nvPr/>
            </p:nvGrpSpPr>
            <p:grpSpPr>
              <a:xfrm>
                <a:off x="324000" y="-1440"/>
                <a:ext cx="8855640" cy="1689120"/>
                <a:chOff x="324000" y="-1440"/>
                <a:chExt cx="8855640" cy="1689120"/>
              </a:xfrm>
            </p:grpSpPr>
            <p:grpSp>
              <p:nvGrpSpPr>
                <p:cNvPr id="827" name=""/>
                <p:cNvGrpSpPr/>
                <p:nvPr/>
              </p:nvGrpSpPr>
              <p:grpSpPr>
                <a:xfrm>
                  <a:off x="324000" y="-1440"/>
                  <a:ext cx="8855640" cy="936360"/>
                  <a:chOff x="324000" y="-1440"/>
                  <a:chExt cx="8855640" cy="936360"/>
                </a:xfrm>
              </p:grpSpPr>
              <p:sp>
                <p:nvSpPr>
                  <p:cNvPr id="828" name=""/>
                  <p:cNvSpPr/>
                  <p:nvPr/>
                </p:nvSpPr>
                <p:spPr>
                  <a:xfrm>
                    <a:off x="324000" y="-1440"/>
                    <a:ext cx="8855640" cy="93636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324000" y="-1440"/>
                    <a:ext cx="202680" cy="22824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0" name=""/>
                <p:cNvSpPr/>
                <p:nvPr/>
              </p:nvSpPr>
              <p:spPr>
                <a:xfrm>
                  <a:off x="821880" y="69840"/>
                  <a:ext cx="8158680" cy="161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ffffcc"/>
                      </a:solidFill>
                      <a:latin typeface="Arial"/>
                    </a:rPr>
                    <a:t>Типы и методы решения логарифмических неравенств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2) Логарифмические неравенства, сводящиеся к простейшим логарифмическим неравенствам</a:t>
                  </a:r>
                  <a:r>
                    <a:rPr b="0" lang="ru-RU" sz="24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324000" y="-1440"/>
                <a:ext cx="144360" cy="2872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2" name=""/>
          <p:cNvSpPr/>
          <p:nvPr/>
        </p:nvSpPr>
        <p:spPr>
          <a:xfrm>
            <a:off x="-36360" y="2205000"/>
            <a:ext cx="2128680" cy="414360"/>
          </a:xfrm>
          <a:custGeom>
            <a:avLst/>
            <a:gdLst/>
            <a:ahLst/>
            <a:rect l="l" t="t" r="r" b="b"/>
            <a:pathLst>
              <a:path w="1361" h="272">
                <a:moveTo>
                  <a:pt x="0" y="272"/>
                </a:moveTo>
                <a:lnTo>
                  <a:pt x="1361" y="0"/>
                </a:lnTo>
                <a:lnTo>
                  <a:pt x="45" y="0"/>
                </a:lnTo>
                <a:lnTo>
                  <a:pt x="318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5796000" y="1197000"/>
            <a:ext cx="3373200" cy="1282680"/>
            <a:chOff x="5796000" y="1197000"/>
            <a:chExt cx="3373200" cy="1282680"/>
          </a:xfrm>
        </p:grpSpPr>
        <p:sp>
          <p:nvSpPr>
            <p:cNvPr id="834" name=""/>
            <p:cNvSpPr/>
            <p:nvPr/>
          </p:nvSpPr>
          <p:spPr>
            <a:xfrm>
              <a:off x="5796000" y="1197000"/>
              <a:ext cx="3346920" cy="10080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aeaea"/>
                  </a:solidFill>
                  <a:latin typeface="Arial Black"/>
                </a:rPr>
                <a:t>Пример №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796000" y="2192400"/>
              <a:ext cx="3373200" cy="287280"/>
            </a:xfrm>
            <a:custGeom>
              <a:avLst/>
              <a:gdLst/>
              <a:ahLst/>
              <a:rect l="l" t="t" r="r" b="b"/>
              <a:pathLst>
                <a:path w="1361" h="181">
                  <a:moveTo>
                    <a:pt x="1361" y="0"/>
                  </a:moveTo>
                  <a:lnTo>
                    <a:pt x="0" y="181"/>
                  </a:lnTo>
                  <a:lnTo>
                    <a:pt x="0" y="0"/>
                  </a:lnTo>
                  <a:lnTo>
                    <a:pt x="1361" y="0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5796000" y="1197000"/>
            <a:ext cx="144360" cy="358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877080" y="6165720"/>
            <a:ext cx="2232000" cy="287640"/>
          </a:xfrm>
          <a:custGeom>
            <a:avLst/>
            <a:gdLst/>
            <a:ahLst/>
            <a:rect l="l" t="t" r="r" b="b"/>
            <a:pathLst>
              <a:path w="1406" h="181">
                <a:moveTo>
                  <a:pt x="0" y="0"/>
                </a:moveTo>
                <a:lnTo>
                  <a:pt x="1406" y="181"/>
                </a:lnTo>
                <a:lnTo>
                  <a:pt x="1406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-181080" y="765000"/>
            <a:ext cx="2449440" cy="1008000"/>
            <a:chOff x="-181080" y="765000"/>
            <a:chExt cx="2449440" cy="1008000"/>
          </a:xfrm>
        </p:grpSpPr>
        <p:sp>
          <p:nvSpPr>
            <p:cNvPr id="844" name=""/>
            <p:cNvSpPr/>
            <p:nvPr/>
          </p:nvSpPr>
          <p:spPr>
            <a:xfrm>
              <a:off x="-11160" y="765000"/>
              <a:ext cx="2279520" cy="1008000"/>
            </a:xfrm>
            <a:custGeom>
              <a:avLst/>
              <a:gdLst/>
              <a:ahLst/>
              <a:rect l="l" t="t" r="r" b="b"/>
              <a:pathLst>
                <a:path w="1769" h="998">
                  <a:moveTo>
                    <a:pt x="0" y="136"/>
                  </a:moveTo>
                  <a:lnTo>
                    <a:pt x="1633" y="0"/>
                  </a:lnTo>
                  <a:lnTo>
                    <a:pt x="1769" y="499"/>
                  </a:lnTo>
                  <a:lnTo>
                    <a:pt x="0" y="998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-181080" y="909360"/>
              <a:ext cx="22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851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854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Логарифмически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7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6054840" y="1655640"/>
                <a:ext cx="283824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468360" y="1727280"/>
                <a:ext cx="29001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468360" y="2271600"/>
                <a:ext cx="28623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468360" y="2776680"/>
                <a:ext cx="2531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417600" y="3343320"/>
                <a:ext cx="317484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668760" y="3344760"/>
                <a:ext cx="18702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6" name=""/>
          <p:cNvSpPr/>
          <p:nvPr/>
        </p:nvSpPr>
        <p:spPr>
          <a:xfrm>
            <a:off x="401400" y="3607560"/>
            <a:ext cx="56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пределения, то неравенство равносильно систем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395280" y="4151160"/>
                <a:ext cx="15350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2124000" y="4233960"/>
                <a:ext cx="1451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606840" y="4265640"/>
                <a:ext cx="11192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1" name=""/>
          <p:cNvSpPr/>
          <p:nvPr/>
        </p:nvSpPr>
        <p:spPr>
          <a:xfrm>
            <a:off x="4788360" y="414864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 система равносильна неравенств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468360" y="4890960"/>
                <a:ext cx="14000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2465280" y="4903920"/>
                <a:ext cx="14590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2492280" y="5456160"/>
                <a:ext cx="91440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75" name=""/>
          <p:cNvGrpSpPr/>
          <p:nvPr/>
        </p:nvGrpSpPr>
        <p:grpSpPr>
          <a:xfrm>
            <a:off x="6372360" y="5818320"/>
            <a:ext cx="2772720" cy="1066320"/>
            <a:chOff x="6372360" y="5818320"/>
            <a:chExt cx="2772720" cy="1066320"/>
          </a:xfrm>
        </p:grpSpPr>
        <p:sp>
          <p:nvSpPr>
            <p:cNvPr id="876" name=""/>
            <p:cNvSpPr/>
            <p:nvPr/>
          </p:nvSpPr>
          <p:spPr>
            <a:xfrm>
              <a:off x="6414120" y="5818320"/>
              <a:ext cx="2729160" cy="7203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372360" y="6524640"/>
              <a:ext cx="2772720" cy="360000"/>
            </a:xfrm>
            <a:custGeom>
              <a:avLst/>
              <a:gdLst/>
              <a:ahLst/>
              <a:rect l="l" t="t" r="r" b="b"/>
              <a:pathLst>
                <a:path w="1406" h="227">
                  <a:moveTo>
                    <a:pt x="1406" y="227"/>
                  </a:moveTo>
                  <a:lnTo>
                    <a:pt x="1406" y="0"/>
                  </a:lnTo>
                  <a:lnTo>
                    <a:pt x="0" y="0"/>
                  </a:lnTo>
                  <a:lnTo>
                    <a:pt x="1406" y="227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8259840" y="6119640"/>
                <a:ext cx="5396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;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79" name=""/>
          <p:cNvSpPr/>
          <p:nvPr/>
        </p:nvSpPr>
        <p:spPr>
          <a:xfrm>
            <a:off x="5651640" y="3284640"/>
            <a:ext cx="31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озрастает на всей обл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0" name=""/>
          <p:cNvGrpSpPr/>
          <p:nvPr/>
        </p:nvGrpSpPr>
        <p:grpSpPr>
          <a:xfrm>
            <a:off x="298440" y="-1440"/>
            <a:ext cx="8881920" cy="1689120"/>
            <a:chOff x="298440" y="-1440"/>
            <a:chExt cx="8881920" cy="1689120"/>
          </a:xfrm>
        </p:grpSpPr>
        <p:sp>
          <p:nvSpPr>
            <p:cNvPr id="881" name=""/>
            <p:cNvSpPr/>
            <p:nvPr/>
          </p:nvSpPr>
          <p:spPr>
            <a:xfrm>
              <a:off x="298440" y="874800"/>
              <a:ext cx="8881920" cy="588960"/>
            </a:xfrm>
            <a:custGeom>
              <a:avLst/>
              <a:gdLst/>
              <a:ahLst/>
              <a:rect l="l" t="t" r="r" b="b"/>
              <a:pathLst>
                <a:path w="5579" h="635">
                  <a:moveTo>
                    <a:pt x="0" y="46"/>
                  </a:moveTo>
                  <a:lnTo>
                    <a:pt x="5579" y="635"/>
                  </a:lnTo>
                  <a:lnTo>
                    <a:pt x="5579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324000" y="-1440"/>
              <a:ext cx="8855640" cy="1689120"/>
              <a:chOff x="324000" y="-1440"/>
              <a:chExt cx="8855640" cy="1689120"/>
            </a:xfrm>
          </p:grpSpPr>
          <p:grpSp>
            <p:nvGrpSpPr>
              <p:cNvPr id="883" name=""/>
              <p:cNvGrpSpPr/>
              <p:nvPr/>
            </p:nvGrpSpPr>
            <p:grpSpPr>
              <a:xfrm>
                <a:off x="324000" y="-1440"/>
                <a:ext cx="8855640" cy="1689120"/>
                <a:chOff x="324000" y="-1440"/>
                <a:chExt cx="8855640" cy="1689120"/>
              </a:xfrm>
            </p:grpSpPr>
            <p:grpSp>
              <p:nvGrpSpPr>
                <p:cNvPr id="884" name=""/>
                <p:cNvGrpSpPr/>
                <p:nvPr/>
              </p:nvGrpSpPr>
              <p:grpSpPr>
                <a:xfrm>
                  <a:off x="324000" y="-1440"/>
                  <a:ext cx="8855640" cy="936360"/>
                  <a:chOff x="324000" y="-1440"/>
                  <a:chExt cx="8855640" cy="936360"/>
                </a:xfrm>
              </p:grpSpPr>
              <p:sp>
                <p:nvSpPr>
                  <p:cNvPr id="885" name=""/>
                  <p:cNvSpPr/>
                  <p:nvPr/>
                </p:nvSpPr>
                <p:spPr>
                  <a:xfrm>
                    <a:off x="324000" y="-1440"/>
                    <a:ext cx="8855640" cy="93636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324000" y="-1440"/>
                    <a:ext cx="202680" cy="22824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7" name=""/>
                <p:cNvSpPr/>
                <p:nvPr/>
              </p:nvSpPr>
              <p:spPr>
                <a:xfrm>
                  <a:off x="821880" y="69840"/>
                  <a:ext cx="8158680" cy="161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ffffcc"/>
                      </a:solidFill>
                      <a:latin typeface="Arial"/>
                    </a:rPr>
                    <a:t>Типы и методы решения логарифмических неравенств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2) Логарифмические неравенства, сводящиеся к простейшим логарифмическим неравенствам</a:t>
                  </a:r>
                  <a:r>
                    <a:rPr b="0" lang="ru-RU" sz="24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8" name=""/>
              <p:cNvSpPr/>
              <p:nvPr/>
            </p:nvSpPr>
            <p:spPr>
              <a:xfrm>
                <a:off x="324000" y="-1440"/>
                <a:ext cx="144360" cy="2872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9" name=""/>
          <p:cNvSpPr/>
          <p:nvPr/>
        </p:nvSpPr>
        <p:spPr>
          <a:xfrm>
            <a:off x="-36360" y="2205000"/>
            <a:ext cx="2128680" cy="414360"/>
          </a:xfrm>
          <a:custGeom>
            <a:avLst/>
            <a:gdLst/>
            <a:ahLst/>
            <a:rect l="l" t="t" r="r" b="b"/>
            <a:pathLst>
              <a:path w="1361" h="272">
                <a:moveTo>
                  <a:pt x="0" y="272"/>
                </a:moveTo>
                <a:lnTo>
                  <a:pt x="1361" y="0"/>
                </a:lnTo>
                <a:lnTo>
                  <a:pt x="45" y="0"/>
                </a:lnTo>
                <a:lnTo>
                  <a:pt x="318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5796000" y="1197000"/>
            <a:ext cx="3373200" cy="1282680"/>
            <a:chOff x="5796000" y="1197000"/>
            <a:chExt cx="3373200" cy="1282680"/>
          </a:xfrm>
        </p:grpSpPr>
        <p:sp>
          <p:nvSpPr>
            <p:cNvPr id="891" name=""/>
            <p:cNvSpPr/>
            <p:nvPr/>
          </p:nvSpPr>
          <p:spPr>
            <a:xfrm>
              <a:off x="5796000" y="1197000"/>
              <a:ext cx="3346920" cy="10080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aeaea"/>
                  </a:solidFill>
                  <a:latin typeface="Arial Black"/>
                </a:rPr>
                <a:t>Пример №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96000" y="2192400"/>
              <a:ext cx="3373200" cy="287280"/>
            </a:xfrm>
            <a:custGeom>
              <a:avLst/>
              <a:gdLst/>
              <a:ahLst/>
              <a:rect l="l" t="t" r="r" b="b"/>
              <a:pathLst>
                <a:path w="1361" h="181">
                  <a:moveTo>
                    <a:pt x="1361" y="0"/>
                  </a:moveTo>
                  <a:lnTo>
                    <a:pt x="0" y="181"/>
                  </a:lnTo>
                  <a:lnTo>
                    <a:pt x="0" y="0"/>
                  </a:lnTo>
                  <a:lnTo>
                    <a:pt x="1361" y="0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"/>
          <p:cNvSpPr/>
          <p:nvPr/>
        </p:nvSpPr>
        <p:spPr>
          <a:xfrm>
            <a:off x="5796000" y="1197000"/>
            <a:ext cx="144360" cy="358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77080" y="6165720"/>
            <a:ext cx="2232000" cy="287640"/>
          </a:xfrm>
          <a:custGeom>
            <a:avLst/>
            <a:gdLst/>
            <a:ahLst/>
            <a:rect l="l" t="t" r="r" b="b"/>
            <a:pathLst>
              <a:path w="1406" h="181">
                <a:moveTo>
                  <a:pt x="0" y="0"/>
                </a:moveTo>
                <a:lnTo>
                  <a:pt x="1406" y="181"/>
                </a:lnTo>
                <a:lnTo>
                  <a:pt x="1406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-181080" y="765000"/>
            <a:ext cx="2449440" cy="1008000"/>
            <a:chOff x="-181080" y="765000"/>
            <a:chExt cx="2449440" cy="1008000"/>
          </a:xfrm>
        </p:grpSpPr>
        <p:sp>
          <p:nvSpPr>
            <p:cNvPr id="901" name=""/>
            <p:cNvSpPr/>
            <p:nvPr/>
          </p:nvSpPr>
          <p:spPr>
            <a:xfrm>
              <a:off x="-11160" y="765000"/>
              <a:ext cx="2279520" cy="1008000"/>
            </a:xfrm>
            <a:custGeom>
              <a:avLst/>
              <a:gdLst/>
              <a:ahLst/>
              <a:rect l="l" t="t" r="r" b="b"/>
              <a:pathLst>
                <a:path w="1769" h="998">
                  <a:moveTo>
                    <a:pt x="0" y="136"/>
                  </a:moveTo>
                  <a:lnTo>
                    <a:pt x="1633" y="0"/>
                  </a:lnTo>
                  <a:lnTo>
                    <a:pt x="1769" y="499"/>
                  </a:lnTo>
                  <a:lnTo>
                    <a:pt x="0" y="998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-181080" y="909360"/>
              <a:ext cx="22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908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0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911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3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Логарифмически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14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6372360" y="5818320"/>
            <a:ext cx="2772720" cy="1066320"/>
            <a:chOff x="6372360" y="5818320"/>
            <a:chExt cx="2772720" cy="1066320"/>
          </a:xfrm>
        </p:grpSpPr>
        <p:sp>
          <p:nvSpPr>
            <p:cNvPr id="919" name=""/>
            <p:cNvSpPr/>
            <p:nvPr/>
          </p:nvSpPr>
          <p:spPr>
            <a:xfrm>
              <a:off x="6414120" y="5818320"/>
              <a:ext cx="2729160" cy="7203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372360" y="6524640"/>
              <a:ext cx="2772720" cy="360000"/>
            </a:xfrm>
            <a:custGeom>
              <a:avLst/>
              <a:gdLst/>
              <a:ahLst/>
              <a:rect l="l" t="t" r="r" b="b"/>
              <a:pathLst>
                <a:path w="1406" h="227">
                  <a:moveTo>
                    <a:pt x="1406" y="227"/>
                  </a:moveTo>
                  <a:lnTo>
                    <a:pt x="1406" y="0"/>
                  </a:lnTo>
                  <a:lnTo>
                    <a:pt x="0" y="0"/>
                  </a:lnTo>
                  <a:lnTo>
                    <a:pt x="1406" y="227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6156360" y="1628640"/>
                <a:ext cx="260352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b>
                    </m:sSub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3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755640" y="1773360"/>
                <a:ext cx="2660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b>
                    </m:sSub>
                    <m:r>
                      <m:t xml:space="preserve">x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6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752400" y="2421000"/>
                <a:ext cx="266724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6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750960" y="2997360"/>
                <a:ext cx="115704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6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741240" y="3500280"/>
                <a:ext cx="10224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717480" y="4076640"/>
                <a:ext cx="34228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4259160" y="4076640"/>
                <a:ext cx="16081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666360" y="4555080"/>
            <a:ext cx="27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и определения 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7" name=""/>
              <p:cNvSpPr txBox="1"/>
              <p:nvPr/>
            </p:nvSpPr>
            <p:spPr>
              <a:xfrm>
                <a:off x="3492360" y="4646520"/>
                <a:ext cx="118584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8" name=""/>
          <p:cNvSpPr/>
          <p:nvPr/>
        </p:nvSpPr>
        <p:spPr>
          <a:xfrm>
            <a:off x="4741560" y="4602960"/>
            <a:ext cx="424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 неравенство равносильно систем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2189160" y="5170320"/>
                <a:ext cx="870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613320" y="5322960"/>
                <a:ext cx="1103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8223120" y="6176880"/>
                <a:ext cx="65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;27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5" name=""/>
          <p:cNvSpPr/>
          <p:nvPr/>
        </p:nvSpPr>
        <p:spPr>
          <a:xfrm>
            <a:off x="5941080" y="4040280"/>
            <a:ext cx="21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растает на вс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0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"/>
          <p:cNvGrpSpPr/>
          <p:nvPr/>
        </p:nvGrpSpPr>
        <p:grpSpPr>
          <a:xfrm>
            <a:off x="298440" y="-1440"/>
            <a:ext cx="8881920" cy="1689120"/>
            <a:chOff x="298440" y="-1440"/>
            <a:chExt cx="8881920" cy="1689120"/>
          </a:xfrm>
        </p:grpSpPr>
        <p:sp>
          <p:nvSpPr>
            <p:cNvPr id="947" name=""/>
            <p:cNvSpPr/>
            <p:nvPr/>
          </p:nvSpPr>
          <p:spPr>
            <a:xfrm>
              <a:off x="298440" y="874800"/>
              <a:ext cx="8881920" cy="588960"/>
            </a:xfrm>
            <a:custGeom>
              <a:avLst/>
              <a:gdLst/>
              <a:ahLst/>
              <a:rect l="l" t="t" r="r" b="b"/>
              <a:pathLst>
                <a:path w="5579" h="635">
                  <a:moveTo>
                    <a:pt x="0" y="46"/>
                  </a:moveTo>
                  <a:lnTo>
                    <a:pt x="5579" y="635"/>
                  </a:lnTo>
                  <a:lnTo>
                    <a:pt x="5579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8" name=""/>
            <p:cNvGrpSpPr/>
            <p:nvPr/>
          </p:nvGrpSpPr>
          <p:grpSpPr>
            <a:xfrm>
              <a:off x="324000" y="-1440"/>
              <a:ext cx="8855640" cy="1689120"/>
              <a:chOff x="324000" y="-1440"/>
              <a:chExt cx="8855640" cy="1689120"/>
            </a:xfrm>
          </p:grpSpPr>
          <p:grpSp>
            <p:nvGrpSpPr>
              <p:cNvPr id="949" name=""/>
              <p:cNvGrpSpPr/>
              <p:nvPr/>
            </p:nvGrpSpPr>
            <p:grpSpPr>
              <a:xfrm>
                <a:off x="324000" y="-1440"/>
                <a:ext cx="8855640" cy="1689120"/>
                <a:chOff x="324000" y="-1440"/>
                <a:chExt cx="8855640" cy="1689120"/>
              </a:xfrm>
            </p:grpSpPr>
            <p:grpSp>
              <p:nvGrpSpPr>
                <p:cNvPr id="950" name=""/>
                <p:cNvGrpSpPr/>
                <p:nvPr/>
              </p:nvGrpSpPr>
              <p:grpSpPr>
                <a:xfrm>
                  <a:off x="324000" y="-1440"/>
                  <a:ext cx="8855640" cy="936360"/>
                  <a:chOff x="324000" y="-1440"/>
                  <a:chExt cx="8855640" cy="93636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>
                    <a:off x="324000" y="-1440"/>
                    <a:ext cx="8855640" cy="93636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324000" y="-1440"/>
                    <a:ext cx="202680" cy="22824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3" name=""/>
                <p:cNvSpPr/>
                <p:nvPr/>
              </p:nvSpPr>
              <p:spPr>
                <a:xfrm>
                  <a:off x="821880" y="69840"/>
                  <a:ext cx="8158680" cy="161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ffffcc"/>
                      </a:solidFill>
                      <a:latin typeface="Arial"/>
                    </a:rPr>
                    <a:t>Типы и методы решения логарифмических неравенств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2) Логарифмические неравенства, сводящиеся к простейшим логарифмическим неравенствам</a:t>
                  </a:r>
                  <a:r>
                    <a:rPr b="0" lang="ru-RU" sz="24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4" name=""/>
              <p:cNvSpPr/>
              <p:nvPr/>
            </p:nvSpPr>
            <p:spPr>
              <a:xfrm>
                <a:off x="324000" y="-1440"/>
                <a:ext cx="144360" cy="2872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5" name=""/>
          <p:cNvGrpSpPr/>
          <p:nvPr/>
        </p:nvGrpSpPr>
        <p:grpSpPr>
          <a:xfrm>
            <a:off x="5796000" y="1197000"/>
            <a:ext cx="3373200" cy="1282680"/>
            <a:chOff x="5796000" y="1197000"/>
            <a:chExt cx="3373200" cy="1282680"/>
          </a:xfrm>
        </p:grpSpPr>
        <p:sp>
          <p:nvSpPr>
            <p:cNvPr id="956" name=""/>
            <p:cNvSpPr/>
            <p:nvPr/>
          </p:nvSpPr>
          <p:spPr>
            <a:xfrm>
              <a:off x="5796000" y="1197000"/>
              <a:ext cx="3346920" cy="10080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aeaea"/>
                  </a:solidFill>
                  <a:latin typeface="Arial Black"/>
                </a:rPr>
                <a:t>Пример №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796000" y="2192400"/>
              <a:ext cx="3373200" cy="287280"/>
            </a:xfrm>
            <a:custGeom>
              <a:avLst/>
              <a:gdLst/>
              <a:ahLst/>
              <a:rect l="l" t="t" r="r" b="b"/>
              <a:pathLst>
                <a:path w="1361" h="181">
                  <a:moveTo>
                    <a:pt x="1361" y="0"/>
                  </a:moveTo>
                  <a:lnTo>
                    <a:pt x="0" y="181"/>
                  </a:lnTo>
                  <a:lnTo>
                    <a:pt x="0" y="0"/>
                  </a:lnTo>
                  <a:lnTo>
                    <a:pt x="1361" y="0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8" name=""/>
          <p:cNvSpPr/>
          <p:nvPr/>
        </p:nvSpPr>
        <p:spPr>
          <a:xfrm>
            <a:off x="5796000" y="1197000"/>
            <a:ext cx="144360" cy="358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877080" y="6165720"/>
            <a:ext cx="2232000" cy="287640"/>
          </a:xfrm>
          <a:custGeom>
            <a:avLst/>
            <a:gdLst/>
            <a:ahLst/>
            <a:rect l="l" t="t" r="r" b="b"/>
            <a:pathLst>
              <a:path w="1406" h="181">
                <a:moveTo>
                  <a:pt x="0" y="0"/>
                </a:moveTo>
                <a:lnTo>
                  <a:pt x="1406" y="181"/>
                </a:lnTo>
                <a:lnTo>
                  <a:pt x="1406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-181080" y="765000"/>
            <a:ext cx="2449440" cy="1008000"/>
            <a:chOff x="-181080" y="765000"/>
            <a:chExt cx="2449440" cy="1008000"/>
          </a:xfrm>
        </p:grpSpPr>
        <p:sp>
          <p:nvSpPr>
            <p:cNvPr id="966" name=""/>
            <p:cNvSpPr/>
            <p:nvPr/>
          </p:nvSpPr>
          <p:spPr>
            <a:xfrm>
              <a:off x="-11160" y="765000"/>
              <a:ext cx="2279520" cy="1008000"/>
            </a:xfrm>
            <a:custGeom>
              <a:avLst/>
              <a:gdLst/>
              <a:ahLst/>
              <a:rect l="l" t="t" r="r" b="b"/>
              <a:pathLst>
                <a:path w="1769" h="998">
                  <a:moveTo>
                    <a:pt x="0" y="136"/>
                  </a:moveTo>
                  <a:lnTo>
                    <a:pt x="1633" y="0"/>
                  </a:lnTo>
                  <a:lnTo>
                    <a:pt x="1769" y="499"/>
                  </a:lnTo>
                  <a:lnTo>
                    <a:pt x="0" y="998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-181080" y="909360"/>
              <a:ext cx="22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973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5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976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8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Логарифмически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79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980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6372360" y="5818320"/>
            <a:ext cx="2772720" cy="1066320"/>
            <a:chOff x="6372360" y="5818320"/>
            <a:chExt cx="2772720" cy="1066320"/>
          </a:xfrm>
        </p:grpSpPr>
        <p:sp>
          <p:nvSpPr>
            <p:cNvPr id="984" name=""/>
            <p:cNvSpPr/>
            <p:nvPr/>
          </p:nvSpPr>
          <p:spPr>
            <a:xfrm>
              <a:off x="6414120" y="5818320"/>
              <a:ext cx="2729160" cy="7203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372360" y="6524640"/>
              <a:ext cx="2772720" cy="360000"/>
            </a:xfrm>
            <a:custGeom>
              <a:avLst/>
              <a:gdLst/>
              <a:ahLst/>
              <a:rect l="l" t="t" r="r" b="b"/>
              <a:pathLst>
                <a:path w="1406" h="227">
                  <a:moveTo>
                    <a:pt x="1406" y="227"/>
                  </a:moveTo>
                  <a:lnTo>
                    <a:pt x="1406" y="0"/>
                  </a:lnTo>
                  <a:lnTo>
                    <a:pt x="0" y="0"/>
                  </a:lnTo>
                  <a:lnTo>
                    <a:pt x="1406" y="227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5870520" y="1747800"/>
                <a:ext cx="31780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,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0,5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,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324000" y="1916280"/>
                <a:ext cx="32461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,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0,5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,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331920" y="2492280"/>
                <a:ext cx="34081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331920" y="2962440"/>
                <a:ext cx="23684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,5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0,5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7197840" y="2975040"/>
                <a:ext cx="13381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,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0,5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7" name=""/>
          <p:cNvSpPr/>
          <p:nvPr/>
        </p:nvSpPr>
        <p:spPr>
          <a:xfrm>
            <a:off x="2701080" y="2872440"/>
            <a:ext cx="45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бывает на всей области определения 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18960" y="3356640"/>
            <a:ext cx="41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о неравенство равносильно систем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324000" y="3860640"/>
                <a:ext cx="339408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5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1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836880" y="3814920"/>
                <a:ext cx="26193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5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6585120" y="3998880"/>
                <a:ext cx="22730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520560" y="4879800"/>
                <a:ext cx="1460520" cy="7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2705040" y="4900680"/>
                <a:ext cx="13129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4356000" y="5106960"/>
                <a:ext cx="1152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,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7953480" y="6240600"/>
                <a:ext cx="780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,5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u"/>
  </p:transition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0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"/>
                            </p:stCondLst>
                            <p:childTnLst>
                              <p:par>
                                <p:cTn id="1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7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5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9" name=""/>
          <p:cNvGrpSpPr/>
          <p:nvPr/>
        </p:nvGrpSpPr>
        <p:grpSpPr>
          <a:xfrm>
            <a:off x="298440" y="-1440"/>
            <a:ext cx="8881920" cy="1689120"/>
            <a:chOff x="298440" y="-1440"/>
            <a:chExt cx="8881920" cy="1689120"/>
          </a:xfrm>
        </p:grpSpPr>
        <p:sp>
          <p:nvSpPr>
            <p:cNvPr id="1020" name=""/>
            <p:cNvSpPr/>
            <p:nvPr/>
          </p:nvSpPr>
          <p:spPr>
            <a:xfrm>
              <a:off x="298440" y="874800"/>
              <a:ext cx="8881920" cy="588960"/>
            </a:xfrm>
            <a:custGeom>
              <a:avLst/>
              <a:gdLst/>
              <a:ahLst/>
              <a:rect l="l" t="t" r="r" b="b"/>
              <a:pathLst>
                <a:path w="5579" h="635">
                  <a:moveTo>
                    <a:pt x="0" y="46"/>
                  </a:moveTo>
                  <a:lnTo>
                    <a:pt x="5579" y="635"/>
                  </a:lnTo>
                  <a:lnTo>
                    <a:pt x="5579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1" name=""/>
            <p:cNvGrpSpPr/>
            <p:nvPr/>
          </p:nvGrpSpPr>
          <p:grpSpPr>
            <a:xfrm>
              <a:off x="324000" y="-1440"/>
              <a:ext cx="8855640" cy="1689120"/>
              <a:chOff x="324000" y="-1440"/>
              <a:chExt cx="8855640" cy="1689120"/>
            </a:xfrm>
          </p:grpSpPr>
          <p:grpSp>
            <p:nvGrpSpPr>
              <p:cNvPr id="1022" name=""/>
              <p:cNvGrpSpPr/>
              <p:nvPr/>
            </p:nvGrpSpPr>
            <p:grpSpPr>
              <a:xfrm>
                <a:off x="324000" y="-1440"/>
                <a:ext cx="8855640" cy="1689120"/>
                <a:chOff x="324000" y="-1440"/>
                <a:chExt cx="8855640" cy="1689120"/>
              </a:xfrm>
            </p:grpSpPr>
            <p:grpSp>
              <p:nvGrpSpPr>
                <p:cNvPr id="1023" name=""/>
                <p:cNvGrpSpPr/>
                <p:nvPr/>
              </p:nvGrpSpPr>
              <p:grpSpPr>
                <a:xfrm>
                  <a:off x="324000" y="-1440"/>
                  <a:ext cx="8855640" cy="936360"/>
                  <a:chOff x="324000" y="-1440"/>
                  <a:chExt cx="8855640" cy="936360"/>
                </a:xfrm>
              </p:grpSpPr>
              <p:sp>
                <p:nvSpPr>
                  <p:cNvPr id="1024" name=""/>
                  <p:cNvSpPr/>
                  <p:nvPr/>
                </p:nvSpPr>
                <p:spPr>
                  <a:xfrm>
                    <a:off x="324000" y="-1440"/>
                    <a:ext cx="8855640" cy="93636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324000" y="-1440"/>
                    <a:ext cx="202680" cy="22824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6" name=""/>
                <p:cNvSpPr/>
                <p:nvPr/>
              </p:nvSpPr>
              <p:spPr>
                <a:xfrm>
                  <a:off x="821880" y="69840"/>
                  <a:ext cx="8158680" cy="161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ffffcc"/>
                      </a:solidFill>
                      <a:latin typeface="Arial"/>
                    </a:rPr>
                    <a:t>Типы и методы решения логарифмических неравенств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2) Логарифмические неравенства, сводящиеся к простейшим логарифмическим неравенствам</a:t>
                  </a:r>
                  <a:r>
                    <a:rPr b="0" lang="ru-RU" sz="24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7" name=""/>
              <p:cNvSpPr/>
              <p:nvPr/>
            </p:nvSpPr>
            <p:spPr>
              <a:xfrm>
                <a:off x="324000" y="-1440"/>
                <a:ext cx="144360" cy="2872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8" name=""/>
          <p:cNvGrpSpPr/>
          <p:nvPr/>
        </p:nvGrpSpPr>
        <p:grpSpPr>
          <a:xfrm>
            <a:off x="5796000" y="1197000"/>
            <a:ext cx="3373200" cy="1282680"/>
            <a:chOff x="5796000" y="1197000"/>
            <a:chExt cx="3373200" cy="1282680"/>
          </a:xfrm>
        </p:grpSpPr>
        <p:sp>
          <p:nvSpPr>
            <p:cNvPr id="1029" name=""/>
            <p:cNvSpPr/>
            <p:nvPr/>
          </p:nvSpPr>
          <p:spPr>
            <a:xfrm>
              <a:off x="5796000" y="1197000"/>
              <a:ext cx="3346920" cy="10080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aeaea"/>
                  </a:solidFill>
                  <a:latin typeface="Arial Black"/>
                </a:rPr>
                <a:t>Пример №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796000" y="2192400"/>
              <a:ext cx="3373200" cy="287280"/>
            </a:xfrm>
            <a:custGeom>
              <a:avLst/>
              <a:gdLst/>
              <a:ahLst/>
              <a:rect l="l" t="t" r="r" b="b"/>
              <a:pathLst>
                <a:path w="1361" h="181">
                  <a:moveTo>
                    <a:pt x="1361" y="0"/>
                  </a:moveTo>
                  <a:lnTo>
                    <a:pt x="0" y="181"/>
                  </a:lnTo>
                  <a:lnTo>
                    <a:pt x="0" y="0"/>
                  </a:lnTo>
                  <a:lnTo>
                    <a:pt x="1361" y="0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5796000" y="1197000"/>
            <a:ext cx="144360" cy="358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877080" y="6165720"/>
            <a:ext cx="2232000" cy="287640"/>
          </a:xfrm>
          <a:custGeom>
            <a:avLst/>
            <a:gdLst/>
            <a:ahLst/>
            <a:rect l="l" t="t" r="r" b="b"/>
            <a:pathLst>
              <a:path w="1406" h="181">
                <a:moveTo>
                  <a:pt x="0" y="0"/>
                </a:moveTo>
                <a:lnTo>
                  <a:pt x="1406" y="181"/>
                </a:lnTo>
                <a:lnTo>
                  <a:pt x="1406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-181080" y="765000"/>
            <a:ext cx="2449440" cy="1008000"/>
            <a:chOff x="-181080" y="765000"/>
            <a:chExt cx="2449440" cy="1008000"/>
          </a:xfrm>
        </p:grpSpPr>
        <p:sp>
          <p:nvSpPr>
            <p:cNvPr id="1039" name=""/>
            <p:cNvSpPr/>
            <p:nvPr/>
          </p:nvSpPr>
          <p:spPr>
            <a:xfrm>
              <a:off x="-11160" y="765000"/>
              <a:ext cx="2279520" cy="1008000"/>
            </a:xfrm>
            <a:custGeom>
              <a:avLst/>
              <a:gdLst/>
              <a:ahLst/>
              <a:rect l="l" t="t" r="r" b="b"/>
              <a:pathLst>
                <a:path w="1769" h="998">
                  <a:moveTo>
                    <a:pt x="0" y="136"/>
                  </a:moveTo>
                  <a:lnTo>
                    <a:pt x="1633" y="0"/>
                  </a:lnTo>
                  <a:lnTo>
                    <a:pt x="1769" y="499"/>
                  </a:lnTo>
                  <a:lnTo>
                    <a:pt x="0" y="998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-181080" y="909360"/>
              <a:ext cx="22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1046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1049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1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Логарифмически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52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6372360" y="5818320"/>
            <a:ext cx="2772720" cy="1066320"/>
            <a:chOff x="6372360" y="5818320"/>
            <a:chExt cx="2772720" cy="1066320"/>
          </a:xfrm>
        </p:grpSpPr>
        <p:sp>
          <p:nvSpPr>
            <p:cNvPr id="1057" name=""/>
            <p:cNvSpPr/>
            <p:nvPr/>
          </p:nvSpPr>
          <p:spPr>
            <a:xfrm>
              <a:off x="6414120" y="5818320"/>
              <a:ext cx="2729160" cy="7203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372360" y="6524640"/>
              <a:ext cx="2772720" cy="360000"/>
            </a:xfrm>
            <a:custGeom>
              <a:avLst/>
              <a:gdLst/>
              <a:ahLst/>
              <a:rect l="l" t="t" r="r" b="b"/>
              <a:pathLst>
                <a:path w="1406" h="227">
                  <a:moveTo>
                    <a:pt x="1406" y="227"/>
                  </a:moveTo>
                  <a:lnTo>
                    <a:pt x="1406" y="0"/>
                  </a:lnTo>
                  <a:lnTo>
                    <a:pt x="0" y="0"/>
                  </a:lnTo>
                  <a:lnTo>
                    <a:pt x="1406" y="227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9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6164280" y="1743120"/>
                <a:ext cx="26557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412920" y="1773360"/>
                <a:ext cx="245088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371520" y="2276640"/>
                <a:ext cx="297648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3492360" y="2276640"/>
                <a:ext cx="152100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6" name=""/>
          <p:cNvSpPr/>
          <p:nvPr/>
        </p:nvSpPr>
        <p:spPr>
          <a:xfrm>
            <a:off x="345600" y="256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озрастает на всей области определения 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4379760" y="2674800"/>
                <a:ext cx="9129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>
            <a:off x="5285880" y="2564280"/>
            <a:ext cx="36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то неравенство равносильно систем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1" name=""/>
              <p:cNvSpPr txBox="1"/>
              <p:nvPr/>
            </p:nvSpPr>
            <p:spPr>
              <a:xfrm>
                <a:off x="395280" y="3214800"/>
                <a:ext cx="25970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2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3324240" y="3213000"/>
                <a:ext cx="26161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6156360" y="3325680"/>
                <a:ext cx="20271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407880" y="4362480"/>
                <a:ext cx="16574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2556000" y="4354560"/>
                <a:ext cx="14842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9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2195640" y="5170320"/>
                <a:ext cx="871560" cy="8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1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3492360" y="5075280"/>
                <a:ext cx="8715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4707000" y="5473800"/>
                <a:ext cx="54288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7707240" y="6186600"/>
                <a:ext cx="7765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4;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u"/>
  </p:transition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0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500"/>
                            </p:stCondLst>
                            <p:childTnLst>
                              <p:par>
                                <p:cTn id="13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3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0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0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5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9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0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7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1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5" name=""/>
          <p:cNvGrpSpPr/>
          <p:nvPr/>
        </p:nvGrpSpPr>
        <p:grpSpPr>
          <a:xfrm>
            <a:off x="298440" y="-1440"/>
            <a:ext cx="8881920" cy="1465200"/>
            <a:chOff x="298440" y="-1440"/>
            <a:chExt cx="8881920" cy="1465200"/>
          </a:xfrm>
        </p:grpSpPr>
        <p:sp>
          <p:nvSpPr>
            <p:cNvPr id="1106" name=""/>
            <p:cNvSpPr/>
            <p:nvPr/>
          </p:nvSpPr>
          <p:spPr>
            <a:xfrm>
              <a:off x="298440" y="874800"/>
              <a:ext cx="8881920" cy="588960"/>
            </a:xfrm>
            <a:custGeom>
              <a:avLst/>
              <a:gdLst/>
              <a:ahLst/>
              <a:rect l="l" t="t" r="r" b="b"/>
              <a:pathLst>
                <a:path w="5579" h="635">
                  <a:moveTo>
                    <a:pt x="0" y="46"/>
                  </a:moveTo>
                  <a:lnTo>
                    <a:pt x="5579" y="635"/>
                  </a:lnTo>
                  <a:lnTo>
                    <a:pt x="5579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324000" y="-1440"/>
              <a:ext cx="8855640" cy="1293120"/>
              <a:chOff x="324000" y="-1440"/>
              <a:chExt cx="8855640" cy="1293120"/>
            </a:xfrm>
          </p:grpSpPr>
          <p:grpSp>
            <p:nvGrpSpPr>
              <p:cNvPr id="1108" name=""/>
              <p:cNvGrpSpPr/>
              <p:nvPr/>
            </p:nvGrpSpPr>
            <p:grpSpPr>
              <a:xfrm>
                <a:off x="324000" y="-1440"/>
                <a:ext cx="8855640" cy="1293120"/>
                <a:chOff x="324000" y="-1440"/>
                <a:chExt cx="8855640" cy="1293120"/>
              </a:xfrm>
            </p:grpSpPr>
            <p:grpSp>
              <p:nvGrpSpPr>
                <p:cNvPr id="1109" name=""/>
                <p:cNvGrpSpPr/>
                <p:nvPr/>
              </p:nvGrpSpPr>
              <p:grpSpPr>
                <a:xfrm>
                  <a:off x="324000" y="-1440"/>
                  <a:ext cx="8855640" cy="936360"/>
                  <a:chOff x="324000" y="-1440"/>
                  <a:chExt cx="8855640" cy="936360"/>
                </a:xfrm>
              </p:grpSpPr>
              <p:sp>
                <p:nvSpPr>
                  <p:cNvPr id="1110" name=""/>
                  <p:cNvSpPr/>
                  <p:nvPr/>
                </p:nvSpPr>
                <p:spPr>
                  <a:xfrm>
                    <a:off x="324000" y="-1440"/>
                    <a:ext cx="8855640" cy="93636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324000" y="-1440"/>
                    <a:ext cx="202680" cy="22824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2" name=""/>
                <p:cNvSpPr/>
                <p:nvPr/>
              </p:nvSpPr>
              <p:spPr>
                <a:xfrm>
                  <a:off x="821880" y="69840"/>
                  <a:ext cx="8158680" cy="12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ffffcc"/>
                      </a:solidFill>
                      <a:latin typeface="Arial"/>
                    </a:rPr>
                    <a:t>Типы и методы решения логарифмических неравенств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3) Логарифмические неравенства, сводящиеся к неравенствам второй степени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3" name=""/>
              <p:cNvSpPr/>
              <p:nvPr/>
            </p:nvSpPr>
            <p:spPr>
              <a:xfrm>
                <a:off x="324000" y="-1440"/>
                <a:ext cx="144360" cy="2872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4" name=""/>
          <p:cNvGrpSpPr/>
          <p:nvPr/>
        </p:nvGrpSpPr>
        <p:grpSpPr>
          <a:xfrm>
            <a:off x="5807160" y="1065240"/>
            <a:ext cx="3372840" cy="1282680"/>
            <a:chOff x="5807160" y="1065240"/>
            <a:chExt cx="3372840" cy="1282680"/>
          </a:xfrm>
        </p:grpSpPr>
        <p:grpSp>
          <p:nvGrpSpPr>
            <p:cNvPr id="1115" name=""/>
            <p:cNvGrpSpPr/>
            <p:nvPr/>
          </p:nvGrpSpPr>
          <p:grpSpPr>
            <a:xfrm>
              <a:off x="5807160" y="1065240"/>
              <a:ext cx="3372840" cy="1282680"/>
              <a:chOff x="5807160" y="1065240"/>
              <a:chExt cx="3372840" cy="1282680"/>
            </a:xfrm>
          </p:grpSpPr>
          <p:sp>
            <p:nvSpPr>
              <p:cNvPr id="1116" name=""/>
              <p:cNvSpPr/>
              <p:nvPr/>
            </p:nvSpPr>
            <p:spPr>
              <a:xfrm>
                <a:off x="5807160" y="1065240"/>
                <a:ext cx="3346560" cy="100800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eaeaea"/>
                    </a:solidFill>
                    <a:latin typeface="Arial Black"/>
                  </a:rPr>
                  <a:t>Пример №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807160" y="2060640"/>
                <a:ext cx="3372840" cy="287280"/>
              </a:xfrm>
              <a:custGeom>
                <a:avLst/>
                <a:gdLst/>
                <a:ahLst/>
                <a:rect l="l" t="t" r="r" b="b"/>
                <a:pathLst>
                  <a:path w="1361" h="181">
                    <a:moveTo>
                      <a:pt x="1361" y="0"/>
                    </a:moveTo>
                    <a:lnTo>
                      <a:pt x="0" y="181"/>
                    </a:lnTo>
                    <a:lnTo>
                      <a:pt x="0" y="0"/>
                    </a:lnTo>
                    <a:lnTo>
                      <a:pt x="1361" y="0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8" name=""/>
            <p:cNvSpPr/>
            <p:nvPr/>
          </p:nvSpPr>
          <p:spPr>
            <a:xfrm>
              <a:off x="5807160" y="1065240"/>
              <a:ext cx="144360" cy="3589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877080" y="6165720"/>
            <a:ext cx="2232000" cy="287640"/>
          </a:xfrm>
          <a:custGeom>
            <a:avLst/>
            <a:gdLst/>
            <a:ahLst/>
            <a:rect l="l" t="t" r="r" b="b"/>
            <a:pathLst>
              <a:path w="1406" h="181">
                <a:moveTo>
                  <a:pt x="0" y="0"/>
                </a:moveTo>
                <a:lnTo>
                  <a:pt x="1406" y="181"/>
                </a:lnTo>
                <a:lnTo>
                  <a:pt x="1406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-181080" y="765000"/>
            <a:ext cx="2449440" cy="1008000"/>
            <a:chOff x="-181080" y="765000"/>
            <a:chExt cx="2449440" cy="1008000"/>
          </a:xfrm>
        </p:grpSpPr>
        <p:sp>
          <p:nvSpPr>
            <p:cNvPr id="1126" name=""/>
            <p:cNvSpPr/>
            <p:nvPr/>
          </p:nvSpPr>
          <p:spPr>
            <a:xfrm>
              <a:off x="-11160" y="765000"/>
              <a:ext cx="2279520" cy="1008000"/>
            </a:xfrm>
            <a:custGeom>
              <a:avLst/>
              <a:gdLst/>
              <a:ahLst/>
              <a:rect l="l" t="t" r="r" b="b"/>
              <a:pathLst>
                <a:path w="1769" h="998">
                  <a:moveTo>
                    <a:pt x="0" y="136"/>
                  </a:moveTo>
                  <a:lnTo>
                    <a:pt x="1633" y="0"/>
                  </a:lnTo>
                  <a:lnTo>
                    <a:pt x="1769" y="499"/>
                  </a:lnTo>
                  <a:lnTo>
                    <a:pt x="0" y="998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-181080" y="909360"/>
              <a:ext cx="22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1163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5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1166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8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Логарифмически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69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6372360" y="5818320"/>
            <a:ext cx="2772720" cy="1066320"/>
            <a:chOff x="6372360" y="5818320"/>
            <a:chExt cx="2772720" cy="1066320"/>
          </a:xfrm>
        </p:grpSpPr>
        <p:sp>
          <p:nvSpPr>
            <p:cNvPr id="1171" name=""/>
            <p:cNvSpPr/>
            <p:nvPr/>
          </p:nvSpPr>
          <p:spPr>
            <a:xfrm>
              <a:off x="6414120" y="5818320"/>
              <a:ext cx="2729160" cy="7203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372360" y="6524640"/>
              <a:ext cx="2772720" cy="360000"/>
            </a:xfrm>
            <a:custGeom>
              <a:avLst/>
              <a:gdLst/>
              <a:ahLst/>
              <a:rect l="l" t="t" r="r" b="b"/>
              <a:pathLst>
                <a:path w="1406" h="227">
                  <a:moveTo>
                    <a:pt x="1406" y="227"/>
                  </a:moveTo>
                  <a:lnTo>
                    <a:pt x="1406" y="0"/>
                  </a:lnTo>
                  <a:lnTo>
                    <a:pt x="0" y="0"/>
                  </a:lnTo>
                  <a:lnTo>
                    <a:pt x="1406" y="227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3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6299280" y="1514520"/>
                <a:ext cx="230508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2log</m:t>
                        </m:r>
                      </m:e>
                      <m:sub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5log</m:t>
                        </m:r>
                      </m:e>
                      <m:sub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358920" y="1773360"/>
                <a:ext cx="21668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2log</m:t>
                        </m:r>
                      </m:e>
                      <m:sub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log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7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361800" y="2276640"/>
                <a:ext cx="21225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усть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огд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2556000" y="2276640"/>
                <a:ext cx="13795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t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4140360" y="2205000"/>
                <a:ext cx="7747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0,5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323280" y="2707200"/>
            <a:ext cx="27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рнёмся к переменно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3164040" y="2822400"/>
                <a:ext cx="320832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1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6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393840" y="3357720"/>
                <a:ext cx="13698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8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1979640" y="3408480"/>
                <a:ext cx="144000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0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1" name=""/>
              <p:cNvSpPr txBox="1"/>
              <p:nvPr/>
            </p:nvSpPr>
            <p:spPr>
              <a:xfrm>
                <a:off x="3751200" y="3408480"/>
                <a:ext cx="139716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539640" y="4365720"/>
                <a:ext cx="14209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2050920" y="429192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озрастает на всей обла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пределения, т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2124000" y="4797360"/>
                <a:ext cx="9540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6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3419640" y="4653000"/>
                <a:ext cx="954000" cy="15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4724280" y="4869000"/>
                <a:ext cx="10083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&gt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9" name=""/>
              <p:cNvSpPr txBox="1"/>
              <p:nvPr/>
            </p:nvSpPr>
            <p:spPr>
              <a:xfrm>
                <a:off x="7431120" y="5962680"/>
                <a:ext cx="1700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strips dir="ru"/>
  </p:transition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0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500"/>
                            </p:stCondLst>
                            <p:childTnLst>
                              <p:par>
                                <p:cTn id="15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0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7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1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8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5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2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9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6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500"/>
                            </p:stCondLst>
                            <p:childTnLst>
                              <p:par>
                                <p:cTn id="15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9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6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49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52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Логарифмически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916360" y="-27000"/>
            <a:ext cx="6238800" cy="934560"/>
            <a:chOff x="2916360" y="-27000"/>
            <a:chExt cx="6238800" cy="934560"/>
          </a:xfrm>
        </p:grpSpPr>
        <p:grpSp>
          <p:nvGrpSpPr>
            <p:cNvPr id="57" name=""/>
            <p:cNvGrpSpPr/>
            <p:nvPr/>
          </p:nvGrpSpPr>
          <p:grpSpPr>
            <a:xfrm>
              <a:off x="2916360" y="-27000"/>
              <a:ext cx="6227640" cy="516960"/>
              <a:chOff x="2916360" y="-27000"/>
              <a:chExt cx="6227640" cy="516960"/>
            </a:xfrm>
          </p:grpSpPr>
          <p:sp>
            <p:nvSpPr>
              <p:cNvPr id="58" name=""/>
              <p:cNvSpPr/>
              <p:nvPr/>
            </p:nvSpPr>
            <p:spPr>
              <a:xfrm>
                <a:off x="2916360" y="-27000"/>
                <a:ext cx="6227640" cy="51696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ffffff"/>
                    </a:solidFill>
                    <a:latin typeface="Arial Black"/>
                  </a:rPr>
                  <a:t>  </a:t>
                </a:r>
                <a:r>
                  <a:rPr b="0" lang="ru-RU" sz="2400" spc="-1" strike="noStrike">
                    <a:solidFill>
                      <a:srgbClr val="ffffff"/>
                    </a:solidFill>
                    <a:latin typeface="Arial Black"/>
                  </a:rPr>
                  <a:t>Концентрация внимания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916360" y="318600"/>
                <a:ext cx="142920" cy="1713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916360" y="433440"/>
              <a:ext cx="6238800" cy="474120"/>
            </a:xfrm>
            <a:custGeom>
              <a:avLst/>
              <a:gdLst/>
              <a:ahLst/>
              <a:rect l="l" t="t" r="r" b="b"/>
              <a:pathLst>
                <a:path w="4264" h="454">
                  <a:moveTo>
                    <a:pt x="0" y="46"/>
                  </a:moveTo>
                  <a:lnTo>
                    <a:pt x="4264" y="454"/>
                  </a:lnTo>
                  <a:lnTo>
                    <a:pt x="4264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995640" y="1628640"/>
            <a:ext cx="5148000" cy="5256360"/>
            <a:chOff x="3995640" y="1628640"/>
            <a:chExt cx="5148000" cy="5256360"/>
          </a:xfrm>
        </p:grpSpPr>
        <p:sp>
          <p:nvSpPr>
            <p:cNvPr id="62" name=""/>
            <p:cNvSpPr/>
            <p:nvPr/>
          </p:nvSpPr>
          <p:spPr>
            <a:xfrm>
              <a:off x="5498640" y="1628640"/>
              <a:ext cx="3645000" cy="5229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95640" y="1628640"/>
              <a:ext cx="1578960" cy="5256360"/>
            </a:xfrm>
            <a:custGeom>
              <a:avLst/>
              <a:gdLst/>
              <a:ahLst/>
              <a:rect l="l" t="t" r="r" b="b"/>
              <a:pathLst>
                <a:path w="953" h="3311">
                  <a:moveTo>
                    <a:pt x="953" y="3311"/>
                  </a:moveTo>
                  <a:lnTo>
                    <a:pt x="0" y="3311"/>
                  </a:lnTo>
                  <a:lnTo>
                    <a:pt x="907" y="0"/>
                  </a:lnTo>
                  <a:lnTo>
                    <a:pt x="953" y="33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995640" y="5950080"/>
            <a:ext cx="50752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нтрация внимания рав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число верных ответ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х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0,125 х 10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46280" y="1009800"/>
            <a:ext cx="202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46280" y="1009800"/>
            <a:ext cx="202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46280" y="1009800"/>
            <a:ext cx="202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46280" y="1009800"/>
            <a:ext cx="202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46280" y="1009800"/>
            <a:ext cx="202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46280" y="1009800"/>
            <a:ext cx="202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46280" y="1009800"/>
            <a:ext cx="202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46280" y="1009800"/>
            <a:ext cx="202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11280" y="5541840"/>
            <a:ext cx="6624720" cy="612720"/>
          </a:xfrm>
          <a:prstGeom prst="rect">
            <a:avLst/>
          </a:prstGeom>
          <a:solidFill>
            <a:srgbClr val="03c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вёл термин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натуральные логарифмы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541840"/>
            <a:ext cx="2016000" cy="612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нгол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4929120"/>
            <a:ext cx="6624720" cy="612720"/>
          </a:xfrm>
          <a:prstGeom prst="rect">
            <a:avLst/>
          </a:prstGeom>
          <a:solidFill>
            <a:srgbClr val="03c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азал трансцендентность числ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(т.е. число е не может быть корнем какого-либо алгебраического уравнения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4929120"/>
            <a:ext cx="2016000" cy="612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рми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11280" y="4316400"/>
            <a:ext cx="6624720" cy="612720"/>
          </a:xfrm>
          <a:prstGeom prst="rect">
            <a:avLst/>
          </a:prstGeom>
          <a:solidFill>
            <a:srgbClr val="03c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азал иррациональность числ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(т. е. число е не может быть квадратом какого-либо числа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4316400"/>
            <a:ext cx="2016000" cy="612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амбер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3703680"/>
            <a:ext cx="6624720" cy="612720"/>
          </a:xfrm>
          <a:prstGeom prst="rect">
            <a:avLst/>
          </a:prstGeom>
          <a:solidFill>
            <a:srgbClr val="03c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обретател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огарифмической линей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3703680"/>
            <a:ext cx="2016000" cy="612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утред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3090960"/>
            <a:ext cx="6624720" cy="612720"/>
          </a:xfrm>
          <a:prstGeom prst="rect">
            <a:avLst/>
          </a:prstGeom>
          <a:solidFill>
            <a:srgbClr val="03c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авил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ы десятичных логарифм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3090960"/>
            <a:ext cx="2016000" cy="612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ригг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2478240"/>
            <a:ext cx="6624720" cy="612720"/>
          </a:xfrm>
          <a:prstGeom prst="rect">
            <a:avLst/>
          </a:prstGeom>
          <a:solidFill>
            <a:srgbClr val="03c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вёл обозначение числ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вычислил его с точностью до 23 зна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2478240"/>
            <a:ext cx="2016000" cy="612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йле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1865160"/>
            <a:ext cx="6624720" cy="613080"/>
          </a:xfrm>
          <a:prstGeom prst="rect">
            <a:avLst/>
          </a:prstGeom>
          <a:solidFill>
            <a:srgbClr val="03c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тел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 логарифм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араллельно с Непер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865160"/>
            <a:ext cx="2016000" cy="6130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юрг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1252440"/>
            <a:ext cx="6624720" cy="612720"/>
          </a:xfrm>
          <a:prstGeom prst="rect">
            <a:avLst/>
          </a:prstGeom>
          <a:solidFill>
            <a:srgbClr val="03c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обрёл логарифмы, их название, создал первы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ы логарифм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1252440"/>
            <a:ext cx="2016000" cy="612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пе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476280"/>
            <a:ext cx="6624720" cy="776160"/>
          </a:xfrm>
          <a:prstGeom prst="rect">
            <a:avLst/>
          </a:prstGeom>
          <a:solidFill>
            <a:srgbClr val="029e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т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в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476280"/>
            <a:ext cx="2016000" cy="776160"/>
          </a:xfrm>
          <a:prstGeom prst="rect">
            <a:avLst/>
          </a:prstGeom>
          <a:solidFill>
            <a:srgbClr val="008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клад каждого учёного в развитие логариф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620640"/>
            <a:ext cx="4322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5938920"/>
            <a:ext cx="4322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20640"/>
            <a:ext cx="0" cy="41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820000" y="620640"/>
            <a:ext cx="0" cy="41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1252440"/>
            <a:ext cx="8640720" cy="0"/>
          </a:xfrm>
          <a:prstGeom prst="line">
            <a:avLst/>
          </a:prstGeom>
          <a:ln w="1260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1865160"/>
            <a:ext cx="8640720" cy="0"/>
          </a:xfrm>
          <a:prstGeom prst="line">
            <a:avLst/>
          </a:prstGeom>
          <a:ln w="1260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2478240"/>
            <a:ext cx="8640720" cy="0"/>
          </a:xfrm>
          <a:prstGeom prst="line">
            <a:avLst/>
          </a:prstGeom>
          <a:ln w="1260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3090960"/>
            <a:ext cx="8640720" cy="0"/>
          </a:xfrm>
          <a:prstGeom prst="line">
            <a:avLst/>
          </a:prstGeom>
          <a:ln w="1260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3703680"/>
            <a:ext cx="8640720" cy="0"/>
          </a:xfrm>
          <a:prstGeom prst="line">
            <a:avLst/>
          </a:prstGeom>
          <a:ln w="1260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4316400"/>
            <a:ext cx="8640720" cy="0"/>
          </a:xfrm>
          <a:prstGeom prst="line">
            <a:avLst/>
          </a:prstGeom>
          <a:ln w="1260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4929120"/>
            <a:ext cx="8640720" cy="0"/>
          </a:xfrm>
          <a:prstGeom prst="line">
            <a:avLst/>
          </a:prstGeom>
          <a:ln w="1260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541840"/>
            <a:ext cx="8640720" cy="0"/>
          </a:xfrm>
          <a:prstGeom prst="line">
            <a:avLst/>
          </a:prstGeom>
          <a:ln w="1260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02160" y="620640"/>
            <a:ext cx="4317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1036800"/>
            <a:ext cx="0" cy="6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820000" y="1036800"/>
            <a:ext cx="0" cy="6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649520"/>
            <a:ext cx="0" cy="6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820000" y="1649520"/>
            <a:ext cx="0" cy="6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2262240"/>
            <a:ext cx="0" cy="6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820000" y="2262240"/>
            <a:ext cx="0" cy="6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2874960"/>
            <a:ext cx="0" cy="6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820000" y="2874960"/>
            <a:ext cx="0" cy="6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3487680"/>
            <a:ext cx="0" cy="6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820000" y="3487680"/>
            <a:ext cx="0" cy="6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4100400"/>
            <a:ext cx="0" cy="6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820000" y="4100400"/>
            <a:ext cx="0" cy="6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4713120"/>
            <a:ext cx="0" cy="61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820000" y="4713120"/>
            <a:ext cx="0" cy="61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5326200"/>
            <a:ext cx="0" cy="6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20000" y="5326200"/>
            <a:ext cx="0" cy="6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02160" y="5938920"/>
            <a:ext cx="4317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4400" y="476280"/>
            <a:ext cx="398880" cy="5689080"/>
            <a:chOff x="14400" y="476280"/>
            <a:chExt cx="398880" cy="5689080"/>
          </a:xfrm>
        </p:grpSpPr>
        <p:sp>
          <p:nvSpPr>
            <p:cNvPr id="124" name=""/>
            <p:cNvSpPr/>
            <p:nvPr/>
          </p:nvSpPr>
          <p:spPr>
            <a:xfrm>
              <a:off x="75960" y="476280"/>
              <a:ext cx="323640" cy="568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6200000">
              <a:off x="-2438640" y="3006000"/>
              <a:ext cx="530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к р о с с – о п р о 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411280" y="476280"/>
            <a:ext cx="0" cy="5689440"/>
          </a:xfrm>
          <a:prstGeom prst="line">
            <a:avLst/>
          </a:prstGeom>
          <a:ln w="1260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"/>
          <p:cNvGrpSpPr/>
          <p:nvPr/>
        </p:nvGrpSpPr>
        <p:grpSpPr>
          <a:xfrm>
            <a:off x="298440" y="-1440"/>
            <a:ext cx="8881920" cy="1465200"/>
            <a:chOff x="298440" y="-1440"/>
            <a:chExt cx="8881920" cy="1465200"/>
          </a:xfrm>
        </p:grpSpPr>
        <p:sp>
          <p:nvSpPr>
            <p:cNvPr id="1201" name=""/>
            <p:cNvSpPr/>
            <p:nvPr/>
          </p:nvSpPr>
          <p:spPr>
            <a:xfrm>
              <a:off x="298440" y="874800"/>
              <a:ext cx="8881920" cy="588960"/>
            </a:xfrm>
            <a:custGeom>
              <a:avLst/>
              <a:gdLst/>
              <a:ahLst/>
              <a:rect l="l" t="t" r="r" b="b"/>
              <a:pathLst>
                <a:path w="5579" h="635">
                  <a:moveTo>
                    <a:pt x="0" y="46"/>
                  </a:moveTo>
                  <a:lnTo>
                    <a:pt x="5579" y="635"/>
                  </a:lnTo>
                  <a:lnTo>
                    <a:pt x="5579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2" name=""/>
            <p:cNvGrpSpPr/>
            <p:nvPr/>
          </p:nvGrpSpPr>
          <p:grpSpPr>
            <a:xfrm>
              <a:off x="324000" y="-1440"/>
              <a:ext cx="8855640" cy="1293120"/>
              <a:chOff x="324000" y="-1440"/>
              <a:chExt cx="8855640" cy="1293120"/>
            </a:xfrm>
          </p:grpSpPr>
          <p:grpSp>
            <p:nvGrpSpPr>
              <p:cNvPr id="1203" name=""/>
              <p:cNvGrpSpPr/>
              <p:nvPr/>
            </p:nvGrpSpPr>
            <p:grpSpPr>
              <a:xfrm>
                <a:off x="324000" y="-1440"/>
                <a:ext cx="8855640" cy="1293120"/>
                <a:chOff x="324000" y="-1440"/>
                <a:chExt cx="8855640" cy="1293120"/>
              </a:xfrm>
            </p:grpSpPr>
            <p:grpSp>
              <p:nvGrpSpPr>
                <p:cNvPr id="1204" name=""/>
                <p:cNvGrpSpPr/>
                <p:nvPr/>
              </p:nvGrpSpPr>
              <p:grpSpPr>
                <a:xfrm>
                  <a:off x="324000" y="-1440"/>
                  <a:ext cx="8855640" cy="936360"/>
                  <a:chOff x="324000" y="-1440"/>
                  <a:chExt cx="8855640" cy="936360"/>
                </a:xfrm>
              </p:grpSpPr>
              <p:sp>
                <p:nvSpPr>
                  <p:cNvPr id="1205" name=""/>
                  <p:cNvSpPr/>
                  <p:nvPr/>
                </p:nvSpPr>
                <p:spPr>
                  <a:xfrm>
                    <a:off x="324000" y="-1440"/>
                    <a:ext cx="8855640" cy="93636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324000" y="-1440"/>
                    <a:ext cx="202680" cy="22824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7" name=""/>
                <p:cNvSpPr/>
                <p:nvPr/>
              </p:nvSpPr>
              <p:spPr>
                <a:xfrm>
                  <a:off x="821880" y="69840"/>
                  <a:ext cx="8158680" cy="12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ffffcc"/>
                      </a:solidFill>
                      <a:latin typeface="Arial"/>
                    </a:rPr>
                    <a:t>Типы и методы решения логарифмических неравенств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3) Логарифмические неравенства, сводящиеся к неравенствам второй степени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8" name=""/>
              <p:cNvSpPr/>
              <p:nvPr/>
            </p:nvSpPr>
            <p:spPr>
              <a:xfrm>
                <a:off x="324000" y="-1440"/>
                <a:ext cx="144360" cy="2872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9" name=""/>
          <p:cNvGrpSpPr/>
          <p:nvPr/>
        </p:nvGrpSpPr>
        <p:grpSpPr>
          <a:xfrm>
            <a:off x="5807160" y="1065240"/>
            <a:ext cx="3372840" cy="1282680"/>
            <a:chOff x="5807160" y="1065240"/>
            <a:chExt cx="3372840" cy="1282680"/>
          </a:xfrm>
        </p:grpSpPr>
        <p:grpSp>
          <p:nvGrpSpPr>
            <p:cNvPr id="1210" name=""/>
            <p:cNvGrpSpPr/>
            <p:nvPr/>
          </p:nvGrpSpPr>
          <p:grpSpPr>
            <a:xfrm>
              <a:off x="5807160" y="1065240"/>
              <a:ext cx="3372840" cy="1282680"/>
              <a:chOff x="5807160" y="1065240"/>
              <a:chExt cx="3372840" cy="1282680"/>
            </a:xfrm>
          </p:grpSpPr>
          <p:sp>
            <p:nvSpPr>
              <p:cNvPr id="1211" name=""/>
              <p:cNvSpPr/>
              <p:nvPr/>
            </p:nvSpPr>
            <p:spPr>
              <a:xfrm>
                <a:off x="5807160" y="1065240"/>
                <a:ext cx="3346560" cy="100800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eaeaea"/>
                    </a:solidFill>
                    <a:latin typeface="Arial Black"/>
                  </a:rPr>
                  <a:t>Пример №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807160" y="2060640"/>
                <a:ext cx="3372840" cy="287280"/>
              </a:xfrm>
              <a:custGeom>
                <a:avLst/>
                <a:gdLst/>
                <a:ahLst/>
                <a:rect l="l" t="t" r="r" b="b"/>
                <a:pathLst>
                  <a:path w="1361" h="181">
                    <a:moveTo>
                      <a:pt x="1361" y="0"/>
                    </a:moveTo>
                    <a:lnTo>
                      <a:pt x="0" y="181"/>
                    </a:lnTo>
                    <a:lnTo>
                      <a:pt x="0" y="0"/>
                    </a:lnTo>
                    <a:lnTo>
                      <a:pt x="1361" y="0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3" name=""/>
            <p:cNvSpPr/>
            <p:nvPr/>
          </p:nvSpPr>
          <p:spPr>
            <a:xfrm>
              <a:off x="5807160" y="1065240"/>
              <a:ext cx="144360" cy="3589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6165720"/>
            <a:ext cx="2232000" cy="287640"/>
          </a:xfrm>
          <a:custGeom>
            <a:avLst/>
            <a:gdLst/>
            <a:ahLst/>
            <a:rect l="l" t="t" r="r" b="b"/>
            <a:pathLst>
              <a:path w="1406" h="181">
                <a:moveTo>
                  <a:pt x="0" y="0"/>
                </a:moveTo>
                <a:lnTo>
                  <a:pt x="1406" y="181"/>
                </a:lnTo>
                <a:lnTo>
                  <a:pt x="1406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-181080" y="765000"/>
            <a:ext cx="2449440" cy="1008000"/>
            <a:chOff x="-181080" y="765000"/>
            <a:chExt cx="2449440" cy="1008000"/>
          </a:xfrm>
        </p:grpSpPr>
        <p:sp>
          <p:nvSpPr>
            <p:cNvPr id="1221" name=""/>
            <p:cNvSpPr/>
            <p:nvPr/>
          </p:nvSpPr>
          <p:spPr>
            <a:xfrm>
              <a:off x="-11160" y="765000"/>
              <a:ext cx="2279520" cy="1008000"/>
            </a:xfrm>
            <a:custGeom>
              <a:avLst/>
              <a:gdLst/>
              <a:ahLst/>
              <a:rect l="l" t="t" r="r" b="b"/>
              <a:pathLst>
                <a:path w="1769" h="998">
                  <a:moveTo>
                    <a:pt x="0" y="136"/>
                  </a:moveTo>
                  <a:lnTo>
                    <a:pt x="1633" y="0"/>
                  </a:lnTo>
                  <a:lnTo>
                    <a:pt x="1769" y="499"/>
                  </a:lnTo>
                  <a:lnTo>
                    <a:pt x="0" y="998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-181080" y="909360"/>
              <a:ext cx="22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1258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0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1261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3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Логарифмически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64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65" name=""/>
          <p:cNvGrpSpPr/>
          <p:nvPr/>
        </p:nvGrpSpPr>
        <p:grpSpPr>
          <a:xfrm>
            <a:off x="6372360" y="5818320"/>
            <a:ext cx="2772720" cy="1066320"/>
            <a:chOff x="6372360" y="5818320"/>
            <a:chExt cx="2772720" cy="1066320"/>
          </a:xfrm>
        </p:grpSpPr>
        <p:sp>
          <p:nvSpPr>
            <p:cNvPr id="1266" name=""/>
            <p:cNvSpPr/>
            <p:nvPr/>
          </p:nvSpPr>
          <p:spPr>
            <a:xfrm>
              <a:off x="6414120" y="5818320"/>
              <a:ext cx="2729160" cy="7203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372360" y="6524640"/>
              <a:ext cx="2772720" cy="360000"/>
            </a:xfrm>
            <a:custGeom>
              <a:avLst/>
              <a:gdLst/>
              <a:ahLst/>
              <a:rect l="l" t="t" r="r" b="b"/>
              <a:pathLst>
                <a:path w="1406" h="227">
                  <a:moveTo>
                    <a:pt x="1406" y="227"/>
                  </a:moveTo>
                  <a:lnTo>
                    <a:pt x="1406" y="0"/>
                  </a:lnTo>
                  <a:lnTo>
                    <a:pt x="0" y="0"/>
                  </a:lnTo>
                  <a:lnTo>
                    <a:pt x="1406" y="227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6084720" y="1484280"/>
                <a:ext cx="26640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x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4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1" name=""/>
              <p:cNvSpPr txBox="1"/>
              <p:nvPr/>
            </p:nvSpPr>
            <p:spPr>
              <a:xfrm>
                <a:off x="3030480" y="1682640"/>
                <a:ext cx="267660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1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2" name=""/>
          <p:cNvSpPr/>
          <p:nvPr/>
        </p:nvSpPr>
        <p:spPr>
          <a:xfrm>
            <a:off x="323640" y="1954440"/>
            <a:ext cx="48045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то для нахождения области допустимых значений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еременной х составим систему: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395280" y="2565360"/>
                <a:ext cx="69516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x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1209600" y="2994120"/>
                <a:ext cx="4827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6" name=""/>
          <p:cNvSpPr/>
          <p:nvPr/>
        </p:nvSpPr>
        <p:spPr>
          <a:xfrm>
            <a:off x="1763640" y="2584800"/>
            <a:ext cx="72010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В найденной области допустимых значений переменной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преобразуем неравенство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5148360" y="2997360"/>
                <a:ext cx="350208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3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3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5148360" y="3357720"/>
                <a:ext cx="304956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5151600" y="3716280"/>
                <a:ext cx="20113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148360" y="4076640"/>
                <a:ext cx="20113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407880" y="3909960"/>
                <a:ext cx="9241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</m:e>
                      <m:e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3;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1563840" y="4076640"/>
                <a:ext cx="128880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8" name=""/>
          <p:cNvSpPr/>
          <p:nvPr/>
        </p:nvSpPr>
        <p:spPr>
          <a:xfrm>
            <a:off x="388440" y="436464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озрастает на всей области определения 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4484520" y="4508640"/>
                <a:ext cx="81612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1" name=""/>
          <p:cNvSpPr/>
          <p:nvPr/>
        </p:nvSpPr>
        <p:spPr>
          <a:xfrm>
            <a:off x="5352480" y="436464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а такж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3" name=""/>
              <p:cNvSpPr txBox="1"/>
              <p:nvPr/>
            </p:nvSpPr>
            <p:spPr>
              <a:xfrm>
                <a:off x="6211800" y="4508640"/>
                <a:ext cx="93348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4" name=""/>
              <p:cNvSpPr txBox="1"/>
              <p:nvPr/>
            </p:nvSpPr>
            <p:spPr>
              <a:xfrm>
                <a:off x="417600" y="4906800"/>
                <a:ext cx="68400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3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5" name=""/>
          <p:cNvSpPr/>
          <p:nvPr/>
        </p:nvSpPr>
        <p:spPr>
          <a:xfrm>
            <a:off x="975240" y="4940640"/>
            <a:ext cx="6151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С учётом области допустимых значений переменной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получим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2340000" y="5433840"/>
                <a:ext cx="7920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7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3564000" y="5300640"/>
                <a:ext cx="7920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4645080" y="5516640"/>
                <a:ext cx="8636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3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7093080" y="6197760"/>
                <a:ext cx="18349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;3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7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401760" y="1557360"/>
                <a:ext cx="2501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x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4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u"/>
  </p:transition>
  <p:timing>
    <p:tnLst>
      <p:par>
        <p:cTn id="1621" dur="indefinite" restart="never" nodeType="tmRoot">
          <p:childTnLst>
            <p:seq>
              <p:cTn id="1622" dur="indefinite" nodeType="mainSeq">
                <p:childTnLst>
                  <p:par>
                    <p:cTn id="1623" fill="hold">
                      <p:stCondLst>
                        <p:cond delay="0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500"/>
                            </p:stCondLst>
                            <p:childTnLst>
                              <p:par>
                                <p:cTn id="16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9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6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3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0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7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1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5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2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9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8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3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5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2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9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6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3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"/>
          <p:cNvGrpSpPr/>
          <p:nvPr/>
        </p:nvGrpSpPr>
        <p:grpSpPr>
          <a:xfrm>
            <a:off x="298440" y="-1440"/>
            <a:ext cx="8881920" cy="1597680"/>
            <a:chOff x="298440" y="-1440"/>
            <a:chExt cx="8881920" cy="1597680"/>
          </a:xfrm>
        </p:grpSpPr>
        <p:sp>
          <p:nvSpPr>
            <p:cNvPr id="1304" name=""/>
            <p:cNvSpPr/>
            <p:nvPr/>
          </p:nvSpPr>
          <p:spPr>
            <a:xfrm>
              <a:off x="298440" y="874440"/>
              <a:ext cx="8881920" cy="588600"/>
            </a:xfrm>
            <a:custGeom>
              <a:avLst/>
              <a:gdLst/>
              <a:ahLst/>
              <a:rect l="l" t="t" r="r" b="b"/>
              <a:pathLst>
                <a:path w="5579" h="635">
                  <a:moveTo>
                    <a:pt x="0" y="46"/>
                  </a:moveTo>
                  <a:lnTo>
                    <a:pt x="5579" y="635"/>
                  </a:lnTo>
                  <a:lnTo>
                    <a:pt x="5579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324000" y="-1440"/>
              <a:ext cx="8855640" cy="1597680"/>
              <a:chOff x="324000" y="-1440"/>
              <a:chExt cx="8855640" cy="1597680"/>
            </a:xfrm>
          </p:grpSpPr>
          <p:grpSp>
            <p:nvGrpSpPr>
              <p:cNvPr id="1306" name=""/>
              <p:cNvGrpSpPr/>
              <p:nvPr/>
            </p:nvGrpSpPr>
            <p:grpSpPr>
              <a:xfrm>
                <a:off x="324000" y="-1440"/>
                <a:ext cx="8855640" cy="1597680"/>
                <a:chOff x="324000" y="-1440"/>
                <a:chExt cx="8855640" cy="1597680"/>
              </a:xfrm>
            </p:grpSpPr>
            <p:grpSp>
              <p:nvGrpSpPr>
                <p:cNvPr id="1307" name=""/>
                <p:cNvGrpSpPr/>
                <p:nvPr/>
              </p:nvGrpSpPr>
              <p:grpSpPr>
                <a:xfrm>
                  <a:off x="324000" y="-1440"/>
                  <a:ext cx="8855640" cy="936000"/>
                  <a:chOff x="324000" y="-1440"/>
                  <a:chExt cx="8855640" cy="936000"/>
                </a:xfrm>
              </p:grpSpPr>
              <p:sp>
                <p:nvSpPr>
                  <p:cNvPr id="1308" name=""/>
                  <p:cNvSpPr/>
                  <p:nvPr/>
                </p:nvSpPr>
                <p:spPr>
                  <a:xfrm>
                    <a:off x="324000" y="-1440"/>
                    <a:ext cx="8855640" cy="93600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324000" y="-1440"/>
                    <a:ext cx="202680" cy="22788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0" name=""/>
                <p:cNvSpPr/>
                <p:nvPr/>
              </p:nvSpPr>
              <p:spPr>
                <a:xfrm>
                  <a:off x="821880" y="69480"/>
                  <a:ext cx="8158680" cy="15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ffffcc"/>
                      </a:solidFill>
                      <a:latin typeface="Arial"/>
                    </a:rPr>
                    <a:t>Типы и методы решения логарифмических неравенств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4) Логарифмические неравенства, сводящиеся к рациональным неравенствам</a:t>
                  </a:r>
                  <a:r>
                    <a:rPr b="0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1" name=""/>
              <p:cNvSpPr/>
              <p:nvPr/>
            </p:nvSpPr>
            <p:spPr>
              <a:xfrm>
                <a:off x="324000" y="-1440"/>
                <a:ext cx="144360" cy="28692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2" name=""/>
          <p:cNvGrpSpPr/>
          <p:nvPr/>
        </p:nvGrpSpPr>
        <p:grpSpPr>
          <a:xfrm>
            <a:off x="5807160" y="1065240"/>
            <a:ext cx="3372840" cy="1282680"/>
            <a:chOff x="5807160" y="1065240"/>
            <a:chExt cx="3372840" cy="1282680"/>
          </a:xfrm>
        </p:grpSpPr>
        <p:grpSp>
          <p:nvGrpSpPr>
            <p:cNvPr id="1313" name=""/>
            <p:cNvGrpSpPr/>
            <p:nvPr/>
          </p:nvGrpSpPr>
          <p:grpSpPr>
            <a:xfrm>
              <a:off x="5807160" y="1065240"/>
              <a:ext cx="3372840" cy="1282680"/>
              <a:chOff x="5807160" y="1065240"/>
              <a:chExt cx="3372840" cy="1282680"/>
            </a:xfrm>
          </p:grpSpPr>
          <p:sp>
            <p:nvSpPr>
              <p:cNvPr id="1314" name=""/>
              <p:cNvSpPr/>
              <p:nvPr/>
            </p:nvSpPr>
            <p:spPr>
              <a:xfrm>
                <a:off x="5807160" y="1065240"/>
                <a:ext cx="3346560" cy="100800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eaeaea"/>
                    </a:solidFill>
                    <a:latin typeface="Arial Black"/>
                  </a:rPr>
                  <a:t>Пример №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807160" y="2060640"/>
                <a:ext cx="3372840" cy="287280"/>
              </a:xfrm>
              <a:custGeom>
                <a:avLst/>
                <a:gdLst/>
                <a:ahLst/>
                <a:rect l="l" t="t" r="r" b="b"/>
                <a:pathLst>
                  <a:path w="1361" h="181">
                    <a:moveTo>
                      <a:pt x="1361" y="0"/>
                    </a:moveTo>
                    <a:lnTo>
                      <a:pt x="0" y="181"/>
                    </a:lnTo>
                    <a:lnTo>
                      <a:pt x="0" y="0"/>
                    </a:lnTo>
                    <a:lnTo>
                      <a:pt x="1361" y="0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6" name=""/>
            <p:cNvSpPr/>
            <p:nvPr/>
          </p:nvSpPr>
          <p:spPr>
            <a:xfrm>
              <a:off x="5807160" y="1065240"/>
              <a:ext cx="144360" cy="3589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877080" y="6165720"/>
            <a:ext cx="2232000" cy="287640"/>
          </a:xfrm>
          <a:custGeom>
            <a:avLst/>
            <a:gdLst/>
            <a:ahLst/>
            <a:rect l="l" t="t" r="r" b="b"/>
            <a:pathLst>
              <a:path w="1406" h="181">
                <a:moveTo>
                  <a:pt x="0" y="0"/>
                </a:moveTo>
                <a:lnTo>
                  <a:pt x="1406" y="181"/>
                </a:lnTo>
                <a:lnTo>
                  <a:pt x="1406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-181080" y="765000"/>
            <a:ext cx="2449440" cy="1008000"/>
            <a:chOff x="-181080" y="765000"/>
            <a:chExt cx="2449440" cy="1008000"/>
          </a:xfrm>
        </p:grpSpPr>
        <p:sp>
          <p:nvSpPr>
            <p:cNvPr id="1321" name=""/>
            <p:cNvSpPr/>
            <p:nvPr/>
          </p:nvSpPr>
          <p:spPr>
            <a:xfrm>
              <a:off x="-11160" y="765000"/>
              <a:ext cx="2279520" cy="1008000"/>
            </a:xfrm>
            <a:custGeom>
              <a:avLst/>
              <a:gdLst/>
              <a:ahLst/>
              <a:rect l="l" t="t" r="r" b="b"/>
              <a:pathLst>
                <a:path w="1769" h="998">
                  <a:moveTo>
                    <a:pt x="0" y="136"/>
                  </a:moveTo>
                  <a:lnTo>
                    <a:pt x="1633" y="0"/>
                  </a:lnTo>
                  <a:lnTo>
                    <a:pt x="1769" y="499"/>
                  </a:lnTo>
                  <a:lnTo>
                    <a:pt x="0" y="998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-181080" y="909360"/>
              <a:ext cx="22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1337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9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1340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2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Логарифмически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43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6372360" y="5818320"/>
            <a:ext cx="2772720" cy="1066320"/>
            <a:chOff x="6372360" y="5818320"/>
            <a:chExt cx="2772720" cy="1066320"/>
          </a:xfrm>
        </p:grpSpPr>
        <p:sp>
          <p:nvSpPr>
            <p:cNvPr id="1345" name=""/>
            <p:cNvSpPr/>
            <p:nvPr/>
          </p:nvSpPr>
          <p:spPr>
            <a:xfrm>
              <a:off x="6414120" y="5818320"/>
              <a:ext cx="2729160" cy="7203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72360" y="6524640"/>
              <a:ext cx="2772720" cy="360000"/>
            </a:xfrm>
            <a:custGeom>
              <a:avLst/>
              <a:gdLst/>
              <a:ahLst/>
              <a:rect l="l" t="t" r="r" b="b"/>
              <a:pathLst>
                <a:path w="1406" h="227">
                  <a:moveTo>
                    <a:pt x="1406" y="227"/>
                  </a:moveTo>
                  <a:lnTo>
                    <a:pt x="1406" y="0"/>
                  </a:lnTo>
                  <a:lnTo>
                    <a:pt x="0" y="0"/>
                  </a:lnTo>
                  <a:lnTo>
                    <a:pt x="1406" y="227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8" name=""/>
              <p:cNvSpPr txBox="1"/>
              <p:nvPr/>
            </p:nvSpPr>
            <p:spPr>
              <a:xfrm>
                <a:off x="6203880" y="1484280"/>
                <a:ext cx="19209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g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g0,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gx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0" name=""/>
              <p:cNvSpPr txBox="1"/>
              <p:nvPr/>
            </p:nvSpPr>
            <p:spPr>
              <a:xfrm>
                <a:off x="433440" y="1916280"/>
                <a:ext cx="158904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усть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gx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2124000" y="1916280"/>
                <a:ext cx="164808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0,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огд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4" name=""/>
              <p:cNvSpPr txBox="1"/>
              <p:nvPr/>
            </p:nvSpPr>
            <p:spPr>
              <a:xfrm>
                <a:off x="473040" y="2349360"/>
                <a:ext cx="121932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519120" y="3141720"/>
                <a:ext cx="1100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539640" y="4010040"/>
                <a:ext cx="11289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9" name=""/>
          <p:cNvSpPr/>
          <p:nvPr/>
        </p:nvSpPr>
        <p:spPr>
          <a:xfrm>
            <a:off x="2050200" y="2466000"/>
            <a:ext cx="27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рнёмся к переменно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4859280" y="2581200"/>
                <a:ext cx="3409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1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2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2187720" y="3068640"/>
                <a:ext cx="14475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64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4178160" y="3068640"/>
                <a:ext cx="18338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6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6475320" y="3344760"/>
                <a:ext cx="148140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gr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8" name=""/>
          <p:cNvSpPr/>
          <p:nvPr/>
        </p:nvSpPr>
        <p:spPr>
          <a:xfrm>
            <a:off x="5076720" y="3644280"/>
            <a:ext cx="29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озрастает на вс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бласти опреде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2254320" y="4792680"/>
                <a:ext cx="12794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299120" y="4632480"/>
                <a:ext cx="128088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6516720" y="4941720"/>
                <a:ext cx="1166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7342200" y="6165720"/>
                <a:ext cx="16938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strips dir="ru"/>
  </p:transition>
  <p:timing>
    <p:tnLst>
      <p:par>
        <p:cTn id="1794" dur="indefinite" restart="never" nodeType="tmRoot">
          <p:childTnLst>
            <p:seq>
              <p:cTn id="1795" dur="indefinite" nodeType="mainSeq">
                <p:childTnLst>
                  <p:par>
                    <p:cTn id="1796" fill="hold">
                      <p:stCondLst>
                        <p:cond delay="0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"/>
                            </p:stCondLst>
                            <p:childTnLst>
                              <p:par>
                                <p:cTn id="18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2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9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6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3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0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7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4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1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8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5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0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7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4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9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1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5" name=""/>
          <p:cNvGrpSpPr/>
          <p:nvPr/>
        </p:nvGrpSpPr>
        <p:grpSpPr>
          <a:xfrm>
            <a:off x="298440" y="-1440"/>
            <a:ext cx="8881920" cy="1597680"/>
            <a:chOff x="298440" y="-1440"/>
            <a:chExt cx="8881920" cy="1597680"/>
          </a:xfrm>
        </p:grpSpPr>
        <p:sp>
          <p:nvSpPr>
            <p:cNvPr id="1376" name=""/>
            <p:cNvSpPr/>
            <p:nvPr/>
          </p:nvSpPr>
          <p:spPr>
            <a:xfrm>
              <a:off x="298440" y="874440"/>
              <a:ext cx="8881920" cy="588600"/>
            </a:xfrm>
            <a:custGeom>
              <a:avLst/>
              <a:gdLst/>
              <a:ahLst/>
              <a:rect l="l" t="t" r="r" b="b"/>
              <a:pathLst>
                <a:path w="5579" h="635">
                  <a:moveTo>
                    <a:pt x="0" y="46"/>
                  </a:moveTo>
                  <a:lnTo>
                    <a:pt x="5579" y="635"/>
                  </a:lnTo>
                  <a:lnTo>
                    <a:pt x="5579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7" name=""/>
            <p:cNvGrpSpPr/>
            <p:nvPr/>
          </p:nvGrpSpPr>
          <p:grpSpPr>
            <a:xfrm>
              <a:off x="324000" y="-1440"/>
              <a:ext cx="8855640" cy="1597680"/>
              <a:chOff x="324000" y="-1440"/>
              <a:chExt cx="8855640" cy="1597680"/>
            </a:xfrm>
          </p:grpSpPr>
          <p:grpSp>
            <p:nvGrpSpPr>
              <p:cNvPr id="1378" name=""/>
              <p:cNvGrpSpPr/>
              <p:nvPr/>
            </p:nvGrpSpPr>
            <p:grpSpPr>
              <a:xfrm>
                <a:off x="324000" y="-1440"/>
                <a:ext cx="8855640" cy="1597680"/>
                <a:chOff x="324000" y="-1440"/>
                <a:chExt cx="8855640" cy="1597680"/>
              </a:xfrm>
            </p:grpSpPr>
            <p:grpSp>
              <p:nvGrpSpPr>
                <p:cNvPr id="1379" name=""/>
                <p:cNvGrpSpPr/>
                <p:nvPr/>
              </p:nvGrpSpPr>
              <p:grpSpPr>
                <a:xfrm>
                  <a:off x="324000" y="-1440"/>
                  <a:ext cx="8855640" cy="936000"/>
                  <a:chOff x="324000" y="-1440"/>
                  <a:chExt cx="8855640" cy="936000"/>
                </a:xfrm>
              </p:grpSpPr>
              <p:sp>
                <p:nvSpPr>
                  <p:cNvPr id="1380" name=""/>
                  <p:cNvSpPr/>
                  <p:nvPr/>
                </p:nvSpPr>
                <p:spPr>
                  <a:xfrm>
                    <a:off x="324000" y="-1440"/>
                    <a:ext cx="8855640" cy="93600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1" name=""/>
                  <p:cNvSpPr/>
                  <p:nvPr/>
                </p:nvSpPr>
                <p:spPr>
                  <a:xfrm>
                    <a:off x="324000" y="-1440"/>
                    <a:ext cx="202680" cy="22788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2" name=""/>
                <p:cNvSpPr/>
                <p:nvPr/>
              </p:nvSpPr>
              <p:spPr>
                <a:xfrm>
                  <a:off x="821880" y="69480"/>
                  <a:ext cx="8158680" cy="15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ffffcc"/>
                      </a:solidFill>
                      <a:latin typeface="Arial"/>
                    </a:rPr>
                    <a:t>Типы и методы решения логарифмических неравенств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4) Логарифмические неравенства, сводящиеся к рациональным неравенствам</a:t>
                  </a:r>
                  <a:r>
                    <a:rPr b="0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3" name=""/>
              <p:cNvSpPr/>
              <p:nvPr/>
            </p:nvSpPr>
            <p:spPr>
              <a:xfrm>
                <a:off x="324000" y="-1440"/>
                <a:ext cx="144360" cy="28692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4" name=""/>
          <p:cNvGrpSpPr/>
          <p:nvPr/>
        </p:nvGrpSpPr>
        <p:grpSpPr>
          <a:xfrm>
            <a:off x="5807160" y="1065240"/>
            <a:ext cx="3372840" cy="1282680"/>
            <a:chOff x="5807160" y="1065240"/>
            <a:chExt cx="3372840" cy="1282680"/>
          </a:xfrm>
        </p:grpSpPr>
        <p:grpSp>
          <p:nvGrpSpPr>
            <p:cNvPr id="1385" name=""/>
            <p:cNvGrpSpPr/>
            <p:nvPr/>
          </p:nvGrpSpPr>
          <p:grpSpPr>
            <a:xfrm>
              <a:off x="5807160" y="1065240"/>
              <a:ext cx="3372840" cy="1282680"/>
              <a:chOff x="5807160" y="1065240"/>
              <a:chExt cx="3372840" cy="1282680"/>
            </a:xfrm>
          </p:grpSpPr>
          <p:sp>
            <p:nvSpPr>
              <p:cNvPr id="1386" name=""/>
              <p:cNvSpPr/>
              <p:nvPr/>
            </p:nvSpPr>
            <p:spPr>
              <a:xfrm>
                <a:off x="5807160" y="1065240"/>
                <a:ext cx="3346560" cy="100800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eaeaea"/>
                    </a:solidFill>
                    <a:latin typeface="Arial Black"/>
                  </a:rPr>
                  <a:t>Пример №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807160" y="2060640"/>
                <a:ext cx="3372840" cy="287280"/>
              </a:xfrm>
              <a:custGeom>
                <a:avLst/>
                <a:gdLst/>
                <a:ahLst/>
                <a:rect l="l" t="t" r="r" b="b"/>
                <a:pathLst>
                  <a:path w="1361" h="181">
                    <a:moveTo>
                      <a:pt x="1361" y="0"/>
                    </a:moveTo>
                    <a:lnTo>
                      <a:pt x="0" y="181"/>
                    </a:lnTo>
                    <a:lnTo>
                      <a:pt x="0" y="0"/>
                    </a:lnTo>
                    <a:lnTo>
                      <a:pt x="1361" y="0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8" name=""/>
            <p:cNvSpPr/>
            <p:nvPr/>
          </p:nvSpPr>
          <p:spPr>
            <a:xfrm>
              <a:off x="5807160" y="1065240"/>
              <a:ext cx="144360" cy="3589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877080" y="6165720"/>
            <a:ext cx="2232000" cy="287640"/>
          </a:xfrm>
          <a:custGeom>
            <a:avLst/>
            <a:gdLst/>
            <a:ahLst/>
            <a:rect l="l" t="t" r="r" b="b"/>
            <a:pathLst>
              <a:path w="1406" h="181">
                <a:moveTo>
                  <a:pt x="0" y="0"/>
                </a:moveTo>
                <a:lnTo>
                  <a:pt x="1406" y="181"/>
                </a:lnTo>
                <a:lnTo>
                  <a:pt x="1406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2" name=""/>
          <p:cNvGrpSpPr/>
          <p:nvPr/>
        </p:nvGrpSpPr>
        <p:grpSpPr>
          <a:xfrm>
            <a:off x="-181080" y="765000"/>
            <a:ext cx="2449440" cy="1008000"/>
            <a:chOff x="-181080" y="765000"/>
            <a:chExt cx="2449440" cy="1008000"/>
          </a:xfrm>
        </p:grpSpPr>
        <p:sp>
          <p:nvSpPr>
            <p:cNvPr id="1393" name=""/>
            <p:cNvSpPr/>
            <p:nvPr/>
          </p:nvSpPr>
          <p:spPr>
            <a:xfrm>
              <a:off x="-11160" y="765000"/>
              <a:ext cx="2279520" cy="1008000"/>
            </a:xfrm>
            <a:custGeom>
              <a:avLst/>
              <a:gdLst/>
              <a:ahLst/>
              <a:rect l="l" t="t" r="r" b="b"/>
              <a:pathLst>
                <a:path w="1769" h="998">
                  <a:moveTo>
                    <a:pt x="0" y="136"/>
                  </a:moveTo>
                  <a:lnTo>
                    <a:pt x="1633" y="0"/>
                  </a:lnTo>
                  <a:lnTo>
                    <a:pt x="1769" y="499"/>
                  </a:lnTo>
                  <a:lnTo>
                    <a:pt x="0" y="998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-181080" y="909360"/>
              <a:ext cx="22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1406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8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1409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1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Логарифмически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12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6372360" y="5818320"/>
            <a:ext cx="2772720" cy="1066320"/>
            <a:chOff x="6372360" y="5818320"/>
            <a:chExt cx="2772720" cy="1066320"/>
          </a:xfrm>
        </p:grpSpPr>
        <p:sp>
          <p:nvSpPr>
            <p:cNvPr id="1414" name=""/>
            <p:cNvSpPr/>
            <p:nvPr/>
          </p:nvSpPr>
          <p:spPr>
            <a:xfrm>
              <a:off x="6414120" y="5818320"/>
              <a:ext cx="2729160" cy="7203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372360" y="6524640"/>
              <a:ext cx="2772720" cy="360000"/>
            </a:xfrm>
            <a:custGeom>
              <a:avLst/>
              <a:gdLst/>
              <a:ahLst/>
              <a:rect l="l" t="t" r="r" b="b"/>
              <a:pathLst>
                <a:path w="1406" h="227">
                  <a:moveTo>
                    <a:pt x="1406" y="227"/>
                  </a:moveTo>
                  <a:lnTo>
                    <a:pt x="1406" y="0"/>
                  </a:lnTo>
                  <a:lnTo>
                    <a:pt x="0" y="0"/>
                  </a:lnTo>
                  <a:lnTo>
                    <a:pt x="1406" y="227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16" name=""/>
              <p:cNvSpPr txBox="1"/>
              <p:nvPr/>
            </p:nvSpPr>
            <p:spPr>
              <a:xfrm>
                <a:off x="6539040" y="1484280"/>
                <a:ext cx="17049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b>
                    </m:sSub>
                    <m:r>
                      <m:t xml:space="preserve">x</m:t>
                    </m:r>
                    <m:r>
                      <m:t xml:space="preserve">&lt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8" name=""/>
              <p:cNvSpPr txBox="1"/>
              <p:nvPr/>
            </p:nvSpPr>
            <p:spPr>
              <a:xfrm>
                <a:off x="495360" y="1670040"/>
                <a:ext cx="31399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1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3736800" y="1557360"/>
                <a:ext cx="10288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20" name=""/>
          <p:cNvSpPr/>
          <p:nvPr/>
        </p:nvSpPr>
        <p:spPr>
          <a:xfrm>
            <a:off x="468360" y="2059200"/>
            <a:ext cx="36720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ctr" pos="2739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В найденной области допустимых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ctr" pos="2739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значений переменной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преобразуем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ctr" pos="2739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данное неравенство к виду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484200" y="2925720"/>
                <a:ext cx="1941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506520" y="3687840"/>
                <a:ext cx="16174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усть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2268360" y="3543480"/>
                <a:ext cx="18543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Тогда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539640" y="4349880"/>
                <a:ext cx="15368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t</m:t>
                        </m:r>
                      </m:den>
                    </m:f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2268360" y="4062240"/>
                <a:ext cx="168912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4149720" y="4248000"/>
                <a:ext cx="106200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8" name=""/>
          <p:cNvSpPr/>
          <p:nvPr/>
        </p:nvSpPr>
        <p:spPr>
          <a:xfrm>
            <a:off x="5157720" y="2716560"/>
            <a:ext cx="2611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ctr" pos="2739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Вернёмся к переменной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5435640" y="3200400"/>
                <a:ext cx="15937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3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7378560" y="3630600"/>
                <a:ext cx="15652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3" name=""/>
          <p:cNvSpPr/>
          <p:nvPr/>
        </p:nvSpPr>
        <p:spPr>
          <a:xfrm>
            <a:off x="5938920" y="3989520"/>
            <a:ext cx="302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озрастает на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сей области определения 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556000" y="49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6319800" y="4710240"/>
                <a:ext cx="12034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7719840" y="4854600"/>
                <a:ext cx="9367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8" name=""/>
              <p:cNvSpPr txBox="1"/>
              <p:nvPr/>
            </p:nvSpPr>
            <p:spPr>
              <a:xfrm>
                <a:off x="2401920" y="5173560"/>
                <a:ext cx="13572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4067280" y="5318280"/>
                <a:ext cx="1184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7435800" y="6093000"/>
                <a:ext cx="16002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9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strips dir="ru"/>
  </p:transition>
  <p:timing>
    <p:tnLst>
      <p:par>
        <p:cTn id="1922" dur="indefinite" restart="never" nodeType="tmRoot">
          <p:childTnLst>
            <p:seq>
              <p:cTn id="1923" dur="indefinite" nodeType="mainSeq">
                <p:childTnLst>
                  <p:par>
                    <p:cTn id="1924" fill="hold">
                      <p:stCondLst>
                        <p:cond delay="0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500"/>
                            </p:stCondLst>
                            <p:childTnLst>
                              <p:par>
                                <p:cTn id="19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0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7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4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1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8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5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0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2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7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6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1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3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8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0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5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7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0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2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7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2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9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4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6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1" name=""/>
          <p:cNvGrpSpPr/>
          <p:nvPr/>
        </p:nvGrpSpPr>
        <p:grpSpPr>
          <a:xfrm>
            <a:off x="298440" y="-1440"/>
            <a:ext cx="8881920" cy="1597680"/>
            <a:chOff x="298440" y="-1440"/>
            <a:chExt cx="8881920" cy="1597680"/>
          </a:xfrm>
        </p:grpSpPr>
        <p:sp>
          <p:nvSpPr>
            <p:cNvPr id="1442" name=""/>
            <p:cNvSpPr/>
            <p:nvPr/>
          </p:nvSpPr>
          <p:spPr>
            <a:xfrm>
              <a:off x="298440" y="874440"/>
              <a:ext cx="8881920" cy="588600"/>
            </a:xfrm>
            <a:custGeom>
              <a:avLst/>
              <a:gdLst/>
              <a:ahLst/>
              <a:rect l="l" t="t" r="r" b="b"/>
              <a:pathLst>
                <a:path w="5579" h="635">
                  <a:moveTo>
                    <a:pt x="0" y="46"/>
                  </a:moveTo>
                  <a:lnTo>
                    <a:pt x="5579" y="635"/>
                  </a:lnTo>
                  <a:lnTo>
                    <a:pt x="5579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3" name=""/>
            <p:cNvGrpSpPr/>
            <p:nvPr/>
          </p:nvGrpSpPr>
          <p:grpSpPr>
            <a:xfrm>
              <a:off x="324000" y="-1440"/>
              <a:ext cx="8855640" cy="1597680"/>
              <a:chOff x="324000" y="-1440"/>
              <a:chExt cx="8855640" cy="1597680"/>
            </a:xfrm>
          </p:grpSpPr>
          <p:grpSp>
            <p:nvGrpSpPr>
              <p:cNvPr id="1444" name=""/>
              <p:cNvGrpSpPr/>
              <p:nvPr/>
            </p:nvGrpSpPr>
            <p:grpSpPr>
              <a:xfrm>
                <a:off x="324000" y="-1440"/>
                <a:ext cx="8855640" cy="1597680"/>
                <a:chOff x="324000" y="-1440"/>
                <a:chExt cx="8855640" cy="1597680"/>
              </a:xfrm>
            </p:grpSpPr>
            <p:grpSp>
              <p:nvGrpSpPr>
                <p:cNvPr id="1445" name=""/>
                <p:cNvGrpSpPr/>
                <p:nvPr/>
              </p:nvGrpSpPr>
              <p:grpSpPr>
                <a:xfrm>
                  <a:off x="324000" y="-1440"/>
                  <a:ext cx="8855640" cy="936000"/>
                  <a:chOff x="324000" y="-1440"/>
                  <a:chExt cx="8855640" cy="936000"/>
                </a:xfrm>
              </p:grpSpPr>
              <p:sp>
                <p:nvSpPr>
                  <p:cNvPr id="1446" name=""/>
                  <p:cNvSpPr/>
                  <p:nvPr/>
                </p:nvSpPr>
                <p:spPr>
                  <a:xfrm>
                    <a:off x="324000" y="-1440"/>
                    <a:ext cx="8855640" cy="93600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>
                    <a:off x="324000" y="-1440"/>
                    <a:ext cx="202680" cy="22788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8" name=""/>
                <p:cNvSpPr/>
                <p:nvPr/>
              </p:nvSpPr>
              <p:spPr>
                <a:xfrm>
                  <a:off x="821880" y="69480"/>
                  <a:ext cx="8158680" cy="15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ffffcc"/>
                      </a:solidFill>
                      <a:latin typeface="Arial"/>
                    </a:rPr>
                    <a:t>Типы и методы решения логарифмических неравенств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5) Логарифмические неравенства с переменной в основании и под знаком логарифм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9" name=""/>
              <p:cNvSpPr/>
              <p:nvPr/>
            </p:nvSpPr>
            <p:spPr>
              <a:xfrm>
                <a:off x="324000" y="-1440"/>
                <a:ext cx="144360" cy="28692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0" name=""/>
          <p:cNvGrpSpPr/>
          <p:nvPr/>
        </p:nvGrpSpPr>
        <p:grpSpPr>
          <a:xfrm>
            <a:off x="5807160" y="1065240"/>
            <a:ext cx="3372840" cy="1282680"/>
            <a:chOff x="5807160" y="1065240"/>
            <a:chExt cx="3372840" cy="1282680"/>
          </a:xfrm>
        </p:grpSpPr>
        <p:grpSp>
          <p:nvGrpSpPr>
            <p:cNvPr id="1451" name=""/>
            <p:cNvGrpSpPr/>
            <p:nvPr/>
          </p:nvGrpSpPr>
          <p:grpSpPr>
            <a:xfrm>
              <a:off x="5807160" y="1065240"/>
              <a:ext cx="3372840" cy="1282680"/>
              <a:chOff x="5807160" y="1065240"/>
              <a:chExt cx="3372840" cy="1282680"/>
            </a:xfrm>
          </p:grpSpPr>
          <p:sp>
            <p:nvSpPr>
              <p:cNvPr id="1452" name=""/>
              <p:cNvSpPr/>
              <p:nvPr/>
            </p:nvSpPr>
            <p:spPr>
              <a:xfrm>
                <a:off x="5807160" y="1065240"/>
                <a:ext cx="3346560" cy="100800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eaeaea"/>
                    </a:solidFill>
                    <a:latin typeface="Arial Black"/>
                  </a:rPr>
                  <a:t>Пример №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807160" y="2060640"/>
                <a:ext cx="3372840" cy="287280"/>
              </a:xfrm>
              <a:custGeom>
                <a:avLst/>
                <a:gdLst/>
                <a:ahLst/>
                <a:rect l="l" t="t" r="r" b="b"/>
                <a:pathLst>
                  <a:path w="1361" h="181">
                    <a:moveTo>
                      <a:pt x="1361" y="0"/>
                    </a:moveTo>
                    <a:lnTo>
                      <a:pt x="0" y="181"/>
                    </a:lnTo>
                    <a:lnTo>
                      <a:pt x="0" y="0"/>
                    </a:lnTo>
                    <a:lnTo>
                      <a:pt x="1361" y="0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4" name=""/>
            <p:cNvSpPr/>
            <p:nvPr/>
          </p:nvSpPr>
          <p:spPr>
            <a:xfrm>
              <a:off x="5807160" y="1065240"/>
              <a:ext cx="144360" cy="3589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877080" y="6165720"/>
            <a:ext cx="2232000" cy="287640"/>
          </a:xfrm>
          <a:custGeom>
            <a:avLst/>
            <a:gdLst/>
            <a:ahLst/>
            <a:rect l="l" t="t" r="r" b="b"/>
            <a:pathLst>
              <a:path w="1406" h="181">
                <a:moveTo>
                  <a:pt x="0" y="0"/>
                </a:moveTo>
                <a:lnTo>
                  <a:pt x="1406" y="181"/>
                </a:lnTo>
                <a:lnTo>
                  <a:pt x="1406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-181080" y="765000"/>
            <a:ext cx="2449440" cy="1008000"/>
            <a:chOff x="-181080" y="765000"/>
            <a:chExt cx="2449440" cy="1008000"/>
          </a:xfrm>
        </p:grpSpPr>
        <p:sp>
          <p:nvSpPr>
            <p:cNvPr id="1459" name=""/>
            <p:cNvSpPr/>
            <p:nvPr/>
          </p:nvSpPr>
          <p:spPr>
            <a:xfrm>
              <a:off x="-11160" y="765000"/>
              <a:ext cx="2279520" cy="1008000"/>
            </a:xfrm>
            <a:custGeom>
              <a:avLst/>
              <a:gdLst/>
              <a:ahLst/>
              <a:rect l="l" t="t" r="r" b="b"/>
              <a:pathLst>
                <a:path w="1769" h="998">
                  <a:moveTo>
                    <a:pt x="0" y="136"/>
                  </a:moveTo>
                  <a:lnTo>
                    <a:pt x="1633" y="0"/>
                  </a:lnTo>
                  <a:lnTo>
                    <a:pt x="1769" y="499"/>
                  </a:lnTo>
                  <a:lnTo>
                    <a:pt x="0" y="998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-181080" y="909360"/>
              <a:ext cx="22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1497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9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1500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2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Логарифмически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03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04" name=""/>
          <p:cNvGrpSpPr/>
          <p:nvPr/>
        </p:nvGrpSpPr>
        <p:grpSpPr>
          <a:xfrm>
            <a:off x="6372360" y="5818320"/>
            <a:ext cx="2772720" cy="1066320"/>
            <a:chOff x="6372360" y="5818320"/>
            <a:chExt cx="2772720" cy="1066320"/>
          </a:xfrm>
        </p:grpSpPr>
        <p:sp>
          <p:nvSpPr>
            <p:cNvPr id="1505" name=""/>
            <p:cNvSpPr/>
            <p:nvPr/>
          </p:nvSpPr>
          <p:spPr>
            <a:xfrm>
              <a:off x="6414120" y="5818320"/>
              <a:ext cx="2729160" cy="7203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372360" y="6524640"/>
              <a:ext cx="2772720" cy="360000"/>
            </a:xfrm>
            <a:custGeom>
              <a:avLst/>
              <a:gdLst/>
              <a:ahLst/>
              <a:rect l="l" t="t" r="r" b="b"/>
              <a:pathLst>
                <a:path w="1406" h="227">
                  <a:moveTo>
                    <a:pt x="1406" y="227"/>
                  </a:moveTo>
                  <a:lnTo>
                    <a:pt x="1406" y="0"/>
                  </a:lnTo>
                  <a:lnTo>
                    <a:pt x="0" y="0"/>
                  </a:lnTo>
                  <a:lnTo>
                    <a:pt x="1406" y="227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6635880" y="1628640"/>
                <a:ext cx="14158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x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2382840" y="2779560"/>
                <a:ext cx="20574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x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4629240" y="2820960"/>
                <a:ext cx="1382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2389320" y="3500280"/>
                <a:ext cx="16635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x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2419200" y="4262400"/>
                <a:ext cx="16336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x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2397240" y="4940280"/>
                <a:ext cx="12222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8" name=""/>
              <p:cNvSpPr txBox="1"/>
              <p:nvPr/>
            </p:nvSpPr>
            <p:spPr>
              <a:xfrm>
                <a:off x="8172360" y="5877000"/>
                <a:ext cx="8240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2397240" y="2060640"/>
                <a:ext cx="1488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x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u"/>
  </p:transition>
  <p:timing>
    <p:tnLst>
      <p:par>
        <p:cTn id="2067" dur="indefinite" restart="never" nodeType="tmRoot">
          <p:childTnLst>
            <p:seq>
              <p:cTn id="2068" dur="indefinite" nodeType="mainSeq">
                <p:childTnLst>
                  <p:par>
                    <p:cTn id="2069" fill="hold">
                      <p:stCondLst>
                        <p:cond delay="0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3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fill="hold">
                            <p:stCondLst>
                              <p:cond delay="500"/>
                            </p:stCondLst>
                            <p:childTnLst>
                              <p:par>
                                <p:cTn id="20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9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3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5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0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2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9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6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1" dur="5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5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3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8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0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6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0" name=""/>
          <p:cNvGrpSpPr/>
          <p:nvPr/>
        </p:nvGrpSpPr>
        <p:grpSpPr>
          <a:xfrm>
            <a:off x="298440" y="-1440"/>
            <a:ext cx="8881920" cy="1597680"/>
            <a:chOff x="298440" y="-1440"/>
            <a:chExt cx="8881920" cy="1597680"/>
          </a:xfrm>
        </p:grpSpPr>
        <p:sp>
          <p:nvSpPr>
            <p:cNvPr id="1521" name=""/>
            <p:cNvSpPr/>
            <p:nvPr/>
          </p:nvSpPr>
          <p:spPr>
            <a:xfrm>
              <a:off x="298440" y="874440"/>
              <a:ext cx="8881920" cy="588600"/>
            </a:xfrm>
            <a:custGeom>
              <a:avLst/>
              <a:gdLst/>
              <a:ahLst/>
              <a:rect l="l" t="t" r="r" b="b"/>
              <a:pathLst>
                <a:path w="5579" h="635">
                  <a:moveTo>
                    <a:pt x="0" y="46"/>
                  </a:moveTo>
                  <a:lnTo>
                    <a:pt x="5579" y="635"/>
                  </a:lnTo>
                  <a:lnTo>
                    <a:pt x="5579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2" name=""/>
            <p:cNvGrpSpPr/>
            <p:nvPr/>
          </p:nvGrpSpPr>
          <p:grpSpPr>
            <a:xfrm>
              <a:off x="324000" y="-1440"/>
              <a:ext cx="8855640" cy="1597680"/>
              <a:chOff x="324000" y="-1440"/>
              <a:chExt cx="8855640" cy="1597680"/>
            </a:xfrm>
          </p:grpSpPr>
          <p:grpSp>
            <p:nvGrpSpPr>
              <p:cNvPr id="1523" name=""/>
              <p:cNvGrpSpPr/>
              <p:nvPr/>
            </p:nvGrpSpPr>
            <p:grpSpPr>
              <a:xfrm>
                <a:off x="324000" y="-1440"/>
                <a:ext cx="8855640" cy="1597680"/>
                <a:chOff x="324000" y="-1440"/>
                <a:chExt cx="8855640" cy="1597680"/>
              </a:xfrm>
            </p:grpSpPr>
            <p:grpSp>
              <p:nvGrpSpPr>
                <p:cNvPr id="1524" name=""/>
                <p:cNvGrpSpPr/>
                <p:nvPr/>
              </p:nvGrpSpPr>
              <p:grpSpPr>
                <a:xfrm>
                  <a:off x="324000" y="-1440"/>
                  <a:ext cx="8855640" cy="936000"/>
                  <a:chOff x="324000" y="-1440"/>
                  <a:chExt cx="8855640" cy="936000"/>
                </a:xfrm>
              </p:grpSpPr>
              <p:sp>
                <p:nvSpPr>
                  <p:cNvPr id="1525" name=""/>
                  <p:cNvSpPr/>
                  <p:nvPr/>
                </p:nvSpPr>
                <p:spPr>
                  <a:xfrm>
                    <a:off x="324000" y="-1440"/>
                    <a:ext cx="8855640" cy="93600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324000" y="-1440"/>
                    <a:ext cx="202680" cy="22788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7" name=""/>
                <p:cNvSpPr/>
                <p:nvPr/>
              </p:nvSpPr>
              <p:spPr>
                <a:xfrm>
                  <a:off x="821880" y="69480"/>
                  <a:ext cx="8158680" cy="15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ffffcc"/>
                      </a:solidFill>
                      <a:latin typeface="Arial"/>
                    </a:rPr>
                    <a:t>Типы и методы решения логарифмических неравенств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5) Логарифмические неравенства с переменной в основании и под знаком логарифм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8" name=""/>
              <p:cNvSpPr/>
              <p:nvPr/>
            </p:nvSpPr>
            <p:spPr>
              <a:xfrm>
                <a:off x="324000" y="-1440"/>
                <a:ext cx="144360" cy="28692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29" name=""/>
          <p:cNvGrpSpPr/>
          <p:nvPr/>
        </p:nvGrpSpPr>
        <p:grpSpPr>
          <a:xfrm>
            <a:off x="5807160" y="1065240"/>
            <a:ext cx="3372840" cy="1282680"/>
            <a:chOff x="5807160" y="1065240"/>
            <a:chExt cx="3372840" cy="1282680"/>
          </a:xfrm>
        </p:grpSpPr>
        <p:grpSp>
          <p:nvGrpSpPr>
            <p:cNvPr id="1530" name=""/>
            <p:cNvGrpSpPr/>
            <p:nvPr/>
          </p:nvGrpSpPr>
          <p:grpSpPr>
            <a:xfrm>
              <a:off x="5807160" y="1065240"/>
              <a:ext cx="3372840" cy="1282680"/>
              <a:chOff x="5807160" y="1065240"/>
              <a:chExt cx="3372840" cy="1282680"/>
            </a:xfrm>
          </p:grpSpPr>
          <p:sp>
            <p:nvSpPr>
              <p:cNvPr id="1531" name=""/>
              <p:cNvSpPr/>
              <p:nvPr/>
            </p:nvSpPr>
            <p:spPr>
              <a:xfrm>
                <a:off x="5807160" y="1065240"/>
                <a:ext cx="3346560" cy="100800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eaeaea"/>
                    </a:solidFill>
                    <a:latin typeface="Arial Black"/>
                  </a:rPr>
                  <a:t>Пример №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5807160" y="2060640"/>
                <a:ext cx="3372840" cy="287280"/>
              </a:xfrm>
              <a:custGeom>
                <a:avLst/>
                <a:gdLst/>
                <a:ahLst/>
                <a:rect l="l" t="t" r="r" b="b"/>
                <a:pathLst>
                  <a:path w="1361" h="181">
                    <a:moveTo>
                      <a:pt x="1361" y="0"/>
                    </a:moveTo>
                    <a:lnTo>
                      <a:pt x="0" y="181"/>
                    </a:lnTo>
                    <a:lnTo>
                      <a:pt x="0" y="0"/>
                    </a:lnTo>
                    <a:lnTo>
                      <a:pt x="1361" y="0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3" name=""/>
            <p:cNvSpPr/>
            <p:nvPr/>
          </p:nvSpPr>
          <p:spPr>
            <a:xfrm>
              <a:off x="5807160" y="1065240"/>
              <a:ext cx="144360" cy="3589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6877080" y="6165720"/>
            <a:ext cx="2232000" cy="287640"/>
          </a:xfrm>
          <a:custGeom>
            <a:avLst/>
            <a:gdLst/>
            <a:ahLst/>
            <a:rect l="l" t="t" r="r" b="b"/>
            <a:pathLst>
              <a:path w="1406" h="181">
                <a:moveTo>
                  <a:pt x="0" y="0"/>
                </a:moveTo>
                <a:lnTo>
                  <a:pt x="1406" y="181"/>
                </a:lnTo>
                <a:lnTo>
                  <a:pt x="1406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-181080" y="765000"/>
            <a:ext cx="2449440" cy="1008000"/>
            <a:chOff x="-181080" y="765000"/>
            <a:chExt cx="2449440" cy="1008000"/>
          </a:xfrm>
        </p:grpSpPr>
        <p:sp>
          <p:nvSpPr>
            <p:cNvPr id="1538" name=""/>
            <p:cNvSpPr/>
            <p:nvPr/>
          </p:nvSpPr>
          <p:spPr>
            <a:xfrm>
              <a:off x="-11160" y="765000"/>
              <a:ext cx="2279520" cy="1008000"/>
            </a:xfrm>
            <a:custGeom>
              <a:avLst/>
              <a:gdLst/>
              <a:ahLst/>
              <a:rect l="l" t="t" r="r" b="b"/>
              <a:pathLst>
                <a:path w="1769" h="998">
                  <a:moveTo>
                    <a:pt x="0" y="136"/>
                  </a:moveTo>
                  <a:lnTo>
                    <a:pt x="1633" y="0"/>
                  </a:lnTo>
                  <a:lnTo>
                    <a:pt x="1769" y="499"/>
                  </a:lnTo>
                  <a:lnTo>
                    <a:pt x="0" y="998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-181080" y="909360"/>
              <a:ext cx="22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5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1576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8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1579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1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Логарифмически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82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6372360" y="5818320"/>
            <a:ext cx="2772720" cy="1066320"/>
            <a:chOff x="6372360" y="5818320"/>
            <a:chExt cx="2772720" cy="1066320"/>
          </a:xfrm>
        </p:grpSpPr>
        <p:sp>
          <p:nvSpPr>
            <p:cNvPr id="1584" name=""/>
            <p:cNvSpPr/>
            <p:nvPr/>
          </p:nvSpPr>
          <p:spPr>
            <a:xfrm>
              <a:off x="6414120" y="5818320"/>
              <a:ext cx="2729160" cy="7203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372360" y="6524640"/>
              <a:ext cx="2772720" cy="360000"/>
            </a:xfrm>
            <a:custGeom>
              <a:avLst/>
              <a:gdLst/>
              <a:ahLst/>
              <a:rect l="l" t="t" r="r" b="b"/>
              <a:pathLst>
                <a:path w="1406" h="227">
                  <a:moveTo>
                    <a:pt x="1406" y="227"/>
                  </a:moveTo>
                  <a:lnTo>
                    <a:pt x="1406" y="0"/>
                  </a:lnTo>
                  <a:lnTo>
                    <a:pt x="0" y="0"/>
                  </a:lnTo>
                  <a:lnTo>
                    <a:pt x="1406" y="227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6454800" y="1566720"/>
                <a:ext cx="17049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1900080" y="1844640"/>
                <a:ext cx="17719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1900080" y="2492280"/>
                <a:ext cx="22417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&gt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1900080" y="3178080"/>
                <a:ext cx="4040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1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4" name="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1846440" y="3979800"/>
                <a:ext cx="155880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6" name="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3726000" y="4008600"/>
                <a:ext cx="142236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,5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424480" y="4502160"/>
                <a:ext cx="11858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,5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0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6937200" y="4629240"/>
                <a:ext cx="6591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8058240" y="6110280"/>
                <a:ext cx="8557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strips dir="ru"/>
  </p:transition>
  <p:timing>
    <p:tnLst>
      <p:par>
        <p:cTn id="2141" dur="indefinite" restart="never" nodeType="tmRoot">
          <p:childTnLst>
            <p:seq>
              <p:cTn id="2142" dur="indefinite" nodeType="mainSeq">
                <p:childTnLst>
                  <p:par>
                    <p:cTn id="2143" fill="hold">
                      <p:stCondLst>
                        <p:cond delay="0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9" fill="hold">
                            <p:stCondLst>
                              <p:cond delay="500"/>
                            </p:stCondLst>
                            <p:childTnLst>
                              <p:par>
                                <p:cTn id="21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7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9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4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1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3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5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0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5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7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fill="hold">
                      <p:stCondLst>
                        <p:cond delay="indefinite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4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9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1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fill="hold">
                      <p:stCondLst>
                        <p:cond delay="indefinite"/>
                      </p:stCondLst>
                      <p:childTnLst>
                        <p:par>
                          <p:cTn id="2213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4" name=""/>
          <p:cNvGrpSpPr/>
          <p:nvPr/>
        </p:nvGrpSpPr>
        <p:grpSpPr>
          <a:xfrm>
            <a:off x="298440" y="-1440"/>
            <a:ext cx="8881920" cy="1597680"/>
            <a:chOff x="298440" y="-1440"/>
            <a:chExt cx="8881920" cy="1597680"/>
          </a:xfrm>
        </p:grpSpPr>
        <p:sp>
          <p:nvSpPr>
            <p:cNvPr id="1605" name=""/>
            <p:cNvSpPr/>
            <p:nvPr/>
          </p:nvSpPr>
          <p:spPr>
            <a:xfrm>
              <a:off x="298440" y="874440"/>
              <a:ext cx="8881920" cy="588600"/>
            </a:xfrm>
            <a:custGeom>
              <a:avLst/>
              <a:gdLst/>
              <a:ahLst/>
              <a:rect l="l" t="t" r="r" b="b"/>
              <a:pathLst>
                <a:path w="5579" h="635">
                  <a:moveTo>
                    <a:pt x="0" y="46"/>
                  </a:moveTo>
                  <a:lnTo>
                    <a:pt x="5579" y="635"/>
                  </a:lnTo>
                  <a:lnTo>
                    <a:pt x="5579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324000" y="-1440"/>
              <a:ext cx="8855640" cy="1597680"/>
              <a:chOff x="324000" y="-1440"/>
              <a:chExt cx="8855640" cy="1597680"/>
            </a:xfrm>
          </p:grpSpPr>
          <p:grpSp>
            <p:nvGrpSpPr>
              <p:cNvPr id="1607" name=""/>
              <p:cNvGrpSpPr/>
              <p:nvPr/>
            </p:nvGrpSpPr>
            <p:grpSpPr>
              <a:xfrm>
                <a:off x="324000" y="-1440"/>
                <a:ext cx="8855640" cy="1597680"/>
                <a:chOff x="324000" y="-1440"/>
                <a:chExt cx="8855640" cy="1597680"/>
              </a:xfrm>
            </p:grpSpPr>
            <p:grpSp>
              <p:nvGrpSpPr>
                <p:cNvPr id="1608" name=""/>
                <p:cNvGrpSpPr/>
                <p:nvPr/>
              </p:nvGrpSpPr>
              <p:grpSpPr>
                <a:xfrm>
                  <a:off x="324000" y="-1440"/>
                  <a:ext cx="8855640" cy="936000"/>
                  <a:chOff x="324000" y="-1440"/>
                  <a:chExt cx="8855640" cy="936000"/>
                </a:xfrm>
              </p:grpSpPr>
              <p:sp>
                <p:nvSpPr>
                  <p:cNvPr id="1609" name=""/>
                  <p:cNvSpPr/>
                  <p:nvPr/>
                </p:nvSpPr>
                <p:spPr>
                  <a:xfrm>
                    <a:off x="324000" y="-1440"/>
                    <a:ext cx="8855640" cy="93600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>
                    <a:off x="324000" y="-1440"/>
                    <a:ext cx="202680" cy="22788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1" name=""/>
                <p:cNvSpPr/>
                <p:nvPr/>
              </p:nvSpPr>
              <p:spPr>
                <a:xfrm>
                  <a:off x="821880" y="69480"/>
                  <a:ext cx="8158680" cy="15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ffffcc"/>
                      </a:solidFill>
                      <a:latin typeface="Arial"/>
                    </a:rPr>
                    <a:t>Типы и методы решения логарифмических неравенств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5) Логарифмические неравенства с переменной в основании и под знаком логарифм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2" name=""/>
              <p:cNvSpPr/>
              <p:nvPr/>
            </p:nvSpPr>
            <p:spPr>
              <a:xfrm>
                <a:off x="324000" y="-1440"/>
                <a:ext cx="144360" cy="28692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3" name=""/>
          <p:cNvGrpSpPr/>
          <p:nvPr/>
        </p:nvGrpSpPr>
        <p:grpSpPr>
          <a:xfrm>
            <a:off x="5807160" y="1065240"/>
            <a:ext cx="3372840" cy="1282680"/>
            <a:chOff x="5807160" y="1065240"/>
            <a:chExt cx="3372840" cy="1282680"/>
          </a:xfrm>
        </p:grpSpPr>
        <p:grpSp>
          <p:nvGrpSpPr>
            <p:cNvPr id="1614" name=""/>
            <p:cNvGrpSpPr/>
            <p:nvPr/>
          </p:nvGrpSpPr>
          <p:grpSpPr>
            <a:xfrm>
              <a:off x="5807160" y="1065240"/>
              <a:ext cx="3372840" cy="1282680"/>
              <a:chOff x="5807160" y="1065240"/>
              <a:chExt cx="3372840" cy="1282680"/>
            </a:xfrm>
          </p:grpSpPr>
          <p:sp>
            <p:nvSpPr>
              <p:cNvPr id="1615" name=""/>
              <p:cNvSpPr/>
              <p:nvPr/>
            </p:nvSpPr>
            <p:spPr>
              <a:xfrm>
                <a:off x="5807160" y="1065240"/>
                <a:ext cx="3346560" cy="100800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eaeaea"/>
                    </a:solidFill>
                    <a:latin typeface="Arial Black"/>
                  </a:rPr>
                  <a:t>Пример №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5807160" y="2060640"/>
                <a:ext cx="3372840" cy="287280"/>
              </a:xfrm>
              <a:custGeom>
                <a:avLst/>
                <a:gdLst/>
                <a:ahLst/>
                <a:rect l="l" t="t" r="r" b="b"/>
                <a:pathLst>
                  <a:path w="1361" h="181">
                    <a:moveTo>
                      <a:pt x="1361" y="0"/>
                    </a:moveTo>
                    <a:lnTo>
                      <a:pt x="0" y="181"/>
                    </a:lnTo>
                    <a:lnTo>
                      <a:pt x="0" y="0"/>
                    </a:lnTo>
                    <a:lnTo>
                      <a:pt x="1361" y="0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7" name=""/>
            <p:cNvSpPr/>
            <p:nvPr/>
          </p:nvSpPr>
          <p:spPr>
            <a:xfrm>
              <a:off x="5807160" y="1065240"/>
              <a:ext cx="144360" cy="3589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6877080" y="6165720"/>
            <a:ext cx="2232000" cy="287640"/>
          </a:xfrm>
          <a:custGeom>
            <a:avLst/>
            <a:gdLst/>
            <a:ahLst/>
            <a:rect l="l" t="t" r="r" b="b"/>
            <a:pathLst>
              <a:path w="1406" h="181">
                <a:moveTo>
                  <a:pt x="0" y="0"/>
                </a:moveTo>
                <a:lnTo>
                  <a:pt x="1406" y="181"/>
                </a:lnTo>
                <a:lnTo>
                  <a:pt x="1406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-181080" y="765000"/>
            <a:ext cx="2449440" cy="1008000"/>
            <a:chOff x="-181080" y="765000"/>
            <a:chExt cx="2449440" cy="1008000"/>
          </a:xfrm>
        </p:grpSpPr>
        <p:sp>
          <p:nvSpPr>
            <p:cNvPr id="1622" name=""/>
            <p:cNvSpPr/>
            <p:nvPr/>
          </p:nvSpPr>
          <p:spPr>
            <a:xfrm>
              <a:off x="-11160" y="765000"/>
              <a:ext cx="2279520" cy="1008000"/>
            </a:xfrm>
            <a:custGeom>
              <a:avLst/>
              <a:gdLst/>
              <a:ahLst/>
              <a:rect l="l" t="t" r="r" b="b"/>
              <a:pathLst>
                <a:path w="1769" h="998">
                  <a:moveTo>
                    <a:pt x="0" y="136"/>
                  </a:moveTo>
                  <a:lnTo>
                    <a:pt x="1633" y="0"/>
                  </a:lnTo>
                  <a:lnTo>
                    <a:pt x="1769" y="499"/>
                  </a:lnTo>
                  <a:lnTo>
                    <a:pt x="0" y="998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-181080" y="909360"/>
              <a:ext cx="22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8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1659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1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1662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4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Логарифмически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65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66" name=""/>
          <p:cNvGrpSpPr/>
          <p:nvPr/>
        </p:nvGrpSpPr>
        <p:grpSpPr>
          <a:xfrm>
            <a:off x="6372360" y="5818320"/>
            <a:ext cx="2772720" cy="1066320"/>
            <a:chOff x="6372360" y="5818320"/>
            <a:chExt cx="2772720" cy="1066320"/>
          </a:xfrm>
        </p:grpSpPr>
        <p:sp>
          <p:nvSpPr>
            <p:cNvPr id="1667" name=""/>
            <p:cNvSpPr/>
            <p:nvPr/>
          </p:nvSpPr>
          <p:spPr>
            <a:xfrm>
              <a:off x="6414120" y="5818320"/>
              <a:ext cx="2729160" cy="7203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372360" y="6524640"/>
              <a:ext cx="2772720" cy="360000"/>
            </a:xfrm>
            <a:custGeom>
              <a:avLst/>
              <a:gdLst/>
              <a:ahLst/>
              <a:rect l="l" t="t" r="r" b="b"/>
              <a:pathLst>
                <a:path w="1406" h="227">
                  <a:moveTo>
                    <a:pt x="1406" y="227"/>
                  </a:moveTo>
                  <a:lnTo>
                    <a:pt x="1406" y="0"/>
                  </a:lnTo>
                  <a:lnTo>
                    <a:pt x="0" y="0"/>
                  </a:lnTo>
                  <a:lnTo>
                    <a:pt x="1406" y="227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6443640" y="1628640"/>
                <a:ext cx="17557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2" name=""/>
              <p:cNvSpPr txBox="1"/>
              <p:nvPr/>
            </p:nvSpPr>
            <p:spPr>
              <a:xfrm>
                <a:off x="395280" y="1773360"/>
                <a:ext cx="18223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2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4" name=""/>
              <p:cNvSpPr txBox="1"/>
              <p:nvPr/>
            </p:nvSpPr>
            <p:spPr>
              <a:xfrm>
                <a:off x="395280" y="2360520"/>
                <a:ext cx="23986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395280" y="3029040"/>
                <a:ext cx="4022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1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7" name=""/>
          <p:cNvSpPr/>
          <p:nvPr/>
        </p:nvSpPr>
        <p:spPr>
          <a:xfrm>
            <a:off x="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395280" y="3645000"/>
                <a:ext cx="169560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9" name=""/>
          <p:cNvSpPr/>
          <p:nvPr/>
        </p:nvSpPr>
        <p:spPr>
          <a:xfrm>
            <a:off x="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2233440" y="3645000"/>
                <a:ext cx="206244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5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81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2" name=""/>
              <p:cNvSpPr txBox="1"/>
              <p:nvPr/>
            </p:nvSpPr>
            <p:spPr>
              <a:xfrm>
                <a:off x="4465800" y="3500280"/>
                <a:ext cx="1617480" cy="19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5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83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4" name=""/>
              <p:cNvSpPr txBox="1"/>
              <p:nvPr/>
            </p:nvSpPr>
            <p:spPr>
              <a:xfrm>
                <a:off x="6265800" y="3959280"/>
                <a:ext cx="130644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5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8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6" name=""/>
              <p:cNvSpPr txBox="1"/>
              <p:nvPr/>
            </p:nvSpPr>
            <p:spPr>
              <a:xfrm>
                <a:off x="7707240" y="4202280"/>
                <a:ext cx="1251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8" name=""/>
              <p:cNvSpPr txBox="1"/>
              <p:nvPr/>
            </p:nvSpPr>
            <p:spPr>
              <a:xfrm>
                <a:off x="7596360" y="6237360"/>
                <a:ext cx="14414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;1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3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u"/>
  </p:transition>
  <p:timing>
    <p:tnLst>
      <p:par>
        <p:cTn id="2222" dur="indefinite" restart="never" nodeType="tmRoot">
          <p:childTnLst>
            <p:seq>
              <p:cTn id="2223" dur="indefinite" nodeType="mainSeq">
                <p:childTnLst>
                  <p:par>
                    <p:cTn id="2224" fill="hold">
                      <p:stCondLst>
                        <p:cond delay="0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3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4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8" dur="5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5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0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5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6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7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4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9" dur="5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5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1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fill="hold">
                      <p:stCondLst>
                        <p:cond delay="indefinite"/>
                      </p:stCondLst>
                      <p:childTnLst>
                        <p:par>
                          <p:cTn id="2273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6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8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3" dur="5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5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5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0" dur="5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5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2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7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9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8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"/>
          <p:cNvSpPr/>
          <p:nvPr/>
        </p:nvSpPr>
        <p:spPr>
          <a:xfrm>
            <a:off x="8748720" y="0"/>
            <a:ext cx="712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8388360" y="0"/>
            <a:ext cx="28728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1" name=""/>
          <p:cNvGrpSpPr/>
          <p:nvPr/>
        </p:nvGrpSpPr>
        <p:grpSpPr>
          <a:xfrm>
            <a:off x="1005840" y="875160"/>
            <a:ext cx="9364320" cy="6310440"/>
            <a:chOff x="1005840" y="875160"/>
            <a:chExt cx="9364320" cy="6310440"/>
          </a:xfrm>
        </p:grpSpPr>
        <p:sp>
          <p:nvSpPr>
            <p:cNvPr id="1692" name=""/>
            <p:cNvSpPr/>
            <p:nvPr/>
          </p:nvSpPr>
          <p:spPr>
            <a:xfrm rot="795600">
              <a:off x="1403280" y="1798200"/>
              <a:ext cx="8569080" cy="44640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rot="795600">
              <a:off x="1664640" y="877680"/>
              <a:ext cx="231120" cy="44654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4" name=""/>
          <p:cNvSpPr txBox="1"/>
          <p:nvPr/>
        </p:nvSpPr>
        <p:spPr>
          <a:xfrm>
            <a:off x="2268360" y="3211560"/>
            <a:ext cx="648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Логарифмические неравенства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2268360" y="3716280"/>
            <a:ext cx="6480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их типы и методы решения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128520" y="115920"/>
            <a:ext cx="337320" cy="6591240"/>
            <a:chOff x="128520" y="115920"/>
            <a:chExt cx="337320" cy="6591240"/>
          </a:xfrm>
        </p:grpSpPr>
        <p:sp>
          <p:nvSpPr>
            <p:cNvPr id="128" name=""/>
            <p:cNvSpPr/>
            <p:nvPr/>
          </p:nvSpPr>
          <p:spPr>
            <a:xfrm>
              <a:off x="169560" y="115920"/>
              <a:ext cx="289080" cy="6591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-2151360" y="3099240"/>
              <a:ext cx="489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 Black"/>
                </a:rPr>
                <a:t>С в о й с т в а  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логарифмической  функц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131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134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Логарифмически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597720" y="3592440"/>
            <a:ext cx="2436840" cy="681120"/>
          </a:xfrm>
          <a:prstGeom prst="rect">
            <a:avLst/>
          </a:prstGeom>
          <a:solidFill>
            <a:srgbClr val="03c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97720" y="4954680"/>
            <a:ext cx="2436840" cy="695160"/>
          </a:xfrm>
          <a:prstGeom prst="rect">
            <a:avLst/>
          </a:prstGeom>
          <a:solidFill>
            <a:srgbClr val="03c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ункция убыва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60880" y="5649840"/>
            <a:ext cx="4873680" cy="681120"/>
          </a:xfrm>
          <a:prstGeom prst="rect">
            <a:avLst/>
          </a:prstGeom>
          <a:solidFill>
            <a:srgbClr val="03c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5649840"/>
            <a:ext cx="3692520" cy="6811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8. Асимпто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60880" y="4954680"/>
            <a:ext cx="2436840" cy="695160"/>
          </a:xfrm>
          <a:prstGeom prst="rect">
            <a:avLst/>
          </a:prstGeom>
          <a:solidFill>
            <a:srgbClr val="03c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ункция возраста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954680"/>
            <a:ext cx="3692520" cy="6951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marL="474480" indent="-47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7. Промежутки монотонн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60880" y="4273560"/>
            <a:ext cx="4873680" cy="681120"/>
          </a:xfrm>
          <a:prstGeom prst="rect">
            <a:avLst/>
          </a:prstGeom>
          <a:solidFill>
            <a:srgbClr val="03c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ункция экстремумов не имее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4273560"/>
            <a:ext cx="3692520" cy="6811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6. Экстремум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60880" y="3592440"/>
            <a:ext cx="2436840" cy="681120"/>
          </a:xfrm>
          <a:prstGeom prst="rect">
            <a:avLst/>
          </a:prstGeom>
          <a:solidFill>
            <a:srgbClr val="03c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3592440"/>
            <a:ext cx="3692520" cy="6811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marL="464040" indent="-46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5. Промежут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-46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накопостоянств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60880" y="2911320"/>
            <a:ext cx="4873680" cy="681120"/>
          </a:xfrm>
          <a:prstGeom prst="rect">
            <a:avLst/>
          </a:prstGeom>
          <a:solidFill>
            <a:srgbClr val="03c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2911320"/>
            <a:ext cx="3692520" cy="6811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4. Нули функ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60880" y="2230560"/>
            <a:ext cx="4873680" cy="680760"/>
          </a:xfrm>
          <a:prstGeom prst="rect">
            <a:avLst/>
          </a:prstGeom>
          <a:solidFill>
            <a:srgbClr val="03c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ункция не является ни четной, ни нечетн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230560"/>
            <a:ext cx="3692520" cy="6807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. Четность, нечет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60880" y="1549440"/>
            <a:ext cx="4873680" cy="681120"/>
          </a:xfrm>
          <a:prstGeom prst="rect">
            <a:avLst/>
          </a:prstGeom>
          <a:solidFill>
            <a:srgbClr val="03c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549440"/>
            <a:ext cx="3692520" cy="6811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. Область значен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97720" y="115920"/>
            <a:ext cx="2436840" cy="752400"/>
          </a:xfrm>
          <a:prstGeom prst="rect">
            <a:avLst/>
          </a:prstGeom>
          <a:solidFill>
            <a:srgbClr val="029e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60880" y="868320"/>
            <a:ext cx="4873680" cy="681120"/>
          </a:xfrm>
          <a:prstGeom prst="rect">
            <a:avLst/>
          </a:prstGeom>
          <a:solidFill>
            <a:srgbClr val="03c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60880" y="115920"/>
            <a:ext cx="2436840" cy="752400"/>
          </a:xfrm>
          <a:prstGeom prst="rect">
            <a:avLst/>
          </a:prstGeom>
          <a:solidFill>
            <a:srgbClr val="029e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868320"/>
            <a:ext cx="3692520" cy="6811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. Область определ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115920"/>
            <a:ext cx="3692520" cy="752400"/>
          </a:xfrm>
          <a:prstGeom prst="rect">
            <a:avLst/>
          </a:prstGeom>
          <a:solidFill>
            <a:srgbClr val="008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ойства функ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115920"/>
            <a:ext cx="3692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6330960"/>
            <a:ext cx="3692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115920"/>
            <a:ext cx="0" cy="752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034560" y="115920"/>
            <a:ext cx="0" cy="752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868320"/>
            <a:ext cx="8566200" cy="0"/>
          </a:xfrm>
          <a:prstGeom prst="line">
            <a:avLst/>
          </a:prstGeom>
          <a:ln w="1260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60880" y="115920"/>
            <a:ext cx="0" cy="6215040"/>
          </a:xfrm>
          <a:prstGeom prst="line">
            <a:avLst/>
          </a:prstGeom>
          <a:ln w="1260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97720" y="115920"/>
            <a:ext cx="0" cy="752400"/>
          </a:xfrm>
          <a:prstGeom prst="line">
            <a:avLst/>
          </a:prstGeom>
          <a:ln w="1260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1549440"/>
            <a:ext cx="8566200" cy="0"/>
          </a:xfrm>
          <a:prstGeom prst="line">
            <a:avLst/>
          </a:prstGeom>
          <a:ln w="1260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2230560"/>
            <a:ext cx="8566200" cy="0"/>
          </a:xfrm>
          <a:prstGeom prst="line">
            <a:avLst/>
          </a:prstGeom>
          <a:ln w="1260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2911320"/>
            <a:ext cx="8566200" cy="0"/>
          </a:xfrm>
          <a:prstGeom prst="line">
            <a:avLst/>
          </a:prstGeom>
          <a:ln w="1260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3592440"/>
            <a:ext cx="8566200" cy="0"/>
          </a:xfrm>
          <a:prstGeom prst="line">
            <a:avLst/>
          </a:prstGeom>
          <a:ln w="1260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4273560"/>
            <a:ext cx="8566200" cy="0"/>
          </a:xfrm>
          <a:prstGeom prst="line">
            <a:avLst/>
          </a:prstGeom>
          <a:ln w="1260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4954680"/>
            <a:ext cx="8566200" cy="0"/>
          </a:xfrm>
          <a:prstGeom prst="line">
            <a:avLst/>
          </a:prstGeom>
          <a:ln w="1260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5649840"/>
            <a:ext cx="8566200" cy="0"/>
          </a:xfrm>
          <a:prstGeom prst="line">
            <a:avLst/>
          </a:prstGeom>
          <a:ln w="1260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97720" y="4954680"/>
            <a:ext cx="0" cy="695160"/>
          </a:xfrm>
          <a:prstGeom prst="line">
            <a:avLst/>
          </a:prstGeom>
          <a:ln w="1260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97720" y="3592440"/>
            <a:ext cx="0" cy="681120"/>
          </a:xfrm>
          <a:prstGeom prst="line">
            <a:avLst/>
          </a:prstGeom>
          <a:ln w="1260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60880" y="115920"/>
            <a:ext cx="2436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868320"/>
            <a:ext cx="0" cy="681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97720" y="115920"/>
            <a:ext cx="2436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034560" y="868320"/>
            <a:ext cx="0" cy="681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1549440"/>
            <a:ext cx="0" cy="681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034560" y="1549440"/>
            <a:ext cx="0" cy="681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2230560"/>
            <a:ext cx="0" cy="680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034560" y="2230560"/>
            <a:ext cx="0" cy="680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2911320"/>
            <a:ext cx="0" cy="681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034560" y="2911320"/>
            <a:ext cx="0" cy="681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3592440"/>
            <a:ext cx="0" cy="681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034560" y="3592440"/>
            <a:ext cx="0" cy="681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4273560"/>
            <a:ext cx="0" cy="681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34560" y="4273560"/>
            <a:ext cx="0" cy="681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4954680"/>
            <a:ext cx="0" cy="69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034560" y="4954680"/>
            <a:ext cx="0" cy="69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5649840"/>
            <a:ext cx="0" cy="681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034560" y="5649840"/>
            <a:ext cx="0" cy="681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60880" y="6330960"/>
            <a:ext cx="4873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003640" y="287280"/>
                <a:ext cx="709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183440" y="287280"/>
                <a:ext cx="1204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321600" y="1062000"/>
                <a:ext cx="5760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 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199200" y="1735200"/>
                <a:ext cx="79200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815080" y="3090960"/>
                <a:ext cx="149364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427640" y="3637080"/>
                <a:ext cx="20034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;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  <m:e>
                        <m:r>
                          <m:t xml:space="preserve">y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;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811920" y="3657600"/>
                <a:ext cx="20080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;1</m:t>
                            </m:r>
                          </m:e>
                        </m:d>
                      </m:e>
                      <m:e>
                        <m:r>
                          <m:t xml:space="preserve">y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;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372360" y="5877000"/>
                <a:ext cx="5317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065240" y="5316480"/>
                <a:ext cx="9223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 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strips dir="r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2340000" y="-27000"/>
            <a:ext cx="6840360" cy="1571400"/>
            <a:chOff x="2340000" y="-27000"/>
            <a:chExt cx="6840360" cy="1571400"/>
          </a:xfrm>
        </p:grpSpPr>
        <p:grpSp>
          <p:nvGrpSpPr>
            <p:cNvPr id="212" name=""/>
            <p:cNvGrpSpPr/>
            <p:nvPr/>
          </p:nvGrpSpPr>
          <p:grpSpPr>
            <a:xfrm>
              <a:off x="2340000" y="-27000"/>
              <a:ext cx="6839640" cy="936360"/>
              <a:chOff x="2340000" y="-27000"/>
              <a:chExt cx="6839640" cy="93636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2340000" y="-27000"/>
                <a:ext cx="6839640" cy="936360"/>
                <a:chOff x="2340000" y="-27000"/>
                <a:chExt cx="6839640" cy="9363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2340000" y="-27000"/>
                  <a:ext cx="6839640" cy="936360"/>
                </a:xfrm>
                <a:prstGeom prst="rect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340000" y="-27000"/>
                  <a:ext cx="156600" cy="22824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2724480" y="44280"/>
                <a:ext cx="6301440" cy="74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200" spc="-1" strike="noStrike">
                    <a:solidFill>
                      <a:srgbClr val="eaeaea"/>
                    </a:solidFill>
                    <a:latin typeface="Arial Black"/>
                  </a:rPr>
                  <a:t>Рассмотрим</a:t>
                </a:r>
                <a:r>
                  <a:rPr b="0" lang="ru-RU" sz="2200" spc="-1" strike="noStrike">
                    <a:solidFill>
                      <a:srgbClr val="ffffff"/>
                    </a:solidFill>
                    <a:latin typeface="Arial Black"/>
                  </a:rPr>
                  <a:t> 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взаимное расположение график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функции </a:t>
                </a:r>
                <a:r>
                  <a:rPr b="0" lang="en-US" sz="1800" spc="-1" strike="noStrike">
                    <a:solidFill>
                      <a:srgbClr val="ffffcc"/>
                    </a:solidFill>
                    <a:latin typeface="Arial Black"/>
                  </a:rPr>
                  <a:t>y</a:t>
                </a:r>
                <a:r>
                  <a:rPr b="0" lang="ru-RU" sz="1800" spc="-1" strike="noStrike">
                    <a:solidFill>
                      <a:srgbClr val="ffffcc"/>
                    </a:solidFill>
                    <a:latin typeface="Arial"/>
                  </a:rPr>
                  <a:t>=</a:t>
                </a:r>
                <a:r>
                  <a:rPr b="0" lang="en-US" sz="1800" spc="-1" strike="noStrike">
                    <a:solidFill>
                      <a:srgbClr val="ffffcc"/>
                    </a:solidFill>
                    <a:latin typeface="Arial Black"/>
                  </a:rPr>
                  <a:t>log</a:t>
                </a:r>
                <a:r>
                  <a:rPr b="0" lang="en-US" sz="1800" spc="-1" strike="noStrike" baseline="-25000">
                    <a:solidFill>
                      <a:srgbClr val="ffffcc"/>
                    </a:solidFill>
                    <a:latin typeface="Arial Black"/>
                  </a:rPr>
                  <a:t>a</a:t>
                </a:r>
                <a:r>
                  <a:rPr b="0" lang="en-US" sz="1800" spc="-1" strike="noStrike">
                    <a:solidFill>
                      <a:srgbClr val="ffffcc"/>
                    </a:solidFill>
                    <a:latin typeface="Arial Black"/>
                  </a:rPr>
                  <a:t>x (a</a:t>
                </a:r>
                <a:r>
                  <a:rPr b="0" lang="en-US" sz="1800" spc="-1" strike="noStrike">
                    <a:solidFill>
                      <a:srgbClr val="ffffcc"/>
                    </a:solidFill>
                    <a:latin typeface="Arial"/>
                  </a:rPr>
                  <a:t>&gt;</a:t>
                </a:r>
                <a:r>
                  <a:rPr b="0" lang="en-US" sz="1800" spc="-1" strike="noStrike">
                    <a:solidFill>
                      <a:srgbClr val="ffffcc"/>
                    </a:solidFill>
                    <a:latin typeface="Arial Black"/>
                  </a:rPr>
                  <a:t>0, a</a:t>
                </a:r>
                <a:r>
                  <a:rPr b="0" lang="en-US" sz="1800" spc="-1" strike="noStrike">
                    <a:solidFill>
                      <a:srgbClr val="ffffcc"/>
                    </a:solidFill>
                    <a:latin typeface="Arial"/>
                  </a:rPr>
                  <a:t>≠</a:t>
                </a:r>
                <a:r>
                  <a:rPr b="0" lang="en-US" sz="1800" spc="-1" strike="noStrike">
                    <a:solidFill>
                      <a:srgbClr val="ffffcc"/>
                    </a:solidFill>
                    <a:latin typeface="Arial Black"/>
                  </a:rPr>
                  <a:t>1)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и прямой </a:t>
                </a:r>
                <a:r>
                  <a:rPr b="0" lang="en-US" sz="1800" spc="-1" strike="noStrike">
                    <a:solidFill>
                      <a:srgbClr val="ffffcc"/>
                    </a:solidFill>
                    <a:latin typeface="Arial Black"/>
                  </a:rPr>
                  <a:t>y</a:t>
                </a:r>
                <a:r>
                  <a:rPr b="0" lang="en-US" sz="1800" spc="-1" strike="noStrike">
                    <a:solidFill>
                      <a:srgbClr val="ffffcc"/>
                    </a:solidFill>
                    <a:latin typeface="Arial"/>
                  </a:rPr>
                  <a:t>=</a:t>
                </a:r>
                <a:r>
                  <a:rPr b="0" lang="en-US" sz="1800" spc="-1" strike="noStrike">
                    <a:solidFill>
                      <a:srgbClr val="ffffcc"/>
                    </a:solidFill>
                    <a:latin typeface="Arial Black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2340000" y="823680"/>
              <a:ext cx="6840360" cy="720720"/>
            </a:xfrm>
            <a:custGeom>
              <a:avLst/>
              <a:gdLst/>
              <a:ahLst/>
              <a:rect l="l" t="t" r="r" b="b"/>
              <a:pathLst>
                <a:path w="4264" h="454">
                  <a:moveTo>
                    <a:pt x="0" y="46"/>
                  </a:moveTo>
                  <a:lnTo>
                    <a:pt x="4264" y="454"/>
                  </a:lnTo>
                  <a:lnTo>
                    <a:pt x="4264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440" y="1231920"/>
            <a:ext cx="4356000" cy="4861080"/>
            <a:chOff x="1440" y="1231920"/>
            <a:chExt cx="4356000" cy="4861080"/>
          </a:xfrm>
        </p:grpSpPr>
        <p:grpSp>
          <p:nvGrpSpPr>
            <p:cNvPr id="219" name=""/>
            <p:cNvGrpSpPr/>
            <p:nvPr/>
          </p:nvGrpSpPr>
          <p:grpSpPr>
            <a:xfrm>
              <a:off x="1440" y="1231920"/>
              <a:ext cx="4356000" cy="4861080"/>
              <a:chOff x="1440" y="1231920"/>
              <a:chExt cx="4356000" cy="486108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1440" y="1231920"/>
                <a:ext cx="4356000" cy="4861080"/>
                <a:chOff x="1440" y="1231920"/>
                <a:chExt cx="4356000" cy="486108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1440" y="1231920"/>
                  <a:ext cx="4356000" cy="4861080"/>
                  <a:chOff x="1440" y="1231920"/>
                  <a:chExt cx="4356000" cy="486108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1440" y="1268280"/>
                    <a:ext cx="4356000" cy="4824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1692000" y="1268280"/>
                    <a:ext cx="2663640" cy="37800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2256120" y="1231920"/>
                    <a:ext cx="161784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cc"/>
                        </a:solidFill>
                        <a:latin typeface="Times New Roman"/>
                      </a:rPr>
                      <a:t>y</a:t>
                    </a:r>
                    <a:r>
                      <a:rPr b="1" lang="ru-RU" sz="2000" spc="-1" strike="noStrike">
                        <a:solidFill>
                          <a:srgbClr val="ffffcc"/>
                        </a:solidFill>
                        <a:latin typeface="Times New Roman"/>
                      </a:rPr>
                      <a:t>=</a:t>
                    </a:r>
                    <a:r>
                      <a:rPr b="1" lang="en-US" sz="2000" spc="-1" strike="noStrike">
                        <a:solidFill>
                          <a:srgbClr val="ffffcc"/>
                        </a:solidFill>
                        <a:latin typeface="Times New Roman"/>
                      </a:rPr>
                      <a:t>log</a:t>
                    </a:r>
                    <a:r>
                      <a:rPr b="1" lang="en-US" sz="2000" spc="-1" strike="noStrike" baseline="-25000">
                        <a:solidFill>
                          <a:srgbClr val="ffffcc"/>
                        </a:solidFill>
                        <a:latin typeface="Times New Roman"/>
                      </a:rPr>
                      <a:t>a</a:t>
                    </a:r>
                    <a:r>
                      <a:rPr b="1" lang="en-US" sz="2000" spc="-1" strike="noStrike">
                        <a:solidFill>
                          <a:srgbClr val="ffffcc"/>
                        </a:solidFill>
                        <a:latin typeface="Times New Roman"/>
                      </a:rPr>
                      <a:t>x (a&gt;</a:t>
                    </a:r>
                    <a:r>
                      <a:rPr b="1" lang="ru-RU" sz="2000" spc="-1" strike="noStrike">
                        <a:solidFill>
                          <a:srgbClr val="ffffcc"/>
                        </a:solidFill>
                        <a:latin typeface="Times New Roman"/>
                      </a:rPr>
                      <a:t>1</a:t>
                    </a:r>
                    <a:r>
                      <a:rPr b="1" lang="en-US" sz="2000" spc="-1" strike="noStrike">
                        <a:solidFill>
                          <a:srgbClr val="ffffcc"/>
                        </a:solidFill>
                        <a:latin typeface="Times New Roman"/>
                      </a:rPr>
                      <a:t>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179280" y="4221000"/>
                  <a:ext cx="3888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395280" y="2421000"/>
                  <a:ext cx="0" cy="22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24000" y="227664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51280" y="414828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" name=""/>
              <p:cNvSpPr/>
              <p:nvPr/>
            </p:nvSpPr>
            <p:spPr>
              <a:xfrm>
                <a:off x="133200" y="4183200"/>
                <a:ext cx="28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357120" y="4187880"/>
              <a:ext cx="7164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788000" y="1231920"/>
            <a:ext cx="4356000" cy="4862520"/>
            <a:chOff x="4788000" y="1231920"/>
            <a:chExt cx="4356000" cy="4862520"/>
          </a:xfrm>
        </p:grpSpPr>
        <p:grpSp>
          <p:nvGrpSpPr>
            <p:cNvPr id="232" name=""/>
            <p:cNvGrpSpPr/>
            <p:nvPr/>
          </p:nvGrpSpPr>
          <p:grpSpPr>
            <a:xfrm>
              <a:off x="4788000" y="1231920"/>
              <a:ext cx="4356000" cy="4862520"/>
              <a:chOff x="4788000" y="1231920"/>
              <a:chExt cx="4356000" cy="486252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4788000" y="1231920"/>
                <a:ext cx="4356000" cy="4862520"/>
                <a:chOff x="4788000" y="1231920"/>
                <a:chExt cx="4356000" cy="48625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4788000" y="1268280"/>
                  <a:ext cx="4356000" cy="4826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788000" y="1268280"/>
                  <a:ext cx="3097080" cy="378000"/>
                </a:xfrm>
                <a:prstGeom prst="rect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437080" y="1231920"/>
                  <a:ext cx="18907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cc"/>
                      </a:solidFill>
                      <a:latin typeface="Times New Roman"/>
                    </a:rPr>
                    <a:t>y</a:t>
                  </a:r>
                  <a:r>
                    <a:rPr b="1" lang="ru-RU" sz="2000" spc="-1" strike="noStrike">
                      <a:solidFill>
                        <a:srgbClr val="ffffcc"/>
                      </a:solidFill>
                      <a:latin typeface="Times New Roman"/>
                    </a:rPr>
                    <a:t>=</a:t>
                  </a:r>
                  <a:r>
                    <a:rPr b="1" lang="en-US" sz="2000" spc="-1" strike="noStrike">
                      <a:solidFill>
                        <a:srgbClr val="ffffcc"/>
                      </a:solidFill>
                      <a:latin typeface="Times New Roman"/>
                    </a:rPr>
                    <a:t>log</a:t>
                  </a:r>
                  <a:r>
                    <a:rPr b="1" lang="en-US" sz="2000" spc="-1" strike="noStrike" baseline="-25000">
                      <a:solidFill>
                        <a:srgbClr val="ffffcc"/>
                      </a:solidFill>
                      <a:latin typeface="Times New Roman"/>
                    </a:rPr>
                    <a:t>a</a:t>
                  </a:r>
                  <a:r>
                    <a:rPr b="1" lang="en-US" sz="2000" spc="-1" strike="noStrike">
                      <a:solidFill>
                        <a:srgbClr val="ffffcc"/>
                      </a:solidFill>
                      <a:latin typeface="Times New Roman"/>
                    </a:rPr>
                    <a:t>x (</a:t>
                  </a:r>
                  <a:r>
                    <a:rPr b="1" lang="ru-RU" sz="2000" spc="-1" strike="noStrike">
                      <a:solidFill>
                        <a:srgbClr val="ffffcc"/>
                      </a:solidFill>
                      <a:latin typeface="Times New Roman"/>
                    </a:rPr>
                    <a:t>0</a:t>
                  </a:r>
                  <a:r>
                    <a:rPr b="1" lang="en-US" sz="2000" spc="-1" strike="noStrike">
                      <a:solidFill>
                        <a:srgbClr val="ffffcc"/>
                      </a:solidFill>
                      <a:latin typeface="Times New Roman"/>
                    </a:rPr>
                    <a:t>&lt;a&lt;1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4940280" y="2997360"/>
                <a:ext cx="388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156280" y="2421000"/>
                <a:ext cx="0" cy="22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084640" y="227664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612280" y="29242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881600" y="294948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5122800" y="2957400"/>
              <a:ext cx="7164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58920" y="3860640"/>
            <a:ext cx="1225440" cy="1079640"/>
          </a:xfrm>
          <a:custGeom>
            <a:avLst/>
            <a:gdLst/>
            <a:ahLst/>
            <a:rect l="l" t="t" r="r" b="b"/>
            <a:pathLst>
              <a:path w="772" h="680">
                <a:moveTo>
                  <a:pt x="0" y="680"/>
                </a:moveTo>
                <a:lnTo>
                  <a:pt x="681" y="635"/>
                </a:lnTo>
                <a:lnTo>
                  <a:pt x="772" y="0"/>
                </a:lnTo>
                <a:lnTo>
                  <a:pt x="454" y="49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7960" y="53737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4880" y="530064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27360" y="427032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y=b, b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9280" y="4221000"/>
            <a:ext cx="3778200" cy="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22680" y="3894120"/>
            <a:ext cx="16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y=b, b</a:t>
            </a:r>
            <a:r>
              <a:rPr b="1" lang="ru-RU" sz="1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520" y="310500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y=b, b&g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2160" y="41860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84360" y="4186080"/>
            <a:ext cx="7164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17840" y="350028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40000" y="4148280"/>
            <a:ext cx="523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256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259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Логарифмически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 flipH="1">
            <a:off x="538200" y="3354840"/>
            <a:ext cx="7056360" cy="273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56" y="10"/>
                </a:moveTo>
                <a:arcTo wR="10800" hR="10800" stAng="-5254948" swAng="5178528"/>
                <a:lnTo>
                  <a:pt x="10800" y="10800"/>
                </a:lnTo>
                <a:close/>
              </a:path>
              <a:path fill="none" w="21600" h="21600">
                <a:moveTo>
                  <a:pt x="11256" y="10"/>
                </a:moveTo>
                <a:arcTo wR="10800" hR="10800" stAng="-5254948" swAng="5178528"/>
              </a:path>
            </a:pathLst>
          </a:cu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4186080"/>
            <a:ext cx="7128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9280" y="4606920"/>
            <a:ext cx="3778200" cy="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4440" y="4568760"/>
            <a:ext cx="7128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79280" y="3500280"/>
            <a:ext cx="3778200" cy="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84360" y="3465360"/>
            <a:ext cx="7164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19920" y="3860640"/>
            <a:ext cx="1225440" cy="1079640"/>
          </a:xfrm>
          <a:custGeom>
            <a:avLst/>
            <a:gdLst/>
            <a:ahLst/>
            <a:rect l="l" t="t" r="r" b="b"/>
            <a:pathLst>
              <a:path w="772" h="680">
                <a:moveTo>
                  <a:pt x="0" y="680"/>
                </a:moveTo>
                <a:lnTo>
                  <a:pt x="681" y="635"/>
                </a:lnTo>
                <a:lnTo>
                  <a:pt x="772" y="0"/>
                </a:lnTo>
                <a:lnTo>
                  <a:pt x="454" y="49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24720" y="336060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y=b, b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40280" y="2997360"/>
            <a:ext cx="3778200" cy="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83320" y="266688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y=b, b</a:t>
            </a:r>
            <a:r>
              <a:rPr b="1" lang="ru-RU" sz="1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77200" y="236520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y=b, b&g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9272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78840" y="299736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189920" y="2925720"/>
            <a:ext cx="523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5326200" y="1268280"/>
            <a:ext cx="7055640" cy="259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56" y="10"/>
                </a:moveTo>
                <a:arcTo wR="10800" hR="10800" stAng="-5254948" swAng="5178528"/>
                <a:lnTo>
                  <a:pt x="10800" y="10800"/>
                </a:lnTo>
                <a:close/>
              </a:path>
              <a:path fill="none" w="21600" h="21600">
                <a:moveTo>
                  <a:pt x="11256" y="10"/>
                </a:moveTo>
                <a:arcTo wR="10800" hR="10800" stAng="-5254948" swAng="5178528"/>
              </a:path>
            </a:pathLst>
          </a:cu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91080" y="2957400"/>
            <a:ext cx="7164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40280" y="3716280"/>
            <a:ext cx="3778200" cy="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40280" y="2708280"/>
            <a:ext cx="3778200" cy="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45360" y="3678120"/>
            <a:ext cx="7128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45360" y="2962440"/>
            <a:ext cx="71280" cy="7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52600" y="422064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0560" y="4195800"/>
            <a:ext cx="7164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3600" y="3824280"/>
            <a:ext cx="523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45280" y="270828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05320" y="2660760"/>
            <a:ext cx="7164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05320" y="2959200"/>
            <a:ext cx="7164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49720" y="2917800"/>
            <a:ext cx="524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64000" y="2600280"/>
            <a:ext cx="524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-3240" y="692280"/>
            <a:ext cx="8607600" cy="5832360"/>
          </a:xfrm>
          <a:custGeom>
            <a:avLst/>
            <a:gdLst/>
            <a:ahLst/>
            <a:rect l="l" t="t" r="r" b="b"/>
            <a:pathLst>
              <a:path w="3901" h="1407">
                <a:moveTo>
                  <a:pt x="0" y="0"/>
                </a:moveTo>
                <a:lnTo>
                  <a:pt x="3901" y="273"/>
                </a:lnTo>
                <a:lnTo>
                  <a:pt x="3674" y="1225"/>
                </a:lnTo>
                <a:lnTo>
                  <a:pt x="0" y="1407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5520" y="12574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674800" y="-27000"/>
            <a:ext cx="6480360" cy="1439640"/>
            <a:chOff x="2674800" y="-27000"/>
            <a:chExt cx="6480360" cy="1439640"/>
          </a:xfrm>
        </p:grpSpPr>
        <p:grpSp>
          <p:nvGrpSpPr>
            <p:cNvPr id="294" name=""/>
            <p:cNvGrpSpPr/>
            <p:nvPr/>
          </p:nvGrpSpPr>
          <p:grpSpPr>
            <a:xfrm>
              <a:off x="2700360" y="-27000"/>
              <a:ext cx="6443280" cy="902520"/>
              <a:chOff x="2700360" y="-27000"/>
              <a:chExt cx="6443280" cy="902520"/>
            </a:xfrm>
          </p:grpSpPr>
          <p:sp>
            <p:nvSpPr>
              <p:cNvPr id="295" name=""/>
              <p:cNvSpPr/>
              <p:nvPr/>
            </p:nvSpPr>
            <p:spPr>
              <a:xfrm>
                <a:off x="2700360" y="-27000"/>
                <a:ext cx="6443280" cy="90252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eaeaea"/>
                    </a:solidFill>
                    <a:latin typeface="Arial Black"/>
                  </a:rPr>
                  <a:t>ВЫВОД: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700360" y="576000"/>
                <a:ext cx="147600" cy="2991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2674800" y="792360"/>
              <a:ext cx="6480360" cy="620280"/>
            </a:xfrm>
            <a:custGeom>
              <a:avLst/>
              <a:gdLst/>
              <a:ahLst/>
              <a:rect l="l" t="t" r="r" b="b"/>
              <a:pathLst>
                <a:path w="4264" h="454">
                  <a:moveTo>
                    <a:pt x="0" y="46"/>
                  </a:moveTo>
                  <a:lnTo>
                    <a:pt x="4264" y="454"/>
                  </a:lnTo>
                  <a:lnTo>
                    <a:pt x="4264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5640" y="2193840"/>
            <a:ext cx="691200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График функции </a:t>
            </a:r>
            <a:r>
              <a:rPr b="0" lang="en-US" sz="2600" spc="-1" strike="noStrike">
                <a:solidFill>
                  <a:srgbClr val="ffffcc"/>
                </a:solidFill>
                <a:latin typeface="Arial Black"/>
              </a:rPr>
              <a:t>y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0" lang="en-US" sz="2600" spc="-1" strike="noStrike">
                <a:solidFill>
                  <a:srgbClr val="ffffcc"/>
                </a:solidFill>
                <a:latin typeface="Arial Black"/>
              </a:rPr>
              <a:t>log</a:t>
            </a:r>
            <a:r>
              <a:rPr b="0" lang="en-US" sz="2600" spc="-1" strike="noStrike" baseline="-25000">
                <a:solidFill>
                  <a:srgbClr val="ffffcc"/>
                </a:solidFill>
                <a:latin typeface="Arial Black"/>
              </a:rPr>
              <a:t>a</a:t>
            </a:r>
            <a:r>
              <a:rPr b="0" lang="en-US" sz="2600" spc="-1" strike="noStrike">
                <a:solidFill>
                  <a:srgbClr val="ffffcc"/>
                </a:solidFill>
                <a:latin typeface="Arial Black"/>
              </a:rPr>
              <a:t>x (a</a:t>
            </a: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&gt;</a:t>
            </a:r>
            <a:r>
              <a:rPr b="0" lang="en-US" sz="2600" spc="-1" strike="noStrike">
                <a:solidFill>
                  <a:srgbClr val="ffffcc"/>
                </a:solidFill>
                <a:latin typeface="Arial Black"/>
              </a:rPr>
              <a:t>0, a</a:t>
            </a: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≠</a:t>
            </a:r>
            <a:r>
              <a:rPr b="0" lang="en-US" sz="2600" spc="-1" strike="noStrike">
                <a:solidFill>
                  <a:srgbClr val="ffffcc"/>
                </a:solidFill>
                <a:latin typeface="Arial Black"/>
              </a:rPr>
              <a:t>1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 прямая </a:t>
            </a:r>
            <a:r>
              <a:rPr b="0" lang="en-US" sz="2600" spc="-1" strike="noStrike">
                <a:solidFill>
                  <a:srgbClr val="ffffcc"/>
                </a:solidFill>
                <a:latin typeface="Arial Black"/>
              </a:rPr>
              <a:t>y</a:t>
            </a: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0" lang="en-US" sz="2600" spc="-1" strike="noStrike">
                <a:solidFill>
                  <a:srgbClr val="ffffcc"/>
                </a:solidFill>
                <a:latin typeface="Arial Black"/>
              </a:rPr>
              <a:t>b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пересекаются в единственной точке,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бсцисса которо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cc"/>
                </a:solidFill>
                <a:latin typeface="Arial Black"/>
                <a:ea typeface="Times New Roman"/>
              </a:rPr>
              <a:t>x</a:t>
            </a:r>
            <a:r>
              <a:rPr b="0" lang="en-US" sz="2600" spc="-1" strike="noStrike" baseline="-25000">
                <a:solidFill>
                  <a:srgbClr val="ffffcc"/>
                </a:solidFill>
                <a:latin typeface="Arial Black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ffffcc"/>
                </a:solidFill>
                <a:latin typeface="Arial"/>
                <a:ea typeface="Times New Roman"/>
              </a:rPr>
              <a:t>=</a:t>
            </a:r>
            <a:r>
              <a:rPr b="0" lang="en-US" sz="2600" spc="-1" strike="noStrike">
                <a:solidFill>
                  <a:srgbClr val="ffffcc"/>
                </a:solidFill>
                <a:latin typeface="Arial Black"/>
                <a:ea typeface="Times New Roman"/>
              </a:rPr>
              <a:t>a</a:t>
            </a:r>
            <a:r>
              <a:rPr b="0" lang="en-US" sz="2600" spc="-1" strike="noStrike" baseline="30000">
                <a:solidFill>
                  <a:srgbClr val="ffffcc"/>
                </a:solidFill>
                <a:latin typeface="Arial Black"/>
                <a:ea typeface="Times New Roman"/>
              </a:rPr>
              <a:t>b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307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310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Логарифмически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 spd="med">
    <p:strips dir="ru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-108000" y="476280"/>
            <a:ext cx="8496360" cy="6481800"/>
          </a:xfrm>
          <a:custGeom>
            <a:avLst/>
            <a:gdLst/>
            <a:ahLst/>
            <a:rect l="l" t="t" r="r" b="b"/>
            <a:pathLst>
              <a:path w="5352" h="3493">
                <a:moveTo>
                  <a:pt x="45" y="0"/>
                </a:moveTo>
                <a:lnTo>
                  <a:pt x="4899" y="998"/>
                </a:lnTo>
                <a:lnTo>
                  <a:pt x="5352" y="2404"/>
                </a:lnTo>
                <a:lnTo>
                  <a:pt x="4944" y="3447"/>
                </a:lnTo>
                <a:lnTo>
                  <a:pt x="0" y="3493"/>
                </a:lnTo>
                <a:lnTo>
                  <a:pt x="45" y="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674800" y="-27000"/>
            <a:ext cx="6480360" cy="1838160"/>
            <a:chOff x="2674800" y="-27000"/>
            <a:chExt cx="6480360" cy="1838160"/>
          </a:xfrm>
        </p:grpSpPr>
        <p:grpSp>
          <p:nvGrpSpPr>
            <p:cNvPr id="316" name=""/>
            <p:cNvGrpSpPr/>
            <p:nvPr/>
          </p:nvGrpSpPr>
          <p:grpSpPr>
            <a:xfrm>
              <a:off x="2700360" y="-27000"/>
              <a:ext cx="6443280" cy="1152000"/>
              <a:chOff x="2700360" y="-27000"/>
              <a:chExt cx="6443280" cy="1152000"/>
            </a:xfrm>
          </p:grpSpPr>
          <p:sp>
            <p:nvSpPr>
              <p:cNvPr id="317" name=""/>
              <p:cNvSpPr/>
              <p:nvPr/>
            </p:nvSpPr>
            <p:spPr>
              <a:xfrm>
                <a:off x="2700360" y="-27000"/>
                <a:ext cx="6443280" cy="115200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eaeaea"/>
                    </a:solidFill>
                    <a:latin typeface="Arial Black"/>
                  </a:rPr>
                  <a:t>ОПРЕДЕЛЕНИЕ:</a:t>
                </a:r>
                <a:r>
                  <a:rPr b="0" lang="ru-RU" sz="2400" spc="-1" strike="noStrike">
                    <a:solidFill>
                      <a:srgbClr val="ffffff"/>
                    </a:solidFill>
                    <a:latin typeface="Arial Black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700360" y="743040"/>
                <a:ext cx="147600" cy="3819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2674800" y="1019160"/>
              <a:ext cx="6480360" cy="792000"/>
            </a:xfrm>
            <a:custGeom>
              <a:avLst/>
              <a:gdLst/>
              <a:ahLst/>
              <a:rect l="l" t="t" r="r" b="b"/>
              <a:pathLst>
                <a:path w="4264" h="454">
                  <a:moveTo>
                    <a:pt x="0" y="46"/>
                  </a:moveTo>
                  <a:lnTo>
                    <a:pt x="4264" y="454"/>
                  </a:lnTo>
                  <a:lnTo>
                    <a:pt x="4264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-36360" y="1484280"/>
            <a:ext cx="7848360" cy="5400720"/>
          </a:xfrm>
          <a:custGeom>
            <a:avLst/>
            <a:gdLst/>
            <a:ahLst/>
            <a:rect l="l" t="t" r="r" b="b"/>
            <a:pathLst>
              <a:path w="4944" h="3402">
                <a:moveTo>
                  <a:pt x="0" y="46"/>
                </a:moveTo>
                <a:lnTo>
                  <a:pt x="4627" y="862"/>
                </a:lnTo>
                <a:lnTo>
                  <a:pt x="4944" y="2178"/>
                </a:lnTo>
                <a:lnTo>
                  <a:pt x="3311" y="3402"/>
                </a:lnTo>
                <a:lnTo>
                  <a:pt x="0" y="3402"/>
                </a:lnTo>
                <a:lnTo>
                  <a:pt x="4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322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325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Логарифмически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4920" y="2060640"/>
            <a:ext cx="6842160" cy="3413520"/>
            <a:chOff x="34920" y="2060640"/>
            <a:chExt cx="6842160" cy="3413520"/>
          </a:xfrm>
        </p:grpSpPr>
        <p:sp>
          <p:nvSpPr>
            <p:cNvPr id="331" name=""/>
            <p:cNvSpPr/>
            <p:nvPr/>
          </p:nvSpPr>
          <p:spPr>
            <a:xfrm>
              <a:off x="34920" y="2060640"/>
              <a:ext cx="6842160" cy="341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Пусть</a:t>
              </a:r>
              <a:r>
                <a:rPr b="0" lang="ru-RU" sz="2800" spc="-1" strike="noStrike">
                  <a:solidFill>
                    <a:srgbClr val="ffffcc"/>
                  </a:solidFill>
                  <a:latin typeface="Arial"/>
                </a:rPr>
                <a:t>                                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 Black"/>
                </a:rPr>
                <a:t>,</a:t>
              </a:r>
              <a:r>
                <a:rPr b="0" lang="ru-RU" sz="2800" spc="-1" strike="noStrike">
                  <a:solidFill>
                    <a:srgbClr val="ffffcc"/>
                  </a:solidFill>
                  <a:latin typeface="Arial Black"/>
                </a:rPr>
                <a:t> </a:t>
              </a: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тогда неравенства 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 Black"/>
                </a:rPr>
                <a:t>log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Arial Black"/>
                </a:rPr>
                <a:t>a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 Black"/>
                </a:rPr>
                <a:t>x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 Black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&gt;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 Black"/>
                </a:rPr>
                <a:t>b (log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Arial Black"/>
                </a:rPr>
                <a:t>a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 Black"/>
                </a:rPr>
                <a:t>x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 Black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≥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 Black"/>
                </a:rPr>
                <a:t>b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 Black"/>
                </a:rPr>
                <a:t>)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или                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 Black"/>
                </a:rPr>
                <a:t>log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Arial Black"/>
                </a:rPr>
                <a:t>a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 Black"/>
                </a:rPr>
                <a:t>x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 Black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&lt;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 Black"/>
                </a:rPr>
                <a:t>b (log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Arial Black"/>
                </a:rPr>
                <a:t>a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 Black"/>
                </a:rPr>
                <a:t>x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 Black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≤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 Black"/>
                </a:rPr>
                <a:t>b)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называются  </a:t>
              </a:r>
              <a:r>
                <a:rPr b="0" lang="ru-RU" sz="2800" spc="-1" strike="noStrike">
                  <a:solidFill>
                    <a:srgbClr val="ffffcc"/>
                  </a:solidFill>
                  <a:latin typeface="Arial Black"/>
                </a:rPr>
                <a:t>простейшими логарифмическими неравенствами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1863720" y="2233440"/>
                  <a:ext cx="309708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&gt;</m:t>
                      </m:r>
                      <m:r>
                        <m:rPr>
                          <m:lit/>
                          <m:nor/>
                        </m:rPr>
                        <m:t xml:space="preserve">0,a</m:t>
                      </m:r>
                      <m:r>
                        <m:t xml:space="preserve">≠</m:t>
                      </m:r>
                      <m:r>
                        <m:rPr>
                          <m:lit/>
                          <m:nor/>
                        </m:rPr>
                        <m:t xml:space="preserve">1,b</m:t>
                      </m:r>
                      <m:r>
                        <m:t xml:space="preserve">∈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strips dir="ru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480960" y="-27000"/>
            <a:ext cx="8686440" cy="1838160"/>
            <a:chOff x="480960" y="-27000"/>
            <a:chExt cx="8686440" cy="1838160"/>
          </a:xfrm>
        </p:grpSpPr>
        <p:sp>
          <p:nvSpPr>
            <p:cNvPr id="334" name=""/>
            <p:cNvSpPr/>
            <p:nvPr/>
          </p:nvSpPr>
          <p:spPr>
            <a:xfrm>
              <a:off x="480960" y="1019160"/>
              <a:ext cx="8686440" cy="792000"/>
            </a:xfrm>
            <a:custGeom>
              <a:avLst/>
              <a:gdLst/>
              <a:ahLst/>
              <a:rect l="l" t="t" r="r" b="b"/>
              <a:pathLst>
                <a:path w="4264" h="454">
                  <a:moveTo>
                    <a:pt x="0" y="46"/>
                  </a:moveTo>
                  <a:lnTo>
                    <a:pt x="4264" y="454"/>
                  </a:lnTo>
                  <a:lnTo>
                    <a:pt x="4264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514800" y="-27000"/>
              <a:ext cx="8637480" cy="1152000"/>
              <a:chOff x="514800" y="-27000"/>
              <a:chExt cx="8637480" cy="1152000"/>
            </a:xfrm>
          </p:grpSpPr>
          <p:sp>
            <p:nvSpPr>
              <p:cNvPr id="336" name=""/>
              <p:cNvSpPr/>
              <p:nvPr/>
            </p:nvSpPr>
            <p:spPr>
              <a:xfrm>
                <a:off x="514800" y="-27000"/>
                <a:ext cx="8637480" cy="115200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eaeaea"/>
                    </a:solidFill>
                    <a:latin typeface="Arial Black"/>
                  </a:rPr>
                  <a:t>Что значит решить неравенство?</a:t>
                </a:r>
                <a:r>
                  <a:rPr b="0" lang="ru-RU" sz="2400" spc="-1" strike="noStrike">
                    <a:solidFill>
                      <a:srgbClr val="ffffff"/>
                    </a:solidFill>
                    <a:latin typeface="Arial Black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4800" y="743040"/>
                <a:ext cx="198000" cy="3819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8" name=""/>
          <p:cNvSpPr/>
          <p:nvPr/>
        </p:nvSpPr>
        <p:spPr>
          <a:xfrm>
            <a:off x="-108000" y="476280"/>
            <a:ext cx="8496360" cy="6481800"/>
          </a:xfrm>
          <a:custGeom>
            <a:avLst/>
            <a:gdLst/>
            <a:ahLst/>
            <a:rect l="l" t="t" r="r" b="b"/>
            <a:pathLst>
              <a:path w="5352" h="3493">
                <a:moveTo>
                  <a:pt x="45" y="0"/>
                </a:moveTo>
                <a:lnTo>
                  <a:pt x="4899" y="998"/>
                </a:lnTo>
                <a:lnTo>
                  <a:pt x="5352" y="2404"/>
                </a:lnTo>
                <a:lnTo>
                  <a:pt x="4944" y="3447"/>
                </a:lnTo>
                <a:lnTo>
                  <a:pt x="0" y="3493"/>
                </a:lnTo>
                <a:lnTo>
                  <a:pt x="45" y="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-36360" y="1484280"/>
            <a:ext cx="7848360" cy="5400720"/>
          </a:xfrm>
          <a:custGeom>
            <a:avLst/>
            <a:gdLst/>
            <a:ahLst/>
            <a:rect l="l" t="t" r="r" b="b"/>
            <a:pathLst>
              <a:path w="4944" h="3402">
                <a:moveTo>
                  <a:pt x="0" y="46"/>
                </a:moveTo>
                <a:lnTo>
                  <a:pt x="4627" y="862"/>
                </a:lnTo>
                <a:lnTo>
                  <a:pt x="4944" y="2178"/>
                </a:lnTo>
                <a:lnTo>
                  <a:pt x="3311" y="3402"/>
                </a:lnTo>
                <a:lnTo>
                  <a:pt x="0" y="3402"/>
                </a:lnTo>
                <a:lnTo>
                  <a:pt x="4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6560" y="2852640"/>
            <a:ext cx="68421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ешить неравенство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- значит, найти все его решения или показать, что их н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342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345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Логарифмически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 spd="med">
    <p:strips dir="ru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480960" y="-27000"/>
            <a:ext cx="8686440" cy="1838160"/>
            <a:chOff x="480960" y="-27000"/>
            <a:chExt cx="8686440" cy="1838160"/>
          </a:xfrm>
        </p:grpSpPr>
        <p:sp>
          <p:nvSpPr>
            <p:cNvPr id="350" name=""/>
            <p:cNvSpPr/>
            <p:nvPr/>
          </p:nvSpPr>
          <p:spPr>
            <a:xfrm>
              <a:off x="480960" y="1019160"/>
              <a:ext cx="8686440" cy="792000"/>
            </a:xfrm>
            <a:custGeom>
              <a:avLst/>
              <a:gdLst/>
              <a:ahLst/>
              <a:rect l="l" t="t" r="r" b="b"/>
              <a:pathLst>
                <a:path w="4264" h="454">
                  <a:moveTo>
                    <a:pt x="0" y="46"/>
                  </a:moveTo>
                  <a:lnTo>
                    <a:pt x="4264" y="454"/>
                  </a:lnTo>
                  <a:lnTo>
                    <a:pt x="4264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514800" y="-27000"/>
              <a:ext cx="8637480" cy="1152000"/>
              <a:chOff x="514800" y="-27000"/>
              <a:chExt cx="8637480" cy="1152000"/>
            </a:xfrm>
          </p:grpSpPr>
          <p:sp>
            <p:nvSpPr>
              <p:cNvPr id="352" name=""/>
              <p:cNvSpPr/>
              <p:nvPr/>
            </p:nvSpPr>
            <p:spPr>
              <a:xfrm>
                <a:off x="514800" y="-27000"/>
                <a:ext cx="8637480" cy="115200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e1e1e1"/>
                    </a:solidFill>
                    <a:latin typeface="Arial Black"/>
                  </a:rPr>
                  <a:t>Что называется решением неравенства?</a:t>
                </a:r>
                <a:r>
                  <a:rPr b="0" lang="ru-RU" sz="2400" spc="-1" strike="noStrike">
                    <a:solidFill>
                      <a:srgbClr val="ffffff"/>
                    </a:solidFill>
                    <a:latin typeface="Arial Black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14800" y="743040"/>
                <a:ext cx="198000" cy="3819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"/>
          <p:cNvSpPr/>
          <p:nvPr/>
        </p:nvSpPr>
        <p:spPr>
          <a:xfrm>
            <a:off x="-108000" y="549360"/>
            <a:ext cx="9252000" cy="6408720"/>
          </a:xfrm>
          <a:custGeom>
            <a:avLst/>
            <a:gdLst/>
            <a:ahLst/>
            <a:rect l="l" t="t" r="r" b="b"/>
            <a:pathLst>
              <a:path w="5352" h="3493">
                <a:moveTo>
                  <a:pt x="45" y="0"/>
                </a:moveTo>
                <a:lnTo>
                  <a:pt x="4899" y="998"/>
                </a:lnTo>
                <a:lnTo>
                  <a:pt x="5352" y="2404"/>
                </a:lnTo>
                <a:lnTo>
                  <a:pt x="4944" y="3447"/>
                </a:lnTo>
                <a:lnTo>
                  <a:pt x="0" y="3493"/>
                </a:lnTo>
                <a:lnTo>
                  <a:pt x="45" y="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-36360" y="1484280"/>
            <a:ext cx="7848360" cy="5400720"/>
          </a:xfrm>
          <a:custGeom>
            <a:avLst/>
            <a:gdLst/>
            <a:ahLst/>
            <a:rect l="l" t="t" r="r" b="b"/>
            <a:pathLst>
              <a:path w="4944" h="3402">
                <a:moveTo>
                  <a:pt x="0" y="46"/>
                </a:moveTo>
                <a:lnTo>
                  <a:pt x="4627" y="862"/>
                </a:lnTo>
                <a:lnTo>
                  <a:pt x="4944" y="2178"/>
                </a:lnTo>
                <a:lnTo>
                  <a:pt x="3311" y="3402"/>
                </a:lnTo>
                <a:lnTo>
                  <a:pt x="0" y="3402"/>
                </a:lnTo>
                <a:lnTo>
                  <a:pt x="4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0920" y="2708280"/>
            <a:ext cx="806436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ешением неравенст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неизвестным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зывают число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х</a:t>
            </a:r>
            <a:r>
              <a:rPr b="0" lang="ru-RU" sz="2800" spc="-1" strike="noStrike" baseline="-25000">
                <a:solidFill>
                  <a:srgbClr val="ffffcc"/>
                </a:solidFill>
                <a:latin typeface="Arial Black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при подстановке которого в неравенство вместо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лучается верное числовое неравенств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358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361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Логарифмически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 spd="med">
    <p:strips dir="ru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468360" y="-27000"/>
            <a:ext cx="8686440" cy="1838160"/>
            <a:chOff x="468360" y="-27000"/>
            <a:chExt cx="8686440" cy="1838160"/>
          </a:xfrm>
        </p:grpSpPr>
        <p:grpSp>
          <p:nvGrpSpPr>
            <p:cNvPr id="366" name=""/>
            <p:cNvGrpSpPr/>
            <p:nvPr/>
          </p:nvGrpSpPr>
          <p:grpSpPr>
            <a:xfrm>
              <a:off x="502560" y="-27000"/>
              <a:ext cx="8636760" cy="1152000"/>
              <a:chOff x="502560" y="-27000"/>
              <a:chExt cx="8636760" cy="1152000"/>
            </a:xfrm>
          </p:grpSpPr>
          <p:sp>
            <p:nvSpPr>
              <p:cNvPr id="367" name=""/>
              <p:cNvSpPr/>
              <p:nvPr/>
            </p:nvSpPr>
            <p:spPr>
              <a:xfrm>
                <a:off x="502560" y="-27000"/>
                <a:ext cx="8636760" cy="115200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eaeaea"/>
                    </a:solidFill>
                    <a:latin typeface="Arial Black"/>
                  </a:rPr>
                  <a:t>ВЫВОД №1: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02560" y="743040"/>
                <a:ext cx="198000" cy="3819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468360" y="1019160"/>
              <a:ext cx="8686440" cy="792000"/>
            </a:xfrm>
            <a:custGeom>
              <a:avLst/>
              <a:gdLst/>
              <a:ahLst/>
              <a:rect l="l" t="t" r="r" b="b"/>
              <a:pathLst>
                <a:path w="4264" h="454">
                  <a:moveTo>
                    <a:pt x="0" y="46"/>
                  </a:moveTo>
                  <a:lnTo>
                    <a:pt x="4264" y="454"/>
                  </a:lnTo>
                  <a:lnTo>
                    <a:pt x="4264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2268360" y="1557360"/>
            <a:ext cx="6912000" cy="5327640"/>
          </a:xfrm>
          <a:custGeom>
            <a:avLst/>
            <a:gdLst/>
            <a:ahLst/>
            <a:rect l="l" t="t" r="r" b="b"/>
            <a:pathLst>
              <a:path w="3674" h="771">
                <a:moveTo>
                  <a:pt x="0" y="771"/>
                </a:moveTo>
                <a:lnTo>
                  <a:pt x="317" y="272"/>
                </a:lnTo>
                <a:lnTo>
                  <a:pt x="3674" y="0"/>
                </a:lnTo>
                <a:lnTo>
                  <a:pt x="3674" y="771"/>
                </a:lnTo>
                <a:lnTo>
                  <a:pt x="0" y="771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372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375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Показательны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341964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0" y="868320"/>
            <a:ext cx="4130640" cy="4789080"/>
            <a:chOff x="0" y="868320"/>
            <a:chExt cx="4130640" cy="4789080"/>
          </a:xfrm>
        </p:grpSpPr>
        <p:grpSp>
          <p:nvGrpSpPr>
            <p:cNvPr id="381" name=""/>
            <p:cNvGrpSpPr/>
            <p:nvPr/>
          </p:nvGrpSpPr>
          <p:grpSpPr>
            <a:xfrm>
              <a:off x="0" y="868320"/>
              <a:ext cx="4130640" cy="4789080"/>
              <a:chOff x="0" y="868320"/>
              <a:chExt cx="4130640" cy="478908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0" y="868320"/>
                <a:ext cx="4130640" cy="4789080"/>
                <a:chOff x="0" y="868320"/>
                <a:chExt cx="4130640" cy="478908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0" y="868320"/>
                  <a:ext cx="4130640" cy="4789080"/>
                  <a:chOff x="0" y="868320"/>
                  <a:chExt cx="4130640" cy="478908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0" y="903960"/>
                    <a:ext cx="4130640" cy="47534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1603080" y="903960"/>
                    <a:ext cx="2525760" cy="37224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2097360" y="868320"/>
                    <a:ext cx="161784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cc"/>
                        </a:solidFill>
                        <a:latin typeface="Times New Roman"/>
                      </a:rPr>
                      <a:t>y</a:t>
                    </a:r>
                    <a:r>
                      <a:rPr b="1" lang="ru-RU" sz="2000" spc="-1" strike="noStrike">
                        <a:solidFill>
                          <a:srgbClr val="ffffcc"/>
                        </a:solidFill>
                        <a:latin typeface="Times New Roman"/>
                      </a:rPr>
                      <a:t>=</a:t>
                    </a:r>
                    <a:r>
                      <a:rPr b="1" lang="en-US" sz="2000" spc="-1" strike="noStrike">
                        <a:solidFill>
                          <a:srgbClr val="ffffcc"/>
                        </a:solidFill>
                        <a:latin typeface="Times New Roman"/>
                      </a:rPr>
                      <a:t>log</a:t>
                    </a:r>
                    <a:r>
                      <a:rPr b="1" lang="en-US" sz="2000" spc="-1" strike="noStrike" baseline="-25000">
                        <a:solidFill>
                          <a:srgbClr val="ffffcc"/>
                        </a:solidFill>
                        <a:latin typeface="Times New Roman"/>
                      </a:rPr>
                      <a:t>a</a:t>
                    </a:r>
                    <a:r>
                      <a:rPr b="1" lang="en-US" sz="2000" spc="-1" strike="noStrike">
                        <a:solidFill>
                          <a:srgbClr val="ffffcc"/>
                        </a:solidFill>
                        <a:latin typeface="Times New Roman"/>
                      </a:rPr>
                      <a:t>x (a&gt;</a:t>
                    </a:r>
                    <a:r>
                      <a:rPr b="1" lang="ru-RU" sz="2000" spc="-1" strike="noStrike">
                        <a:solidFill>
                          <a:srgbClr val="ffffcc"/>
                        </a:solidFill>
                        <a:latin typeface="Times New Roman"/>
                      </a:rPr>
                      <a:t>1</a:t>
                    </a:r>
                    <a:r>
                      <a:rPr b="1" lang="en-US" sz="2000" spc="-1" strike="noStrike">
                        <a:solidFill>
                          <a:srgbClr val="ffffcc"/>
                        </a:solidFill>
                        <a:latin typeface="Times New Roman"/>
                      </a:rPr>
                      <a:t>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>
                  <a:off x="168480" y="3813120"/>
                  <a:ext cx="3686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V="1">
                  <a:off x="373320" y="2039400"/>
                  <a:ext cx="0" cy="222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03840" y="1897560"/>
                  <a:ext cx="410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3651480" y="3741480"/>
                  <a:ext cx="340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>
                <a:off x="124920" y="3776040"/>
                <a:ext cx="27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336960" y="3780360"/>
              <a:ext cx="67680" cy="7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1266840" y="3394080"/>
            <a:ext cx="1225440" cy="1079640"/>
          </a:xfrm>
          <a:custGeom>
            <a:avLst/>
            <a:gdLst/>
            <a:ahLst/>
            <a:rect l="l" t="t" r="r" b="b"/>
            <a:pathLst>
              <a:path w="772" h="680">
                <a:moveTo>
                  <a:pt x="0" y="680"/>
                </a:moveTo>
                <a:lnTo>
                  <a:pt x="681" y="635"/>
                </a:lnTo>
                <a:lnTo>
                  <a:pt x="772" y="0"/>
                </a:lnTo>
                <a:lnTo>
                  <a:pt x="454" y="49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52800" y="483408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546480" y="2888280"/>
            <a:ext cx="7056360" cy="2738520"/>
            <a:chOff x="546480" y="2888280"/>
            <a:chExt cx="7056360" cy="2738520"/>
          </a:xfrm>
        </p:grpSpPr>
        <p:sp>
          <p:nvSpPr>
            <p:cNvPr id="396" name=""/>
            <p:cNvSpPr/>
            <p:nvPr/>
          </p:nvSpPr>
          <p:spPr>
            <a:xfrm flipH="1">
              <a:off x="546120" y="2888280"/>
              <a:ext cx="7056360" cy="273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256" y="10"/>
                  </a:moveTo>
                  <a:arcTo wR="10800" hR="10800" stAng="-5254948" swAng="51785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1256" y="10"/>
                  </a:moveTo>
                  <a:arcTo wR="10800" hR="10800" stAng="-5254948" swAng="5178528"/>
                </a:path>
              </a:pathLst>
            </a:custGeom>
            <a:noFill/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701640" y="3719520"/>
              <a:ext cx="316080" cy="368280"/>
              <a:chOff x="701640" y="3719520"/>
              <a:chExt cx="316080" cy="368280"/>
            </a:xfrm>
          </p:grpSpPr>
          <p:sp>
            <p:nvSpPr>
              <p:cNvPr id="398" name=""/>
              <p:cNvSpPr/>
              <p:nvPr/>
            </p:nvSpPr>
            <p:spPr>
              <a:xfrm>
                <a:off x="730080" y="3719520"/>
                <a:ext cx="28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1640" y="3781440"/>
                <a:ext cx="71640" cy="7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0" name=""/>
          <p:cNvGrpSpPr/>
          <p:nvPr/>
        </p:nvGrpSpPr>
        <p:grpSpPr>
          <a:xfrm>
            <a:off x="55440" y="2638440"/>
            <a:ext cx="3909960" cy="395280"/>
            <a:chOff x="55440" y="2638440"/>
            <a:chExt cx="3909960" cy="395280"/>
          </a:xfrm>
        </p:grpSpPr>
        <p:sp>
          <p:nvSpPr>
            <p:cNvPr id="401" name=""/>
            <p:cNvSpPr/>
            <p:nvPr/>
          </p:nvSpPr>
          <p:spPr>
            <a:xfrm>
              <a:off x="55440" y="2638440"/>
              <a:ext cx="169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33"/>
                  </a:solidFill>
                  <a:latin typeface="Times New Roman"/>
                </a:rPr>
                <a:t>y=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7200" y="3033720"/>
              <a:ext cx="3778200" cy="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306520" y="2997360"/>
            <a:ext cx="524160" cy="1167480"/>
            <a:chOff x="2306520" y="2997360"/>
            <a:chExt cx="524160" cy="1167480"/>
          </a:xfrm>
        </p:grpSpPr>
        <p:sp>
          <p:nvSpPr>
            <p:cNvPr id="404" name=""/>
            <p:cNvSpPr/>
            <p:nvPr/>
          </p:nvSpPr>
          <p:spPr>
            <a:xfrm>
              <a:off x="2306520" y="3724200"/>
              <a:ext cx="524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2482920" y="2997360"/>
              <a:ext cx="73080" cy="852480"/>
              <a:chOff x="2482920" y="2997360"/>
              <a:chExt cx="73080" cy="852480"/>
            </a:xfrm>
          </p:grpSpPr>
          <p:sp>
            <p:nvSpPr>
              <p:cNvPr id="406" name=""/>
              <p:cNvSpPr/>
              <p:nvPr/>
            </p:nvSpPr>
            <p:spPr>
              <a:xfrm>
                <a:off x="2482920" y="3776760"/>
                <a:ext cx="71280" cy="7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517840" y="3032280"/>
                <a:ext cx="0" cy="72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484360" y="2997360"/>
                <a:ext cx="71640" cy="72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9" name=""/>
          <p:cNvGrpSpPr/>
          <p:nvPr/>
        </p:nvGrpSpPr>
        <p:grpSpPr>
          <a:xfrm>
            <a:off x="307800" y="2924280"/>
            <a:ext cx="3332160" cy="1282680"/>
            <a:chOff x="307800" y="2924280"/>
            <a:chExt cx="3332160" cy="1282680"/>
          </a:xfrm>
        </p:grpSpPr>
        <p:grpSp>
          <p:nvGrpSpPr>
            <p:cNvPr id="410" name=""/>
            <p:cNvGrpSpPr/>
            <p:nvPr/>
          </p:nvGrpSpPr>
          <p:grpSpPr>
            <a:xfrm>
              <a:off x="307800" y="3413160"/>
              <a:ext cx="524160" cy="793800"/>
              <a:chOff x="307800" y="3413160"/>
              <a:chExt cx="524160" cy="79380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522360" y="3773520"/>
                <a:ext cx="71280" cy="433440"/>
                <a:chOff x="522360" y="3773520"/>
                <a:chExt cx="71280" cy="4334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522360" y="3773520"/>
                  <a:ext cx="71280" cy="73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22360" y="4133880"/>
                  <a:ext cx="71280" cy="73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554040" y="3811320"/>
                  <a:ext cx="0" cy="36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307800" y="3413160"/>
                <a:ext cx="524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r>
                  <a:rPr b="0" lang="ru-RU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3116160" y="2924280"/>
              <a:ext cx="523800" cy="919800"/>
              <a:chOff x="3116160" y="2924280"/>
              <a:chExt cx="523800" cy="919800"/>
            </a:xfrm>
          </p:grpSpPr>
          <p:sp>
            <p:nvSpPr>
              <p:cNvPr id="417" name=""/>
              <p:cNvSpPr/>
              <p:nvPr/>
            </p:nvSpPr>
            <p:spPr>
              <a:xfrm>
                <a:off x="3166920" y="2957400"/>
                <a:ext cx="0" cy="82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116160" y="3403440"/>
                <a:ext cx="523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r>
                  <a:rPr b="0" lang="ru-RU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130560" y="2924280"/>
                <a:ext cx="71280" cy="72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32000" y="3747960"/>
                <a:ext cx="71640" cy="7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440" y="32918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440" y="3305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211640" y="2046240"/>
            <a:ext cx="5549760" cy="4446000"/>
            <a:chOff x="4211640" y="2046240"/>
            <a:chExt cx="5549760" cy="4446000"/>
          </a:xfrm>
        </p:grpSpPr>
        <p:grpSp>
          <p:nvGrpSpPr>
            <p:cNvPr id="426" name=""/>
            <p:cNvGrpSpPr/>
            <p:nvPr/>
          </p:nvGrpSpPr>
          <p:grpSpPr>
            <a:xfrm>
              <a:off x="7277040" y="2046240"/>
              <a:ext cx="2336760" cy="459720"/>
              <a:chOff x="7277040" y="2046240"/>
              <a:chExt cx="2336760" cy="459720"/>
            </a:xfrm>
          </p:grpSpPr>
          <mc:AlternateContent>
            <mc:Choice xmlns:a14="http://schemas.microsoft.com/office/drawing/2010/main" Requires="a14">
              <p:sp>
                <p:nvSpPr>
                  <p:cNvPr id="427" name=""/>
                  <p:cNvSpPr txBox="1"/>
                  <p:nvPr/>
                </p:nvSpPr>
                <p:spPr>
                  <a:xfrm>
                    <a:off x="8354880" y="2084400"/>
                    <a:ext cx="747720" cy="393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28" name=""/>
              <p:cNvSpPr/>
              <p:nvPr/>
            </p:nvSpPr>
            <p:spPr>
              <a:xfrm>
                <a:off x="7277040" y="2046240"/>
                <a:ext cx="2336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cc"/>
                    </a:solidFill>
                    <a:latin typeface="Arial Black"/>
                  </a:rPr>
                  <a:t>Есл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4541760" y="2457360"/>
              <a:ext cx="5219640" cy="2113200"/>
              <a:chOff x="4541760" y="2457360"/>
              <a:chExt cx="5219640" cy="2113200"/>
            </a:xfrm>
          </p:grpSpPr>
          <p:sp>
            <p:nvSpPr>
              <p:cNvPr id="430" name=""/>
              <p:cNvSpPr/>
              <p:nvPr/>
            </p:nvSpPr>
            <p:spPr>
              <a:xfrm>
                <a:off x="4541760" y="2457360"/>
                <a:ext cx="5219640" cy="21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cc"/>
                    </a:solidFill>
                    <a:latin typeface="Arial Black"/>
                  </a:rPr>
                  <a:t>          </a:t>
                </a:r>
                <a:r>
                  <a:rPr b="0" lang="ru-RU" sz="2400" spc="-1" strike="noStrike">
                    <a:solidFill>
                      <a:srgbClr val="ffffcc"/>
                    </a:solidFill>
                    <a:latin typeface="Arial Black"/>
                  </a:rPr>
                  <a:t>для каждого            соответствующая точка графика функции                     находится выше прямой</a:t>
                </a:r>
                <a:r>
                  <a:rPr b="1" lang="ru-RU" sz="2400" spc="-1" strike="noStrike">
                    <a:solidFill>
                      <a:srgbClr val="ffff66"/>
                    </a:solidFill>
                    <a:latin typeface="Arial Black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 Black"/>
                  </a:rPr>
                  <a:t>                 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31" name=""/>
                  <p:cNvSpPr txBox="1"/>
                  <p:nvPr/>
                </p:nvSpPr>
                <p:spPr>
                  <a:xfrm>
                    <a:off x="7974000" y="2463840"/>
                    <a:ext cx="1081080" cy="498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32" name=""/>
                  <p:cNvSpPr txBox="1"/>
                  <p:nvPr/>
                </p:nvSpPr>
                <p:spPr>
                  <a:xfrm>
                    <a:off x="7799400" y="3184560"/>
                    <a:ext cx="1390680" cy="498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33" name=""/>
                  <p:cNvSpPr txBox="1"/>
                  <p:nvPr/>
                </p:nvSpPr>
                <p:spPr>
                  <a:xfrm>
                    <a:off x="4660920" y="3932280"/>
                    <a:ext cx="833400" cy="436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34" name=""/>
            <p:cNvGrpSpPr/>
            <p:nvPr/>
          </p:nvGrpSpPr>
          <p:grpSpPr>
            <a:xfrm>
              <a:off x="4211640" y="4387680"/>
              <a:ext cx="4673520" cy="2104560"/>
              <a:chOff x="4211640" y="4387680"/>
              <a:chExt cx="4673520" cy="2104560"/>
            </a:xfrm>
          </p:grpSpPr>
          <p:grpSp>
            <p:nvGrpSpPr>
              <p:cNvPr id="435" name=""/>
              <p:cNvGrpSpPr/>
              <p:nvPr/>
            </p:nvGrpSpPr>
            <p:grpSpPr>
              <a:xfrm>
                <a:off x="4325760" y="4387680"/>
                <a:ext cx="4559400" cy="1962000"/>
                <a:chOff x="4325760" y="4387680"/>
                <a:chExt cx="4559400" cy="196200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436" name=""/>
                    <p:cNvSpPr txBox="1"/>
                    <p:nvPr/>
                  </p:nvSpPr>
                  <p:spPr>
                    <a:xfrm>
                      <a:off x="7076880" y="4400280"/>
                      <a:ext cx="1578240" cy="49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0</m:t>
                          </m:r>
                          <m:r>
                            <m:t xml:space="preserve">&lt;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&lt;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37" name=""/>
                    <p:cNvSpPr txBox="1"/>
                    <p:nvPr/>
                  </p:nvSpPr>
                  <p:spPr>
                    <a:xfrm>
                      <a:off x="4325760" y="5913360"/>
                      <a:ext cx="833400" cy="436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b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38" name=""/>
                    <p:cNvSpPr txBox="1"/>
                    <p:nvPr/>
                  </p:nvSpPr>
                  <p:spPr>
                    <a:xfrm>
                      <a:off x="7494480" y="5121000"/>
                      <a:ext cx="1390680" cy="49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x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39" name=""/>
                <p:cNvSpPr/>
                <p:nvPr/>
              </p:nvSpPr>
              <p:spPr>
                <a:xfrm>
                  <a:off x="4484520" y="4387680"/>
                  <a:ext cx="2793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cc"/>
                      </a:solidFill>
                      <a:latin typeface="Arial Black"/>
                    </a:rPr>
                    <a:t>для каждого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4211640" y="4744800"/>
                <a:ext cx="4608360" cy="174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cc"/>
                    </a:solidFill>
                    <a:latin typeface="Arial Black"/>
                  </a:rPr>
                  <a:t>соответствующая точка графика функции                       находится ниже прямой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cc"/>
                    </a:solidFill>
                    <a:latin typeface="Arial Black"/>
                  </a:rPr>
                  <a:t>                            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strips dir="ru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обров Р.С.</dc:creator>
  <dc:description/>
  <dc:language>en-US</dc:language>
  <cp:lastModifiedBy>Калугина</cp:lastModifiedBy>
  <dcterms:modified xsi:type="dcterms:W3CDTF">2008-02-10T19:35:57Z</dcterms:modified>
  <cp:revision>228</cp:revision>
  <dc:subject/>
  <dc:title>Логарифмические неравенства их типы и методы решения</dc:title>
</cp:coreProperties>
</file>