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3F5-D41B-4239-B4C8-65D952EE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1F4-1CB6-465F-9E9D-2F5118E3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30B-6100-475C-9D46-09990755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E43-9184-431C-AB5A-9A7C7F5E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EE64-4CBD-4BB0-AC76-2A6F5322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C773-3980-4075-A80D-05C06C58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FE6E-92F7-4E3B-BFA9-262CD5EF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845E-FA70-4496-B24F-531B40ED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CD95-A49E-4E37-B2C2-A151BCC1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9F2B-B0DE-4C58-9317-1BE08DBE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3ACA-998C-41F6-8714-CC8B883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883-9E77-423D-9BAC-FCB4D363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ECAF-897B-47CF-8F01-88582A98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1DC7-3C64-4A60-B8CF-213C390A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1561-9DC2-4E88-8C1E-5F3EC4CC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D064-E1D3-4597-A77E-0A674F9C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A7A3-F0CA-4EAC-8748-A6C0B750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750-8171-4853-9DFF-AF934021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6C7-FDDC-49E2-B456-D0627A10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9A2-F39F-4861-9A39-9A3E3FFA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B34-9545-499F-82C0-52399BEA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F46-6FF1-4DE8-9D0E-BFD47C25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797-B99A-4876-AAD9-C5D1F2F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1FF-5ADE-426F-8B83-2A7D5EFF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7A95-1CF3-4566-A608-C3DC06FDD2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5B0F-699F-4D07-A051-FCD4D6E408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gifts.ru/reviewer/thumbnails/www/280/1220_jpg_280x280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omni-m.ru/pic/resize_imageinfo.php?image=71M.jpg&amp;max_width=200&amp;max_height=200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Местоимение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как часть реч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к русского языка в 6 кла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Попова А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БОУ СОШ п. Солидар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§ 68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Упр. 392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Цели: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ь учащимся понятие о местоимении как части речи, об основных разрядах местоимений; показать синтаксическую роль местоимения; учить предупреждать речевые ошиб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интаксическая разминка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: записать предложение, сделать его синтаксический разбор, расставить знаки препинания и объяснить и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ой веселый звонкий мяч ты куда помчался вскач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457200" y="533520"/>
            <a:ext cx="8228880" cy="4494600"/>
            <a:chOff x="457200" y="533520"/>
            <a:chExt cx="8228880" cy="4494600"/>
          </a:xfrm>
        </p:grpSpPr>
        <p:cxnSp>
          <p:nvCxnSpPr>
            <p:cNvPr id="95" name="_s16401"/>
            <p:cNvCxnSpPr>
              <a:stCxn id="96" idx="0"/>
              <a:endCxn id="97" idx="2"/>
            </p:cNvCxnSpPr>
            <p:nvPr/>
          </p:nvCxnSpPr>
          <p:spPr>
            <a:xfrm flipV="1" rot="16200000">
              <a:off x="5759640" y="1179360"/>
              <a:ext cx="824400" cy="320076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16398"/>
            <p:cNvCxnSpPr>
              <a:stCxn id="99" idx="0"/>
              <a:endCxn id="97" idx="2"/>
            </p:cNvCxnSpPr>
            <p:nvPr/>
          </p:nvCxnSpPr>
          <p:spPr>
            <a:xfrm flipV="1" rot="16200000">
              <a:off x="4692960" y="2246040"/>
              <a:ext cx="824400" cy="106704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6397"/>
            <p:cNvCxnSpPr>
              <a:stCxn id="101" idx="0"/>
              <a:endCxn id="97" idx="2"/>
            </p:cNvCxnSpPr>
            <p:nvPr/>
          </p:nvCxnSpPr>
          <p:spPr>
            <a:xfrm flipH="1" flipV="1" rot="5400000">
              <a:off x="3625920" y="2246040"/>
              <a:ext cx="824400" cy="106740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6396"/>
            <p:cNvCxnSpPr>
              <a:stCxn id="103" idx="0"/>
              <a:endCxn id="97" idx="2"/>
            </p:cNvCxnSpPr>
            <p:nvPr/>
          </p:nvCxnSpPr>
          <p:spPr>
            <a:xfrm flipH="1" flipV="1" rot="5400000">
              <a:off x="2559240" y="1179360"/>
              <a:ext cx="824400" cy="320112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" name="_s16392"/>
            <p:cNvSpPr/>
            <p:nvPr/>
          </p:nvSpPr>
          <p:spPr>
            <a:xfrm>
              <a:off x="3657600" y="533520"/>
              <a:ext cx="1828440" cy="1797840"/>
            </a:xfrm>
            <a:prstGeom prst="rect">
              <a:avLst/>
            </a:prstGeom>
            <a:solidFill>
              <a:srgbClr val="720000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ИМЕ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ЧА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РЕЧ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6393"/>
            <p:cNvSpPr/>
            <p:nvPr/>
          </p:nvSpPr>
          <p:spPr>
            <a:xfrm>
              <a:off x="457200" y="3230280"/>
              <a:ext cx="1828440" cy="1797840"/>
            </a:xfrm>
            <a:prstGeom prst="rect">
              <a:avLst/>
            </a:prstGeom>
            <a:solidFill>
              <a:srgbClr val="720000"/>
            </a:solidFill>
            <a:ln w="7632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ИМ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СУЩЕСТВИ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ТЕЛЬНО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6394"/>
            <p:cNvSpPr/>
            <p:nvPr/>
          </p:nvSpPr>
          <p:spPr>
            <a:xfrm>
              <a:off x="2590560" y="3230280"/>
              <a:ext cx="1828440" cy="1797840"/>
            </a:xfrm>
            <a:prstGeom prst="rect">
              <a:avLst/>
            </a:prstGeom>
            <a:solidFill>
              <a:srgbClr val="720000"/>
            </a:solidFill>
            <a:ln w="7632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ИМ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ПРИЛАГА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ТЕЛЬНО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6395"/>
            <p:cNvSpPr/>
            <p:nvPr/>
          </p:nvSpPr>
          <p:spPr>
            <a:xfrm>
              <a:off x="4724280" y="3230280"/>
              <a:ext cx="1828440" cy="1797840"/>
            </a:xfrm>
            <a:prstGeom prst="rect">
              <a:avLst/>
            </a:prstGeom>
            <a:solidFill>
              <a:srgbClr val="720000"/>
            </a:solidFill>
            <a:ln w="7632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И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ЧИСЛИТЕЛЬ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НО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6400"/>
            <p:cNvSpPr/>
            <p:nvPr/>
          </p:nvSpPr>
          <p:spPr>
            <a:xfrm>
              <a:off x="6857640" y="3230280"/>
              <a:ext cx="1828440" cy="1797840"/>
            </a:xfrm>
            <a:prstGeom prst="rect">
              <a:avLst/>
            </a:prstGeom>
            <a:solidFill>
              <a:srgbClr val="720000"/>
            </a:solidFill>
            <a:ln w="7632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МЕСТОИМ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228600"/>
            <a:ext cx="3276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я существите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то? Ч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едм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уч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Картинка 15 из 47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76212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00600" y="22860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я прилагате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кой? Че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зна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ня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705720" y="838080"/>
            <a:ext cx="213336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71800" y="3352680"/>
            <a:ext cx="4114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я числите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колько? Как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67080" y="4343400"/>
            <a:ext cx="2210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СТОИМ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казывает 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мет (он, вы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знак (тот, эти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личество (несколько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 не называет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зряды местоим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Лич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, мы – I лицо  ты, вы – II лицо он, она, оно, они – III лиц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Возвратно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еб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Вопроситель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? Что? Какой? Чей? Который? Каков? Сколько?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Относитель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, что, какой, чей, который, каков, скольк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Неопределён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кто, нечто, кое-кто, что-нибудь, несколько, некоторый, какой-либо, некий, чей-то, кто-то и др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Отрицатель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икто, ничто, некого, нечего, никакой, ниче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Притяжатель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й, твой, свой, ваш, наш; его, её, их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Указатель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от, тот, такой, таков, столько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Определитель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ждый, всякий, самый, весь, иной, другой, любой, са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 изменяются местоимения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523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стоим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447920"/>
            <a:ext cx="1523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м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зн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ли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752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137160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лагате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ислите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1676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1371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меняются по падежам, рода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352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114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стоимения изменяются по падежам, родам и числ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интаксическая роль местоимен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3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стоим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1523880"/>
            <a:ext cx="1524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м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зн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ли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523880"/>
            <a:ext cx="2209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лагате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ислите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1752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16765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1447920"/>
            <a:ext cx="3124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лежащ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пре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стоятель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1676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12408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429000"/>
            <a:ext cx="358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7:03:30Z</dcterms:created>
  <dc:creator>1</dc:creator>
  <dc:description/>
  <dc:language>en-US</dc:language>
  <cp:lastModifiedBy>1</cp:lastModifiedBy>
  <dcterms:modified xsi:type="dcterms:W3CDTF">2012-02-25T17:53:2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