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070-1789-42F0-9E66-87AC3AC8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290-5014-4CC5-B510-12D4B51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1A8-BE57-4E26-8C68-08636DCA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5E1-C521-4906-A52C-9461C794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A88-0223-4E82-9B12-851FEFB4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2A95-D94D-43A7-9F69-5C8D23CB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21D6-0574-4260-86AE-5AF6AA1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A7F-3821-4D32-87C9-739B6B61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84CF-0E31-4D20-BCE3-4B5A4A08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7538-C1F4-423F-B77C-8B22998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BF27-65B3-4B9E-91AA-F9F90543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715-661A-47FA-AFA7-4A6E9EA6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BCB3-C27E-46A7-AD2B-21CE5A96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65A-C266-4EF0-9A82-45749C9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EB7F-1D73-45D6-AD94-A8E9B40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4654-CBE8-4B16-A768-927727EF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0CDD-3E3A-497F-8534-BA720B56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C24-3B53-47D6-B060-02937383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D85-8C23-4AA7-994F-1E6D0919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5D5-BFC1-44EA-BA8F-2FD5CFF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1E1-4EF6-4A1E-9F36-C77EB38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7E2-10D1-4071-963D-947EC39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7FF-0FD0-4E35-B02B-34051C71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63B-F623-4953-AB63-F143BEF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4C71B5-9B4C-4A8D-8FCE-4E7FEE8F561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19600E-FFDD-41C6-B536-7199F1E90083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fremova/242320/&#1057;&#1074;&#1103;&#1079;&#1072;&#1085;&#1085;&#1099;&#1081;" TargetMode="External"/><Relationship Id="rId2" Type="http://schemas.openxmlformats.org/officeDocument/2006/relationships/hyperlink" Target="http://dic.academic.ru/dic.nsf/efremova/234111/&#1056;&#1072;&#1079;&#1075;&#1091;&#1083;&#1100;&#1085;&#1099;&#1081;" TargetMode="External"/><Relationship Id="rId3" Type="http://schemas.openxmlformats.org/officeDocument/2006/relationships/hyperlink" Target="http://ru.wikipedia.org/wiki/&#1056;&#1080;&#1084;&#1083;&#1103;&#1085;&#1077;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cc0000"/>
                </a:solidFill>
                <a:latin typeface="Arial"/>
              </a:rPr>
              <a:t>Человек и история.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Verdana"/>
              </a:rPr>
              <a:t>Урок-размышление по рассказу В.В.Набокова «Посещение музея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Verdana"/>
              </a:rPr>
              <a:t>Микушева Т.А., учитель русского языка и литератур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190960" cy="18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248520" y="304920"/>
            <a:ext cx="259056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Музей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чреждение, занимающееся собиранием, изучением, хранением и экспонированием предметов — памятников естественной истории, материальной и духовной культуры, а также просветительской и популяризаторской деятельностью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944720" cy="146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048120" y="3409920"/>
            <a:ext cx="3962160" cy="2968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858000" y="2743200"/>
            <a:ext cx="20509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1924200" cy="116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971800" y="304920"/>
            <a:ext cx="167652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96732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В.В.Набоков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(1899 — 1977) — русский и американский писатель; прозаик, поэт, драматург, литературовед, переводчик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ехал из России в 19 лет после революци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286000" cy="316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266724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733920" y="4010040"/>
            <a:ext cx="19810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938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7800" y="914400"/>
            <a:ext cx="236376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62920" y="380880"/>
            <a:ext cx="1361880" cy="18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762600" y="3733920"/>
            <a:ext cx="238140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486400" y="2057400"/>
            <a:ext cx="2048040" cy="3040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114800" y="3809880"/>
            <a:ext cx="1828800" cy="2587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62120" y="4267080"/>
            <a:ext cx="2833560" cy="19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…</a:t>
            </a: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один мой парижский приятель, человек со странностями…попросил меня зайти в тамошний музей, где, по его сведениям, должен был находиться </a:t>
            </a: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ортрет</a:t>
            </a: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его деда кисти Леру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111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1752480" cy="251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809880" y="3657600"/>
            <a:ext cx="19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181480" y="266688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163332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590920" y="2590920"/>
            <a:ext cx="16970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бор снова заиграл со мною в прятки….                        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229280" cy="3162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30704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23623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бор в Реймс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486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.Ван Гог «Собор в Сен-Реми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акх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-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связа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с культом Вакха, вакханалией. 2. перен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разгуль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буйный, исступленно-веселы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акханали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— так называли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римлян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оргические и мистические празднества в честь бога Вакха, на которых планировалось множество различных преступлений и политических тайных сговоров. Они соединялись с диким, исступленным разгулом самых низших животных страстей и нередко сопровождались насилиями и убийств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38080" y="2666880"/>
            <a:ext cx="4486320" cy="3571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5880" y="3429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Фашисты сжигают книги великих писател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торая Мировая вой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939 -1945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81640" cy="3200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3505320" cy="2438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4486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d9d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 1938 году В.Набоков уезжает в Соединенные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Штаты Амер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647880" cy="3200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714840" cy="3276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5401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38:37Z</dcterms:created>
  <dc:creator>User</dc:creator>
  <dc:description/>
  <dc:language>en-US</dc:language>
  <cp:lastModifiedBy>Customer</cp:lastModifiedBy>
  <dcterms:modified xsi:type="dcterms:W3CDTF">2009-04-05T06:15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