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32E-6F74-442D-8E79-E8897497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4D7-67FE-46DA-A680-FF292749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AC5-276C-4AD8-A225-B3FCCAD2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DAC-941A-4A72-BCBE-896FB977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D28-D494-461A-9DBA-78C6327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20B-EAC3-4517-AB39-D5F6B79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CFC-E7D4-44E3-BBFD-40B458D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719-A4B0-48DE-B207-F34A27D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E9D-DAD7-4585-81D4-5C7A916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C98-9211-47F4-B676-5452B4E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B13-FE65-4FB8-9141-47A5FC5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A61-B92C-44B6-9468-D6665E9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5A46-88C9-4F11-931C-346E0DE1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hyperlink" Target="http://nearyou.narod.ru/pushkin/P/fam/olga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465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Monotype Corsiva"/>
              </a:rPr>
              <a:t>Подруга дней … суровы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3457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К 250-лет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Арины Родионо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224" t="2835" r="0" b="0"/>
          <a:stretch/>
        </p:blipFill>
        <p:spPr>
          <a:xfrm>
            <a:off x="4788000" y="189000"/>
            <a:ext cx="4356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350028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ти все экспонаты в музее — это дары кобринских жителей. В домике Арины Родионовны удалось воссоздать убранство крестьянской избы конца XVIII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здесь реликвия, которая, по преданию, принадлежала самой пушкинской няне. Это сумка-торба, изготовленная из домотканого полот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Музей Дом няни Пушкина в деревне Кобрино Гатчинского района"/>
          <p:cNvPicPr/>
          <p:nvPr/>
        </p:nvPicPr>
        <p:blipFill>
          <a:blip r:embed="rId2"/>
          <a:stretch/>
        </p:blipFill>
        <p:spPr>
          <a:xfrm>
            <a:off x="395280" y="333360"/>
            <a:ext cx="4032360" cy="303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Музей Дом няни Пушкина в деревне Кобрино Гатчинского района"/>
          <p:cNvPicPr/>
          <p:nvPr/>
        </p:nvPicPr>
        <p:blipFill>
          <a:blip r:embed="rId3"/>
          <a:stretch/>
        </p:blipFill>
        <p:spPr>
          <a:xfrm>
            <a:off x="4572000" y="333360"/>
            <a:ext cx="40323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280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льга Сергеевна Пушкина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естра А.С.Пушк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40440" y="3141720"/>
            <a:ext cx="2857320" cy="352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940360" y="40464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60280"/>
            <a:ext cx="280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268280"/>
            <a:ext cx="280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 Сергеевич Пушкин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брат А.С.Пушк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132000" y="1844640"/>
            <a:ext cx="2868840" cy="3546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03640" y="189000"/>
            <a:ext cx="280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3680" y="2924280"/>
            <a:ext cx="28321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ядька Пушкина – Никита Коз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416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4560" y="458100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ната няни в Михайло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3292200" cy="367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101680"/>
            <a:ext cx="5435640" cy="390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836640"/>
            <a:ext cx="37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шкин в Михайлов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347640" y="260280"/>
            <a:ext cx="56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стерица ведь б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откуда что б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куда разумны шу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говоры, прибау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былицы, был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славной старины!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ушать, так душе отрад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не пил бы и не 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ё бы слушал и си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придумал их так лад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3" descr="Сказки Пушкина"/>
          <p:cNvPicPr/>
          <p:nvPr/>
        </p:nvPicPr>
        <p:blipFill>
          <a:blip r:embed="rId2"/>
          <a:stretch/>
        </p:blipFill>
        <p:spPr>
          <a:xfrm>
            <a:off x="179280" y="1916280"/>
            <a:ext cx="336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зки Арины Родионо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511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18608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лай Иванович Павлищев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уж Ольги Пушки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11002" r="7348" b="0"/>
          <a:stretch/>
        </p:blipFill>
        <p:spPr>
          <a:xfrm>
            <a:off x="179280" y="1989000"/>
            <a:ext cx="4103640" cy="466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3 из 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989000"/>
            <a:ext cx="3981600" cy="453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16360" y="404640"/>
            <a:ext cx="418644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льга Сергеевна Пушки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140000" y="836640"/>
            <a:ext cx="50036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руга дней моих суров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убка дряхлая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в глуши лесов сос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вно, давно ты ждешь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под окном своей свет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юешь, будто на час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медлят поминутно сп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воих наморщенных ру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ядишь в забытые в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черный отдалённый п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ска, предчувствия, з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нят твою всечасно гру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чудится теб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16737" r="0" b="6830"/>
          <a:stretch/>
        </p:blipFill>
        <p:spPr>
          <a:xfrm>
            <a:off x="250920" y="765000"/>
            <a:ext cx="3951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249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 не умрёш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оминан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светлой ю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 поучи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ан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 жизнь поэ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ш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 мной беседовала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екла мо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бражен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от тебе помино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гроб т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жие цв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могила Арины Родионовны"/>
          <p:cNvPicPr/>
          <p:nvPr/>
        </p:nvPicPr>
        <p:blipFill>
          <a:blip r:embed="rId2"/>
          <a:srcRect l="0" t="4461" r="0" b="5464"/>
          <a:stretch/>
        </p:blipFill>
        <p:spPr>
          <a:xfrm>
            <a:off x="4572000" y="692280"/>
            <a:ext cx="43005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640" y="188640"/>
            <a:ext cx="3395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одилась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(21) апреля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58 г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651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ерсница волшебной стар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 вымыслов игривых и печа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бя я знал во дни моей вес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дни утех и снов первонача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ждал тебя; в вечерней ти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влялась ты веселою старуш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адо мной сидела в шушу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больших очках и с резвою грем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, детскую качая колыб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юный слух напевами пле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меж пелен оставила свир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ую сама заворож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ладенчество прошло, как лёгко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отрока беспечного люб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ь важных Муз тебя лишь помнил о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ты его тихонько посети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" descr="Арина Родионовна"/>
          <p:cNvPicPr/>
          <p:nvPr/>
        </p:nvPicPr>
        <p:blipFill>
          <a:blip r:embed="rId2"/>
          <a:stretch/>
        </p:blipFill>
        <p:spPr>
          <a:xfrm>
            <a:off x="5508720" y="1916280"/>
            <a:ext cx="3448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праксин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едор Алекс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3848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Портрет И.А. Ганнибала. Неизвестный художник XVIII в."/>
          <p:cNvPicPr/>
          <p:nvPr/>
        </p:nvPicPr>
        <p:blipFill>
          <a:blip r:embed="rId3"/>
          <a:stretch/>
        </p:blipFill>
        <p:spPr>
          <a:xfrm>
            <a:off x="5148360" y="1484280"/>
            <a:ext cx="30780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27640" y="260280"/>
            <a:ext cx="425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аннибал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брам Петрович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радед А.С.Пушк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76720" y="3357360"/>
            <a:ext cx="40672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вшая родовая усадьба Ганнибалов в Суйд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Лукоморье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2040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Усадьба Суйда. Художник С.Светлицкий. 1974"/>
          <p:cNvPicPr/>
          <p:nvPr/>
        </p:nvPicPr>
        <p:blipFill>
          <a:blip r:embed="rId3"/>
          <a:stretch/>
        </p:blipFill>
        <p:spPr>
          <a:xfrm>
            <a:off x="0" y="2565360"/>
            <a:ext cx="5400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482436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ия Алексеевна Ганниба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бабушка А.С.Пушки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901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64000" y="1915920"/>
            <a:ext cx="32515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льга Сергеевна Пушкина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естра А.С.Пушк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40100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2720" y="260280"/>
            <a:ext cx="33940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гей Львович Пушкин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тец А.С.Пушк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11418" r="0" b="0"/>
          <a:stretch/>
        </p:blipFill>
        <p:spPr>
          <a:xfrm>
            <a:off x="4915080" y="2133720"/>
            <a:ext cx="3933720" cy="440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3262320" cy="431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260280"/>
            <a:ext cx="3745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ежда Осиповна Пушкина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ть А.С.Пушк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Юный Саша 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500280" cy="529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47832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56000" y="5516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шкин с бабушкой Марией Алексе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зей "Домик няни"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деревне Кобри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Домик Арины Родионовны в Кобрино"/>
          <p:cNvPicPr/>
          <p:nvPr/>
        </p:nvPicPr>
        <p:blipFill>
          <a:blip r:embed="rId2"/>
          <a:stretch/>
        </p:blipFill>
        <p:spPr>
          <a:xfrm>
            <a:off x="324000" y="1374840"/>
            <a:ext cx="381636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Музей Дом няни Пушкина в деревне Кобрино Гатчинского района"/>
          <p:cNvPicPr/>
          <p:nvPr/>
        </p:nvPicPr>
        <p:blipFill>
          <a:blip r:embed="rId3"/>
          <a:stretch/>
        </p:blipFill>
        <p:spPr>
          <a:xfrm>
            <a:off x="4788000" y="1376280"/>
            <a:ext cx="3816360" cy="287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386960"/>
            <a:ext cx="813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му замечательному памятнику уже более 200 лет. С виду домик кажется совсем крошечным и малопривлекатель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прочтешь скромную надпись на фасаде и дрогнет сердце: "Здесь жила няня Пушкина - Арина Родионовна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6:27:09Z</dcterms:created>
  <dc:creator>computer3</dc:creator>
  <dc:description/>
  <dc:language>en-US</dc:language>
  <cp:lastModifiedBy>Фатхетдинов А.Ф.</cp:lastModifiedBy>
  <dcterms:modified xsi:type="dcterms:W3CDTF">2008-04-09T10:28:57Z</dcterms:modified>
  <cp:revision>18</cp:revision>
  <dc:subject/>
  <dc:title>Подруга дней … суровых</dc:title>
</cp:coreProperties>
</file>