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pert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B7F-C58F-4FFD-A85E-6DE90910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304-BD93-4341-9B50-0C447B1F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844-A277-4072-8352-11872368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B690-76AC-40AD-9C36-AABAA9F9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2D83-92FB-4C78-8ABB-DF19738D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C651-2C8C-4160-8324-EEF389BA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56FB-DD4D-4D21-AEA6-864EB143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423E-F988-4B62-B8B7-288E80B4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D64E-1FC3-4907-8463-378471F8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399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2E69-CA92-4E9F-896B-A323F3CD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17C5-539B-445A-9051-DC756C41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4C33-EF81-4C6E-8A9B-E134DB93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493C-F853-48ED-8F41-6F528E8B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6572-6988-41EC-98B5-0D2E367F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93E6-44A1-4A34-B328-26F94A69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0917-D08B-49AA-944C-E4CCF30B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3E74-056E-4A22-BEB4-E25FA76E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698-B571-494C-9CA3-660DAE7C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2B3-E58D-4505-B06A-94F5DC37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8E5-335B-457C-9D67-BEE6D389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399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B79-1839-4D45-AED6-E33BBAEE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D60-4432-4D05-A795-9AE9C670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B833-0AC4-49F7-A37D-6F640747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C1C-E7DB-46A3-9CE5-B6C54E84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160"/>
            <a:ext cx="1900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6BA0E9-848A-42D0-8F6C-8BE9C458256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C636DFC-7A91-4426-B788-21E1D2D053C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18680" cy="20559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ert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ert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ert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ert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ert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2492280"/>
            <a:ext cx="7620120" cy="23781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Обобщающие слова при однородных членах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1" name="aper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Wingdings"/>
                <a:ea typeface="Wingdings"/>
              </a:rPr>
              <a:t></a:t>
            </a: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- Обобщающее слово.</a:t>
            </a:r>
            <a:br>
              <a:rPr sz="3600"/>
            </a:b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Правило первое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3366"/>
                </a:solidFill>
                <a:latin typeface="Arial"/>
              </a:rPr>
              <a:t>Если обобщающее слово стоит впереди однородных членов, то перед однородными членами ставится двоеточие. </a:t>
            </a:r>
            <a:endParaRPr b="0" lang="en-US" sz="36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3366"/>
                </a:solidFill>
                <a:latin typeface="Arial"/>
              </a:rPr>
              <a:t>Схема представлена ниже: </a:t>
            </a:r>
            <a:endParaRPr b="0" lang="en-US" sz="36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3366"/>
                </a:solidFill>
                <a:latin typeface="Arial"/>
              </a:rPr>
              <a:t>[</a:t>
            </a:r>
            <a:r>
              <a:rPr b="0" lang="en-GB" sz="3600" spc="-1" strike="noStrike">
                <a:solidFill>
                  <a:srgbClr val="ff3366"/>
                </a:solidFill>
                <a:latin typeface="Wingdings"/>
                <a:ea typeface="Wingdings"/>
              </a:rPr>
              <a:t></a:t>
            </a:r>
            <a:r>
              <a:rPr b="0" lang="en-GB" sz="3600" spc="-1" strike="noStrike">
                <a:solidFill>
                  <a:srgbClr val="ff3366"/>
                </a:solidFill>
                <a:latin typeface="Arial"/>
              </a:rPr>
              <a:t>:   ,   ,   ].</a:t>
            </a:r>
            <a:endParaRPr b="0" lang="en-US" sz="36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3366"/>
                </a:solidFill>
                <a:latin typeface="Arial"/>
              </a:rPr>
              <a:t>                                                             </a:t>
            </a:r>
            <a:endParaRPr b="0" lang="en-US" sz="36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5013360"/>
            <a:ext cx="287280" cy="28872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5013360"/>
            <a:ext cx="287280" cy="28872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11640" y="5013360"/>
            <a:ext cx="289080" cy="28872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1" name="apert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Правило второе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Arial"/>
              </a:rPr>
              <a:t>Если обобщающее слово стоит после однородных членов, то за ними ставится тире.</a:t>
            </a: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Arial"/>
              </a:rPr>
              <a:t>Схема:</a:t>
            </a: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Arial"/>
              </a:rPr>
              <a:t>[    ,    ,    - </a:t>
            </a:r>
            <a:r>
              <a:rPr b="0" lang="en-GB" sz="3200" spc="-1" strike="noStrike">
                <a:solidFill>
                  <a:srgbClr val="ff3366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ff3366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4437000"/>
            <a:ext cx="360360" cy="3603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437000"/>
            <a:ext cx="360360" cy="3603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4437000"/>
            <a:ext cx="360360" cy="3603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1" name="aper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Правило третье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11280" y="1341360"/>
            <a:ext cx="6400800" cy="57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Arial"/>
              </a:rPr>
              <a:t>Если обобщающее слово стоит перед однородными членами , а после них предложение продолжается, то перед однородными членами ставится двоеточие, а после них перед остальной частью предложения-тире.</a:t>
            </a: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66"/>
                </a:solidFill>
                <a:latin typeface="Arial"/>
              </a:rPr>
              <a:t>Схема:</a:t>
            </a: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66"/>
                </a:solidFill>
                <a:latin typeface="Arial"/>
              </a:rPr>
              <a:t>[</a:t>
            </a:r>
            <a:r>
              <a:rPr b="0" lang="en-GB" sz="3200" spc="-1" strike="noStrike">
                <a:solidFill>
                  <a:srgbClr val="ff3366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ff3366"/>
                </a:solidFill>
                <a:latin typeface="Arial"/>
              </a:rPr>
              <a:t>:     ,     ,      - …].</a:t>
            </a: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589720"/>
            <a:ext cx="432000" cy="3603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5589720"/>
            <a:ext cx="432000" cy="3603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5589720"/>
            <a:ext cx="433440" cy="3603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1" name="apert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Показ слайдов для вас подготовил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61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Arial"/>
              </a:rPr>
              <a:t>   </a:t>
            </a:r>
            <a:r>
              <a:rPr b="0" i="1" lang="en-GB" sz="3200" spc="-1" strike="noStrike">
                <a:solidFill>
                  <a:srgbClr val="ff3366"/>
                </a:solidFill>
                <a:latin typeface="Arial"/>
              </a:rPr>
              <a:t> </a:t>
            </a:r>
            <a:r>
              <a:rPr b="0" i="1" lang="en-GB" sz="3600" spc="-1" strike="noStrike">
                <a:solidFill>
                  <a:srgbClr val="ff3366"/>
                </a:solidFill>
                <a:latin typeface="Arial"/>
              </a:rPr>
              <a:t>Сергеева</a:t>
            </a:r>
            <a:endParaRPr b="0" lang="en-US" sz="36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ff3366"/>
                </a:solidFill>
                <a:latin typeface="Arial"/>
              </a:rPr>
              <a:t>               </a:t>
            </a:r>
            <a:r>
              <a:rPr b="0" i="1" lang="en-GB" sz="3600" spc="-1" strike="noStrike">
                <a:solidFill>
                  <a:srgbClr val="ff3366"/>
                </a:solidFill>
                <a:latin typeface="Arial"/>
              </a:rPr>
              <a:t>Виктория</a:t>
            </a:r>
            <a:endParaRPr b="0" lang="en-US" sz="36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ff3366"/>
                </a:solidFill>
                <a:latin typeface="Arial"/>
              </a:rPr>
              <a:t>                      </a:t>
            </a:r>
            <a:r>
              <a:rPr b="0" i="1" lang="en-GB" sz="3600" spc="-1" strike="noStrike">
                <a:solidFill>
                  <a:srgbClr val="ff3366"/>
                </a:solidFill>
                <a:latin typeface="Arial"/>
              </a:rPr>
              <a:t>Владимировна </a:t>
            </a:r>
            <a:endParaRPr b="0" lang="en-US" sz="36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ff3366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ff3366"/>
                </a:solidFill>
                <a:latin typeface="Arial"/>
              </a:rPr>
              <a:t>                                   </a:t>
            </a:r>
            <a:r>
              <a:rPr b="0" i="1" lang="en-GB" sz="3600" spc="-1" strike="noStrike">
                <a:solidFill>
                  <a:srgbClr val="ff3366"/>
                </a:solidFill>
                <a:latin typeface="Arial"/>
              </a:rPr>
              <a:t>Всё!!!                  </a:t>
            </a:r>
            <a:endParaRPr b="0" lang="en-US" sz="36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3366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1" name="aper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