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F0B-7CC1-4BC8-9BC2-21BCBA54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EC6-857E-4890-8608-6EBC3F4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195-46D6-4754-8BD5-0B648B4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99E-2BC1-47E1-8CAA-5D951249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DABF-C3C8-4439-A39C-C1DA5CC9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0AD-6638-470E-B970-74D9A69C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50AB-26EE-4F90-A4D3-B333CEE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C3B-21D8-464D-BE6D-FB716CC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EA0B-6603-4D2D-BD55-01C4604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793-8F3E-45FB-AA3B-BE951F12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6D29-2C84-40F1-8220-868347F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CE8-0B2D-4B99-BF38-422172B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CC5-EFCE-4B16-B980-68C22A7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1294-C55E-47D3-B2FA-884F408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DA1E-DA1B-4175-84C3-C60520E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A0DD-CBBD-4C78-9F1B-9D2EC879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769-8D3A-4EE4-A6A3-1933FC0C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DDE-A468-4B95-8341-E2CAB0F7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C78-D51A-4563-8F0C-C171555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063-95DD-4AA2-945D-96D9FB4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558-E211-4BE9-8E18-8033036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89C-A210-4FD3-B6FB-07C59A3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F97-A6EE-4106-840F-8F21E44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58B-8D1D-4B48-95B8-0A2D6CE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2DE-7150-456D-A87F-2F456F8FA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11D-A5F9-4627-AD4E-ABE7F0C73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za.ru/pics/2008/04/23/38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26d18"/>
                </a:solidFill>
                <a:latin typeface="Times New Roman"/>
              </a:rPr>
              <a:t>Охрана растений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806800">
            <a:off x="3994200" y="2397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81120" y="5927760"/>
            <a:ext cx="756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60"/>
            <a:ext cx="48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ть, есть душа у каждого цветк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вой взгляд и стать у каждой есть травинки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вет и рисунок венчика, листк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лепестка, и пестика с тычинк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 каждого цветка есть жизни срок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ть время детства, юности, цветенья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лодоношенья, старости порог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ть время сна и время пробужден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3724200" cy="335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374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нашей стране проводится большая работа по охране растений. Редкие растения запрещено собирать. Под особой защитой они находятся в заповедниках. Много редких растений со всего мира выращивают в ботанических са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ечно, охранять надо не только редкие, но и другие, даже обычные виды растений. Каждый должен выполнять правила поведения в природе, больше сажать растений в городах и сё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093080" y="2133720"/>
            <a:ext cx="1871640" cy="1496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8000" y="5433840"/>
            <a:ext cx="2016360" cy="14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в природе всё взаимосвязано. Поэтому охране растений помогает борьба с загрязнением воздуха и воды, охрана насекомых- опылителей, хищных насекомых, охрана на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295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08360" y="4365720"/>
            <a:ext cx="2305080" cy="2158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400480" cy="220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59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руках человека красота и богатство родной земл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МНИ ОБ ЭТОМ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482472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ерегите эти земли, эти воды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же малую былиночку любя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ерегите всех зверят внутри природы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бивайте лишь зверей внутри себя!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40000" y="3333600"/>
            <a:ext cx="4511520" cy="352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хорошо, что на земле есть раст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и выделяют в воздух кислород, необходимый для дыхания живых существ. Для животных растения- это и дом, и пища. Люди тоже питаются растениями и продуктами, полученными из них. Многие растения- лекарствен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2521080" cy="344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локна хлопчатника и льна идут на изготовления тканей. Не могут обойтись люди без древесины. А сколько радостей доставляет нам красота растений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 сожалению, хозяйственная деятельность людей изменяет условия жизни растений. К примеру, на месте леса люди строят завод или роют карьер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месте луга устраивают ферму. Много дикорастущих растений при этом погибает. Так постепенно человек наступает на природ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455840"/>
            <a:ext cx="5076720" cy="406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чень многие растения становятся редкими из-за того, что люди рвут их ради красивых цветков. Такие растения не дадут плодов и семян, а значит, и потомство. Сорванные растения быстро вянут, а в природе они еще долго могли бы радовать нас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600720" cy="27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3640" y="-5532840"/>
            <a:ext cx="266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404640"/>
            <a:ext cx="793116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огие замечательные растения, например эдельвейс, водяной орех, находятся под угрозой исчезновения. Редкими стали кувшинка белая, волчье лыко, купальница, сон-трава. Мало осталось  возле больших городов ландышей, колокольчиков. Все эти растения нуждаются в охра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808360" cy="186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032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ьное богатство- лекарственные растения. Некоторые виды лекарственных растений из-за неумеренного сбора уже стали редкими. Это первоцвет, валериана, плаун. Их совсем не надо собирать. Лучше всего заготавливать подорожник, пастушью сумку, пижму, тысячелистник, птичью гречиш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00720" cy="232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4019400"/>
            <a:ext cx="3708360" cy="273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ходясь в природе, нельзя срывать растения для букетов. Букеты можно составлять только из тех растений, которые выращены челове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ирать лекарственные растения можно только в тех местах, где их много. Часть растений нужно обязательно оставлять в природ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16360" y="5143680"/>
            <a:ext cx="1571400" cy="1714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84720" y="5257800"/>
            <a:ext cx="15624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ет, что люди, даже не срывая растений, губят их. Причина этого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таптыв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Идет человек по лесу и не замечает, как у него под ногами ломаются, вытаптываются в землю хрупкие травы. К тому же под ногами людей уплотняется почва. В такой почве остаётся мало воздуха, воды, и растения на ней жить не могут, они погиб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Картинка 8 из 12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675240"/>
            <a:ext cx="4103640" cy="3182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роде, особенно в лесу, нужно стараться ходить по тропинкам, чтобы растения не погибли от вытапты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581120" cy="174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21:16Z</dcterms:created>
  <dc:creator>Пользователь</dc:creator>
  <dc:description/>
  <dc:language>en-US</dc:language>
  <cp:lastModifiedBy>Пользователь</cp:lastModifiedBy>
  <dcterms:modified xsi:type="dcterms:W3CDTF">2012-02-13T08:17:45Z</dcterms:modified>
  <cp:revision>9</cp:revision>
  <dc:subject/>
  <dc:title>Слайд 1</dc:title>
</cp:coreProperties>
</file>