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6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56F-8EA3-4B7D-93D5-D045F0C5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76B-27B3-4CA9-8127-05C3A0C3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9E6-CA30-400C-866A-95FDD7B1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D51-4BE2-44C1-A0D3-9B28190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94F-0615-4E46-AA1E-8CBF6DC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479-54EB-4670-A857-232DB17A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F26-61C0-468B-B1FB-9DD3CC1A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8AF-662E-408E-9664-E0C6CA8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C19-6C29-45AB-B615-98DE4EE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988-95B5-48AF-AF55-2C787B1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25C-DEA3-49B9-83FD-33CE672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DB8-C3B1-42F4-A6F4-79A9C56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465-29C5-4347-9C42-57675C2C3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396720"/>
            <a:ext cx="8437680" cy="374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292720" y="5589360"/>
            <a:ext cx="385128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фимова Светла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У СОШ № 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3" action="ppaction://hlinksldjump"/>
              </a:rPr>
              <a:t>Словарн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каж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ем по учебнику и в тетрад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минут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Работаем в пар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ем устно по учебни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5" action="ppaction://hlinksldjump"/>
              </a:rPr>
              <a:t>Закрепим изучаемую те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им свои зн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Подведем ито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0" y="262080"/>
            <a:ext cx="9156600" cy="131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…дведь                         М…ск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рова                            к…нь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р…ндаш                    д…жур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р…д                              вор…б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…бя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Documents and Settings\ИРИНА\Рабочий стол\БУКВЫ\Все букофки\Букофки фонарики\o.gif"/>
          <p:cNvPicPr/>
          <p:nvPr/>
        </p:nvPicPr>
        <p:blipFill>
          <a:blip r:embed="rId2"/>
          <a:stretch/>
        </p:blipFill>
        <p:spPr>
          <a:xfrm rot="20250000">
            <a:off x="3651120" y="1654200"/>
            <a:ext cx="1092240" cy="1052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:\Documents and Settings\ИРИНА\Рабочий стол\БУКВЫ\Все букофки\Букофки фонарики\e.gif"/>
          <p:cNvPicPr/>
          <p:nvPr/>
        </p:nvPicPr>
        <p:blipFill>
          <a:blip r:embed="rId3"/>
          <a:stretch/>
        </p:blipFill>
        <p:spPr>
          <a:xfrm rot="922800">
            <a:off x="3965400" y="3431880"/>
            <a:ext cx="124308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Documents and Settings\ИРИНА\Рабочий стол\БУКВЫ\Все букофки\Букофки фонарики\a.gif"/>
          <p:cNvPicPr/>
          <p:nvPr/>
        </p:nvPicPr>
        <p:blipFill>
          <a:blip r:embed="rId4"/>
          <a:stretch/>
        </p:blipFill>
        <p:spPr>
          <a:xfrm rot="1525800">
            <a:off x="4038120" y="5195520"/>
            <a:ext cx="11001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-158760" y="-6480"/>
            <a:ext cx="9558360" cy="1249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едь                         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ва                            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ь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даш                    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ый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                              во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чищали  пл    ща    ку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  снег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C:\Rovermate\ФОТОГРАФИИ\фото\Школа\Аним\fa29ca72f0a11ac44d55a0e1c44b4de5.gif"/>
          <p:cNvPicPr/>
          <p:nvPr/>
        </p:nvPicPr>
        <p:blipFill>
          <a:blip r:embed="rId3"/>
          <a:stretch/>
        </p:blipFill>
        <p:spPr>
          <a:xfrm flipH="1">
            <a:off x="6948000" y="1916280"/>
            <a:ext cx="1992600" cy="13572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24000" y="494172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бя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214280" y="49291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858000" y="485784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643720" y="4857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7072200" y="48578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5929200" y="48578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-6480" y="96840"/>
            <a:ext cx="9156960" cy="175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…чник               пов…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…дняк                гр…з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в…тлячок          кру…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заморо…ки          ло…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не…ки                 зу…к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699760" cy="114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-324000" y="981000"/>
            <a:ext cx="9468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жкино л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книг своя жизнь. Они тоже с г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ми мог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ь, если их не содержать в 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те, 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. Жучки, плесень и гр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ь губят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лечат книги в библиотеках? Изобр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ую бумажную массу, которой пропиты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, потом выпрямляют их с помощ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ы, при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т прочность и 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з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ошая книга очень нужна человеку! Б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2040" indent="-273960">
              <a:spcBef>
                <a:spcPts val="799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417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399600" cy="2584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б…гают-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а…ки-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…рил-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го…ка-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…кий-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…рмить-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…па-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0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6480" y="25560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ТРО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2 гласные, 2 сл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Т – 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т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– согл.,глух., парн., 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 – 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– согл., зв., непарн., 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О – 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– гл., безу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П –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П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– согл., глух., парн., 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А – 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d0d0d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- гл.,удар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5 б., 5 з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1738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ЕПЕРЬ Я ЗНАЮ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4:46:05Z</dcterms:created>
  <dc:creator>света</dc:creator>
  <dc:description/>
  <dc:language>en-US</dc:language>
  <cp:lastModifiedBy>Ефимова</cp:lastModifiedBy>
  <dcterms:modified xsi:type="dcterms:W3CDTF">2010-11-18T14:41:03Z</dcterms:modified>
  <cp:revision>27</cp:revision>
  <dc:subject/>
  <dc:title>Правописание безударных гласных и парных согласных в корне слова.</dc:title>
</cp:coreProperties>
</file>