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3D2-2F1E-453D-B8FA-F9911BC5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08B-4AA9-4DA4-B066-4653B7E9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A16-145C-4D63-929D-815E8982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7F8-2680-4932-8656-86B598D4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9383-CA80-4760-8AC7-4069DC71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33EB-7B66-4715-A629-5AFC0FE4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6C89-E1BE-439E-BE5A-C68CCBF6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1130-D7B4-4231-A161-452C8158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9990-6112-457B-BA1A-AFBBA8BA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0381-DCEE-4D7A-AD59-5BC06BDB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B531-A9A6-469D-B148-CE0F4F24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1FF-9601-499E-BDB3-79C9DB6F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94E8-9E50-4AD1-A2E4-104E285E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82AF-6564-4027-85CA-C4F911B0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9D1E-184C-43A4-8ADE-BC18C080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ACE0-FCC0-4892-9841-E530845B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6989-0E72-46D3-905E-62227ED8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53CB-4F24-4207-ADB3-5B83823F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3D96-209E-4C01-B5D2-9E7651FC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9FEE-A84D-4C4F-A79E-6B09F95A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3FB18-E4AB-4C9E-B026-04B881A6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4C95-81AA-417F-93E8-C8A3A35D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CBE-6DDB-438D-9397-D2FE9227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17718-3FDE-4E13-93CC-45000C46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A44D-C90B-4D88-8C8D-1E45AC0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0315-2BD9-44A7-A741-F740048E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31B5-DF79-4CCC-AEE5-CFEE9E3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C0B7-902D-4486-975C-46544AFB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013B-CA82-4E83-88C2-1088CFE5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B7E0-93BE-446A-8009-B8A47643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925EE-F088-4F12-8333-7AC6C678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6439C-D137-4CE3-BE2B-A7ADDAB4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1047E-9CDB-47DA-A686-C73DB7EA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B1F-C8E6-41F8-A0D8-675CA022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7F804-59A8-4CFC-9DD0-FFEB13E2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F371-EFB6-4E7C-9AC2-27C26DFC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2AC6-DD62-4882-B467-983C657F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1E5D-B94B-404F-9EA0-B88A1407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E270-48B2-420E-A214-DEFE1B17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E38F-108E-476C-8262-47E9A348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70A5-0E27-4E47-9169-5E201EC7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B621-17BA-4FD3-9642-8A726448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BA7D-B91F-4E96-9353-704C6214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29DF6-F792-40CE-99F2-39094A93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4F3-D615-4CB7-98FC-31897B2E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D48B4-4481-4C14-8170-4F617C4A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6CF27-0F75-47B5-B350-12B795CF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003B2-FC4B-4A36-A124-FBF2C376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3F21B-9076-4882-B543-965E65F6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4620A-2FAA-4D76-9BB6-29C2215F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B0417-5C70-48F9-AB4F-DC1CCDC6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C8A8E-99C5-4B7B-8A9D-A264270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EDC59-5EC3-4F7D-B7FB-0FF2C4A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E832-6C64-4C41-8652-6746F4D4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6126-6242-40AC-AF19-5C1AD6D9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987-54FF-46A4-BFDE-F4BD8237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2F93B-0B37-4F4E-9602-D40559CB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67587-BEDB-4916-A8B0-BC41C537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BD521-5D98-4084-ABFB-EAF6AB66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11C8A-D5B0-4B40-AC54-6661741C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ADAB-1631-4EC9-AB22-3FB6CF00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DE80A-4E15-4730-9A44-A1EB62A0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0A543-3512-419E-B023-1F37AC39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78FE4-F205-48AA-AF8D-70490913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F7956-0CCE-4A46-960B-388D732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06D2D-A0E8-429E-AF39-44685A2D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F9B-9704-4656-9675-872871A2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3F8E9-376E-4F9D-9E44-7935390C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9C850-0FEF-4698-991B-A8D2C4E4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B9B1E-93D7-494A-99DD-D51CF249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9456-7EAA-45A5-80C3-3EE03109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F4E-BBE2-41A4-A898-E7D0024B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88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88ba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c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88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0E96-AEDD-411B-8CD3-9F74CC18F8B8}" type="slidenum">
              <a:rPr b="1" lang="en-US" sz="1200" spc="-1" strike="noStrike">
                <a:solidFill>
                  <a:srgbClr val="ff88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88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88ba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c35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88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E449-4EE5-4D06-9EE2-CFEAFA729943}" type="slidenum">
              <a:rPr b="1" lang="en-US" sz="1200" spc="-1" strike="noStrike">
                <a:solidFill>
                  <a:srgbClr val="ff88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88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88ba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c35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88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2284-264E-49AC-B4EE-2D3BF7A51AB3}" type="slidenum">
              <a:rPr b="1" lang="en-US" sz="1200" spc="-1" strike="noStrike">
                <a:solidFill>
                  <a:srgbClr val="ff88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666666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c35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88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88ba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c35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88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2C7F-AEE1-44BB-8042-754B0D62CF97}" type="slidenum">
              <a:rPr b="1" lang="en-US" sz="1200" spc="-1" strike="noStrike">
                <a:solidFill>
                  <a:srgbClr val="ff88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891C-1611-4686-9032-A2085D8BBE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79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b80c35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b80c35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b80c35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b80c35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b80c35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c35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41CF-44B0-4D9C-AAB5-FE4098967C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26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b80c35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b80c35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b80c35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b80c35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b80c35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b80c35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69" name="Прямоугольник 2" descr=""/>
          <p:cNvPicPr/>
          <p:nvPr/>
        </p:nvPicPr>
        <p:blipFill>
          <a:blip r:embed="rId1"/>
          <a:stretch/>
        </p:blipFill>
        <p:spPr>
          <a:xfrm>
            <a:off x="-1189080" y="2968560"/>
            <a:ext cx="12241080" cy="31402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6" descr="bee-big-4.jpg"/>
          <p:cNvPicPr/>
          <p:nvPr/>
        </p:nvPicPr>
        <p:blipFill>
          <a:blip r:embed="rId2"/>
          <a:stretch/>
        </p:blipFill>
        <p:spPr>
          <a:xfrm>
            <a:off x="2627280" y="836640"/>
            <a:ext cx="4464000" cy="297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stroenie-pchel (1)"/>
          <p:cNvPicPr/>
          <p:nvPr/>
        </p:nvPicPr>
        <p:blipFill>
          <a:blip r:embed="rId1"/>
          <a:stretch/>
        </p:blipFill>
        <p:spPr>
          <a:xfrm>
            <a:off x="755640" y="1052640"/>
            <a:ext cx="7705800" cy="4680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052280"/>
            <a:ext cx="64008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13840"/>
            <a:ext cx="7499520" cy="14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c35"/>
                </a:solidFill>
                <a:latin typeface="Times New Roman"/>
              </a:rPr>
              <a:t>ГЛАЗА ПЧЕЛ – ФАСЕТКИ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74" name="Picture 5" descr="glaza-pchel"/>
          <p:cNvPicPr/>
          <p:nvPr/>
        </p:nvPicPr>
        <p:blipFill>
          <a:blip r:embed="rId1"/>
          <a:stretch/>
        </p:blipFill>
        <p:spPr>
          <a:xfrm>
            <a:off x="2684520" y="3836880"/>
            <a:ext cx="4819680" cy="2638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zrenie-pchel"/>
          <p:cNvPicPr/>
          <p:nvPr/>
        </p:nvPicPr>
        <p:blipFill>
          <a:blip r:embed="rId2"/>
          <a:stretch/>
        </p:blipFill>
        <p:spPr>
          <a:xfrm>
            <a:off x="1928880" y="1700280"/>
            <a:ext cx="6399000" cy="2136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371600" y="2437920"/>
            <a:ext cx="3124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lnSpc>
                <a:spcPct val="13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ыльца и нектар смешиваются вместе и складываются в небольшие ячейки (соты). Поверх массы откладываются яйца будущих пчёл, после чего ячейка герметически закрыв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9960" indent="-240120">
              <a:lnSpc>
                <a:spcPct val="13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9960" indent="-240120">
              <a:lnSpc>
                <a:spcPct val="13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ТЫ</a:t>
            </a:r>
            <a:endParaRPr b="0" lang="en-US" sz="8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78" name="Содержимое 4" descr="250px-Bienenwabe_mit_Eiern_und_Brut_5.jpg"/>
          <p:cNvPicPr/>
          <p:nvPr/>
        </p:nvPicPr>
        <p:blipFill>
          <a:blip r:embed="rId1"/>
          <a:stretch/>
        </p:blipFill>
        <p:spPr>
          <a:xfrm>
            <a:off x="5267160" y="2681280"/>
            <a:ext cx="34261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ГА. ПЧЕЛЫ ДЕЛАЮТ ЕЕ ИЗ ПЫЛЬЦЫ. ОНА ОЧЕНЬ ПИТАТЕЛЬНАЯ.  </a:t>
            </a:r>
            <a:endParaRPr b="0" lang="en-US" sz="37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80" name="Picture 4" descr="800px-Pierzga_2006"/>
          <p:cNvPicPr/>
          <p:nvPr/>
        </p:nvPicPr>
        <p:blipFill>
          <a:blip r:embed="rId1"/>
          <a:stretch/>
        </p:blipFill>
        <p:spPr>
          <a:xfrm>
            <a:off x="900000" y="3201840"/>
            <a:ext cx="3240360" cy="2159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im_150"/>
          <p:cNvPicPr/>
          <p:nvPr/>
        </p:nvPicPr>
        <p:blipFill>
          <a:blip r:embed="rId2"/>
          <a:stretch/>
        </p:blipFill>
        <p:spPr>
          <a:xfrm>
            <a:off x="5083200" y="3357720"/>
            <a:ext cx="3492360" cy="226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6792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ПОЛИС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826560" y="3068640"/>
            <a:ext cx="2737080" cy="11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ают из сосновой смол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ется для лечения ра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4" descr="im_23"/>
          <p:cNvPicPr/>
          <p:nvPr/>
        </p:nvPicPr>
        <p:blipFill>
          <a:blip r:embed="rId1"/>
          <a:stretch/>
        </p:blipFill>
        <p:spPr>
          <a:xfrm>
            <a:off x="4932360" y="3141720"/>
            <a:ext cx="2948040" cy="193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6:47:38Z</dcterms:created>
  <dc:creator>janett</dc:creator>
  <dc:description/>
  <dc:language>en-US</dc:language>
  <cp:lastModifiedBy>Имя</cp:lastModifiedBy>
  <dcterms:modified xsi:type="dcterms:W3CDTF">2012-02-25T13:08:04Z</dcterms:modified>
  <cp:revision>114</cp:revision>
  <dc:subject/>
  <dc:title>Слайд 1</dc:title>
</cp:coreProperties>
</file>