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2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6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14.png" ContentType="image/png"/>
  <Override PartName="/ppt/media/image4.gif" ContentType="image/gif"/>
  <Override PartName="/ppt/media/image7.png" ContentType="image/png"/>
  <Override PartName="/ppt/media/image8.gif" ContentType="image/gif"/>
  <Override PartName="/ppt/media/image13.gif" ContentType="image/gif"/>
  <Override PartName="/ppt/media/image9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ADFB-AEDB-4FB5-849E-DA5DC7384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0E92-A444-469A-A32A-9A5AD6A7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A164-3F52-4BDD-9AB4-00AB16A1B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8F2C-3AE3-44F6-AFD9-05A92E507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4D04-5433-4F4A-BD0C-A81B1C2A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3F16-4FC7-4697-9943-73503771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7FEB-CD6A-40A5-9823-03C0C6DF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2013-BDC9-4266-BC06-1056EB4A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AF54-39C6-4A7A-BBA8-2ECA2A66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68D8-732F-46E0-AD04-CECFDBF6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99FD-9DE8-4F91-A63F-804585D0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0BA3-61B3-4912-87A0-101FDA98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7174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0CE3-AF03-4230-B173-A37F461F2CC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image" Target="../media/image5.jpeg"/><Relationship Id="rId20" Type="http://schemas.openxmlformats.org/officeDocument/2006/relationships/image" Target="../media/image5.jpeg"/><Relationship Id="rId21" Type="http://schemas.openxmlformats.org/officeDocument/2006/relationships/image" Target="../media/image5.jpeg"/><Relationship Id="rId22" Type="http://schemas.openxmlformats.org/officeDocument/2006/relationships/image" Target="../media/image5.jpeg"/><Relationship Id="rId23" Type="http://schemas.openxmlformats.org/officeDocument/2006/relationships/image" Target="../media/image5.jpeg"/><Relationship Id="rId24" Type="http://schemas.openxmlformats.org/officeDocument/2006/relationships/image" Target="../media/image5.jpeg"/><Relationship Id="rId25" Type="http://schemas.openxmlformats.org/officeDocument/2006/relationships/image" Target="../media/image5.jpeg"/><Relationship Id="rId26" Type="http://schemas.openxmlformats.org/officeDocument/2006/relationships/image" Target="../media/image5.jpeg"/><Relationship Id="rId27" Type="http://schemas.openxmlformats.org/officeDocument/2006/relationships/image" Target="../media/image5.jpeg"/><Relationship Id="rId28" Type="http://schemas.openxmlformats.org/officeDocument/2006/relationships/image" Target="../media/image5.jpeg"/><Relationship Id="rId29" Type="http://schemas.openxmlformats.org/officeDocument/2006/relationships/image" Target="../media/image5.jpeg"/><Relationship Id="rId30" Type="http://schemas.openxmlformats.org/officeDocument/2006/relationships/image" Target="../media/image5.jpeg"/><Relationship Id="rId31" Type="http://schemas.openxmlformats.org/officeDocument/2006/relationships/image" Target="../media/image5.jpeg"/><Relationship Id="rId32" Type="http://schemas.openxmlformats.org/officeDocument/2006/relationships/image" Target="../media/image5.jpeg"/><Relationship Id="rId33" Type="http://schemas.openxmlformats.org/officeDocument/2006/relationships/image" Target="../media/image5.jpeg"/><Relationship Id="rId34" Type="http://schemas.openxmlformats.org/officeDocument/2006/relationships/image" Target="../media/image5.jpeg"/><Relationship Id="rId35" Type="http://schemas.openxmlformats.org/officeDocument/2006/relationships/image" Target="../media/image5.jpeg"/><Relationship Id="rId36" Type="http://schemas.openxmlformats.org/officeDocument/2006/relationships/image" Target="../media/image5.jpeg"/><Relationship Id="rId37" Type="http://schemas.openxmlformats.org/officeDocument/2006/relationships/image" Target="../media/image5.jpeg"/><Relationship Id="rId38" Type="http://schemas.openxmlformats.org/officeDocument/2006/relationships/image" Target="../media/image5.jpeg"/><Relationship Id="rId39" Type="http://schemas.openxmlformats.org/officeDocument/2006/relationships/image" Target="../media/image5.jpeg"/><Relationship Id="rId40" Type="http://schemas.openxmlformats.org/officeDocument/2006/relationships/image" Target="../media/image5.jpeg"/><Relationship Id="rId41" Type="http://schemas.openxmlformats.org/officeDocument/2006/relationships/image" Target="../media/image5.jpeg"/><Relationship Id="rId42" Type="http://schemas.openxmlformats.org/officeDocument/2006/relationships/image" Target="../media/image5.jpeg"/><Relationship Id="rId43" Type="http://schemas.openxmlformats.org/officeDocument/2006/relationships/image" Target="../media/image5.jpeg"/><Relationship Id="rId44" Type="http://schemas.openxmlformats.org/officeDocument/2006/relationships/image" Target="../media/image5.jpeg"/><Relationship Id="rId45" Type="http://schemas.openxmlformats.org/officeDocument/2006/relationships/image" Target="../media/image5.jpeg"/><Relationship Id="rId46" Type="http://schemas.openxmlformats.org/officeDocument/2006/relationships/image" Target="../media/image5.jpeg"/><Relationship Id="rId47" Type="http://schemas.openxmlformats.org/officeDocument/2006/relationships/image" Target="../media/image6.jpeg"/><Relationship Id="rId48" Type="http://schemas.openxmlformats.org/officeDocument/2006/relationships/image" Target="../media/image6.jpeg"/><Relationship Id="rId49" Type="http://schemas.openxmlformats.org/officeDocument/2006/relationships/image" Target="../media/image3.jpeg"/><Relationship Id="rId5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8.gif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50000">
              <a:srgbClr val="17174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3280" cy="6857280"/>
            <a:chOff x="0" y="0"/>
            <a:chExt cx="9143280" cy="6857280"/>
          </a:xfrm>
        </p:grpSpPr>
        <p:grpSp>
          <p:nvGrpSpPr>
            <p:cNvPr id="42" name=""/>
            <p:cNvGrpSpPr/>
            <p:nvPr/>
          </p:nvGrpSpPr>
          <p:grpSpPr>
            <a:xfrm>
              <a:off x="0" y="0"/>
              <a:ext cx="9143280" cy="6857280"/>
              <a:chOff x="0" y="0"/>
              <a:chExt cx="9143280" cy="6857280"/>
            </a:xfrm>
          </p:grpSpPr>
          <p:graphicFrame>
            <p:nvGraphicFramePr>
              <p:cNvPr id="43" name=""/>
              <p:cNvGraphicFramePr/>
              <p:nvPr/>
            </p:nvGraphicFramePr>
            <p:xfrm>
              <a:off x="0" y="0"/>
              <a:ext cx="9143280" cy="68572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0" y="0"/>
                        <a:ext cx="9143280" cy="6857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45" name=""/>
              <p:cNvGrpSpPr/>
              <p:nvPr/>
            </p:nvGrpSpPr>
            <p:grpSpPr>
              <a:xfrm>
                <a:off x="3438720" y="4631040"/>
                <a:ext cx="1345680" cy="1698120"/>
                <a:chOff x="3438720" y="4631040"/>
                <a:chExt cx="1345680" cy="16981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4526640" y="6113520"/>
                  <a:ext cx="2577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800" spc="-1" strike="noStrike">
                      <a:solidFill>
                        <a:srgbClr val="a50021"/>
                      </a:solidFill>
                      <a:latin typeface="Arial Black"/>
                    </a:rPr>
                    <a:t>Х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3568680" y="5691600"/>
                  <a:ext cx="260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a50021"/>
                      </a:solidFill>
                      <a:latin typeface="Arial Black"/>
                    </a:rPr>
                    <a:t>1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3826800" y="4670640"/>
                  <a:ext cx="0" cy="1616400"/>
                </a:xfrm>
                <a:prstGeom prst="line">
                  <a:avLst/>
                </a:prstGeom>
                <a:ln w="28440">
                  <a:solidFill>
                    <a:srgbClr val="800000"/>
                  </a:solidFill>
                  <a:miter/>
                  <a:head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flipH="1">
                  <a:off x="3439080" y="6133320"/>
                  <a:ext cx="1225440" cy="1080"/>
                </a:xfrm>
                <a:prstGeom prst="line">
                  <a:avLst/>
                </a:prstGeom>
                <a:ln w="28440">
                  <a:solidFill>
                    <a:srgbClr val="800000"/>
                  </a:solidFill>
                  <a:miter/>
                  <a:head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3560400" y="4631040"/>
                  <a:ext cx="263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800" spc="-1" strike="noStrike">
                      <a:solidFill>
                        <a:srgbClr val="a50021"/>
                      </a:solidFill>
                      <a:latin typeface="Arial Black"/>
                    </a:rPr>
                    <a:t>У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3574080" y="6096240"/>
                  <a:ext cx="4539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800" spc="-1" strike="noStrike">
                      <a:solidFill>
                        <a:srgbClr val="a50021"/>
                      </a:solidFill>
                      <a:latin typeface="Arial Black"/>
                    </a:rPr>
                    <a:t>0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 flipH="1">
                  <a:off x="3438360" y="4717800"/>
                  <a:ext cx="1047240" cy="1349640"/>
                </a:xfrm>
                <a:custGeom>
                  <a:avLst/>
                  <a:gdLst/>
                  <a:ahLst/>
                  <a:rect l="l" t="t" r="r" b="b"/>
                  <a:pathLst>
                    <a:path w="1728" h="2112">
                      <a:moveTo>
                        <a:pt x="0" y="2112"/>
                      </a:moveTo>
                      <a:cubicBezTo>
                        <a:pt x="112" y="2100"/>
                        <a:pt x="224" y="2088"/>
                        <a:pt x="336" y="2064"/>
                      </a:cubicBezTo>
                      <a:cubicBezTo>
                        <a:pt x="448" y="2040"/>
                        <a:pt x="576" y="2000"/>
                        <a:pt x="672" y="1968"/>
                      </a:cubicBezTo>
                      <a:cubicBezTo>
                        <a:pt x="768" y="1936"/>
                        <a:pt x="824" y="1936"/>
                        <a:pt x="912" y="1872"/>
                      </a:cubicBezTo>
                      <a:cubicBezTo>
                        <a:pt x="1000" y="1808"/>
                        <a:pt x="1128" y="1680"/>
                        <a:pt x="1200" y="1584"/>
                      </a:cubicBezTo>
                      <a:cubicBezTo>
                        <a:pt x="1272" y="1488"/>
                        <a:pt x="1296" y="1408"/>
                        <a:pt x="1344" y="1296"/>
                      </a:cubicBezTo>
                      <a:cubicBezTo>
                        <a:pt x="1392" y="1184"/>
                        <a:pt x="1448" y="1032"/>
                        <a:pt x="1488" y="912"/>
                      </a:cubicBezTo>
                      <a:cubicBezTo>
                        <a:pt x="1528" y="792"/>
                        <a:pt x="1544" y="728"/>
                        <a:pt x="1584" y="576"/>
                      </a:cubicBezTo>
                      <a:cubicBezTo>
                        <a:pt x="1624" y="424"/>
                        <a:pt x="1676" y="212"/>
                        <a:pt x="1728" y="0"/>
                      </a:cubicBezTo>
                    </a:path>
                  </a:pathLst>
                </a:custGeom>
                <a:noFill/>
                <a:ln w="57240">
                  <a:solidFill>
                    <a:srgbClr val="00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6750360" y="4631040"/>
                <a:ext cx="1196280" cy="1692720"/>
                <a:chOff x="6750360" y="4631040"/>
                <a:chExt cx="1196280" cy="169272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7692480" y="6108120"/>
                  <a:ext cx="254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800" spc="-1" strike="noStrike">
                      <a:solidFill>
                        <a:srgbClr val="a50021"/>
                      </a:solidFill>
                      <a:latin typeface="Arial Black"/>
                    </a:rPr>
                    <a:t>Х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7063920" y="5687280"/>
                  <a:ext cx="2530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a50021"/>
                      </a:solidFill>
                      <a:latin typeface="Arial Black"/>
                    </a:rPr>
                    <a:t>1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071840" y="6092280"/>
                  <a:ext cx="4392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800" spc="-1" strike="noStrike">
                      <a:solidFill>
                        <a:srgbClr val="a50021"/>
                      </a:solidFill>
                      <a:latin typeface="Arial Black"/>
                    </a:rPr>
                    <a:t>0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7315920" y="4670640"/>
                  <a:ext cx="0" cy="1610640"/>
                </a:xfrm>
                <a:prstGeom prst="line">
                  <a:avLst/>
                </a:prstGeom>
                <a:ln w="28440">
                  <a:solidFill>
                    <a:srgbClr val="800000"/>
                  </a:solidFill>
                  <a:miter/>
                  <a:head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 flipH="1">
                  <a:off x="6756480" y="6127560"/>
                  <a:ext cx="1189800" cy="1440"/>
                </a:xfrm>
                <a:prstGeom prst="line">
                  <a:avLst/>
                </a:prstGeom>
                <a:ln w="28440">
                  <a:solidFill>
                    <a:srgbClr val="800000"/>
                  </a:solidFill>
                  <a:miter/>
                  <a:head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7059960" y="4631040"/>
                  <a:ext cx="2520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800" spc="-1" strike="noStrike">
                      <a:solidFill>
                        <a:srgbClr val="a50021"/>
                      </a:solidFill>
                      <a:latin typeface="Arial Black"/>
                    </a:rPr>
                    <a:t>У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6750360" y="4694760"/>
                  <a:ext cx="1016640" cy="1344960"/>
                </a:xfrm>
                <a:custGeom>
                  <a:avLst/>
                  <a:gdLst/>
                  <a:ahLst/>
                  <a:rect l="l" t="t" r="r" b="b"/>
                  <a:pathLst>
                    <a:path w="1728" h="2112">
                      <a:moveTo>
                        <a:pt x="0" y="2112"/>
                      </a:moveTo>
                      <a:cubicBezTo>
                        <a:pt x="112" y="2100"/>
                        <a:pt x="224" y="2088"/>
                        <a:pt x="336" y="2064"/>
                      </a:cubicBezTo>
                      <a:cubicBezTo>
                        <a:pt x="448" y="2040"/>
                        <a:pt x="576" y="2000"/>
                        <a:pt x="672" y="1968"/>
                      </a:cubicBezTo>
                      <a:cubicBezTo>
                        <a:pt x="768" y="1936"/>
                        <a:pt x="824" y="1936"/>
                        <a:pt x="912" y="1872"/>
                      </a:cubicBezTo>
                      <a:cubicBezTo>
                        <a:pt x="1000" y="1808"/>
                        <a:pt x="1128" y="1680"/>
                        <a:pt x="1200" y="1584"/>
                      </a:cubicBezTo>
                      <a:cubicBezTo>
                        <a:pt x="1272" y="1488"/>
                        <a:pt x="1296" y="1408"/>
                        <a:pt x="1344" y="1296"/>
                      </a:cubicBezTo>
                      <a:cubicBezTo>
                        <a:pt x="1392" y="1184"/>
                        <a:pt x="1448" y="1032"/>
                        <a:pt x="1488" y="912"/>
                      </a:cubicBezTo>
                      <a:cubicBezTo>
                        <a:pt x="1528" y="792"/>
                        <a:pt x="1544" y="728"/>
                        <a:pt x="1584" y="576"/>
                      </a:cubicBezTo>
                      <a:cubicBezTo>
                        <a:pt x="1624" y="424"/>
                        <a:pt x="1676" y="212"/>
                        <a:pt x="1728" y="0"/>
                      </a:cubicBezTo>
                    </a:path>
                  </a:pathLst>
                </a:custGeom>
                <a:noFill/>
                <a:ln w="5724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" name=""/>
              <p:cNvSpPr/>
              <p:nvPr/>
            </p:nvSpPr>
            <p:spPr>
              <a:xfrm>
                <a:off x="3588840" y="444960"/>
                <a:ext cx="546876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ff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Comic Sans MS"/>
                  </a:rPr>
                  <a:t>у=а</a:t>
                </a:r>
                <a:r>
                  <a:rPr b="1" lang="ru-RU" sz="2400" spc="-1" strike="noStrike" baseline="30000">
                    <a:solidFill>
                      <a:srgbClr val="ff0000"/>
                    </a:solidFill>
                    <a:latin typeface="Comic Sans MS"/>
                  </a:rPr>
                  <a:t>х </a:t>
                </a:r>
                <a:r>
                  <a:rPr b="1" lang="ru-RU" sz="2400" spc="-1" strike="noStrike">
                    <a:solidFill>
                      <a:srgbClr val="ff0000"/>
                    </a:solidFill>
                    <a:latin typeface="Comic Sans MS"/>
                  </a:rPr>
                  <a:t>, a &gt; 0, a </a:t>
                </a:r>
                <a:r>
                  <a:rPr b="1" lang="ru-RU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</a:t>
                </a:r>
                <a:r>
                  <a:rPr b="1" lang="ru-RU" sz="2400" spc="-1" strike="noStrike">
                    <a:solidFill>
                      <a:srgbClr val="ff0000"/>
                    </a:solidFill>
                    <a:latin typeface="Comic Sans MS"/>
                  </a:rPr>
                  <a:t> 1, x </a:t>
                </a:r>
                <a:r>
                  <a:rPr b="1" lang="ru-RU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</a:t>
                </a:r>
                <a:r>
                  <a:rPr b="1" lang="ru-RU" sz="2400" spc="-1" strike="noStrike">
                    <a:solidFill>
                      <a:srgbClr val="ff0000"/>
                    </a:solidFill>
                    <a:latin typeface="Comic Sans MS"/>
                  </a:rPr>
                  <a:t> R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0800" y="5343480"/>
                <a:ext cx="1879560" cy="368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ff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00"/>
                    </a:solidFill>
                    <a:latin typeface="Comic Sans MS"/>
                  </a:rPr>
                  <a:t>у=а</a:t>
                </a:r>
                <a:r>
                  <a:rPr b="1" lang="ru-RU" sz="1800" spc="-1" strike="noStrike" baseline="30000">
                    <a:solidFill>
                      <a:srgbClr val="ff0000"/>
                    </a:solidFill>
                    <a:latin typeface="Comic Sans MS"/>
                  </a:rPr>
                  <a:t>х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477880" y="5388120"/>
                <a:ext cx="1708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66"/>
                    </a:solidFill>
                    <a:latin typeface="Comic Sans MS"/>
                  </a:rPr>
                  <a:t>0&lt;a&lt;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78040" y="5388120"/>
                <a:ext cx="1366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cc"/>
                    </a:solidFill>
                    <a:latin typeface="Comic Sans MS"/>
                  </a:rPr>
                  <a:t>a&gt;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2832480" y="1621440"/>
              <a:ext cx="5896440" cy="257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cc0099"/>
                  </a:solidFill>
                  <a:latin typeface="Comic Sans MS"/>
                </a:rPr>
                <a:t>Показательные уравнения: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cc0099"/>
                  </a:solidFill>
                  <a:latin typeface="Comic Sans MS"/>
                </a:rPr>
                <a:t> </a:t>
              </a:r>
              <a:r>
                <a:rPr b="1" lang="ru-RU" sz="3600" spc="-1" strike="noStrike">
                  <a:solidFill>
                    <a:srgbClr val="cc0099"/>
                  </a:solidFill>
                  <a:latin typeface="Comic Sans MS"/>
                </a:rPr>
                <a:t>типы и методы решения.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50000">
              <a:srgbClr val="17174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114480" y="57240"/>
          <a:ext cx="8896320" cy="6589800"/>
        </p:xfrm>
        <a:graphic>
          <a:graphicData uri="http://schemas.openxmlformats.org/drawingml/2006/table">
            <a:tbl>
              <a:tblPr/>
              <a:tblGrid>
                <a:gridCol w="1989000"/>
                <a:gridCol w="6907320"/>
              </a:tblGrid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ТИ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cc"/>
                          </a:solidFill>
                          <a:latin typeface="Arial Black"/>
                        </a:rPr>
                        <a:t>Простейшие показательные уравнения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ПРИМЕ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54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Решение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79280" y="6164640"/>
            <a:ext cx="38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О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ТВЕТ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: 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      -5 ;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195640" y="180324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397240" y="1628640"/>
                <a:ext cx="201132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sSup>
                      <m:e>
                        <m:r>
                          <m:t xml:space="preserve"> 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,5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281320" y="2163600"/>
                <a:ext cx="239544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 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х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,5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2340000" y="2838600"/>
                <a:ext cx="23842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sSup>
                      <m:e>
                        <m:r>
                          <m:t xml:space="preserve"> 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х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,5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2382840" y="3487680"/>
                <a:ext cx="29098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х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,5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2384280" y="3994200"/>
                <a:ext cx="28656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х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,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,5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395440" y="4437000"/>
                <a:ext cx="23068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х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411280" y="5033880"/>
                <a:ext cx="129708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2411280" y="914400"/>
                <a:ext cx="25783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9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,5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50000">
              <a:srgbClr val="17174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114480" y="57240"/>
          <a:ext cx="8896320" cy="6816600"/>
        </p:xfrm>
        <a:graphic>
          <a:graphicData uri="http://schemas.openxmlformats.org/drawingml/2006/table">
            <a:tbl>
              <a:tblPr/>
              <a:tblGrid>
                <a:gridCol w="1989000"/>
                <a:gridCol w="6907320"/>
              </a:tblGrid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ТИ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3366cc"/>
                          </a:solidFill>
                          <a:latin typeface="Arial Black"/>
                        </a:rPr>
                        <a:t>Показательные уравнения, сводящиеся к уравнениям относительно функции одного аргумента.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Sprint SF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ПРИМЕ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48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Решение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23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97000" y="6380640"/>
            <a:ext cx="38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О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ТВЕТ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: 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2301840" y="1284120"/>
                <a:ext cx="60865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6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4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8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2470320" y="1968480"/>
                <a:ext cx="51051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 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6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 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4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3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8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481120" y="2424240"/>
                <a:ext cx="590724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 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sSup>
                      <m:e>
                        <m:r>
                          <m:t xml:space="preserve"> 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6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sSup>
                      <m:e>
                        <m:r>
                          <m:t xml:space="preserve"> 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4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d>
                    <m:sSup>
                      <m:e>
                        <m:r>
                          <m:t xml:space="preserve"> 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8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475000" y="2946240"/>
                <a:ext cx="523548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2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 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 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 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х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80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2455920" y="3405240"/>
                <a:ext cx="417816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 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х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8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446200" y="3841920"/>
                <a:ext cx="23623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 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х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8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2432160" y="4273560"/>
                <a:ext cx="18810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2х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6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448000" y="4700520"/>
                <a:ext cx="16225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 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х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2440080" y="5183280"/>
                <a:ext cx="17413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х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2433600" y="5611680"/>
                <a:ext cx="1416240" cy="4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х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433600" y="5962680"/>
                <a:ext cx="8892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50000">
              <a:srgbClr val="17174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114480" y="57240"/>
          <a:ext cx="8896320" cy="6800400"/>
        </p:xfrm>
        <a:graphic>
          <a:graphicData uri="http://schemas.openxmlformats.org/drawingml/2006/table">
            <a:tbl>
              <a:tblPr/>
              <a:tblGrid>
                <a:gridCol w="1989000"/>
                <a:gridCol w="6907320"/>
              </a:tblGrid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ТИ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6600"/>
                          </a:solidFill>
                          <a:latin typeface="Arial Black"/>
                        </a:rPr>
                        <a:t>Показательные уравнения, сводящиеся к квадратным уравнениям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5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ПРИМЕ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81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Решение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sp>
        <p:nvSpPr>
          <p:cNvPr id="26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95640" y="2060640"/>
            <a:ext cx="682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2459160" y="1317600"/>
                <a:ext cx="376848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 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 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2308320" y="2157480"/>
                <a:ext cx="35892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sSup>
                      <m:e>
                        <m:r>
                          <m:t xml:space="preserve"> </m:t>
                        </m:r>
                      </m:e>
                      <m:sup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⋅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 </m:t>
                        </m:r>
                      </m:e>
                      <m:sup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2279520" y="2878200"/>
                <a:ext cx="416412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 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293920" y="3670200"/>
                <a:ext cx="45547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⋅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 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3</m:t>
                    </m:r>
                    <m:sSup>
                      <m:e>
                        <m:r>
                          <m:t xml:space="preserve"> </m:t>
                        </m:r>
                      </m:e>
                      <m:sup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2265480" y="4541760"/>
                <a:ext cx="38275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sSup>
                          <m:e>
                            <m:r>
                              <m:t xml:space="preserve"> 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d>
                    <m:sSup>
                      <m:e>
                        <m:r>
                          <m:t xml:space="preserve"> 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 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268360" y="5316480"/>
                <a:ext cx="41040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Пусть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тогд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2308320" y="5972040"/>
                <a:ext cx="223992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sSup>
                      <m:e>
                        <m:r>
                          <m:t xml:space="preserve"> 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t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50000">
              <a:srgbClr val="17174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103480" y="2168640"/>
            <a:ext cx="6907320" cy="3622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4480" y="2168640"/>
            <a:ext cx="1989000" cy="3622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103480" y="5791320"/>
            <a:ext cx="6907320" cy="10666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4480" y="5791320"/>
            <a:ext cx="1989000" cy="10666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03480" y="1474920"/>
            <a:ext cx="6907320" cy="693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4480" y="1474920"/>
            <a:ext cx="1989000" cy="693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ПРИМЕ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103480" y="57240"/>
            <a:ext cx="6907320" cy="14176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Arial Black"/>
              </a:rPr>
              <a:t>Показательные уравнения, сводящиеся к квадратным уравнениям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4480" y="57240"/>
            <a:ext cx="1989000" cy="14176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ТИ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14480" y="57240"/>
            <a:ext cx="8896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14480" y="1474920"/>
            <a:ext cx="889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14480" y="2168640"/>
            <a:ext cx="889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14480" y="6858000"/>
            <a:ext cx="8896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14480" y="57240"/>
            <a:ext cx="0" cy="2111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124000" y="57240"/>
            <a:ext cx="0" cy="2147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010800" y="57240"/>
            <a:ext cx="0" cy="2111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08000" y="5791320"/>
            <a:ext cx="889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14480" y="5791320"/>
            <a:ext cx="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010800" y="5791320"/>
            <a:ext cx="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14480" y="2168640"/>
            <a:ext cx="0" cy="362268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9010800" y="2168640"/>
            <a:ext cx="0" cy="362268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2459160" y="1401840"/>
                <a:ext cx="376848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 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 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468360" y="2276640"/>
                <a:ext cx="1222200" cy="16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eqArr>
                              <m:e>
                                <m:r>
                                  <m:t xml:space="preserve">[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,</m:t>
                                </m:r>
                              </m:e>
                              <m:e>
                                <m:r>
                                  <m:t xml:space="preserve">[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,</m:t>
                                </m:r>
                              </m:e>
                            </m:eqArr>
                            <m:r>
                              <m:t xml:space="preserve">[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1908000" y="2205000"/>
                <a:ext cx="1213200" cy="225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</m:e>
                      <m:e/>
                    </m:eqAr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3276720" y="2708280"/>
                <a:ext cx="101124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4" name=""/>
          <p:cNvSpPr/>
          <p:nvPr/>
        </p:nvSpPr>
        <p:spPr>
          <a:xfrm>
            <a:off x="320760" y="4515840"/>
            <a:ext cx="20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 Black"/>
              </a:rPr>
              <a:t>Вернемс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 Black"/>
              </a:rPr>
              <a:t>к переменной Х</a:t>
            </a:r>
            <a:r>
              <a:rPr b="0" lang="en-US" sz="1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429080" y="363636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2419200" y="4487760"/>
                <a:ext cx="157644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,</m:t>
                        </m:r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;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4071960" y="4581360"/>
                <a:ext cx="1724040" cy="11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;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5924520" y="4581360"/>
                <a:ext cx="1239840" cy="11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,</m:t>
                        </m:r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;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7334280" y="4581360"/>
                <a:ext cx="1584360" cy="11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2340000" y="5810400"/>
                <a:ext cx="144000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1" name=""/>
          <p:cNvSpPr/>
          <p:nvPr/>
        </p:nvSpPr>
        <p:spPr>
          <a:xfrm>
            <a:off x="511200" y="61009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О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ТВЕТ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050920" y="5805360"/>
            <a:ext cx="0" cy="10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50000">
              <a:srgbClr val="17174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"/>
          <p:cNvGraphicFramePr/>
          <p:nvPr/>
        </p:nvGraphicFramePr>
        <p:xfrm>
          <a:off x="114480" y="57240"/>
          <a:ext cx="8896320" cy="6800400"/>
        </p:xfrm>
        <a:graphic>
          <a:graphicData uri="http://schemas.openxmlformats.org/drawingml/2006/table">
            <a:tbl>
              <a:tblPr/>
              <a:tblGrid>
                <a:gridCol w="1989000"/>
                <a:gridCol w="6907320"/>
              </a:tblGrid>
              <a:tr h="116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ТИ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6600"/>
                          </a:solidFill>
                          <a:latin typeface="Arial Black"/>
                        </a:rPr>
                        <a:t>Однородные показательные уравнения первой и второй степени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29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ПРИМЕР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33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Решение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sp>
        <p:nvSpPr>
          <p:cNvPr id="33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195640" y="180324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3635280" y="1628640"/>
                <a:ext cx="4245120" cy="6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 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 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 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 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2324160" y="2708280"/>
                <a:ext cx="41799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2301840" y="3691080"/>
                <a:ext cx="421344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2279520" y="4616280"/>
                <a:ext cx="43372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2228760" y="5661000"/>
                <a:ext cx="66358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9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4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9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, </m:t>
                    </m:r>
                    <m:r>
                      <m:rPr>
                        <m:lit/>
                        <m:nor/>
                      </m:rPr>
                      <m:t xml:space="preserve">при х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50000">
              <a:srgbClr val="17174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4" name=""/>
          <p:cNvGraphicFramePr/>
          <p:nvPr/>
        </p:nvGraphicFramePr>
        <p:xfrm>
          <a:off x="114480" y="57240"/>
          <a:ext cx="8896320" cy="6800400"/>
        </p:xfrm>
        <a:graphic>
          <a:graphicData uri="http://schemas.openxmlformats.org/drawingml/2006/table">
            <a:tbl>
              <a:tblPr/>
              <a:tblGrid>
                <a:gridCol w="1989000"/>
                <a:gridCol w="6907320"/>
              </a:tblGrid>
              <a:tr h="107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ТИ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6600"/>
                          </a:solidFill>
                          <a:latin typeface="Arial Black"/>
                        </a:rPr>
                        <a:t>Однородные показательные уравнения первой и второй степени.</a:t>
                      </a:r>
                      <a:r>
                        <a:rPr b="0" lang="ru-RU" sz="2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92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ПРИМЕР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1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Решение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6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35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95640" y="180324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3711600" y="1268280"/>
                <a:ext cx="4245120" cy="6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 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 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 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 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2195640" y="2133720"/>
                <a:ext cx="255420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9</m:t>
                        </m:r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4</m:t>
                        </m:r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9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2171880" y="3068640"/>
                <a:ext cx="17524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2171880" y="4010040"/>
                <a:ext cx="218412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2205000" y="5084640"/>
                <a:ext cx="143028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2192400" y="5516640"/>
                <a:ext cx="9777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2205000" y="5805360"/>
                <a:ext cx="12924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2228760" y="6280200"/>
                <a:ext cx="12970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83" name=""/>
          <p:cNvSpPr/>
          <p:nvPr/>
        </p:nvSpPr>
        <p:spPr>
          <a:xfrm>
            <a:off x="152280" y="6355440"/>
            <a:ext cx="38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О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ТВЕТ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: 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50000">
              <a:srgbClr val="17174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"/>
          <p:cNvGraphicFramePr/>
          <p:nvPr/>
        </p:nvGraphicFramePr>
        <p:xfrm>
          <a:off x="114480" y="57240"/>
          <a:ext cx="8896320" cy="6800400"/>
        </p:xfrm>
        <a:graphic>
          <a:graphicData uri="http://schemas.openxmlformats.org/drawingml/2006/table">
            <a:tbl>
              <a:tblPr/>
              <a:tblGrid>
                <a:gridCol w="1989000"/>
                <a:gridCol w="6907320"/>
              </a:tblGrid>
              <a:tr h="116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ТИ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6600"/>
                          </a:solidFill>
                          <a:latin typeface="Arial Black"/>
                        </a:rPr>
                        <a:t>Однородные показательные уравнения первой и второй степени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29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ПРИМЕР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33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Решение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sp>
        <p:nvSpPr>
          <p:cNvPr id="38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195640" y="180324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3687840" y="1628640"/>
                <a:ext cx="32605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0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2195640" y="3068640"/>
                <a:ext cx="28717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4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2195640" y="4044960"/>
                <a:ext cx="41608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х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х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2181240" y="5072040"/>
                <a:ext cx="669780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х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х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х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х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х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x</m:t>
                        </m:r>
                      </m:sup>
                    </m:sSup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, при x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50000">
              <a:srgbClr val="17174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"/>
          <p:cNvGraphicFramePr/>
          <p:nvPr/>
        </p:nvGraphicFramePr>
        <p:xfrm>
          <a:off x="114480" y="57240"/>
          <a:ext cx="8896320" cy="6800400"/>
        </p:xfrm>
        <a:graphic>
          <a:graphicData uri="http://schemas.openxmlformats.org/drawingml/2006/table">
            <a:tbl>
              <a:tblPr/>
              <a:tblGrid>
                <a:gridCol w="1989000"/>
                <a:gridCol w="6907320"/>
              </a:tblGrid>
              <a:tr h="120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ТИ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6600"/>
                          </a:solidFill>
                          <a:latin typeface="Arial Black"/>
                        </a:rPr>
                        <a:t>Однородные показательные уравнения первой и второй степени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10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ПРИМЕР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48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Решение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sp>
        <p:nvSpPr>
          <p:cNvPr id="40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195640" y="180324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3759120" y="1557360"/>
                <a:ext cx="32608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2112840" y="2492280"/>
                <a:ext cx="279900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х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5106960" y="2492280"/>
                <a:ext cx="342576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Пусть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тогд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2195640" y="3500280"/>
                <a:ext cx="184464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t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324000" y="4149720"/>
                <a:ext cx="1036440" cy="17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eqArr>
                              <m:e>
                                <m:r>
                                  <m:t xml:space="preserve">[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,</m:t>
                                </m:r>
                              </m:e>
                              <m:e>
                                <m:r>
                                  <m:t xml:space="preserve">[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,</m:t>
                                </m:r>
                              </m:e>
                            </m:eqArr>
                            <m:r>
                              <m:t xml:space="preserve">[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2" name=""/>
          <p:cNvSpPr/>
          <p:nvPr/>
        </p:nvSpPr>
        <p:spPr>
          <a:xfrm>
            <a:off x="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1476360" y="3860640"/>
                <a:ext cx="1036800" cy="21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</m:e>
                      <m:e/>
                    </m:eqAr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2627280" y="4292640"/>
                <a:ext cx="89532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5" name=""/>
          <p:cNvSpPr/>
          <p:nvPr/>
        </p:nvSpPr>
        <p:spPr>
          <a:xfrm>
            <a:off x="7067520" y="451728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5796000" y="4653000"/>
                <a:ext cx="1396800" cy="18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;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7524720" y="5157720"/>
                <a:ext cx="863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8" name=""/>
          <p:cNvSpPr/>
          <p:nvPr/>
        </p:nvSpPr>
        <p:spPr>
          <a:xfrm>
            <a:off x="6156360" y="3798000"/>
            <a:ext cx="2305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ернёмся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 переменной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03320" y="6308640"/>
            <a:ext cx="4181400" cy="54936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68360" y="6399720"/>
            <a:ext cx="38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О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ТВЕТ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: 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       0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;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50000">
              <a:srgbClr val="17174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1" name=""/>
          <p:cNvGraphicFramePr/>
          <p:nvPr/>
        </p:nvGraphicFramePr>
        <p:xfrm>
          <a:off x="114480" y="57240"/>
          <a:ext cx="8896320" cy="6800400"/>
        </p:xfrm>
        <a:graphic>
          <a:graphicData uri="http://schemas.openxmlformats.org/drawingml/2006/table">
            <a:tbl>
              <a:tblPr/>
              <a:tblGrid>
                <a:gridCol w="1989000"/>
                <a:gridCol w="6907320"/>
              </a:tblGrid>
              <a:tr h="13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ТИ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cc6600"/>
                          </a:solidFill>
                          <a:latin typeface="Arial Black"/>
                        </a:rPr>
                        <a:t>Показательные уравнения, сводящиеся к рациональным уравнениям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ПРИМЕР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8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Решение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sp>
        <p:nvSpPr>
          <p:cNvPr id="44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195640" y="180324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3156120" y="1390680"/>
                <a:ext cx="22795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2195640" y="1989000"/>
                <a:ext cx="24098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2224080" y="2349360"/>
                <a:ext cx="2197080" cy="90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4730760" y="2492280"/>
                <a:ext cx="389268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Пусть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,t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тогд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2268360" y="3173400"/>
                <a:ext cx="188784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2316240" y="4076640"/>
                <a:ext cx="211140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t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1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395280" y="4797360"/>
                <a:ext cx="103500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eqArr>
                              <m:e>
                                <m:r>
                                  <m:t xml:space="preserve">[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,</m:t>
                                </m:r>
                              </m:e>
                              <m:e>
                                <m:r>
                                  <m:t xml:space="preserve">[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,</m:t>
                                </m:r>
                              </m:e>
                            </m:eqArr>
                            <m:r>
                              <m:t xml:space="preserve">[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3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1763640" y="4653000"/>
                <a:ext cx="1060560" cy="19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</m:e>
                      <m:e/>
                    </m:eqAr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3059280" y="5157720"/>
                <a:ext cx="8856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7" name=""/>
          <p:cNvSpPr/>
          <p:nvPr/>
        </p:nvSpPr>
        <p:spPr>
          <a:xfrm>
            <a:off x="5110560" y="4044960"/>
            <a:ext cx="252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ернём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к переменной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5219640" y="4869000"/>
                <a:ext cx="1249560" cy="12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;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6659640" y="4941720"/>
                <a:ext cx="115236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0" name=""/>
          <p:cNvSpPr/>
          <p:nvPr/>
        </p:nvSpPr>
        <p:spPr>
          <a:xfrm>
            <a:off x="4854600" y="6308640"/>
            <a:ext cx="4181400" cy="54936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553000" y="6355440"/>
            <a:ext cx="38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О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ТВЕТ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: 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      0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;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 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50000">
              <a:srgbClr val="17174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2" name=""/>
          <p:cNvGraphicFramePr/>
          <p:nvPr/>
        </p:nvGraphicFramePr>
        <p:xfrm>
          <a:off x="114480" y="57240"/>
          <a:ext cx="8896320" cy="6800400"/>
        </p:xfrm>
        <a:graphic>
          <a:graphicData uri="http://schemas.openxmlformats.org/drawingml/2006/table">
            <a:tbl>
              <a:tblPr/>
              <a:tblGrid>
                <a:gridCol w="1989000"/>
                <a:gridCol w="6907320"/>
              </a:tblGrid>
              <a:tr h="122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ТИ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6600"/>
                          </a:solidFill>
                          <a:latin typeface="Arial Black"/>
                        </a:rPr>
                        <a:t>Показательные уравнения, сводящиеся к рациональным уравнениям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ПРИМЕР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9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Решение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sp>
        <p:nvSpPr>
          <p:cNvPr id="47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95640" y="180324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3059280" y="1204920"/>
                <a:ext cx="273672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2206800" y="2060640"/>
                <a:ext cx="240660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5003640" y="2173320"/>
                <a:ext cx="289728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Пусть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тогд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2195640" y="2781360"/>
                <a:ext cx="210348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2103480" y="3573360"/>
                <a:ext cx="37544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5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2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2103480" y="4221000"/>
                <a:ext cx="18241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2124000" y="5157720"/>
                <a:ext cx="182268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2103480" y="5950080"/>
                <a:ext cx="19270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4568760" y="5635800"/>
                <a:ext cx="1515960" cy="12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eqArr>
                              <m:e>
                                <m:r>
                                  <m:t xml:space="preserve">[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,</m:t>
                                </m:r>
                              </m:e>
                              <m:e>
                                <m:r>
                                  <m:t xml:space="preserve">[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,</m:t>
                                </m:r>
                              </m:e>
                            </m:eqArr>
                            <m:r>
                              <m:t xml:space="preserve">[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6300720" y="5950080"/>
                <a:ext cx="8859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50000">
              <a:srgbClr val="17174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4572000" y="0"/>
            <a:ext cx="4572000" cy="1295280"/>
            <a:chOff x="4572000" y="0"/>
            <a:chExt cx="4572000" cy="129528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4591080" y="0"/>
              <a:ext cx="4496040" cy="12952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ff0000"/>
              </a:outerShdw>
            </a:effectLst>
          </p:spPr>
        </p:pic>
        <p:sp>
          <p:nvSpPr>
            <p:cNvPr id="68" name=""/>
            <p:cNvSpPr/>
            <p:nvPr/>
          </p:nvSpPr>
          <p:spPr>
            <a:xfrm>
              <a:off x="4572000" y="38160"/>
              <a:ext cx="4572000" cy="1191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cc"/>
                  </a:solidFill>
                  <a:latin typeface="Comic Sans MS"/>
                </a:rPr>
                <a:t>Выпишите в каждом ряду лишнее (по смыслу составления ряда) </a:t>
              </a:r>
              <a:r>
                <a:rPr b="1" lang="ru-RU" sz="2400" spc="-1" strike="noStrike">
                  <a:solidFill>
                    <a:srgbClr val="3366cc"/>
                  </a:solidFill>
                  <a:latin typeface="Comic Sans MS"/>
                </a:rPr>
                <a:t>числ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851280" y="549360"/>
            <a:ext cx="316080" cy="514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8534520" y="4365720"/>
            <a:ext cx="457200" cy="742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468360" y="4365720"/>
            <a:ext cx="363600" cy="590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1159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Comic Sans MS"/>
              </a:rPr>
              <a:t>Концентрация внима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33600" y="2103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79280" y="1628640"/>
          <a:ext cx="8785080" cy="3600360"/>
        </p:xfrm>
        <a:graphic>
          <a:graphicData uri="http://schemas.openxmlformats.org/drawingml/2006/table">
            <a:tbl>
              <a:tblPr/>
              <a:tblGrid>
                <a:gridCol w="649080"/>
                <a:gridCol w="647640"/>
                <a:gridCol w="648000"/>
                <a:gridCol w="720720"/>
                <a:gridCol w="1584360"/>
                <a:gridCol w="453528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Comic Sans MS"/>
                          <a:ea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Comic Sans MS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Comic Sans MS"/>
                          <a:ea typeface="Times New Roman"/>
                        </a:rPr>
                        <a:t>2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Comic Sans MS"/>
                          <a:ea typeface="Times New Roman"/>
                        </a:rPr>
                        <a:t>кратные 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Comic Sans MS"/>
                        </a:rPr>
                        <a:t>Верным должен быть следующий ряд чисел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cc0099"/>
                          </a:solidFill>
                          <a:latin typeface="Comic Sans MS"/>
                        </a:rPr>
                        <a:t>19; 21; 10; 5; 24; 84; 9; 224.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Comic Sans MS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Comic Sans MS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Comic Sans MS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Comic Sans MS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Comic Sans MS"/>
                          <a:ea typeface="Times New Roman"/>
                        </a:rPr>
                        <a:t>кратные 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Comic Sans MS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Comic Sans MS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Comic Sans MS"/>
                          <a:ea typeface="Times New Roman"/>
                        </a:rPr>
                        <a:t>прост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Comic Sans MS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Comic Sans MS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Comic Sans MS"/>
                          <a:ea typeface="Times New Roman"/>
                        </a:rPr>
                        <a:t>5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Comic Sans MS"/>
                          <a:ea typeface="Times New Roman"/>
                        </a:rPr>
                        <a:t>чёт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Comic Sans MS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Comic Sans MS"/>
                          <a:ea typeface="Times New Roman"/>
                        </a:rPr>
                        <a:t>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Comic Sans MS"/>
                          <a:ea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Comic Sans MS"/>
                          <a:ea typeface="Times New Roman"/>
                        </a:rPr>
                        <a:t>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Comic Sans MS"/>
                          <a:ea typeface="Times New Roman"/>
                        </a:rPr>
                        <a:t>нечёт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Comic Sans MS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Comic Sans MS"/>
                          <a:ea typeface="Times New Roman"/>
                        </a:rPr>
                        <a:t>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Comic Sans MS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Comic Sans MS"/>
                          <a:ea typeface="Times New Roman"/>
                        </a:rPr>
                        <a:t>однознач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Comic Sans MS"/>
                          <a:ea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Comic Sans MS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Comic Sans MS"/>
                          <a:ea typeface="Times New Roman"/>
                        </a:rPr>
                        <a:t>7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Comic Sans MS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Comic Sans MS"/>
                          <a:ea typeface="Times New Roman"/>
                        </a:rPr>
                        <a:t>двузнач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1"/>
                      <a:tile tx="0" ty="0" sx="100000" sy="100000" algn="ctr"/>
                    </a:blip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Comic Sans MS"/>
                          <a:ea typeface="Times New Roman"/>
                        </a:rPr>
                        <a:t>1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Comic Sans MS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Comic Sans MS"/>
                          <a:ea typeface="Times New Roman"/>
                        </a:rPr>
                        <a:t>2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Comic Sans MS"/>
                          <a:ea typeface="Times New Roman"/>
                        </a:rPr>
                        <a:t>1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Comic Sans MS"/>
                          <a:ea typeface="Times New Roman"/>
                        </a:rPr>
                        <a:t>квадра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6"/>
                      <a:tile tx="0" ty="0" sx="100000" sy="100000" algn="ctr"/>
                    </a:blip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75" name="" descr=""/>
          <p:cNvPicPr/>
          <p:nvPr/>
        </p:nvPicPr>
        <p:blipFill>
          <a:blip r:embed="rId47"/>
          <a:stretch/>
        </p:blipFill>
        <p:spPr>
          <a:xfrm>
            <a:off x="0" y="1484280"/>
            <a:ext cx="4321080" cy="4175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8"/>
          <a:stretch/>
        </p:blipFill>
        <p:spPr>
          <a:xfrm>
            <a:off x="2843280" y="1484280"/>
            <a:ext cx="6213240" cy="4175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08000" y="5832360"/>
            <a:ext cx="8964720" cy="1052640"/>
          </a:xfrm>
          <a:prstGeom prst="rect">
            <a:avLst/>
          </a:prstGeom>
          <a:blipFill rotWithShape="0">
            <a:blip r:embed="rId49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cc"/>
                </a:solidFill>
                <a:latin typeface="Comic Sans MS"/>
              </a:rPr>
              <a:t>Концентрация внимания равна </a:t>
            </a:r>
            <a:r>
              <a:rPr b="1" lang="en-US" sz="2400" spc="-1" strike="noStrike">
                <a:solidFill>
                  <a:srgbClr val="3366cc"/>
                </a:solidFill>
                <a:latin typeface="Comic Sans MS"/>
              </a:rPr>
              <a:t>N</a:t>
            </a:r>
            <a:r>
              <a:rPr b="1" lang="ru-RU" sz="2400" spc="-1" strike="noStrike">
                <a:solidFill>
                  <a:srgbClr val="3366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Comic Sans MS"/>
              </a:rPr>
              <a:t>N</a:t>
            </a:r>
            <a:r>
              <a:rPr b="1" lang="ru-RU" sz="2400" spc="-1" strike="noStrike">
                <a:solidFill>
                  <a:srgbClr val="3366cc"/>
                </a:solidFill>
                <a:latin typeface="Comic Sans MS"/>
              </a:rPr>
              <a:t> = (число верно указанных чисел) </a:t>
            </a:r>
            <a:r>
              <a:rPr b="1" lang="en-US" sz="2400" spc="-1" strike="noStrike">
                <a:solidFill>
                  <a:srgbClr val="3366cc"/>
                </a:solidFill>
                <a:latin typeface="Comic Sans MS"/>
              </a:rPr>
              <a:t>x </a:t>
            </a:r>
            <a:r>
              <a:rPr b="1" lang="ru-RU" sz="2400" spc="-1" strike="noStrike">
                <a:solidFill>
                  <a:srgbClr val="3366cc"/>
                </a:solidFill>
                <a:latin typeface="Comic Sans MS"/>
              </a:rPr>
              <a:t>0,125</a:t>
            </a:r>
            <a:r>
              <a:rPr b="1" lang="en-US" sz="2400" spc="-1" strike="noStrike">
                <a:solidFill>
                  <a:srgbClr val="3366cc"/>
                </a:solidFill>
                <a:latin typeface="Comic Sans MS"/>
              </a:rPr>
              <a:t> x </a:t>
            </a:r>
            <a:r>
              <a:rPr b="1" lang="ru-RU" sz="2400" spc="-1" strike="noStrike">
                <a:solidFill>
                  <a:srgbClr val="3366cc"/>
                </a:solidFill>
                <a:latin typeface="Comic Sans MS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50000">
              <a:srgbClr val="17174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0" name=""/>
          <p:cNvGraphicFramePr/>
          <p:nvPr/>
        </p:nvGraphicFramePr>
        <p:xfrm>
          <a:off x="114480" y="57240"/>
          <a:ext cx="8896320" cy="6800400"/>
        </p:xfrm>
        <a:graphic>
          <a:graphicData uri="http://schemas.openxmlformats.org/drawingml/2006/table">
            <a:tbl>
              <a:tblPr/>
              <a:tblGrid>
                <a:gridCol w="1989000"/>
                <a:gridCol w="6907320"/>
              </a:tblGrid>
              <a:tr h="122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ТИ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6600"/>
                          </a:solidFill>
                          <a:latin typeface="Arial Black"/>
                        </a:rPr>
                        <a:t>Показательные уравнения, сводящиеся к рациональным уравнениям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2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ПРИМЕР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32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Решение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50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52280" y="6355440"/>
            <a:ext cx="38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О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ТВЕТ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: 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195640" y="180324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3059280" y="1204920"/>
                <a:ext cx="273672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3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2193840" y="2997360"/>
                <a:ext cx="182880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к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то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5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4170240" y="2492280"/>
                <a:ext cx="1265400" cy="15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eqArr>
                              <m:e>
                                <m:r>
                                  <m:t xml:space="preserve">[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,</m:t>
                                </m:r>
                              </m:e>
                              <m:e>
                                <m:r>
                                  <m:t xml:space="preserve">[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,</m:t>
                                </m:r>
                              </m:e>
                            </m:eqArr>
                            <m:r>
                              <m:t xml:space="preserve">[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7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5611680" y="2276640"/>
                <a:ext cx="1265400" cy="20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</m:e>
                      <m:e/>
                    </m:eqAr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7164360" y="3114720"/>
                <a:ext cx="79236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0" name=""/>
          <p:cNvSpPr/>
          <p:nvPr/>
        </p:nvSpPr>
        <p:spPr>
          <a:xfrm>
            <a:off x="2199960" y="4410720"/>
            <a:ext cx="37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ернёмся к переменной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2268360" y="5084640"/>
                <a:ext cx="9543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2322360" y="5661000"/>
                <a:ext cx="13860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2268360" y="6326280"/>
                <a:ext cx="9352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50000">
              <a:srgbClr val="17174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6" name=""/>
          <p:cNvGraphicFramePr/>
          <p:nvPr/>
        </p:nvGraphicFramePr>
        <p:xfrm>
          <a:off x="114480" y="57240"/>
          <a:ext cx="8896320" cy="6800400"/>
        </p:xfrm>
        <a:graphic>
          <a:graphicData uri="http://schemas.openxmlformats.org/drawingml/2006/table">
            <a:tbl>
              <a:tblPr/>
              <a:tblGrid>
                <a:gridCol w="1989000"/>
                <a:gridCol w="6907320"/>
              </a:tblGrid>
              <a:tr h="88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ТИ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9966"/>
                          </a:solidFill>
                          <a:latin typeface="Arial Black"/>
                        </a:rPr>
                        <a:t>Показательные нестандартные уравнения.</a:t>
                      </a:r>
                      <a:r>
                        <a:rPr b="0" lang="ru-RU" sz="2400" spc="-1" strike="noStrike">
                          <a:solidFill>
                            <a:srgbClr val="00b000"/>
                          </a:solidFill>
                          <a:latin typeface="Arial Black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ПРИМЕР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16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Решение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sp>
        <p:nvSpPr>
          <p:cNvPr id="52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195640" y="180324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3301920" y="1073160"/>
                <a:ext cx="20620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39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2297160" y="2397240"/>
                <a:ext cx="216864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2340000" y="3306600"/>
                <a:ext cx="535932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, при х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3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2306520" y="4564080"/>
                <a:ext cx="2865600" cy="12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50000">
              <a:srgbClr val="17174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2114640" y="1434960"/>
            <a:ext cx="6913440" cy="54230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Введём функции                              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и            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Функция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                   убывает на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R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, как сумма убывающих на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. Функция 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              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постоянна на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Горизонтальная прямая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         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может пересечь график функции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                             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не более чем в одной точке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Следовательно, уравнение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               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имеет не более одного корня. Корнем уравнения является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 x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=1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14480" y="1557360"/>
            <a:ext cx="2009520" cy="53006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0000"/>
                </a:solidFill>
                <a:latin typeface="Arial Black"/>
              </a:rPr>
              <a:t>Решение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124000" y="944640"/>
            <a:ext cx="6886800" cy="612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14480" y="944640"/>
            <a:ext cx="2009520" cy="612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ПРИМЕР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124000" y="57240"/>
            <a:ext cx="6886800" cy="887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66"/>
                </a:solidFill>
                <a:latin typeface="Arial Black"/>
              </a:rPr>
              <a:t>Показательные нестандартные уравнения.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14480" y="57240"/>
            <a:ext cx="2009520" cy="887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ТИ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14480" y="57240"/>
            <a:ext cx="8896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14480" y="944640"/>
            <a:ext cx="889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1000" y="1557360"/>
            <a:ext cx="889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14480" y="6858000"/>
            <a:ext cx="8896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14480" y="57240"/>
            <a:ext cx="0" cy="1638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124000" y="57240"/>
            <a:ext cx="0" cy="680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9010800" y="57240"/>
            <a:ext cx="0" cy="1638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14480" y="1695600"/>
            <a:ext cx="0" cy="516240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9010800" y="1795320"/>
            <a:ext cx="0" cy="516276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3301920" y="907920"/>
                <a:ext cx="20620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7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6791400" y="1736640"/>
                <a:ext cx="82368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3441600" y="2157480"/>
                <a:ext cx="188136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7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5135400" y="3683160"/>
                <a:ext cx="82404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5664240" y="3022560"/>
                <a:ext cx="77940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3394080" y="4044960"/>
                <a:ext cx="188280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81" name=""/>
          <p:cNvSpPr/>
          <p:nvPr/>
        </p:nvSpPr>
        <p:spPr>
          <a:xfrm>
            <a:off x="4449600" y="3050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5684760" y="6091200"/>
                <a:ext cx="6876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4" name=""/>
          <p:cNvSpPr/>
          <p:nvPr/>
        </p:nvSpPr>
        <p:spPr>
          <a:xfrm>
            <a:off x="34920" y="6453360"/>
            <a:ext cx="2808360" cy="40464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97000" y="6426720"/>
            <a:ext cx="38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О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ТВЕТ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: 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4414680" y="1496880"/>
                <a:ext cx="188280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4311720" y="5889600"/>
                <a:ext cx="11840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5435640" y="4865760"/>
                <a:ext cx="155736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89" name=""/>
          <p:cNvSpPr/>
          <p:nvPr/>
        </p:nvSpPr>
        <p:spPr>
          <a:xfrm>
            <a:off x="2124000" y="602136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Проверим эт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50000">
              <a:srgbClr val="17174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0" name=""/>
          <p:cNvGraphicFramePr/>
          <p:nvPr/>
        </p:nvGraphicFramePr>
        <p:xfrm>
          <a:off x="114480" y="57240"/>
          <a:ext cx="8896320" cy="6800400"/>
        </p:xfrm>
        <a:graphic>
          <a:graphicData uri="http://schemas.openxmlformats.org/drawingml/2006/table">
            <a:tbl>
              <a:tblPr/>
              <a:tblGrid>
                <a:gridCol w="1989000"/>
                <a:gridCol w="6907320"/>
              </a:tblGrid>
              <a:tr h="128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ТИ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9966"/>
                          </a:solidFill>
                          <a:latin typeface="Arial Black"/>
                        </a:rPr>
                        <a:t>Показательные нестандартные уравнения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ПРИМЕР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74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Решение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sp>
        <p:nvSpPr>
          <p:cNvPr id="59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195640" y="180324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2503440" y="2349360"/>
                <a:ext cx="124776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3" name=""/>
          <p:cNvSpPr/>
          <p:nvPr/>
        </p:nvSpPr>
        <p:spPr>
          <a:xfrm>
            <a:off x="2444400" y="3283200"/>
            <a:ext cx="537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Легко определить и проверить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что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х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=3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- корень данного уравнения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2484360" y="4525920"/>
                <a:ext cx="8510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3613320" y="4346640"/>
                <a:ext cx="124596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5192640" y="4492800"/>
                <a:ext cx="81936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0" name=""/>
          <p:cNvSpPr/>
          <p:nvPr/>
        </p:nvSpPr>
        <p:spPr>
          <a:xfrm>
            <a:off x="2415600" y="5238720"/>
            <a:ext cx="575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Покажем, что других корней уравнени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иметь не может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3863880" y="1316160"/>
                <a:ext cx="114156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50000">
              <a:srgbClr val="17174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2089080" y="1955880"/>
            <a:ext cx="6907320" cy="4902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14480" y="1955880"/>
            <a:ext cx="1989000" cy="4902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0000"/>
                </a:solidFill>
                <a:latin typeface="Arial Black"/>
              </a:rPr>
              <a:t>Решение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103480" y="1246320"/>
            <a:ext cx="6907320" cy="709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4480" y="1246320"/>
            <a:ext cx="1989000" cy="709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ПРИМЕР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103480" y="57240"/>
            <a:ext cx="6907320" cy="11890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66"/>
                </a:solidFill>
                <a:latin typeface="Arial Black"/>
              </a:rPr>
              <a:t>Показательные нестандартные уравн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14480" y="57240"/>
            <a:ext cx="1989000" cy="11890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ТИ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14480" y="57240"/>
            <a:ext cx="8896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14480" y="1246320"/>
            <a:ext cx="889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14480" y="1955880"/>
            <a:ext cx="889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14480" y="6856560"/>
            <a:ext cx="8896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14480" y="57240"/>
            <a:ext cx="0" cy="1898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103480" y="57240"/>
            <a:ext cx="0" cy="6799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9010800" y="57240"/>
            <a:ext cx="0" cy="1898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0920" y="6858000"/>
            <a:ext cx="8893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14480" y="6338880"/>
            <a:ext cx="0" cy="517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9010800" y="6338880"/>
            <a:ext cx="0" cy="517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14480" y="1955880"/>
            <a:ext cx="0" cy="438300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9010800" y="1955880"/>
            <a:ext cx="0" cy="438300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195640" y="180324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433240" y="2059560"/>
            <a:ext cx="560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Справедливы следующие утверждения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908000" y="2530440"/>
            <a:ext cx="6855120" cy="17622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ff"/>
            </a:solidFill>
            <a:miter/>
          </a:ln>
          <a:effectLst>
            <a:outerShdw dist="107932" dir="81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Если функц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озрастает (убывает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а множестве </a:t>
            </a:r>
            <a:r>
              <a:rPr b="1" i="1" lang="en-US" sz="26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то уравнени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е может иметь на  </a:t>
            </a:r>
            <a:r>
              <a:rPr b="1" i="1" lang="en-US" sz="26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более одного корн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4584600" y="2552760"/>
                <a:ext cx="4906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6823080" y="3141720"/>
                <a:ext cx="9414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863880" y="1197000"/>
                <a:ext cx="114156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53" name=""/>
          <p:cNvGrpSpPr/>
          <p:nvPr/>
        </p:nvGrpSpPr>
        <p:grpSpPr>
          <a:xfrm>
            <a:off x="612720" y="2637000"/>
            <a:ext cx="1079280" cy="1584000"/>
            <a:chOff x="612720" y="2637000"/>
            <a:chExt cx="1079280" cy="1584000"/>
          </a:xfrm>
        </p:grpSpPr>
        <p:sp>
          <p:nvSpPr>
            <p:cNvPr id="654" name=""/>
            <p:cNvSpPr/>
            <p:nvPr/>
          </p:nvSpPr>
          <p:spPr>
            <a:xfrm>
              <a:off x="612720" y="2637000"/>
              <a:ext cx="1079280" cy="15840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00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55" name="" descr=""/>
            <p:cNvPicPr/>
            <p:nvPr/>
          </p:nvPicPr>
          <p:blipFill>
            <a:blip r:embed="rId1"/>
            <a:stretch/>
          </p:blipFill>
          <p:spPr>
            <a:xfrm>
              <a:off x="738000" y="3063960"/>
              <a:ext cx="689040" cy="72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6" name=""/>
          <p:cNvGrpSpPr/>
          <p:nvPr/>
        </p:nvGrpSpPr>
        <p:grpSpPr>
          <a:xfrm>
            <a:off x="611280" y="4762440"/>
            <a:ext cx="1079280" cy="1619280"/>
            <a:chOff x="611280" y="4762440"/>
            <a:chExt cx="1079280" cy="1619280"/>
          </a:xfrm>
        </p:grpSpPr>
        <p:sp>
          <p:nvSpPr>
            <p:cNvPr id="657" name=""/>
            <p:cNvSpPr/>
            <p:nvPr/>
          </p:nvSpPr>
          <p:spPr>
            <a:xfrm>
              <a:off x="611280" y="4762440"/>
              <a:ext cx="1079280" cy="16192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00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58" name="" descr=""/>
            <p:cNvPicPr/>
            <p:nvPr/>
          </p:nvPicPr>
          <p:blipFill>
            <a:blip r:embed="rId2"/>
            <a:stretch/>
          </p:blipFill>
          <p:spPr>
            <a:xfrm>
              <a:off x="766800" y="5148000"/>
              <a:ext cx="689040" cy="73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9" name=""/>
          <p:cNvSpPr/>
          <p:nvPr/>
        </p:nvSpPr>
        <p:spPr>
          <a:xfrm>
            <a:off x="1908000" y="4653000"/>
            <a:ext cx="6855120" cy="1908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ff"/>
            </a:solidFill>
            <a:miter/>
          </a:ln>
          <a:effectLst>
            <a:outerShdw dist="107932" dir="81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Если функция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озрастает на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I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а функция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убывает на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I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то уравн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е может иметь на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более одного корня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4211640" y="4970520"/>
                <a:ext cx="4906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2124000" y="5504040"/>
                <a:ext cx="5428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6864480" y="5541840"/>
                <a:ext cx="12175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7" dur="5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0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3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6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9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5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1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50000">
              <a:srgbClr val="17174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3" name=""/>
          <p:cNvGraphicFramePr/>
          <p:nvPr/>
        </p:nvGraphicFramePr>
        <p:xfrm>
          <a:off x="114480" y="57240"/>
          <a:ext cx="8896320" cy="6800760"/>
        </p:xfrm>
        <a:graphic>
          <a:graphicData uri="http://schemas.openxmlformats.org/drawingml/2006/table">
            <a:tbl>
              <a:tblPr/>
              <a:tblGrid>
                <a:gridCol w="1989000"/>
                <a:gridCol w="6907320"/>
              </a:tblGrid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ТИ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9966"/>
                          </a:solidFill>
                          <a:latin typeface="Arial Black"/>
                        </a:rPr>
                        <a:t>Показательные нестандартные уравнения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ПРИМЕР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3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Решение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664" name=""/>
          <p:cNvSpPr/>
          <p:nvPr/>
        </p:nvSpPr>
        <p:spPr>
          <a:xfrm>
            <a:off x="152280" y="6355440"/>
            <a:ext cx="38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О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ТВЕТ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: 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195640" y="180324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124000" y="1959120"/>
            <a:ext cx="663912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Введём функции                   и                 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Показательная функция                     (          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      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) возрастает на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Функция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             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(обратная пропорциональность) убывает на каждом из промежутков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           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Таким образом, на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           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и на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         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уравнение имеет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        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не более одного корня, т. е.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- единственный корень данного уравне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4284720" y="2119320"/>
                <a:ext cx="105552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5661000" y="1973160"/>
                <a:ext cx="8971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5245200" y="2717640"/>
                <a:ext cx="105552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7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6553080" y="2755800"/>
                <a:ext cx="17640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&gt;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6464160" y="4248000"/>
                <a:ext cx="7635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rPr>
                            <m:lit/>
                            <m:nor/>
                          </m:rPr>
                          <m:t xml:space="preserve">;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7359480" y="4246560"/>
                <a:ext cx="6238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4449600" y="4869000"/>
                <a:ext cx="7639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rPr>
                            <m:lit/>
                            <m:nor/>
                          </m:rPr>
                          <m:t xml:space="preserve">;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5880240" y="4881600"/>
                <a:ext cx="62388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5389560" y="5348160"/>
                <a:ext cx="57636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3432240" y="3657600"/>
                <a:ext cx="8967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3863880" y="1184400"/>
                <a:ext cx="114156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50000">
              <a:srgbClr val="17174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2103480" y="1955880"/>
            <a:ext cx="6907320" cy="4902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14480" y="1955880"/>
            <a:ext cx="1989000" cy="4902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0000"/>
                </a:solidFill>
                <a:latin typeface="Arial Black"/>
              </a:rPr>
              <a:t>Решение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103480" y="1246320"/>
            <a:ext cx="6907320" cy="709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14480" y="1246320"/>
            <a:ext cx="1989000" cy="709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ПРИМЕР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103480" y="57240"/>
            <a:ext cx="6907320" cy="11890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66"/>
                </a:solidFill>
                <a:latin typeface="Arial Black"/>
              </a:rPr>
              <a:t>Показательные нестандартные уравн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14480" y="57240"/>
            <a:ext cx="1989000" cy="11890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ТИ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14480" y="57240"/>
            <a:ext cx="8896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14480" y="1246320"/>
            <a:ext cx="889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14480" y="1955880"/>
            <a:ext cx="889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14480" y="6856560"/>
            <a:ext cx="8896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14480" y="57240"/>
            <a:ext cx="0" cy="1898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103480" y="57240"/>
            <a:ext cx="0" cy="6799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9010800" y="57240"/>
            <a:ext cx="0" cy="1898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50920" y="6858000"/>
            <a:ext cx="8893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14480" y="6338880"/>
            <a:ext cx="0" cy="517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14480" y="1955880"/>
            <a:ext cx="0" cy="438300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9010800" y="1955880"/>
            <a:ext cx="0" cy="438300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95640" y="180324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3083040" y="1312920"/>
                <a:ext cx="31446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х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7х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2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2340000" y="5445000"/>
            <a:ext cx="647640" cy="790560"/>
            <a:chOff x="2340000" y="5445000"/>
            <a:chExt cx="647640" cy="790560"/>
          </a:xfrm>
        </p:grpSpPr>
        <p:sp>
          <p:nvSpPr>
            <p:cNvPr id="725" name=""/>
            <p:cNvSpPr/>
            <p:nvPr/>
          </p:nvSpPr>
          <p:spPr>
            <a:xfrm>
              <a:off x="2340000" y="5445000"/>
              <a:ext cx="647640" cy="7905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00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26" name="" descr=""/>
            <p:cNvPicPr/>
            <p:nvPr/>
          </p:nvPicPr>
          <p:blipFill>
            <a:blip r:embed="rId1"/>
            <a:stretch/>
          </p:blipFill>
          <p:spPr>
            <a:xfrm>
              <a:off x="2433240" y="5633280"/>
              <a:ext cx="413280" cy="36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7" name=""/>
          <p:cNvGrpSpPr/>
          <p:nvPr/>
        </p:nvGrpSpPr>
        <p:grpSpPr>
          <a:xfrm>
            <a:off x="2340000" y="4149720"/>
            <a:ext cx="647640" cy="719280"/>
            <a:chOff x="2340000" y="4149720"/>
            <a:chExt cx="647640" cy="719280"/>
          </a:xfrm>
        </p:grpSpPr>
        <p:sp>
          <p:nvSpPr>
            <p:cNvPr id="728" name=""/>
            <p:cNvSpPr/>
            <p:nvPr/>
          </p:nvSpPr>
          <p:spPr>
            <a:xfrm>
              <a:off x="2340000" y="4149720"/>
              <a:ext cx="647640" cy="7192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00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29" name="" descr=""/>
            <p:cNvPicPr/>
            <p:nvPr/>
          </p:nvPicPr>
          <p:blipFill>
            <a:blip r:embed="rId2"/>
            <a:stretch/>
          </p:blipFill>
          <p:spPr>
            <a:xfrm>
              <a:off x="2414880" y="4343400"/>
              <a:ext cx="413280" cy="327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0" name=""/>
          <p:cNvSpPr/>
          <p:nvPr/>
        </p:nvSpPr>
        <p:spPr>
          <a:xfrm>
            <a:off x="3333600" y="4149720"/>
            <a:ext cx="4119840" cy="752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  <a:effectLst>
            <a:outerShdw dist="107932" dir="81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276720" y="5229360"/>
            <a:ext cx="4176720" cy="1295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  <a:effectLst>
            <a:outerShdw dist="107932" dir="81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195640" y="1916280"/>
            <a:ext cx="6567480" cy="20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Прежде всего, заметим, что функция 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                    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    не является показательной функцией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Существуют две точки зрения, оценивающие область определения данной функци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3" name=""/>
              <p:cNvSpPr txBox="1"/>
              <p:nvPr/>
            </p:nvSpPr>
            <p:spPr>
              <a:xfrm>
                <a:off x="4521240" y="3384720"/>
                <a:ext cx="101520" cy="8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4160880" y="4383000"/>
                <a:ext cx="842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4078440" y="5300640"/>
                <a:ext cx="1214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4118040" y="5661000"/>
                <a:ext cx="27334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eqArr>
                      <m:e>
                        <m:r>
                          <m:t xml:space="preserve">[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0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если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Z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если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6659640" y="2060640"/>
                <a:ext cx="11062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50000">
              <a:srgbClr val="17174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2103480" y="1955880"/>
            <a:ext cx="6907320" cy="4902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14480" y="1955880"/>
            <a:ext cx="1989000" cy="4902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0000"/>
                </a:solidFill>
                <a:latin typeface="Arial Black"/>
              </a:rPr>
              <a:t>Решение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03480" y="1246320"/>
            <a:ext cx="6907320" cy="709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14480" y="1246320"/>
            <a:ext cx="1989000" cy="709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ПРИМЕР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103480" y="57240"/>
            <a:ext cx="6907320" cy="11890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66"/>
                </a:solidFill>
                <a:latin typeface="Arial Black"/>
              </a:rPr>
              <a:t>Показательные нестандартные уравн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14480" y="57240"/>
            <a:ext cx="1989000" cy="11890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ТИ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14480" y="57240"/>
            <a:ext cx="8896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14480" y="1246320"/>
            <a:ext cx="889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14480" y="1955880"/>
            <a:ext cx="889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14480" y="6856560"/>
            <a:ext cx="8896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14480" y="57240"/>
            <a:ext cx="0" cy="1898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103480" y="57240"/>
            <a:ext cx="0" cy="6799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9010800" y="57240"/>
            <a:ext cx="0" cy="1898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50920" y="6858000"/>
            <a:ext cx="8893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14480" y="6338880"/>
            <a:ext cx="0" cy="517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14480" y="1955880"/>
            <a:ext cx="0" cy="438300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9010800" y="1955880"/>
            <a:ext cx="0" cy="438300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195640" y="180324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3083040" y="1312920"/>
                <a:ext cx="31446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х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7х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7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124000" y="1844640"/>
            <a:ext cx="6408720" cy="39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Решим данное уравнение, придерживаясь второй точки зрения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Вначале проверим, какие из решений совокупнос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являются корнями данного уравне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Провер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2411280" y="3573360"/>
                <a:ext cx="136692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;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2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3851280" y="3573360"/>
                <a:ext cx="82404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;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4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5" name=""/>
              <p:cNvSpPr txBox="1"/>
              <p:nvPr/>
            </p:nvSpPr>
            <p:spPr>
              <a:xfrm>
                <a:off x="3708360" y="5272200"/>
                <a:ext cx="6937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6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7" name=""/>
              <p:cNvSpPr txBox="1"/>
              <p:nvPr/>
            </p:nvSpPr>
            <p:spPr>
              <a:xfrm>
                <a:off x="4788000" y="5200560"/>
                <a:ext cx="26953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4788000" y="5632560"/>
                <a:ext cx="17730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9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4836960" y="6032520"/>
                <a:ext cx="8874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1" name=""/>
          <p:cNvSpPr/>
          <p:nvPr/>
        </p:nvSpPr>
        <p:spPr>
          <a:xfrm>
            <a:off x="1477800" y="6192720"/>
            <a:ext cx="78472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Проверка показала, что  </a:t>
            </a:r>
            <a:r>
              <a:rPr b="1" lang="en-US" sz="2200" spc="-1" strike="noStrike">
                <a:solidFill>
                  <a:srgbClr val="000099"/>
                </a:solidFill>
                <a:latin typeface="Times New Roman"/>
              </a:rPr>
              <a:t>x=2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не является корнем уравне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128" dur="indefinite" restart="never" nodeType="tmRoot">
          <p:childTnLst>
            <p:seq>
              <p:cTn id="1129" dur="indefinite" nodeType="mainSeq">
                <p:childTnLst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7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7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7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7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50000">
              <a:srgbClr val="17174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2103480" y="1955880"/>
            <a:ext cx="6907320" cy="4902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14480" y="1955880"/>
            <a:ext cx="1989000" cy="4902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0000"/>
                </a:solidFill>
                <a:latin typeface="Arial Black"/>
              </a:rPr>
              <a:t>Решение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103480" y="1246320"/>
            <a:ext cx="6907320" cy="709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14480" y="1246320"/>
            <a:ext cx="1989000" cy="709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ПРИМЕР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103480" y="57240"/>
            <a:ext cx="6907320" cy="11890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66"/>
                </a:solidFill>
                <a:latin typeface="Arial Black"/>
              </a:rPr>
              <a:t>Показательные нестандартные уравн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14480" y="57240"/>
            <a:ext cx="1989000" cy="11890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ТИ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14480" y="57240"/>
            <a:ext cx="8896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14480" y="1246320"/>
            <a:ext cx="889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480" y="1955880"/>
            <a:ext cx="889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14480" y="6856560"/>
            <a:ext cx="8896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14480" y="57240"/>
            <a:ext cx="0" cy="1898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103480" y="57240"/>
            <a:ext cx="0" cy="6799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9010800" y="57240"/>
            <a:ext cx="0" cy="1898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50920" y="6858000"/>
            <a:ext cx="8893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14480" y="6338880"/>
            <a:ext cx="0" cy="517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14480" y="1955880"/>
            <a:ext cx="0" cy="438300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9010800" y="1955880"/>
            <a:ext cx="0" cy="438300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195640" y="180324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3083040" y="1312920"/>
                <a:ext cx="31446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х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7х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2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9" name=""/>
              <p:cNvSpPr txBox="1"/>
              <p:nvPr/>
            </p:nvSpPr>
            <p:spPr>
              <a:xfrm>
                <a:off x="2268360" y="2098800"/>
                <a:ext cx="62712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0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1" name=""/>
              <p:cNvSpPr txBox="1"/>
              <p:nvPr/>
            </p:nvSpPr>
            <p:spPr>
              <a:xfrm>
                <a:off x="3564000" y="2060640"/>
                <a:ext cx="24382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3" name=""/>
              <p:cNvSpPr txBox="1"/>
              <p:nvPr/>
            </p:nvSpPr>
            <p:spPr>
              <a:xfrm>
                <a:off x="3581280" y="2565360"/>
                <a:ext cx="10620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4" name=""/>
              <p:cNvSpPr txBox="1"/>
              <p:nvPr/>
            </p:nvSpPr>
            <p:spPr>
              <a:xfrm>
                <a:off x="3606840" y="3019320"/>
                <a:ext cx="67788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5" name=""/>
          <p:cNvSpPr/>
          <p:nvPr/>
        </p:nvSpPr>
        <p:spPr>
          <a:xfrm>
            <a:off x="2195640" y="3213000"/>
            <a:ext cx="6048360" cy="10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Проверка показала, что  </a:t>
            </a:r>
            <a:r>
              <a:rPr b="1" lang="en-US" sz="2200" spc="-1" strike="noStrike">
                <a:solidFill>
                  <a:srgbClr val="000099"/>
                </a:solidFill>
                <a:latin typeface="Times New Roman"/>
              </a:rPr>
              <a:t>x=3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является корнем уравне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6" name=""/>
              <p:cNvSpPr txBox="1"/>
              <p:nvPr/>
            </p:nvSpPr>
            <p:spPr>
              <a:xfrm>
                <a:off x="2268360" y="4332240"/>
                <a:ext cx="62892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7" name=""/>
              <p:cNvSpPr txBox="1"/>
              <p:nvPr/>
            </p:nvSpPr>
            <p:spPr>
              <a:xfrm>
                <a:off x="3533760" y="4292640"/>
                <a:ext cx="2478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9" name=""/>
              <p:cNvSpPr txBox="1"/>
              <p:nvPr/>
            </p:nvSpPr>
            <p:spPr>
              <a:xfrm>
                <a:off x="3554280" y="4797360"/>
                <a:ext cx="1017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3578400" y="5256360"/>
                <a:ext cx="62208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1" name=""/>
          <p:cNvSpPr/>
          <p:nvPr/>
        </p:nvSpPr>
        <p:spPr>
          <a:xfrm>
            <a:off x="2124000" y="5516640"/>
            <a:ext cx="6048360" cy="10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Проверка показала, что  </a:t>
            </a:r>
            <a:r>
              <a:rPr b="1" lang="en-US" sz="2200" spc="-1" strike="noStrike">
                <a:solidFill>
                  <a:srgbClr val="000099"/>
                </a:solidFill>
                <a:latin typeface="Times New Roman"/>
              </a:rPr>
              <a:t>x=4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является корнем уравне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50000">
              <a:srgbClr val="17174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2103480" y="1955880"/>
            <a:ext cx="6907320" cy="4902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14480" y="1955880"/>
            <a:ext cx="1989000" cy="4902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0000"/>
                </a:solidFill>
                <a:latin typeface="Arial Black"/>
              </a:rPr>
              <a:t>Решение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103480" y="1246320"/>
            <a:ext cx="6907320" cy="709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14480" y="1246320"/>
            <a:ext cx="1989000" cy="709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ПРИМЕР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103480" y="57240"/>
            <a:ext cx="6907320" cy="11890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66"/>
                </a:solidFill>
                <a:latin typeface="Arial Black"/>
              </a:rPr>
              <a:t>Показательные нестандартные уравн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14480" y="57240"/>
            <a:ext cx="1989000" cy="11890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ТИ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14480" y="57240"/>
            <a:ext cx="8896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14480" y="1246320"/>
            <a:ext cx="889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14480" y="1955880"/>
            <a:ext cx="889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14480" y="6856560"/>
            <a:ext cx="8896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14480" y="57240"/>
            <a:ext cx="0" cy="1898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103480" y="57240"/>
            <a:ext cx="0" cy="6799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9010800" y="57240"/>
            <a:ext cx="0" cy="1898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50920" y="6858000"/>
            <a:ext cx="8893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14480" y="6338880"/>
            <a:ext cx="0" cy="517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14480" y="1955880"/>
            <a:ext cx="0" cy="438300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9010800" y="1955880"/>
            <a:ext cx="0" cy="438300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195640" y="180324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3083040" y="1312920"/>
                <a:ext cx="31446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х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7х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8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124000" y="1989000"/>
            <a:ext cx="663912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Теперь установим, какие из корней уравнения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                            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удовлетворяют исходному уравнению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195640" y="2720880"/>
                <a:ext cx="179208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х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2158920" y="3189240"/>
                <a:ext cx="186696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х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2201760" y="3701880"/>
                <a:ext cx="18655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х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7" name=""/>
              <p:cNvSpPr txBox="1"/>
              <p:nvPr/>
            </p:nvSpPr>
            <p:spPr>
              <a:xfrm>
                <a:off x="2195640" y="4187880"/>
                <a:ext cx="89676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9" name=""/>
              <p:cNvSpPr txBox="1"/>
              <p:nvPr/>
            </p:nvSpPr>
            <p:spPr>
              <a:xfrm>
                <a:off x="4037040" y="5186520"/>
                <a:ext cx="6793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0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5246640" y="5122800"/>
                <a:ext cx="242100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1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5219640" y="5699160"/>
                <a:ext cx="17971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4" name=""/>
          <p:cNvSpPr/>
          <p:nvPr/>
        </p:nvSpPr>
        <p:spPr>
          <a:xfrm>
            <a:off x="1531800" y="6073920"/>
            <a:ext cx="8512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Проверка показала, что  </a:t>
            </a:r>
            <a:r>
              <a:rPr b="1" lang="en-US" sz="2200" spc="-1" strike="noStrike">
                <a:solidFill>
                  <a:srgbClr val="000099"/>
                </a:solidFill>
                <a:latin typeface="Times New Roman"/>
              </a:rPr>
              <a:t>x=1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является корнем уравне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340000" y="515772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Провер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8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8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6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50000">
              <a:srgbClr val="17174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539640" y="1197000"/>
            <a:ext cx="8064720" cy="1511280"/>
            <a:chOff x="539640" y="1197000"/>
            <a:chExt cx="8064720" cy="1511280"/>
          </a:xfrm>
        </p:grpSpPr>
        <p:sp>
          <p:nvSpPr>
            <p:cNvPr id="79" name=""/>
            <p:cNvSpPr/>
            <p:nvPr/>
          </p:nvSpPr>
          <p:spPr>
            <a:xfrm>
              <a:off x="539640" y="1197000"/>
              <a:ext cx="8064720" cy="1511280"/>
            </a:xfrm>
            <a:prstGeom prst="rect">
              <a:avLst/>
            </a:prstGeom>
            <a:solidFill>
              <a:srgbClr val="006666"/>
            </a:solidFill>
            <a:ln w="38160">
              <a:solidFill>
                <a:srgbClr val="ff66ff"/>
              </a:solidFill>
              <a:miter/>
            </a:ln>
            <a:effectLst>
              <a:outerShdw dist="107932" dir="2700000" blurRad="0" rotWithShape="0">
                <a:srgbClr val="99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3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omic Sans MS"/>
                </a:rPr>
                <a:t>Пусть </a:t>
              </a: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a&gt;0, a≠1, b   R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3000" spc="-1" strike="noStrike" baseline="30000">
                  <a:solidFill>
                    <a:srgbClr val="ff0000"/>
                  </a:solidFill>
                  <a:latin typeface="Comic Sans MS"/>
                </a:rPr>
                <a:t>x</a:t>
              </a:r>
              <a:r>
                <a:rPr b="1" lang="en-US" sz="3000" spc="-1" strike="noStrike">
                  <a:solidFill>
                    <a:srgbClr val="ff0000"/>
                  </a:solidFill>
                  <a:latin typeface="Comic Sans MS"/>
                </a:rPr>
                <a:t>=b</a:t>
              </a: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 – </a:t>
              </a:r>
              <a:r>
                <a:rPr b="1" lang="ru-RU" sz="24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простейшее показательное уравнение</a:t>
              </a:r>
              <a:r>
                <a:rPr b="1" lang="en-US" sz="2400" spc="-1" strike="noStrike">
                  <a:solidFill>
                    <a:srgbClr val="333399"/>
                  </a:solidFill>
                  <a:latin typeface="Comic Sans MS"/>
                </a:rPr>
                <a:t>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5689440" y="1374840"/>
                  <a:ext cx="36036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∈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1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39640" y="3573360"/>
            <a:ext cx="8064720" cy="1800360"/>
            <a:chOff x="539640" y="3573360"/>
            <a:chExt cx="8064720" cy="1800360"/>
          </a:xfrm>
        </p:grpSpPr>
        <p:sp>
          <p:nvSpPr>
            <p:cNvPr id="83" name=""/>
            <p:cNvSpPr/>
            <p:nvPr/>
          </p:nvSpPr>
          <p:spPr>
            <a:xfrm>
              <a:off x="539640" y="3573360"/>
              <a:ext cx="8064720" cy="1800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ff66ff"/>
              </a:solidFill>
              <a:miter/>
            </a:ln>
            <a:effectLst>
              <a:outerShdw dist="107932" dir="2700000" blurRad="0" rotWithShape="0">
                <a:srgbClr val="99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3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r>
                <a:rPr b="1" lang="ru-RU" sz="800" spc="-1" strike="noStrike">
                  <a:solidFill>
                    <a:srgbClr val="333399"/>
                  </a:solidFill>
                  <a:latin typeface="Comic Sans MS"/>
                </a:rPr>
                <a:t> </a:t>
              </a:r>
              <a:r>
                <a:rPr b="1" lang="ru-RU" sz="2400" spc="-1" strike="noStrike">
                  <a:solidFill>
                    <a:srgbClr val="cc0099"/>
                  </a:solidFill>
                  <a:latin typeface="Comic Sans MS"/>
                </a:rPr>
                <a:t>Пример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" name=""/>
                <p:cNvSpPr txBox="1"/>
                <p:nvPr/>
              </p:nvSpPr>
              <p:spPr>
                <a:xfrm>
                  <a:off x="1851120" y="4230720"/>
                  <a:ext cx="5600520" cy="105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8,</m:t>
                      </m:r>
                      <m:r>
                        <m:t xml:space="preserve"> 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81,</m:t>
                      </m:r>
                      <m:r>
                        <m:t xml:space="preserve"> </m:t>
                      </m:r>
                      <m:sSup>
                        <m:e>
                          <m:r>
                            <m:t xml:space="preserve">5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=</m:t>
                      </m:r>
                      <m:rad>
                        <m:deg>
                          <m:r>
                            <m:t xml:space="preserve">3</m:t>
                          </m:r>
                        </m:deg>
                        <m:e>
                          <m:r>
                            <m:t xml:space="preserve">7</m:t>
                          </m:r>
                        </m:e>
                      </m:rad>
                      <m:r>
                        <m:t xml:space="preserve">,</m:t>
                      </m:r>
                      <m:r>
                        <m:t xml:space="preserve"> </m:t>
                      </m:r>
                      <m:sSup>
                        <m:e>
                          <m:r>
                            <m:t xml:space="preserve">6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strips dir="r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50000">
              <a:srgbClr val="17174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6" name=""/>
          <p:cNvGraphicFramePr/>
          <p:nvPr/>
        </p:nvGraphicFramePr>
        <p:xfrm>
          <a:off x="114480" y="57240"/>
          <a:ext cx="8896320" cy="6800760"/>
        </p:xfrm>
        <a:graphic>
          <a:graphicData uri="http://schemas.openxmlformats.org/drawingml/2006/table">
            <a:tbl>
              <a:tblPr/>
              <a:tblGrid>
                <a:gridCol w="1989000"/>
                <a:gridCol w="6907320"/>
              </a:tblGrid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ТИ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9966"/>
                          </a:solidFill>
                          <a:latin typeface="Arial Black"/>
                        </a:rPr>
                        <a:t>Показательные нестандартные уравнения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ПРИМЕР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3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Решение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917" name=""/>
          <p:cNvSpPr/>
          <p:nvPr/>
        </p:nvSpPr>
        <p:spPr>
          <a:xfrm>
            <a:off x="152280" y="6355440"/>
            <a:ext cx="42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О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ТВЕТ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: 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      5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;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;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;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195640" y="180324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3083040" y="1312920"/>
                <a:ext cx="31446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х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7х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2484360" y="2133720"/>
                <a:ext cx="85572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2459160" y="2637000"/>
                <a:ext cx="33368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4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2556000" y="3357720"/>
                <a:ext cx="14112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6" name=""/>
          <p:cNvSpPr/>
          <p:nvPr/>
        </p:nvSpPr>
        <p:spPr>
          <a:xfrm>
            <a:off x="2468520" y="3716280"/>
            <a:ext cx="6567480" cy="10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Проверка показала, что  </a:t>
            </a:r>
            <a:r>
              <a:rPr b="1" lang="ru-RU" sz="2200" spc="-1" strike="noStrike">
                <a:solidFill>
                  <a:srgbClr val="000099"/>
                </a:solidFill>
                <a:latin typeface="Times New Roman"/>
              </a:rPr>
              <a:t>х</a:t>
            </a:r>
            <a:r>
              <a:rPr b="1" lang="en-US" sz="2200" spc="-1" strike="noStrike">
                <a:solidFill>
                  <a:srgbClr val="000099"/>
                </a:solidFill>
                <a:latin typeface="Times New Roman"/>
              </a:rPr>
              <a:t>=5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является корнем уравне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468520" y="4797360"/>
            <a:ext cx="65674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Замечание: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если придерживаться первой точки зрения, то корни х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=1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 и х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=3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следует исключить.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321" dur="indefinite" restart="never" nodeType="tmRoot">
          <p:childTnLst>
            <p:seq>
              <p:cTn id="1322" dur="indefinite" nodeType="mainSeq">
                <p:childTnLst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50000">
              <a:srgbClr val="17174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11353680" cy="8556480"/>
          </a:xfrm>
          <a:prstGeom prst="rect">
            <a:avLst/>
          </a:prstGeom>
          <a:ln w="0">
            <a:noFill/>
          </a:ln>
        </p:spPr>
      </p:pic>
      <p:sp>
        <p:nvSpPr>
          <p:cNvPr id="939" name=""/>
          <p:cNvSpPr/>
          <p:nvPr/>
        </p:nvSpPr>
        <p:spPr>
          <a:xfrm rot="1032000">
            <a:off x="3580560" y="2514600"/>
            <a:ext cx="5140440" cy="581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Домашнее задание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0" name="" descr=""/>
          <p:cNvPicPr/>
          <p:nvPr/>
        </p:nvPicPr>
        <p:blipFill>
          <a:blip r:embed="rId2"/>
          <a:stretch/>
        </p:blipFill>
        <p:spPr>
          <a:xfrm>
            <a:off x="0" y="6229440"/>
            <a:ext cx="9142560" cy="609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359" dur="indefinite" restart="never" nodeType="tmRoot">
          <p:childTnLst>
            <p:seq>
              <p:cTn id="1360" dur="indefinite" nodeType="mainSeq">
                <p:childTnLst>
                  <p:par>
                    <p:cTn id="1361" fill="hold">
                      <p:stCondLst>
                        <p:cond delay="0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65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fill="hold">
                            <p:stCondLst>
                              <p:cond delay="500"/>
                            </p:stCondLst>
                            <p:childTnLst>
                              <p:par>
                                <p:cTn id="136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69" dur="3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1400"/>
                            </p:stCondLst>
                            <p:childTnLst>
                              <p:par>
                                <p:cTn id="137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50000">
              <a:srgbClr val="17174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pic>
        <p:nvPicPr>
          <p:cNvPr id="942" name="" descr=""/>
          <p:cNvPicPr/>
          <p:nvPr/>
        </p:nvPicPr>
        <p:blipFill>
          <a:blip r:embed="rId2"/>
          <a:stretch/>
        </p:blipFill>
        <p:spPr>
          <a:xfrm>
            <a:off x="4998960" y="4495680"/>
            <a:ext cx="3840120" cy="1532160"/>
          </a:xfrm>
          <a:prstGeom prst="rect">
            <a:avLst/>
          </a:prstGeom>
          <a:ln w="0">
            <a:noFill/>
          </a:ln>
        </p:spPr>
      </p:pic>
      <p:pic>
        <p:nvPicPr>
          <p:cNvPr id="943" name="" descr=""/>
          <p:cNvPicPr/>
          <p:nvPr/>
        </p:nvPicPr>
        <p:blipFill>
          <a:blip r:embed="rId3"/>
          <a:stretch/>
        </p:blipFill>
        <p:spPr>
          <a:xfrm>
            <a:off x="8113680" y="0"/>
            <a:ext cx="1028880" cy="981000"/>
          </a:xfrm>
          <a:prstGeom prst="rect">
            <a:avLst/>
          </a:prstGeom>
          <a:ln w="0">
            <a:noFill/>
          </a:ln>
        </p:spPr>
      </p:pic>
      <p:sp>
        <p:nvSpPr>
          <p:cNvPr id="944" name=""/>
          <p:cNvSpPr/>
          <p:nvPr/>
        </p:nvSpPr>
        <p:spPr>
          <a:xfrm>
            <a:off x="611280" y="1052640"/>
            <a:ext cx="4681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Comic Sans MS"/>
              </a:rPr>
              <a:t>Выполнил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cc0099"/>
                </a:solidFill>
                <a:latin typeface="Comic Sans MS"/>
              </a:rPr>
              <a:t>Бобров Р.С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375" dur="indefinite" restart="never" nodeType="tmRoot">
          <p:childTnLst>
            <p:seq>
              <p:cTn id="1376" dur="indefinite" nodeType="mainSeq">
                <p:childTnLst>
                  <p:par>
                    <p:cTn id="1377" fill="hold">
                      <p:stCondLst>
                        <p:cond delay="0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7174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4941720" y="1666800"/>
            <a:ext cx="3733560" cy="4356720"/>
            <a:chOff x="4941720" y="1666800"/>
            <a:chExt cx="3733560" cy="4356720"/>
          </a:xfrm>
        </p:grpSpPr>
        <p:sp>
          <p:nvSpPr>
            <p:cNvPr id="86" name=""/>
            <p:cNvSpPr/>
            <p:nvPr/>
          </p:nvSpPr>
          <p:spPr>
            <a:xfrm>
              <a:off x="5824080" y="1666800"/>
              <a:ext cx="2019600" cy="459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  <a:effectLst>
              <a:outerShdw dist="107932" dir="8100000" blurRad="0" rotWithShape="0">
                <a:srgbClr val="ff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Comic Sans MS"/>
                </a:rPr>
                <a:t>у=а</a:t>
              </a:r>
              <a:r>
                <a:rPr b="1" lang="ru-RU" sz="2400" spc="-1" strike="noStrike" baseline="30000">
                  <a:solidFill>
                    <a:srgbClr val="ff0000"/>
                  </a:solidFill>
                  <a:latin typeface="Comic Sans MS"/>
                </a:rPr>
                <a:t>х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, 0&lt;a&lt;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5291640" y="3026520"/>
              <a:ext cx="2590560" cy="2262240"/>
            </a:xfrm>
            <a:custGeom>
              <a:avLst/>
              <a:gdLst/>
              <a:ahLst/>
              <a:rect l="l" t="t" r="r" b="b"/>
              <a:pathLst>
                <a:path w="1270" h="998">
                  <a:moveTo>
                    <a:pt x="0" y="998"/>
                  </a:moveTo>
                  <a:cubicBezTo>
                    <a:pt x="11" y="832"/>
                    <a:pt x="23" y="666"/>
                    <a:pt x="91" y="545"/>
                  </a:cubicBezTo>
                  <a:cubicBezTo>
                    <a:pt x="159" y="424"/>
                    <a:pt x="211" y="364"/>
                    <a:pt x="408" y="273"/>
                  </a:cubicBezTo>
                  <a:cubicBezTo>
                    <a:pt x="605" y="182"/>
                    <a:pt x="1119" y="53"/>
                    <a:pt x="1270" y="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4941720" y="2576520"/>
              <a:ext cx="3733560" cy="3447000"/>
              <a:chOff x="4941720" y="2576520"/>
              <a:chExt cx="3733560" cy="3447000"/>
            </a:xfrm>
          </p:grpSpPr>
          <p:sp>
            <p:nvSpPr>
              <p:cNvPr id="89" name=""/>
              <p:cNvSpPr/>
              <p:nvPr/>
            </p:nvSpPr>
            <p:spPr>
              <a:xfrm flipV="1">
                <a:off x="6418080" y="2654280"/>
                <a:ext cx="1440" cy="32385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142120" y="5624640"/>
                <a:ext cx="53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Comic Sans MS"/>
                  </a:rPr>
                  <a:t>Х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4941720" y="5618160"/>
                <a:ext cx="358128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122880" y="492588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122880" y="562140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075000" y="2576520"/>
                <a:ext cx="5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Comic Sans MS"/>
                  </a:rPr>
                  <a:t>У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" name=""/>
          <p:cNvSpPr/>
          <p:nvPr/>
        </p:nvSpPr>
        <p:spPr>
          <a:xfrm>
            <a:off x="457200" y="0"/>
            <a:ext cx="85345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Проанализируем решение уравнения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1" lang="en-US" sz="3200" spc="-1" strike="noStrike" baseline="30000">
                <a:solidFill>
                  <a:srgbClr val="ffffff"/>
                </a:solidFill>
                <a:latin typeface="Comic Sans MS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=b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графическ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84360" y="1700280"/>
            <a:ext cx="3657600" cy="4334040"/>
            <a:chOff x="684360" y="1700280"/>
            <a:chExt cx="3657600" cy="4334040"/>
          </a:xfrm>
        </p:grpSpPr>
        <p:grpSp>
          <p:nvGrpSpPr>
            <p:cNvPr id="97" name=""/>
            <p:cNvGrpSpPr/>
            <p:nvPr/>
          </p:nvGrpSpPr>
          <p:grpSpPr>
            <a:xfrm>
              <a:off x="684360" y="2625480"/>
              <a:ext cx="3657600" cy="3408840"/>
              <a:chOff x="684360" y="2625480"/>
              <a:chExt cx="3657600" cy="3408840"/>
            </a:xfrm>
          </p:grpSpPr>
          <p:sp>
            <p:nvSpPr>
              <p:cNvPr id="98" name=""/>
              <p:cNvSpPr/>
              <p:nvPr/>
            </p:nvSpPr>
            <p:spPr>
              <a:xfrm flipH="1" rot="5400000">
                <a:off x="776880" y="3047040"/>
                <a:ext cx="2590560" cy="2262240"/>
              </a:xfrm>
              <a:custGeom>
                <a:avLst/>
                <a:gdLst/>
                <a:ahLst/>
                <a:rect l="l" t="t" r="r" b="b"/>
                <a:pathLst>
                  <a:path w="1270" h="998">
                    <a:moveTo>
                      <a:pt x="0" y="998"/>
                    </a:moveTo>
                    <a:cubicBezTo>
                      <a:pt x="11" y="832"/>
                      <a:pt x="23" y="666"/>
                      <a:pt x="91" y="545"/>
                    </a:cubicBezTo>
                    <a:cubicBezTo>
                      <a:pt x="159" y="424"/>
                      <a:pt x="211" y="364"/>
                      <a:pt x="408" y="273"/>
                    </a:cubicBezTo>
                    <a:cubicBezTo>
                      <a:pt x="605" y="182"/>
                      <a:pt x="1119" y="53"/>
                      <a:pt x="1270" y="0"/>
                    </a:cubicBezTo>
                  </a:path>
                </a:pathLst>
              </a:custGeom>
              <a:noFill/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9" name=""/>
              <p:cNvGrpSpPr/>
              <p:nvPr/>
            </p:nvGrpSpPr>
            <p:grpSpPr>
              <a:xfrm>
                <a:off x="684360" y="2625480"/>
                <a:ext cx="3657600" cy="3408840"/>
                <a:chOff x="684360" y="2625480"/>
                <a:chExt cx="3657600" cy="3408840"/>
              </a:xfrm>
            </p:grpSpPr>
            <p:sp>
              <p:nvSpPr>
                <p:cNvPr id="100" name=""/>
                <p:cNvSpPr/>
                <p:nvPr/>
              </p:nvSpPr>
              <p:spPr>
                <a:xfrm flipV="1">
                  <a:off x="2227320" y="2674800"/>
                  <a:ext cx="1800" cy="323856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1843200" y="2625480"/>
                  <a:ext cx="533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ffffff"/>
                      </a:solidFill>
                      <a:latin typeface="Comic Sans MS"/>
                    </a:rPr>
                    <a:t>У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3808440" y="5635440"/>
                  <a:ext cx="533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ffffff"/>
                      </a:solidFill>
                      <a:latin typeface="Comic Sans MS"/>
                    </a:rPr>
                    <a:t>Х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H="1">
                  <a:off x="684360" y="5638680"/>
                  <a:ext cx="3581280" cy="144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1884600" y="501624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1874880" y="563544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6" name=""/>
            <p:cNvSpPr/>
            <p:nvPr/>
          </p:nvSpPr>
          <p:spPr>
            <a:xfrm>
              <a:off x="1522440" y="1700280"/>
              <a:ext cx="1981440" cy="459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  <a:effectLst>
              <a:outerShdw dist="107932" dir="2700000" blurRad="0" rotWithShape="0">
                <a:srgbClr val="ff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Comic Sans MS"/>
                </a:rPr>
                <a:t>у=а</a:t>
              </a:r>
              <a:r>
                <a:rPr b="1" lang="ru-RU" sz="2400" spc="-1" strike="noStrike" baseline="30000">
                  <a:solidFill>
                    <a:srgbClr val="ff0000"/>
                  </a:solidFill>
                  <a:latin typeface="Comic Sans MS"/>
                </a:rPr>
                <a:t>х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, a&gt;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987640" y="602136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Comic Sans MS"/>
              </a:rPr>
              <a:t>у</a:t>
            </a:r>
            <a:r>
              <a:rPr b="1" lang="en-US" sz="2000" spc="-1" strike="noStrike">
                <a:solidFill>
                  <a:srgbClr val="66ccff"/>
                </a:solidFill>
                <a:latin typeface="Comic Sans MS"/>
              </a:rPr>
              <a:t>=b, b&lt;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4360" y="6021360"/>
            <a:ext cx="352728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32360" y="6021360"/>
            <a:ext cx="352728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236000" y="602136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Comic Sans MS"/>
              </a:rPr>
              <a:t>у</a:t>
            </a:r>
            <a:r>
              <a:rPr b="1" lang="en-US" sz="2000" spc="-1" strike="noStrike">
                <a:solidFill>
                  <a:srgbClr val="66ccff"/>
                </a:solidFill>
                <a:latin typeface="Comic Sans MS"/>
              </a:rPr>
              <a:t>=b, b&lt;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24080" y="5122800"/>
            <a:ext cx="0" cy="11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18440" y="5153040"/>
            <a:ext cx="0" cy="11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7174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4941720" y="1666800"/>
            <a:ext cx="3733560" cy="4356720"/>
            <a:chOff x="4941720" y="1666800"/>
            <a:chExt cx="3733560" cy="4356720"/>
          </a:xfrm>
        </p:grpSpPr>
        <p:sp>
          <p:nvSpPr>
            <p:cNvPr id="114" name=""/>
            <p:cNvSpPr/>
            <p:nvPr/>
          </p:nvSpPr>
          <p:spPr>
            <a:xfrm>
              <a:off x="5824080" y="1666800"/>
              <a:ext cx="2019600" cy="459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  <a:effectLst>
              <a:outerShdw dist="107932" dir="8100000" blurRad="0" rotWithShape="0">
                <a:srgbClr val="ff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Comic Sans MS"/>
                </a:rPr>
                <a:t>у=а</a:t>
              </a:r>
              <a:r>
                <a:rPr b="1" lang="ru-RU" sz="2400" spc="-1" strike="noStrike" baseline="30000">
                  <a:solidFill>
                    <a:srgbClr val="ff0000"/>
                  </a:solidFill>
                  <a:latin typeface="Comic Sans MS"/>
                </a:rPr>
                <a:t>х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, 0&lt;a&lt;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6200000">
              <a:off x="5291640" y="3026520"/>
              <a:ext cx="2590560" cy="2262240"/>
            </a:xfrm>
            <a:custGeom>
              <a:avLst/>
              <a:gdLst/>
              <a:ahLst/>
              <a:rect l="l" t="t" r="r" b="b"/>
              <a:pathLst>
                <a:path w="1270" h="998">
                  <a:moveTo>
                    <a:pt x="0" y="998"/>
                  </a:moveTo>
                  <a:cubicBezTo>
                    <a:pt x="11" y="832"/>
                    <a:pt x="23" y="666"/>
                    <a:pt x="91" y="545"/>
                  </a:cubicBezTo>
                  <a:cubicBezTo>
                    <a:pt x="159" y="424"/>
                    <a:pt x="211" y="364"/>
                    <a:pt x="408" y="273"/>
                  </a:cubicBezTo>
                  <a:cubicBezTo>
                    <a:pt x="605" y="182"/>
                    <a:pt x="1119" y="53"/>
                    <a:pt x="1270" y="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4941720" y="2576520"/>
              <a:ext cx="3733560" cy="3447000"/>
              <a:chOff x="4941720" y="2576520"/>
              <a:chExt cx="3733560" cy="3447000"/>
            </a:xfrm>
          </p:grpSpPr>
          <p:sp>
            <p:nvSpPr>
              <p:cNvPr id="117" name=""/>
              <p:cNvSpPr/>
              <p:nvPr/>
            </p:nvSpPr>
            <p:spPr>
              <a:xfrm flipV="1">
                <a:off x="6418080" y="2654280"/>
                <a:ext cx="1440" cy="32385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142120" y="5624640"/>
                <a:ext cx="53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Comic Sans MS"/>
                  </a:rPr>
                  <a:t>Х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941720" y="5618160"/>
                <a:ext cx="358128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122880" y="492588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122880" y="562140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075000" y="2576520"/>
                <a:ext cx="5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Comic Sans MS"/>
                  </a:rPr>
                  <a:t>У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" name=""/>
          <p:cNvSpPr/>
          <p:nvPr/>
        </p:nvSpPr>
        <p:spPr>
          <a:xfrm>
            <a:off x="457200" y="0"/>
            <a:ext cx="85345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Проанализируем решение уравнения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1" lang="en-US" sz="3200" spc="-1" strike="noStrike" baseline="30000">
                <a:solidFill>
                  <a:srgbClr val="ffffff"/>
                </a:solidFill>
                <a:latin typeface="Comic Sans MS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=b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графическ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84360" y="1700280"/>
            <a:ext cx="3657600" cy="4334040"/>
            <a:chOff x="684360" y="1700280"/>
            <a:chExt cx="3657600" cy="4334040"/>
          </a:xfrm>
        </p:grpSpPr>
        <p:grpSp>
          <p:nvGrpSpPr>
            <p:cNvPr id="125" name=""/>
            <p:cNvGrpSpPr/>
            <p:nvPr/>
          </p:nvGrpSpPr>
          <p:grpSpPr>
            <a:xfrm>
              <a:off x="684360" y="2625480"/>
              <a:ext cx="3657600" cy="3408840"/>
              <a:chOff x="684360" y="2625480"/>
              <a:chExt cx="3657600" cy="3408840"/>
            </a:xfrm>
          </p:grpSpPr>
          <p:sp>
            <p:nvSpPr>
              <p:cNvPr id="126" name=""/>
              <p:cNvSpPr/>
              <p:nvPr/>
            </p:nvSpPr>
            <p:spPr>
              <a:xfrm flipH="1" rot="5400000">
                <a:off x="776880" y="3047040"/>
                <a:ext cx="2590560" cy="2262240"/>
              </a:xfrm>
              <a:custGeom>
                <a:avLst/>
                <a:gdLst/>
                <a:ahLst/>
                <a:rect l="l" t="t" r="r" b="b"/>
                <a:pathLst>
                  <a:path w="1270" h="998">
                    <a:moveTo>
                      <a:pt x="0" y="998"/>
                    </a:moveTo>
                    <a:cubicBezTo>
                      <a:pt x="11" y="832"/>
                      <a:pt x="23" y="666"/>
                      <a:pt x="91" y="545"/>
                    </a:cubicBezTo>
                    <a:cubicBezTo>
                      <a:pt x="159" y="424"/>
                      <a:pt x="211" y="364"/>
                      <a:pt x="408" y="273"/>
                    </a:cubicBezTo>
                    <a:cubicBezTo>
                      <a:pt x="605" y="182"/>
                      <a:pt x="1119" y="53"/>
                      <a:pt x="1270" y="0"/>
                    </a:cubicBezTo>
                  </a:path>
                </a:pathLst>
              </a:custGeom>
              <a:noFill/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684360" y="2625480"/>
                <a:ext cx="3657600" cy="3408840"/>
                <a:chOff x="684360" y="2625480"/>
                <a:chExt cx="3657600" cy="3408840"/>
              </a:xfrm>
            </p:grpSpPr>
            <p:sp>
              <p:nvSpPr>
                <p:cNvPr id="128" name=""/>
                <p:cNvSpPr/>
                <p:nvPr/>
              </p:nvSpPr>
              <p:spPr>
                <a:xfrm flipV="1">
                  <a:off x="2227320" y="2674800"/>
                  <a:ext cx="1800" cy="323856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843200" y="2625480"/>
                  <a:ext cx="533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ffffff"/>
                      </a:solidFill>
                      <a:latin typeface="Comic Sans MS"/>
                    </a:rPr>
                    <a:t>У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808440" y="5635440"/>
                  <a:ext cx="533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ffffff"/>
                      </a:solidFill>
                      <a:latin typeface="Comic Sans MS"/>
                    </a:rPr>
                    <a:t>Х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flipH="1">
                  <a:off x="684360" y="5638680"/>
                  <a:ext cx="3581280" cy="144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884600" y="501624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74880" y="563544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4" name=""/>
            <p:cNvSpPr/>
            <p:nvPr/>
          </p:nvSpPr>
          <p:spPr>
            <a:xfrm>
              <a:off x="1522440" y="1700280"/>
              <a:ext cx="1981440" cy="459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  <a:effectLst>
              <a:outerShdw dist="107932" dir="2700000" blurRad="0" rotWithShape="0">
                <a:srgbClr val="ff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Comic Sans MS"/>
                </a:rPr>
                <a:t>у=а</a:t>
              </a:r>
              <a:r>
                <a:rPr b="1" lang="ru-RU" sz="2400" spc="-1" strike="noStrike" baseline="30000">
                  <a:solidFill>
                    <a:srgbClr val="ff0000"/>
                  </a:solidFill>
                  <a:latin typeface="Comic Sans MS"/>
                </a:rPr>
                <a:t>х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, a&gt;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433440" y="5635800"/>
            <a:ext cx="352728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16360" y="5610240"/>
            <a:ext cx="352764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68360" y="56610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Comic Sans MS"/>
              </a:rPr>
              <a:t>у</a:t>
            </a:r>
            <a:r>
              <a:rPr b="1" lang="en-US" sz="2000" spc="-1" strike="noStrike">
                <a:solidFill>
                  <a:srgbClr val="66ccff"/>
                </a:solidFill>
                <a:latin typeface="Comic Sans MS"/>
              </a:rPr>
              <a:t>=b, b=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04000" y="558972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Comic Sans MS"/>
              </a:rPr>
              <a:t>у</a:t>
            </a:r>
            <a:r>
              <a:rPr b="1" lang="en-US" sz="2000" spc="-1" strike="noStrike">
                <a:solidFill>
                  <a:srgbClr val="66ccff"/>
                </a:solidFill>
                <a:latin typeface="Comic Sans MS"/>
              </a:rPr>
              <a:t>=b, b=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7174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4941720" y="1666800"/>
            <a:ext cx="3733560" cy="4356720"/>
            <a:chOff x="4941720" y="1666800"/>
            <a:chExt cx="3733560" cy="4356720"/>
          </a:xfrm>
        </p:grpSpPr>
        <p:sp>
          <p:nvSpPr>
            <p:cNvPr id="140" name=""/>
            <p:cNvSpPr/>
            <p:nvPr/>
          </p:nvSpPr>
          <p:spPr>
            <a:xfrm>
              <a:off x="5824080" y="1666800"/>
              <a:ext cx="2019600" cy="459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  <a:effectLst>
              <a:outerShdw dist="107932" dir="8100000" blurRad="0" rotWithShape="0">
                <a:srgbClr val="ff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Comic Sans MS"/>
                </a:rPr>
                <a:t>у=а</a:t>
              </a:r>
              <a:r>
                <a:rPr b="1" lang="ru-RU" sz="2400" spc="-1" strike="noStrike" baseline="30000">
                  <a:solidFill>
                    <a:srgbClr val="ff0000"/>
                  </a:solidFill>
                  <a:latin typeface="Comic Sans MS"/>
                </a:rPr>
                <a:t>х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, 0&lt;a&lt;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6200000">
              <a:off x="5291640" y="3026520"/>
              <a:ext cx="2590560" cy="2262240"/>
            </a:xfrm>
            <a:custGeom>
              <a:avLst/>
              <a:gdLst/>
              <a:ahLst/>
              <a:rect l="l" t="t" r="r" b="b"/>
              <a:pathLst>
                <a:path w="1270" h="998">
                  <a:moveTo>
                    <a:pt x="0" y="998"/>
                  </a:moveTo>
                  <a:cubicBezTo>
                    <a:pt x="11" y="832"/>
                    <a:pt x="23" y="666"/>
                    <a:pt x="91" y="545"/>
                  </a:cubicBezTo>
                  <a:cubicBezTo>
                    <a:pt x="159" y="424"/>
                    <a:pt x="211" y="364"/>
                    <a:pt x="408" y="273"/>
                  </a:cubicBezTo>
                  <a:cubicBezTo>
                    <a:pt x="605" y="182"/>
                    <a:pt x="1119" y="53"/>
                    <a:pt x="1270" y="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4941720" y="2576520"/>
              <a:ext cx="3733560" cy="3447000"/>
              <a:chOff x="4941720" y="2576520"/>
              <a:chExt cx="3733560" cy="3447000"/>
            </a:xfrm>
          </p:grpSpPr>
          <p:sp>
            <p:nvSpPr>
              <p:cNvPr id="143" name=""/>
              <p:cNvSpPr/>
              <p:nvPr/>
            </p:nvSpPr>
            <p:spPr>
              <a:xfrm flipV="1">
                <a:off x="6418080" y="2654280"/>
                <a:ext cx="1440" cy="32385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142120" y="5624640"/>
                <a:ext cx="53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Comic Sans MS"/>
                  </a:rPr>
                  <a:t>Х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4941720" y="5618160"/>
                <a:ext cx="358128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122880" y="492588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122880" y="562140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075000" y="2576520"/>
                <a:ext cx="5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Comic Sans MS"/>
                  </a:rPr>
                  <a:t>У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" name=""/>
          <p:cNvSpPr/>
          <p:nvPr/>
        </p:nvSpPr>
        <p:spPr>
          <a:xfrm>
            <a:off x="457200" y="0"/>
            <a:ext cx="85345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Проанализируем решение уравнения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1" lang="en-US" sz="3200" spc="-1" strike="noStrike" baseline="30000">
                <a:solidFill>
                  <a:srgbClr val="ffffff"/>
                </a:solidFill>
                <a:latin typeface="Comic Sans MS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=b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графическ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84360" y="1700280"/>
            <a:ext cx="3657600" cy="4334040"/>
            <a:chOff x="684360" y="1700280"/>
            <a:chExt cx="3657600" cy="4334040"/>
          </a:xfrm>
        </p:grpSpPr>
        <p:grpSp>
          <p:nvGrpSpPr>
            <p:cNvPr id="151" name=""/>
            <p:cNvGrpSpPr/>
            <p:nvPr/>
          </p:nvGrpSpPr>
          <p:grpSpPr>
            <a:xfrm>
              <a:off x="684360" y="2625480"/>
              <a:ext cx="3657600" cy="3408840"/>
              <a:chOff x="684360" y="2625480"/>
              <a:chExt cx="3657600" cy="3408840"/>
            </a:xfrm>
          </p:grpSpPr>
          <p:sp>
            <p:nvSpPr>
              <p:cNvPr id="152" name=""/>
              <p:cNvSpPr/>
              <p:nvPr/>
            </p:nvSpPr>
            <p:spPr>
              <a:xfrm flipH="1" rot="5400000">
                <a:off x="776880" y="3047040"/>
                <a:ext cx="2590560" cy="2262240"/>
              </a:xfrm>
              <a:custGeom>
                <a:avLst/>
                <a:gdLst/>
                <a:ahLst/>
                <a:rect l="l" t="t" r="r" b="b"/>
                <a:pathLst>
                  <a:path w="1270" h="998">
                    <a:moveTo>
                      <a:pt x="0" y="998"/>
                    </a:moveTo>
                    <a:cubicBezTo>
                      <a:pt x="11" y="832"/>
                      <a:pt x="23" y="666"/>
                      <a:pt x="91" y="545"/>
                    </a:cubicBezTo>
                    <a:cubicBezTo>
                      <a:pt x="159" y="424"/>
                      <a:pt x="211" y="364"/>
                      <a:pt x="408" y="273"/>
                    </a:cubicBezTo>
                    <a:cubicBezTo>
                      <a:pt x="605" y="182"/>
                      <a:pt x="1119" y="53"/>
                      <a:pt x="1270" y="0"/>
                    </a:cubicBezTo>
                  </a:path>
                </a:pathLst>
              </a:custGeom>
              <a:noFill/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3" name=""/>
              <p:cNvGrpSpPr/>
              <p:nvPr/>
            </p:nvGrpSpPr>
            <p:grpSpPr>
              <a:xfrm>
                <a:off x="684360" y="2625480"/>
                <a:ext cx="3657600" cy="3408840"/>
                <a:chOff x="684360" y="2625480"/>
                <a:chExt cx="3657600" cy="3408840"/>
              </a:xfrm>
            </p:grpSpPr>
            <p:sp>
              <p:nvSpPr>
                <p:cNvPr id="154" name=""/>
                <p:cNvSpPr/>
                <p:nvPr/>
              </p:nvSpPr>
              <p:spPr>
                <a:xfrm flipV="1">
                  <a:off x="2227320" y="2674800"/>
                  <a:ext cx="1800" cy="323856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843200" y="2625480"/>
                  <a:ext cx="533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ffffff"/>
                      </a:solidFill>
                      <a:latin typeface="Comic Sans MS"/>
                    </a:rPr>
                    <a:t>У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808440" y="5635440"/>
                  <a:ext cx="533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ffffff"/>
                      </a:solidFill>
                      <a:latin typeface="Comic Sans MS"/>
                    </a:rPr>
                    <a:t>Х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H="1">
                  <a:off x="684360" y="5638680"/>
                  <a:ext cx="3581280" cy="144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884600" y="501624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1874880" y="563544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0" name=""/>
            <p:cNvSpPr/>
            <p:nvPr/>
          </p:nvSpPr>
          <p:spPr>
            <a:xfrm>
              <a:off x="1522440" y="1700280"/>
              <a:ext cx="1981440" cy="459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  <a:effectLst>
              <a:outerShdw dist="107932" dir="2700000" blurRad="0" rotWithShape="0">
                <a:srgbClr val="ff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Comic Sans MS"/>
                </a:rPr>
                <a:t>у=а</a:t>
              </a:r>
              <a:r>
                <a:rPr b="1" lang="ru-RU" sz="2400" spc="-1" strike="noStrike" baseline="30000">
                  <a:solidFill>
                    <a:srgbClr val="ff0000"/>
                  </a:solidFill>
                  <a:latin typeface="Comic Sans MS"/>
                </a:rPr>
                <a:t>х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, a&gt;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12720" y="3500280"/>
            <a:ext cx="352764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89440" y="3500280"/>
            <a:ext cx="352764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306864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Comic Sans MS"/>
              </a:rPr>
              <a:t>у</a:t>
            </a:r>
            <a:r>
              <a:rPr b="1" lang="en-US" sz="2000" spc="-1" strike="noStrike">
                <a:solidFill>
                  <a:srgbClr val="66ccff"/>
                </a:solidFill>
                <a:latin typeface="Comic Sans MS"/>
              </a:rPr>
              <a:t>=b, b&gt;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20000" y="306864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Comic Sans MS"/>
              </a:rPr>
              <a:t>у</a:t>
            </a:r>
            <a:r>
              <a:rPr b="1" lang="en-US" sz="2000" spc="-1" strike="noStrike">
                <a:solidFill>
                  <a:srgbClr val="66ccff"/>
                </a:solidFill>
                <a:latin typeface="Comic Sans MS"/>
              </a:rPr>
              <a:t>=b, b&gt;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16360" y="3429000"/>
            <a:ext cx="142920" cy="144360"/>
          </a:xfrm>
          <a:prstGeom prst="ellipse">
            <a:avLst/>
          </a:prstGeom>
          <a:solidFill>
            <a:srgbClr val="ffe7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580000" y="3429000"/>
            <a:ext cx="142920" cy="144360"/>
          </a:xfrm>
          <a:prstGeom prst="ellipse">
            <a:avLst/>
          </a:prstGeom>
          <a:solidFill>
            <a:srgbClr val="ffe7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ff"/>
            </a:gs>
            <a:gs pos="100000">
              <a:srgbClr val="755e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556000" y="1197000"/>
            <a:ext cx="6222960" cy="180036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ccecff"/>
              </a:gs>
              <a:gs pos="100000">
                <a:srgbClr val="ffccff"/>
              </a:gs>
            </a:gsLst>
            <a:lin ang="8100000"/>
          </a:gradFill>
          <a:ln w="38160">
            <a:solidFill>
              <a:srgbClr val="ff66ff"/>
            </a:solidFill>
            <a:miter/>
          </a:ln>
          <a:effectLst>
            <a:outerShdw dist="107932" dir="2700000" blurRad="0" rotWithShape="0">
              <a:srgbClr val="99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Уравнение </a:t>
            </a: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3000" spc="-1" strike="noStrike" baseline="30000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=b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корней не име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56000" y="3645000"/>
            <a:ext cx="6192720" cy="18000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ccecff"/>
              </a:gs>
              <a:gs pos="100000">
                <a:srgbClr val="ffccff"/>
              </a:gs>
            </a:gsLst>
            <a:lin ang="8100000"/>
          </a:gradFill>
          <a:ln w="38160">
            <a:solidFill>
              <a:srgbClr val="ff66ff"/>
            </a:solidFill>
            <a:miter/>
          </a:ln>
          <a:effectLst>
            <a:outerShdw dist="107932" dir="2700000" blurRad="0" rotWithShape="0">
              <a:srgbClr val="99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ru-RU" sz="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Уравнение </a:t>
            </a: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3000" spc="-1" strike="noStrike" baseline="30000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=b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имеет единственное решение </a:t>
            </a: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x=lo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1520" y="3645000"/>
            <a:ext cx="1752480" cy="1800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66ff"/>
            </a:solidFill>
            <a:miter/>
          </a:ln>
          <a:effectLst>
            <a:outerShdw dist="107932" dir="2700000" blurRad="0" rotWithShape="0">
              <a:srgbClr val="99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3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b&gt;</a:t>
            </a: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520" y="1197000"/>
            <a:ext cx="1752480" cy="1800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ff66ff"/>
            </a:solidFill>
            <a:miter/>
          </a:ln>
          <a:effectLst>
            <a:outerShdw dist="107932" dir="2700000" blurRad="0" rotWithShape="0">
              <a:srgbClr val="99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3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b≤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419640" y="189000"/>
            <a:ext cx="2808000" cy="668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ccff"/>
                  </a:solidFill>
                  <a:miter/>
                </a:ln>
                <a:solidFill>
                  <a:srgbClr val="3366cc"/>
                </a:solidFill>
                <a:effectLst>
                  <a:outerShdw dist="45929" dir="7428877" blurRad="0" rotWithShape="0">
                    <a:srgbClr val="9900ff"/>
                  </a:outerShdw>
                </a:effectLst>
                <a:latin typeface="Comic Sans MS"/>
              </a:rPr>
              <a:t>Вывод:</a:t>
            </a:r>
            <a:endParaRPr b="0" lang="en-US" sz="2400" spc="1" strike="noStrike">
              <a:ln w="9360">
                <a:solidFill>
                  <a:srgbClr val="ffccff"/>
                </a:solidFill>
                <a:miter/>
              </a:ln>
              <a:solidFill>
                <a:srgbClr val="3366cc"/>
              </a:solidFill>
              <a:effectLst>
                <a:outerShdw dist="45929" dir="7428877" blurRad="0" rotWithShape="0">
                  <a:srgbClr val="9900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strips dir="r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7174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95280" y="765000"/>
            <a:ext cx="8367120" cy="1942920"/>
            <a:chOff x="395280" y="765000"/>
            <a:chExt cx="8367120" cy="1942920"/>
          </a:xfrm>
        </p:grpSpPr>
        <p:sp>
          <p:nvSpPr>
            <p:cNvPr id="173" name=""/>
            <p:cNvSpPr/>
            <p:nvPr/>
          </p:nvSpPr>
          <p:spPr>
            <a:xfrm>
              <a:off x="395280" y="765000"/>
              <a:ext cx="8367120" cy="1942920"/>
            </a:xfrm>
            <a:prstGeom prst="rect">
              <a:avLst/>
            </a:prstGeom>
            <a:solidFill>
              <a:srgbClr val="ccecff"/>
            </a:solidFill>
            <a:ln w="7632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00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004040" y="1303920"/>
              <a:ext cx="66420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80880" y="2997360"/>
            <a:ext cx="8367120" cy="1726560"/>
            <a:chOff x="380880" y="2997360"/>
            <a:chExt cx="8367120" cy="1726560"/>
          </a:xfrm>
        </p:grpSpPr>
        <p:sp>
          <p:nvSpPr>
            <p:cNvPr id="176" name=""/>
            <p:cNvSpPr/>
            <p:nvPr/>
          </p:nvSpPr>
          <p:spPr>
            <a:xfrm>
              <a:off x="380880" y="2997360"/>
              <a:ext cx="8367120" cy="1726560"/>
            </a:xfrm>
            <a:prstGeom prst="rect">
              <a:avLst/>
            </a:prstGeom>
            <a:solidFill>
              <a:srgbClr val="ccecff"/>
            </a:solidFill>
            <a:ln w="7632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00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89640" y="3476160"/>
              <a:ext cx="6642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80880" y="5013360"/>
            <a:ext cx="8367120" cy="1511280"/>
            <a:chOff x="380880" y="5013360"/>
            <a:chExt cx="8367120" cy="1511280"/>
          </a:xfrm>
        </p:grpSpPr>
        <p:sp>
          <p:nvSpPr>
            <p:cNvPr id="179" name=""/>
            <p:cNvSpPr/>
            <p:nvPr/>
          </p:nvSpPr>
          <p:spPr>
            <a:xfrm>
              <a:off x="380880" y="5013360"/>
              <a:ext cx="8367120" cy="1511280"/>
            </a:xfrm>
            <a:prstGeom prst="rect">
              <a:avLst/>
            </a:prstGeom>
            <a:solidFill>
              <a:srgbClr val="ccecff"/>
            </a:solidFill>
            <a:ln w="7632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00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89640" y="5432400"/>
              <a:ext cx="66420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3614400" y="-33480"/>
            <a:ext cx="19911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Пример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932040" y="801720"/>
                <a:ext cx="643572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,</m:t>
                        </m:r>
                        <m:r>
                          <m:t xml:space="preserve"> </m:t>
                        </m:r>
                        <m:r>
                          <m:t xml:space="preserve">8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уравнени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имеет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единственно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решение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343160" y="1413000"/>
                <a:ext cx="163188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8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330200" y="2060640"/>
                <a:ext cx="9381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996840" y="3087720"/>
                <a:ext cx="645804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,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0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уравнени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имеет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единственно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решение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347840" y="3695760"/>
                <a:ext cx="16063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042920" y="5181480"/>
                <a:ext cx="71391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,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0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уравнени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рней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имее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ccff"/>
            </a:gs>
            <a:gs pos="50000">
              <a:srgbClr val="2f5e75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52520" y="620640"/>
            <a:ext cx="8366760" cy="1511280"/>
            <a:chOff x="452520" y="620640"/>
            <a:chExt cx="8366760" cy="1511280"/>
          </a:xfrm>
        </p:grpSpPr>
        <p:sp>
          <p:nvSpPr>
            <p:cNvPr id="198" name=""/>
            <p:cNvSpPr/>
            <p:nvPr/>
          </p:nvSpPr>
          <p:spPr>
            <a:xfrm>
              <a:off x="452520" y="620640"/>
              <a:ext cx="8366760" cy="1511280"/>
            </a:xfrm>
            <a:prstGeom prst="rect">
              <a:avLst/>
            </a:prstGeom>
            <a:solidFill>
              <a:srgbClr val="ccecff"/>
            </a:solidFill>
            <a:ln w="7632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00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61280" y="1039680"/>
              <a:ext cx="6641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755640" y="549360"/>
            <a:ext cx="77040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Во многих случаях решение показательных уравнений после надлежащих преобразований сводится к решению простейших показательных уравнений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80880" y="4762440"/>
            <a:ext cx="8367120" cy="1942920"/>
            <a:chOff x="380880" y="4762440"/>
            <a:chExt cx="8367120" cy="1942920"/>
          </a:xfrm>
        </p:grpSpPr>
        <p:sp>
          <p:nvSpPr>
            <p:cNvPr id="202" name=""/>
            <p:cNvSpPr/>
            <p:nvPr/>
          </p:nvSpPr>
          <p:spPr>
            <a:xfrm>
              <a:off x="380880" y="4762440"/>
              <a:ext cx="8367120" cy="1942920"/>
            </a:xfrm>
            <a:prstGeom prst="rect">
              <a:avLst/>
            </a:prstGeom>
            <a:solidFill>
              <a:srgbClr val="ccecff"/>
            </a:solidFill>
            <a:ln w="7632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00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989640" y="5301360"/>
              <a:ext cx="66420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395280" y="2421000"/>
            <a:ext cx="8367120" cy="1942560"/>
            <a:chOff x="395280" y="2421000"/>
            <a:chExt cx="8367120" cy="1942560"/>
          </a:xfrm>
        </p:grpSpPr>
        <p:sp>
          <p:nvSpPr>
            <p:cNvPr id="205" name=""/>
            <p:cNvSpPr/>
            <p:nvPr/>
          </p:nvSpPr>
          <p:spPr>
            <a:xfrm>
              <a:off x="395280" y="2421000"/>
              <a:ext cx="8367120" cy="1942560"/>
            </a:xfrm>
            <a:prstGeom prst="rect">
              <a:avLst/>
            </a:prstGeom>
            <a:solidFill>
              <a:srgbClr val="ccecff"/>
            </a:solidFill>
            <a:ln w="7632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00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04040" y="2959920"/>
              <a:ext cx="6642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684360" y="2349360"/>
            <a:ext cx="7488000" cy="25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При решении показательных уравнений часто используется следующая теорема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«Уравнение                                                      равносильно уравнению                          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4360" y="472428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В общем, виде справедлива теорем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«Уравнение                            равносильно совокупности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79640" y="-27000"/>
            <a:ext cx="482436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omic Sans MS"/>
              </a:rPr>
              <a:t>Замечание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281320" y="3357720"/>
                <a:ext cx="315432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192400" y="3878280"/>
                <a:ext cx="13716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2443320" y="5275440"/>
                <a:ext cx="1336680" cy="41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693720" y="5746680"/>
                <a:ext cx="308628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3781440" y="5838840"/>
            <a:ext cx="3924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5T05:58:44Z</dcterms:created>
  <dc:creator>Бобров Р.С.</dc:creator>
  <dc:description/>
  <dc:language>en-US</dc:language>
  <cp:lastModifiedBy>Калугина</cp:lastModifiedBy>
  <dcterms:modified xsi:type="dcterms:W3CDTF">2005-12-25T15:16:49Z</dcterms:modified>
  <cp:revision>165</cp:revision>
  <dc:subject>Математика</dc:subject>
  <dc:title>Показательные уравнения типы и методы решения</dc:title>
</cp:coreProperties>
</file>