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3FD-50A3-4F15-B358-F54ADDCEBC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ADD-AC3C-4A74-814B-28906F1D1D6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8D1-E2C1-42DF-9FE8-C4E4BA2B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941-0A2D-4B57-A6B0-03DCE2E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109-172E-46C7-8FC3-0D97D0FC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098-434A-48CB-B6E5-F678C19A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1776-36C8-4733-A6F4-345F8163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DE08-CFE3-4C50-B906-14B23AE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CE4D-7D29-4D4A-9078-E67DE21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6A15-E7F6-45AC-8E42-8920EAE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795B-787F-4955-B6A9-373CDA61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78C-67B9-4408-AC5F-51388197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0B2C-32FD-446A-8176-C2113182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BB5-E849-4077-A1C6-8810514B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E42-A60E-4B36-8170-47B7251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F3F3-305A-488A-9F40-2CC4DBD2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A57A-1CBE-4874-8EEE-665AF82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D4C4-F634-4391-85EF-7F1DE8B7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6AE0-01FB-4792-80A4-A5AB099F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BBD-821E-4A7E-BF6C-A92B60EC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B4D-98FA-4F9E-8892-A190074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AB8-649D-4417-9485-69C4B51C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284-8C8A-4A9D-BE1F-E6ABA345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46C-6448-4CC3-918A-3C971E4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7DD-4420-4B3B-ABEC-79D7EE0D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B06-6155-4174-97AD-959C3BD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EF87-F77B-47E4-BD37-8FEBDA0DAE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201E-0ACF-410D-9358-0DB0F86C8A70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8000" y="4005360"/>
            <a:ext cx="66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2143080" y="2071800"/>
            <a:ext cx="5904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Волнистые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опугайчики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428760" y="128592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2286000" y="4572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Подготовила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ученица 2б  класс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399 гимназ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Фёдорова Али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928960" y="3357720"/>
            <a:ext cx="5857920" cy="3295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L:\конференция\Фёдорова\Новая папка\P1030235.JPG"/>
          <p:cNvPicPr/>
          <p:nvPr/>
        </p:nvPicPr>
        <p:blipFill>
          <a:blip r:embed="rId2"/>
          <a:stretch/>
        </p:blipFill>
        <p:spPr>
          <a:xfrm>
            <a:off x="214200" y="214200"/>
            <a:ext cx="533556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volnistie_popugai.mp3" descr=""/>
          <p:cNvPicPr/>
          <p:nvPr/>
        </p:nvPicPr>
        <p:blipFill>
          <a:blip r:embed="rId1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L:\конференция\0_43b1e_eadc75d2_XL[1].jpg"/>
          <p:cNvPicPr/>
          <p:nvPr/>
        </p:nvPicPr>
        <p:blipFill>
          <a:blip r:embed="rId2"/>
          <a:stretch/>
        </p:blipFill>
        <p:spPr>
          <a:xfrm>
            <a:off x="1143000" y="1357200"/>
            <a:ext cx="7072200" cy="53038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2928960" y="428760"/>
            <a:ext cx="385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7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9" descr=""/>
          <p:cNvPicPr/>
          <p:nvPr/>
        </p:nvPicPr>
        <p:blipFill>
          <a:blip r:embed="rId1"/>
          <a:stretch/>
        </p:blipFill>
        <p:spPr>
          <a:xfrm>
            <a:off x="0" y="2428920"/>
            <a:ext cx="3355920" cy="4429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гибридные птенцы какаду"/>
          <p:cNvPicPr/>
          <p:nvPr/>
        </p:nvPicPr>
        <p:blipFill>
          <a:blip r:embed="rId2"/>
          <a:stretch/>
        </p:blipFill>
        <p:spPr>
          <a:xfrm>
            <a:off x="3214800" y="0"/>
            <a:ext cx="4519440" cy="3614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L:\конференция\0_db54_a71bce1_XL[1].jpg"/>
          <p:cNvPicPr/>
          <p:nvPr/>
        </p:nvPicPr>
        <p:blipFill>
          <a:blip r:embed="rId3"/>
          <a:stretch/>
        </p:blipFill>
        <p:spPr>
          <a:xfrm>
            <a:off x="4303800" y="3500280"/>
            <a:ext cx="484020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2" descr="L:\конференция\BJBB[1].jpg"/>
          <p:cNvPicPr/>
          <p:nvPr/>
        </p:nvPicPr>
        <p:blipFill>
          <a:blip r:embed="rId1"/>
          <a:stretch/>
        </p:blipFill>
        <p:spPr>
          <a:xfrm>
            <a:off x="428760" y="357120"/>
            <a:ext cx="3500280" cy="4784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L:\конференция\366138_352356[1].jpg"/>
          <p:cNvPicPr/>
          <p:nvPr/>
        </p:nvPicPr>
        <p:blipFill>
          <a:blip r:embed="rId2"/>
          <a:stretch/>
        </p:blipFill>
        <p:spPr>
          <a:xfrm>
            <a:off x="3786120" y="2714760"/>
            <a:ext cx="5067360" cy="31431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5"/>
          <p:cNvSpPr/>
          <p:nvPr/>
        </p:nvSpPr>
        <p:spPr>
          <a:xfrm>
            <a:off x="4500720" y="5716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орошо размножаются в невол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928800" y="528624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нездовой ящик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ли дуплянка с летк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214200" y="578628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3" descr="L:\конференция\oklyuv[1].jpg"/>
          <p:cNvPicPr/>
          <p:nvPr/>
        </p:nvPicPr>
        <p:blipFill>
          <a:blip r:embed="rId1"/>
          <a:stretch/>
        </p:blipFill>
        <p:spPr>
          <a:xfrm>
            <a:off x="5572080" y="2000160"/>
            <a:ext cx="3357720" cy="44751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>
            <a:off x="1214280" y="21420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Arial"/>
              </a:rPr>
              <a:t>Кормление попугайчиков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1" name="Picture 10" descr=""/>
          <p:cNvPicPr/>
          <p:nvPr/>
        </p:nvPicPr>
        <p:blipFill>
          <a:blip r:embed="rId2"/>
          <a:stretch/>
        </p:blipFill>
        <p:spPr>
          <a:xfrm>
            <a:off x="2571840" y="1643040"/>
            <a:ext cx="8637480" cy="485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L:\конференция\300-rio_voln_pop[1].jpg"/>
          <p:cNvPicPr/>
          <p:nvPr/>
        </p:nvPicPr>
        <p:blipFill>
          <a:blip r:embed="rId3"/>
          <a:stretch/>
        </p:blipFill>
        <p:spPr>
          <a:xfrm>
            <a:off x="642960" y="1428840"/>
            <a:ext cx="1357200" cy="17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L:\конференция\32879[1].jpg"/>
          <p:cNvPicPr/>
          <p:nvPr/>
        </p:nvPicPr>
        <p:blipFill>
          <a:blip r:embed="rId4"/>
          <a:stretch/>
        </p:blipFill>
        <p:spPr>
          <a:xfrm>
            <a:off x="500040" y="4357800"/>
            <a:ext cx="1500120" cy="2147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726760" cy="8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Симптомы  заболе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14200" y="199980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охлится, прикрывает глаза, они слезятся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 спит или лежит на  дне клетки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адает с жердочек,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тказывается от корма или от него не отходит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чихает, кашляет, дышит со свистом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ромает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ья тусклые, ломкие, торчат в стороны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удеет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 лапах появились трещин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Рисунок 4" descr="http://our-pets.ucoz.ru/budgies15.jpg"/>
          <p:cNvPicPr/>
          <p:nvPr/>
        </p:nvPicPr>
        <p:blipFill>
          <a:blip r:embed="rId1"/>
          <a:stretch/>
        </p:blipFill>
        <p:spPr>
          <a:xfrm>
            <a:off x="6215040" y="1857240"/>
            <a:ext cx="2643120" cy="479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9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3714840" cy="611640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3"/>
          <p:cNvSpPr/>
          <p:nvPr/>
        </p:nvSpPr>
        <p:spPr>
          <a:xfrm>
            <a:off x="4214880" y="2500200"/>
            <a:ext cx="46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тицы в состоянии улучшить настроение и самочувствие человека, дать наслаждени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7078680" y="40006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Ч. Дарв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2286000" y="642960"/>
            <a:ext cx="421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eaeaea"/>
                </a:solidFill>
                <a:latin typeface="Arial"/>
              </a:rPr>
              <a:t>Литература</a:t>
            </a: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928800" y="1643040"/>
            <a:ext cx="7786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ирмелин И. “Волнистые попугаи”, М., ООО «Омега-пресс», 2005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ольшая книга вопросов и ответов/ пер.К.Мишиной, А.Зыковой, М., Эксмо, 2003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Жалпанова Л.Ж., “Волнистые попугайчики”, М.,”Вече”, 2008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точники в Интернете: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http://ru.wikipedia.org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, volnistye , www.zooclub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ар К.,  Волнистые попугайчики, М., Издательство   ООО «Аквариум-Принт», 2006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кум А., “Все обо всем ” популярная энциклопедия для детей, компания  “Ключ-С”, филологическое общество “Слово”, ТКО АСТ, М., 1994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ши питомцы”, М.,”Лесная промышленность”, 1986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071720" y="428760"/>
            <a:ext cx="86439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571680" y="585792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ейчас насчитывается более 150 разновидност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721720" cy="461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L:\конференция\Фёдорова\Новая папка\P1030160.JPG"/>
          <p:cNvPicPr/>
          <p:nvPr/>
        </p:nvPicPr>
        <p:blipFill>
          <a:blip r:embed="rId1"/>
          <a:stretch/>
        </p:blipFill>
        <p:spPr>
          <a:xfrm>
            <a:off x="4286160" y="3643200"/>
            <a:ext cx="5715000" cy="32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L:\конференция\Фёдорова\Новая папка\P1030248.JPG"/>
          <p:cNvPicPr/>
          <p:nvPr/>
        </p:nvPicPr>
        <p:blipFill>
          <a:blip r:embed="rId2"/>
          <a:stretch/>
        </p:blipFill>
        <p:spPr>
          <a:xfrm>
            <a:off x="-428760" y="0"/>
            <a:ext cx="5857920" cy="3295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Распростран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57200" y="1149840"/>
            <a:ext cx="8001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Arial"/>
              </a:rPr>
              <a:t>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ина волнистого попугайчика  - Австрал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6" descr="180px-Budgerigar_map"/>
          <p:cNvPicPr/>
          <p:nvPr/>
        </p:nvPicPr>
        <p:blipFill>
          <a:blip r:embed="rId1"/>
          <a:stretch/>
        </p:blipFill>
        <p:spPr>
          <a:xfrm>
            <a:off x="4786200" y="2643120"/>
            <a:ext cx="3929040" cy="2324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magnify-clip"/>
          <p:cNvPicPr/>
          <p:nvPr/>
        </p:nvPicPr>
        <p:blipFill>
          <a:blip r:embed="rId2"/>
          <a:stretch/>
        </p:blipFill>
        <p:spPr>
          <a:xfrm>
            <a:off x="-4371840" y="3603600"/>
            <a:ext cx="142560" cy="10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3"/>
          <a:stretch/>
        </p:blipFill>
        <p:spPr>
          <a:xfrm>
            <a:off x="214200" y="3238560"/>
            <a:ext cx="442908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749840" y="4626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03030"/>
                </a:solidFill>
                <a:latin typeface="Arial"/>
                <a:ea typeface="Times New Roman"/>
              </a:rPr>
              <a:t>: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3929040" y="1428840"/>
            <a:ext cx="7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14200" y="33577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дноцветные попуга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5357880" y="2857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ногоцветные попуга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3357720" y="3929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естря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Рисунок 7" descr="пестряки"/>
          <p:cNvPicPr/>
          <p:nvPr/>
        </p:nvPicPr>
        <p:blipFill>
          <a:blip r:embed="rId1"/>
          <a:stretch/>
        </p:blipFill>
        <p:spPr>
          <a:xfrm>
            <a:off x="3357720" y="4643280"/>
            <a:ext cx="1428480" cy="12146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8"/>
          <p:cNvSpPr/>
          <p:nvPr/>
        </p:nvSpPr>
        <p:spPr>
          <a:xfrm>
            <a:off x="5715000" y="4786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арлеки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Рисунок 9" descr="Волнистые попугаи арлекины"/>
          <p:cNvPicPr/>
          <p:nvPr/>
        </p:nvPicPr>
        <p:blipFill>
          <a:blip r:embed="rId2"/>
          <a:stretch/>
        </p:blipFill>
        <p:spPr>
          <a:xfrm>
            <a:off x="5286240" y="5357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0" descr="Волнистый попугай"/>
          <p:cNvPicPr/>
          <p:nvPr/>
        </p:nvPicPr>
        <p:blipFill>
          <a:blip r:embed="rId3"/>
          <a:stretch/>
        </p:blipFill>
        <p:spPr>
          <a:xfrm>
            <a:off x="6572160" y="5357880"/>
            <a:ext cx="714600" cy="1143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1"/>
          <p:cNvSpPr/>
          <p:nvPr/>
        </p:nvSpPr>
        <p:spPr>
          <a:xfrm>
            <a:off x="7572240" y="35719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ингви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Рисунок 12" descr="Волнистые попугаи пингвины"/>
          <p:cNvPicPr/>
          <p:nvPr/>
        </p:nvPicPr>
        <p:blipFill>
          <a:blip r:embed="rId4"/>
          <a:stretch/>
        </p:blipFill>
        <p:spPr>
          <a:xfrm>
            <a:off x="7643880" y="4143240"/>
            <a:ext cx="1285920" cy="1214640"/>
          </a:xfrm>
          <a:prstGeom prst="rect">
            <a:avLst/>
          </a:prstGeom>
          <a:ln w="0">
            <a:noFill/>
          </a:ln>
        </p:spPr>
      </p:pic>
      <p:cxnSp>
        <p:nvCxnSpPr>
          <p:cNvPr id="245" name="Прямая со стрелкой 18"/>
          <p:cNvCxnSpPr/>
          <p:nvPr/>
        </p:nvCxnSpPr>
        <p:spPr>
          <a:xfrm>
            <a:off x="5000400" y="2142720"/>
            <a:ext cx="1143720" cy="78660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cxnSp>
        <p:nvCxnSpPr>
          <p:cNvPr id="246" name="Прямая со стрелкой 20"/>
          <p:cNvCxnSpPr/>
          <p:nvPr/>
        </p:nvCxnSpPr>
        <p:spPr>
          <a:xfrm flipH="1">
            <a:off x="2285640" y="2500200"/>
            <a:ext cx="1572480" cy="85824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cxnSp>
        <p:nvCxnSpPr>
          <p:cNvPr id="247" name="Прямая со стрелкой 22"/>
          <p:cNvCxnSpPr/>
          <p:nvPr/>
        </p:nvCxnSpPr>
        <p:spPr>
          <a:xfrm>
            <a:off x="7500960" y="3286080"/>
            <a:ext cx="286560" cy="28656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cxnSp>
        <p:nvCxnSpPr>
          <p:cNvPr id="248" name="Прямая со стрелкой 24"/>
          <p:cNvCxnSpPr/>
          <p:nvPr/>
        </p:nvCxnSpPr>
        <p:spPr>
          <a:xfrm flipH="1">
            <a:off x="4500360" y="3357720"/>
            <a:ext cx="786240" cy="64332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cxnSp>
        <p:nvCxnSpPr>
          <p:cNvPr id="249" name="Прямая со стрелкой 28"/>
          <p:cNvCxnSpPr>
            <a:endCxn id="240" idx="0"/>
          </p:cNvCxnSpPr>
          <p:nvPr/>
        </p:nvCxnSpPr>
        <p:spPr>
          <a:xfrm>
            <a:off x="6357960" y="3214440"/>
            <a:ext cx="72000" cy="157212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cxnSp>
        <p:nvCxnSpPr>
          <p:cNvPr id="250" name="Прямая со стрелкой 29"/>
          <p:cNvCxnSpPr/>
          <p:nvPr/>
        </p:nvCxnSpPr>
        <p:spPr>
          <a:xfrm flipV="1">
            <a:off x="5071680" y="713520"/>
            <a:ext cx="1857960" cy="107244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sp>
        <p:nvSpPr>
          <p:cNvPr id="251" name="TextBox 30"/>
          <p:cNvSpPr/>
          <p:nvPr/>
        </p:nvSpPr>
        <p:spPr>
          <a:xfrm>
            <a:off x="7000920" y="214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хохлаты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52" name="Прямая со стрелкой 23"/>
          <p:cNvCxnSpPr/>
          <p:nvPr/>
        </p:nvCxnSpPr>
        <p:spPr>
          <a:xfrm flipH="1" flipV="1">
            <a:off x="1785240" y="642240"/>
            <a:ext cx="2143800" cy="121500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sp>
        <p:nvSpPr>
          <p:cNvPr id="253" name="TextBox 21"/>
          <p:cNvSpPr/>
          <p:nvPr/>
        </p:nvSpPr>
        <p:spPr>
          <a:xfrm>
            <a:off x="285840" y="285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льбинос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Рисунок 25" descr="http://volnistye.ru/plugins/content/mavikthumbnails/thumbnails/images-stories-_thumbs-%20%20-116x101.png"/>
          <p:cNvPicPr/>
          <p:nvPr/>
        </p:nvPicPr>
        <p:blipFill>
          <a:blip r:embed="rId5"/>
          <a:stretch/>
        </p:blipFill>
        <p:spPr>
          <a:xfrm>
            <a:off x="357120" y="78588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volnistye.ru/images/stories/ea28f877a5bb.jpg"/>
          <p:cNvPicPr/>
          <p:nvPr/>
        </p:nvPicPr>
        <p:blipFill>
          <a:blip r:embed="rId6"/>
          <a:stretch/>
        </p:blipFill>
        <p:spPr>
          <a:xfrm>
            <a:off x="7215120" y="714240"/>
            <a:ext cx="857160" cy="1276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http://our-pets.ucoz.ru/budgies116.jpg"/>
          <p:cNvPicPr/>
          <p:nvPr/>
        </p:nvPicPr>
        <p:blipFill>
          <a:blip r:embed="rId7"/>
          <a:stretch/>
        </p:blipFill>
        <p:spPr>
          <a:xfrm>
            <a:off x="4357800" y="214200"/>
            <a:ext cx="1331640" cy="928800"/>
          </a:xfrm>
          <a:prstGeom prst="rect">
            <a:avLst/>
          </a:prstGeom>
          <a:ln w="0">
            <a:noFill/>
          </a:ln>
        </p:spPr>
      </p:pic>
      <p:cxnSp>
        <p:nvCxnSpPr>
          <p:cNvPr id="257" name="Прямая со стрелкой 27"/>
          <p:cNvCxnSpPr/>
          <p:nvPr/>
        </p:nvCxnSpPr>
        <p:spPr>
          <a:xfrm flipH="1" flipV="1">
            <a:off x="3928680" y="785160"/>
            <a:ext cx="357840" cy="786600"/>
          </a:xfrm>
          <a:prstGeom prst="straightConnector1">
            <a:avLst/>
          </a:prstGeom>
          <a:ln w="9360">
            <a:solidFill>
              <a:srgbClr val="00cc64"/>
            </a:solidFill>
            <a:miter/>
            <a:tailEnd len="med" type="arrow" w="med"/>
          </a:ln>
        </p:spPr>
      </p:cxnSp>
      <p:sp>
        <p:nvSpPr>
          <p:cNvPr id="258" name="TextBox 31"/>
          <p:cNvSpPr/>
          <p:nvPr/>
        </p:nvSpPr>
        <p:spPr>
          <a:xfrm>
            <a:off x="3000240" y="2858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лютинос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Рисунок 35" descr="http://our-pets.ucoz.ru/budgies111.jpg"/>
          <p:cNvPicPr/>
          <p:nvPr/>
        </p:nvPicPr>
        <p:blipFill>
          <a:blip r:embed="rId8"/>
          <a:stretch/>
        </p:blipFill>
        <p:spPr>
          <a:xfrm>
            <a:off x="285840" y="3857760"/>
            <a:ext cx="21430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642960" y="357120"/>
          <a:ext cx="7858080" cy="6141960"/>
        </p:xfrm>
        <a:graphic>
          <a:graphicData uri="http://schemas.openxmlformats.org/drawingml/2006/table">
            <a:tbl>
              <a:tblPr/>
              <a:tblGrid>
                <a:gridCol w="2428920"/>
                <a:gridCol w="1857240"/>
                <a:gridCol w="1785960"/>
                <a:gridCol w="1785960"/>
              </a:tblGrid>
              <a:tr h="11080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ое у тебя есть животное?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 – 27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б – 28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в – 29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пуга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рыс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ерепах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омя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б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ругие животны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кого не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285840" y="1071720"/>
          <a:ext cx="8643960" cy="4925880"/>
        </p:xfrm>
        <a:graphic>
          <a:graphicData uri="http://schemas.openxmlformats.org/drawingml/2006/table">
            <a:tbl>
              <a:tblPr/>
              <a:tblGrid>
                <a:gridCol w="3500280"/>
                <a:gridCol w="5143680"/>
              </a:tblGrid>
              <a:tr h="80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з 1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мя попуга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еша - 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ремя проживания в семь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е 3 лет - 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вет опер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жёлто-зелёное - 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рмовая смесь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есёлый попугай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ихал, отрастание клю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 попал в дом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упили - 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377200" cy="62866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5715000" y="5000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купальн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642960" y="5929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поил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642960" y="5286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кормуш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928800" y="1285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насес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67" name="Прямая со стрелкой 10"/>
          <p:cNvCxnSpPr/>
          <p:nvPr/>
        </p:nvCxnSpPr>
        <p:spPr>
          <a:xfrm>
            <a:off x="2071800" y="1571400"/>
            <a:ext cx="1429200" cy="92916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  <p:cxnSp>
        <p:nvCxnSpPr>
          <p:cNvPr id="268" name="Прямая со стрелкой 12"/>
          <p:cNvCxnSpPr/>
          <p:nvPr/>
        </p:nvCxnSpPr>
        <p:spPr>
          <a:xfrm>
            <a:off x="1928520" y="1642680"/>
            <a:ext cx="1857960" cy="21492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  <p:cxnSp>
        <p:nvCxnSpPr>
          <p:cNvPr id="269" name="Прямая со стрелкой 14"/>
          <p:cNvCxnSpPr/>
          <p:nvPr/>
        </p:nvCxnSpPr>
        <p:spPr>
          <a:xfrm>
            <a:off x="2071440" y="1428840"/>
            <a:ext cx="3501000" cy="7200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  <p:cxnSp>
        <p:nvCxnSpPr>
          <p:cNvPr id="270" name="Прямая со стрелкой 16"/>
          <p:cNvCxnSpPr/>
          <p:nvPr/>
        </p:nvCxnSpPr>
        <p:spPr>
          <a:xfrm>
            <a:off x="1785960" y="1714680"/>
            <a:ext cx="1572480" cy="200088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  <p:cxnSp>
        <p:nvCxnSpPr>
          <p:cNvPr id="271" name="Прямая со стрелкой 19"/>
          <p:cNvCxnSpPr/>
          <p:nvPr/>
        </p:nvCxnSpPr>
        <p:spPr>
          <a:xfrm flipV="1">
            <a:off x="2071800" y="5000400"/>
            <a:ext cx="1715040" cy="42912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  <p:cxnSp>
        <p:nvCxnSpPr>
          <p:cNvPr id="272" name="Прямая со стрелкой 21"/>
          <p:cNvCxnSpPr/>
          <p:nvPr/>
        </p:nvCxnSpPr>
        <p:spPr>
          <a:xfrm flipV="1">
            <a:off x="1714680" y="5071320"/>
            <a:ext cx="3286800" cy="107244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  <p:cxnSp>
        <p:nvCxnSpPr>
          <p:cNvPr id="273" name="Прямая со стрелкой 23"/>
          <p:cNvCxnSpPr/>
          <p:nvPr/>
        </p:nvCxnSpPr>
        <p:spPr>
          <a:xfrm>
            <a:off x="6928200" y="857160"/>
            <a:ext cx="715320" cy="185832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  <p:sp>
        <p:nvSpPr>
          <p:cNvPr id="274" name="TextBox 24"/>
          <p:cNvSpPr/>
          <p:nvPr/>
        </p:nvSpPr>
        <p:spPr>
          <a:xfrm>
            <a:off x="642960" y="264312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37"/>
                </a:solidFill>
                <a:latin typeface="Arial"/>
              </a:rPr>
              <a:t>гнездовой ящ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5" name="Прямая со стрелкой 26"/>
          <p:cNvCxnSpPr/>
          <p:nvPr/>
        </p:nvCxnSpPr>
        <p:spPr>
          <a:xfrm>
            <a:off x="1357200" y="3214800"/>
            <a:ext cx="858240" cy="643320"/>
          </a:xfrm>
          <a:prstGeom prst="straightConnector1">
            <a:avLst/>
          </a:prstGeom>
          <a:ln w="9360">
            <a:solidFill>
              <a:srgbClr val="262637"/>
            </a:solidFill>
            <a:miter/>
            <a:tailEnd len="med" type="arrow" w="med"/>
          </a:ln>
        </p:spPr>
      </p:cxn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7:08:06Z</dcterms:created>
  <dc:creator>777</dc:creator>
  <dc:description/>
  <dc:language>en-US</dc:language>
  <cp:lastModifiedBy>Лелиг</cp:lastModifiedBy>
  <dcterms:modified xsi:type="dcterms:W3CDTF">2012-02-25T14:21:53Z</dcterms:modified>
  <cp:revision>195</cp:revision>
  <dc:subject/>
  <dc:title>Как в России появились попугаи ?</dc:title>
</cp:coreProperties>
</file>