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8F4-A7B4-4CED-9E57-5D860375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B78-E31F-4215-9FAC-357D3D2B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251-24D1-4CFA-A658-345D2ACF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47C-9681-4CA0-A052-E84D0772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526-E5EB-4C0E-86F2-8A8B635F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3B9-365F-49DB-80FE-FA199F69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95F-E484-42EC-A860-D83A61A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BEE-F01D-4E24-A3B0-6768CB5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E27-2D6D-498B-8679-22E6264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CAA2-A526-4DCB-B640-627C7B9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02AD-D223-47C5-8497-63DBD96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3BC-6734-491A-AB5B-6618A81E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BBB-D64E-4F50-A238-0E52628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CE0-0338-46AA-99FC-73ECA1A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78D-FBBD-47E5-A7DE-AA7EEEA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E15-DD5D-49E3-AE07-06FB4A9E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D4E-F066-465F-80A0-29E9B0F0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48F-FFEF-4643-B1EF-E204EF4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D40-9127-41A6-B6F3-A28F1C5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44F-3AC6-4AF0-A7A3-8EDCF69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A9F-4907-4DE8-923D-C51AEA3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2A7-78EC-4B2D-9721-899A4FA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A39-9FCA-46FC-AE09-D11E59A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914-3EA7-4E80-8719-AD1D567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A7B9-2980-4A4D-8DC2-313AD366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D227-23CD-41B4-93FE-AACEB15A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71640" y="304920"/>
            <a:ext cx="741672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Ракет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сложней или прощ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Comic Sans MS"/>
              </a:rPr>
              <a:t>травинк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 u="sng">
                <a:solidFill>
                  <a:srgbClr val="0099cc"/>
                </a:solidFill>
                <a:uFillTx/>
                <a:latin typeface="Comic Sans MS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Comic Sans MS"/>
              </a:rPr>
              <a:t>                               </a:t>
            </a:r>
            <a:r>
              <a:rPr b="0" lang="ru-RU" sz="2000" spc="-1" strike="noStrike">
                <a:solidFill>
                  <a:srgbClr val="0099cc"/>
                </a:solidFill>
                <a:latin typeface="Comic Sans MS"/>
              </a:rPr>
              <a:t>Филаткина Мар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99cc"/>
                </a:solidFill>
                <a:latin typeface="Comic Sans MS"/>
              </a:rPr>
              <a:t>Филаткина Ир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учени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цы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 7 «А» класс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                                            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МОУ СОШ №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Лесозаводск 20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год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5" descr="травинка"/>
          <p:cNvPicPr/>
          <p:nvPr/>
        </p:nvPicPr>
        <p:blipFill>
          <a:blip r:embed="rId1"/>
          <a:stretch/>
        </p:blipFill>
        <p:spPr>
          <a:xfrm>
            <a:off x="1763640" y="443700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ракета 2"/>
          <p:cNvPicPr/>
          <p:nvPr/>
        </p:nvPicPr>
        <p:blipFill>
          <a:blip r:embed="rId2"/>
          <a:stretch/>
        </p:blipFill>
        <p:spPr>
          <a:xfrm>
            <a:off x="395280" y="1844640"/>
            <a:ext cx="1943280" cy="2381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72360" y="692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подсолнух 1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684360" y="569520"/>
            <a:ext cx="7775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солнух поворачивает свой цветок вслед з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лнце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м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Цве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к раскрыва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е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зак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ва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и л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епестки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но большин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ств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ра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н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ив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у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одн</a:t>
            </a:r>
            <a:r>
              <a:rPr b="1" lang="en-US" sz="4400" spc="-1" strike="noStrike">
                <a:solidFill>
                  <a:srgbClr val="d0dae2"/>
                </a:solidFill>
                <a:latin typeface="Arial"/>
              </a:rPr>
              <a:t>о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месте всю жизнь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404640"/>
            <a:ext cx="5041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Но главное отличие растений  от всего живого – это способность к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фотосинтезу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, т.е. образованию органических веществ из неорганических при помощи энергии Солнца. И что самое главное, в результате этого процесса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фотосинтез 3"/>
          <p:cNvPicPr/>
          <p:nvPr/>
        </p:nvPicPr>
        <p:blipFill>
          <a:blip r:embed="rId1"/>
          <a:stretch/>
        </p:blipFill>
        <p:spPr>
          <a:xfrm>
            <a:off x="5508720" y="1700280"/>
            <a:ext cx="313380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95280" y="62064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Докажем, что наше царство лучш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Приглашаем всех в царство растени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Ни животных, ни птиц, ни бактер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Ведь оно, лучше всех для люд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Докажем мы вам поскор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растения7"/>
          <p:cNvPicPr/>
          <p:nvPr/>
        </p:nvPicPr>
        <p:blipFill>
          <a:blip r:embed="rId1"/>
          <a:stretch/>
        </p:blipFill>
        <p:spPr>
          <a:xfrm>
            <a:off x="1547640" y="3716280"/>
            <a:ext cx="61912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549360"/>
            <a:ext cx="529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Из маленького семеч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Листочек прорастае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 солнышка лучист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н силу набир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И вот уж не листочек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А стебель к солнцу тяне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Растёт и крепнет на глаз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И силой набирае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росток"/>
          <p:cNvPicPr/>
          <p:nvPr/>
        </p:nvPicPr>
        <p:blipFill>
          <a:blip r:embed="rId1"/>
          <a:stretch/>
        </p:blipFill>
        <p:spPr>
          <a:xfrm>
            <a:off x="5586480" y="981000"/>
            <a:ext cx="31496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333360"/>
            <a:ext cx="56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Еще растёт за годом год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Большое дерево и во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Растёт и крепнет на глаз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Верхушку видно в небес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Есть превосходство у раст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ереживут все поколень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Ведь дольше всех они живу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И людям радость всем несут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секвойя"/>
          <p:cNvPicPr/>
          <p:nvPr/>
        </p:nvPicPr>
        <p:blipFill>
          <a:blip r:embed="rId1"/>
          <a:stretch/>
        </p:blipFill>
        <p:spPr>
          <a:xfrm>
            <a:off x="4500720" y="3789360"/>
            <a:ext cx="432108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AJUJ2RF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1595880" y="822240"/>
            <a:ext cx="5955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бл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арны всем расте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чистый воздух, за ум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 красотою удиви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м здоровьем надел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года в год бегут год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знь не стоит на мест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ом большие город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шины и завод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кеты в космос запускают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науку изучают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 только как ты </a:t>
            </a: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храбрис</a:t>
            </a: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 без растени</a:t>
            </a: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0dae2"/>
                </a:solidFill>
                <a:latin typeface="Arial"/>
              </a:rPr>
              <a:t>не обойти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79280" y="135360"/>
            <a:ext cx="525636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Вывод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Сейчас мы узна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Быть может,  в новинку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Что сделать нельз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олевую травинку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Верней для трави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йдутся дета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о вы соберёте травинку едва 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Вам даже не сдел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устяшной соринки 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Кусочка от этой зелёной трави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Выходит,  травин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Сложней, чем рак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Как просто всё эт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Как сложно всё это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5" descr="i[97]"/>
          <p:cNvPicPr/>
          <p:nvPr/>
        </p:nvPicPr>
        <p:blipFill>
          <a:blip r:embed="rId1"/>
          <a:stretch/>
        </p:blipFill>
        <p:spPr>
          <a:xfrm>
            <a:off x="5508720" y="1484280"/>
            <a:ext cx="34322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Информационные ресурс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ahoma"/>
              </a:rPr>
              <a:t>http://web-multimedia.narod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ahoma"/>
              </a:rPr>
              <a:t>Ефим Ефимовский «След колесниц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ahoma"/>
              </a:rPr>
              <a:t>Л.А.Багрова: Энциклопедия (Раст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ahoma"/>
              </a:rPr>
              <a:t>Стихи собственного сочин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ahoma"/>
              </a:rPr>
              <a:t>Мультимедийный курс «Открытая биология</a:t>
            </a:r>
            <a:r>
              <a:rPr b="0" lang="ru-RU" sz="3200" spc="-1" strike="noStrike">
                <a:solidFill>
                  <a:srgbClr val="008080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44"/>
          <p:cNvPicPr/>
          <p:nvPr/>
        </p:nvPicPr>
        <p:blipFill>
          <a:blip r:embed="rId1"/>
          <a:stretch/>
        </p:blipFill>
        <p:spPr>
          <a:xfrm>
            <a:off x="6227640" y="5013360"/>
            <a:ext cx="236232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трав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881280" y="93600"/>
            <a:ext cx="7383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0dae2"/>
                </a:solidFill>
                <a:latin typeface="Comic Sans MS"/>
              </a:rPr>
              <a:t>Прошу мне ответить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0dae2"/>
                </a:solidFill>
                <a:latin typeface="Comic Sans MS"/>
              </a:rPr>
              <a:t>Без всякой замин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0dae2"/>
                </a:solidFill>
                <a:latin typeface="Comic Sans MS"/>
              </a:rPr>
              <a:t>Ракета сложне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0dae2"/>
                </a:solidFill>
                <a:latin typeface="Comic Sans MS"/>
              </a:rPr>
              <a:t>Или проще травин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ff"/>
                </a:solidFill>
                <a:uFillTx/>
                <a:latin typeface="Comic Sans MS"/>
              </a:rPr>
              <a:t>Проблема:</a:t>
            </a:r>
            <a:br>
              <a:rPr sz="4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ирис, осина, тополь и лопух –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есть общее у них с ракетой, милый друг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2997000"/>
            <a:ext cx="771516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ahoma"/>
              </a:rPr>
              <a:t>Гипотез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ы скажем Вам  сраз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Ракета  сложне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на и нужне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на и важне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на состоит из мильона детале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Её миллион человек собира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5" descr="ракета 1"/>
          <p:cNvPicPr/>
          <p:nvPr/>
        </p:nvPicPr>
        <p:blipFill>
          <a:blip r:embed="rId1"/>
          <a:stretch/>
        </p:blipFill>
        <p:spPr>
          <a:xfrm>
            <a:off x="250920" y="3789360"/>
            <a:ext cx="194148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Начинаем    эксперимент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1.  Найдём в литературе информацию о Царстве раст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2.  Докажем, что наше царство лучш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3.  Сделаем выво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4" descr="Копия DSC00378"/>
          <p:cNvPicPr/>
          <p:nvPr/>
        </p:nvPicPr>
        <p:blipFill>
          <a:blip r:embed="rId1"/>
          <a:stretch/>
        </p:blipFill>
        <p:spPr>
          <a:xfrm>
            <a:off x="4643280" y="382572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8080"/>
                </a:solidFill>
                <a:latin typeface="Tahoma"/>
              </a:rPr>
              <a:t>Что же такое растени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8080"/>
                </a:solidFill>
                <a:latin typeface="Tahoma"/>
              </a:rPr>
              <a:t>Так и хочется ответить на  этот вопрос: растение – это то, что растё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8080"/>
                </a:solidFill>
                <a:latin typeface="Tahoma"/>
              </a:rPr>
              <a:t>Это, конечно, не научный ответ, но это одна из важных черт всех раст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18[1]"/>
          <p:cNvPicPr/>
          <p:nvPr/>
        </p:nvPicPr>
        <p:blipFill>
          <a:blip r:embed="rId1"/>
          <a:stretch/>
        </p:blipFill>
        <p:spPr>
          <a:xfrm>
            <a:off x="5508720" y="2349360"/>
            <a:ext cx="3024000" cy="23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96720" y="476280"/>
            <a:ext cx="446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Растение постоянно увеличивает массу своего тела.  Клетки, расположенные 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8080"/>
                </a:solidFill>
                <a:latin typeface="Tahoma"/>
              </a:rPr>
              <a:t>кончиках стеблей и корней, делятся    постоянно, они работают в течении всей жизни 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строение корня"/>
          <p:cNvPicPr/>
          <p:nvPr/>
        </p:nvPicPr>
        <p:blipFill>
          <a:blip r:embed="rId1"/>
          <a:stretch/>
        </p:blipFill>
        <p:spPr>
          <a:xfrm>
            <a:off x="5867280" y="3573360"/>
            <a:ext cx="2841840" cy="284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строение кончика побега"/>
          <p:cNvPicPr/>
          <p:nvPr/>
        </p:nvPicPr>
        <p:blipFill>
          <a:blip r:embed="rId2"/>
          <a:stretch/>
        </p:blipFill>
        <p:spPr>
          <a:xfrm>
            <a:off x="4427640" y="40464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408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По опыту мы знаем: достигнув определенной толщины, дерево перестаёт расти. Но такое ограниченное, жизненно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пространство растению не выгодно: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камбия всё равно делятся, хотя могут и надолго замир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рост дерева"/>
          <p:cNvPicPr/>
          <p:nvPr/>
        </p:nvPicPr>
        <p:blipFill>
          <a:blip r:embed="rId1"/>
          <a:stretch/>
        </p:blipFill>
        <p:spPr>
          <a:xfrm>
            <a:off x="3059280" y="3645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932360" y="692280"/>
            <a:ext cx="356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Все растения имеют сходные приспособления для питания. Они всасывают минеральные   вещества из водных растворов. Чем больше ветвятся и растут корни, тем  лучше  они обеспечивают растение питанием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лето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11280" y="476280"/>
            <a:ext cx="352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Растения, в отличие от животных,  малоподвижны. Они могут передвигаться, но иным способом. Лианы обвивают опоры и иногда «перелезают» с одного места на друг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лианы"/>
          <p:cNvPicPr/>
          <p:nvPr/>
        </p:nvPicPr>
        <p:blipFill>
          <a:blip r:embed="rId1"/>
          <a:stretch/>
        </p:blipFill>
        <p:spPr>
          <a:xfrm>
            <a:off x="4572000" y="404640"/>
            <a:ext cx="152892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лианы 3"/>
          <p:cNvPicPr/>
          <p:nvPr/>
        </p:nvPicPr>
        <p:blipFill>
          <a:blip r:embed="rId2"/>
          <a:stretch/>
        </p:blipFill>
        <p:spPr>
          <a:xfrm>
            <a:off x="6948360" y="2421000"/>
            <a:ext cx="1451160" cy="23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лианы 2"/>
          <p:cNvPicPr/>
          <p:nvPr/>
        </p:nvPicPr>
        <p:blipFill>
          <a:blip r:embed="rId3"/>
          <a:stretch/>
        </p:blipFill>
        <p:spPr>
          <a:xfrm>
            <a:off x="4575240" y="4076640"/>
            <a:ext cx="153180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5:32:28Z</dcterms:created>
  <dc:creator>1</dc:creator>
  <dc:description/>
  <dc:language>en-US</dc:language>
  <cp:lastModifiedBy>XP GAME 2007</cp:lastModifiedBy>
  <dcterms:modified xsi:type="dcterms:W3CDTF">2011-10-12T11:04:42Z</dcterms:modified>
  <cp:revision>19</cp:revision>
  <dc:subject/>
  <dc:title>Слайд 1</dc:title>
</cp:coreProperties>
</file>