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D84-DAE9-4EA0-9ECC-640470B1B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AEF-F4E8-456F-A6FF-2E1500EA2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053-D653-483A-8DDD-2D008E8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B87-F786-4FA9-B794-D52A38F5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EED-05F9-43A7-814E-89E09CD8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432-7402-44E8-98C6-6752D740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5A5-D0D8-4CC7-962D-816A417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22F-CE16-4E9E-8F28-11831FA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809-9AF1-478A-AA0A-1C66931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1A-5B2B-4BBE-9543-07CD07F0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C78-442A-4BF8-83D3-2CA76039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241-8AD3-4BB3-8C19-F7DE032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57A-E553-40A7-B1A8-FF93AC5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C75-453A-4665-ADAF-28F0AE26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C173-93D9-458F-9D4B-548FD15E1B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859200" y="1450800"/>
            <a:ext cx="5418000" cy="932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56880" y="6637320"/>
            <a:ext cx="7000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Оля\картинки\00000000.jpg"/>
          <p:cNvPicPr/>
          <p:nvPr/>
        </p:nvPicPr>
        <p:blipFill>
          <a:blip r:embed="rId2"/>
          <a:stretch/>
        </p:blipFill>
        <p:spPr>
          <a:xfrm>
            <a:off x="0" y="1214280"/>
            <a:ext cx="3929040" cy="4071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3"/>
          <a:stretch/>
        </p:blipFill>
        <p:spPr>
          <a:xfrm>
            <a:off x="-506520" y="2444760"/>
            <a:ext cx="12149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Оля\картинки\9693586.jpg"/>
          <p:cNvPicPr/>
          <p:nvPr/>
        </p:nvPicPr>
        <p:blipFill>
          <a:blip r:embed="rId4"/>
          <a:stretch/>
        </p:blipFill>
        <p:spPr>
          <a:xfrm>
            <a:off x="5857920" y="457200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Viete_2"/>
          <p:cNvPicPr/>
          <p:nvPr/>
        </p:nvPicPr>
        <p:blipFill>
          <a:blip r:embed="rId1"/>
          <a:stretch/>
        </p:blipFill>
        <p:spPr>
          <a:xfrm>
            <a:off x="4578480" y="55440"/>
            <a:ext cx="4724280" cy="6553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5120" y="447120"/>
            <a:ext cx="5018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знаменитая теоре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а обнародована в 159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ерь она носит 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ета, а сам ав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ал ее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Если В+D, умноженно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, минус А в квадрате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D, то А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 равно 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раву достойна в стихах быть восп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свойствах корней теорема Ви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лучше, скажи, постоянства та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ишь ты корни- и дробь уж готов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ислителе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𝒄, в знаменателе 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И сумма корней тоже дроби ра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Хоть с минусом дробь эта, что за беда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В числителе 𝒃, в знаменателе 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Прямоугольник 5" descr=""/>
          <p:cNvPicPr/>
          <p:nvPr/>
        </p:nvPicPr>
        <p:blipFill>
          <a:blip r:embed="rId1"/>
          <a:stretch/>
        </p:blipFill>
        <p:spPr>
          <a:xfrm>
            <a:off x="2030400" y="85680"/>
            <a:ext cx="532116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14200" y="2071440"/>
            <a:ext cx="85154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𝑥</a:t>
            </a: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² + 17𝑥- 18 = 0                   𝑥² + 9𝑥 +18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𝑥</a:t>
            </a: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² - 11𝑥 + 18 = 0                  𝑥² - 3𝑥 – 28 =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                             𝑥</a:t>
            </a: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² - 9𝑥 + 20 =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33e1"/>
                </a:solidFill>
                <a:latin typeface="Cambria Math"/>
                <a:ea typeface="Cambria Math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33e1"/>
                </a:solidFill>
                <a:latin typeface="Cambria Math"/>
                <a:ea typeface="Cambria Math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33e1"/>
                </a:solidFill>
                <a:latin typeface="Cambria Math"/>
                <a:ea typeface="Cambria Math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158760"/>
            <a:ext cx="915696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-822240" y="-92160"/>
            <a:ext cx="10820160" cy="36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Мои документы\Оля\картинки\bells.gif"/>
          <p:cNvPicPr/>
          <p:nvPr/>
        </p:nvPicPr>
        <p:blipFill>
          <a:blip r:embed="rId2"/>
          <a:stretch/>
        </p:blipFill>
        <p:spPr>
          <a:xfrm rot="20551200">
            <a:off x="3071880" y="2857320"/>
            <a:ext cx="4143240" cy="29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Оля\картинки\PICT0311.gif"/>
          <p:cNvPicPr/>
          <p:nvPr/>
        </p:nvPicPr>
        <p:blipFill>
          <a:blip r:embed="rId3"/>
          <a:stretch/>
        </p:blipFill>
        <p:spPr>
          <a:xfrm>
            <a:off x="0" y="0"/>
            <a:ext cx="5214960" cy="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20840" y="19080"/>
            <a:ext cx="8242200" cy="1346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14200" y="10000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вторить формулы нахождения корней  квадратных уравн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вторить теорему Виет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общить и систематизировать основные знания и умения по теме «Квадратные уравнения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\Мои документы\Оля\картинки\sm.jpeg"/>
          <p:cNvPicPr/>
          <p:nvPr/>
        </p:nvPicPr>
        <p:blipFill>
          <a:blip r:embed="rId2"/>
          <a:stretch/>
        </p:blipFill>
        <p:spPr>
          <a:xfrm>
            <a:off x="6215040" y="4071960"/>
            <a:ext cx="292896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438156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Оля\картинки\802030.1.3.jpg"/>
          <p:cNvPicPr/>
          <p:nvPr/>
        </p:nvPicPr>
        <p:blipFill>
          <a:blip r:embed="rId1"/>
          <a:stretch/>
        </p:blipFill>
        <p:spPr>
          <a:xfrm>
            <a:off x="3571920" y="4000680"/>
            <a:ext cx="3500280" cy="26254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2" descr=""/>
          <p:cNvPicPr/>
          <p:nvPr/>
        </p:nvPicPr>
        <p:blipFill>
          <a:blip r:embed="rId2"/>
          <a:stretch/>
        </p:blipFill>
        <p:spPr>
          <a:xfrm>
            <a:off x="781200" y="66600"/>
            <a:ext cx="779616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>
              <a:lnSpc>
                <a:spcPct val="100000"/>
              </a:lnSpc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33e1"/>
                </a:solidFill>
                <a:latin typeface="Symbol"/>
                <a:ea typeface="Symbol"/>
              </a:rPr>
              <a:t></a:t>
            </a:r>
            <a:r>
              <a:rPr b="1" lang="ru-RU" sz="3600" spc="-1" strike="noStrike">
                <a:solidFill>
                  <a:srgbClr val="6d33e1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d33e1"/>
                </a:solidFill>
                <a:latin typeface="Calibri"/>
              </a:rPr>
              <a:t>Каждый из  вас имеет возможность получить оценку за урок.</a:t>
            </a:r>
            <a:br>
              <a:rPr sz="3600"/>
            </a:br>
            <a:r>
              <a:rPr b="1" lang="ru-RU" sz="3600" spc="-1" strike="noStrike">
                <a:solidFill>
                  <a:srgbClr val="6d33e1"/>
                </a:solidFill>
                <a:latin typeface="Symbol"/>
                <a:ea typeface="Symbol"/>
              </a:rPr>
              <a:t></a:t>
            </a:r>
            <a:r>
              <a:rPr b="1" lang="ru-RU" sz="3600" spc="-1" strike="noStrike">
                <a:solidFill>
                  <a:srgbClr val="6d33e1"/>
                </a:solidFill>
                <a:latin typeface="Calibri"/>
              </a:rPr>
              <a:t> Для ответа на поставленный вопрос вы поднимаете руку и ни в коем случае не перебиваете друг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Documents and Settings\Admin\Мои документы\Оля\картинки\127027.gif"/>
          <p:cNvPicPr/>
          <p:nvPr/>
        </p:nvPicPr>
        <p:blipFill>
          <a:blip r:embed="rId1"/>
          <a:stretch/>
        </p:blipFill>
        <p:spPr>
          <a:xfrm>
            <a:off x="5429160" y="3697200"/>
            <a:ext cx="3714840" cy="31608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2"/>
          <a:stretch/>
        </p:blipFill>
        <p:spPr>
          <a:xfrm>
            <a:off x="1779480" y="158760"/>
            <a:ext cx="54864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4200" y="1285560"/>
            <a:ext cx="8715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Какое уравнение называется квадрат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Назовите вид квадратных уравнений: 2</a:t>
            </a: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Cambria Math"/>
              </a:rPr>
              <a:t>𝑥²-5 +10=0;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Cambria Math"/>
              </a:rPr>
              <a:t>𝑥</a:t>
            </a: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Cambria Math"/>
              </a:rPr>
              <a:t>²+𝑥=0;    5𝑥²-4𝑥=3;    6𝑥²-𝑥=0;     𝑥² - 4𝑥 + 3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Cambria Math"/>
              </a:rPr>
              <a:t>Как называется квадратное уравнение , у которого первый коэффициент  равен 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Назовите I формулу для нахождения корней квадратного у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Назовите II формулу для нахождения корней квадратного урав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Как читается теорема Вие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66f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6fec"/>
                </a:solidFill>
                <a:latin typeface="Times New Roman"/>
                <a:ea typeface="Times New Roman"/>
              </a:rPr>
              <a:t>Как читается теорема, обратная теореме Вие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5" descr=""/>
          <p:cNvPicPr/>
          <p:nvPr/>
        </p:nvPicPr>
        <p:blipFill>
          <a:blip r:embed="rId1"/>
          <a:stretch/>
        </p:blipFill>
        <p:spPr>
          <a:xfrm>
            <a:off x="2494080" y="85680"/>
            <a:ext cx="443052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85840" y="357120"/>
            <a:ext cx="83581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…Искусство, которое я излагаю, 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ли, по крайней мере,  было нас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рчено времен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искажено влия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варов, что я счё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ужным придать е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вершенно новый вид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. Ви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301943[1]"/>
          <p:cNvPicPr/>
          <p:nvPr/>
        </p:nvPicPr>
        <p:blipFill>
          <a:blip r:embed="rId1"/>
          <a:stretch/>
        </p:blipFill>
        <p:spPr>
          <a:xfrm>
            <a:off x="5521320" y="1714680"/>
            <a:ext cx="3622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321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28760" y="31431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ambria Math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𝑥</a:t>
            </a: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²-6𝑥 + 8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ambria Math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𝑥</a:t>
            </a: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²-2𝑥-15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ambria Math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𝑥</a:t>
            </a:r>
            <a:r>
              <a:rPr b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² + 9𝑥 +18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Мои документы\Оля\картинки\PICT0311.gif"/>
          <p:cNvPicPr/>
          <p:nvPr/>
        </p:nvPicPr>
        <p:blipFill>
          <a:blip r:embed="rId2"/>
          <a:stretch/>
        </p:blipFill>
        <p:spPr>
          <a:xfrm>
            <a:off x="1785960" y="6858000"/>
            <a:ext cx="5457960" cy="4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\Мои документы\Оля\картинки\8d65a08c1723.jpg"/>
          <p:cNvPicPr/>
          <p:nvPr/>
        </p:nvPicPr>
        <p:blipFill>
          <a:blip r:embed="rId3"/>
          <a:stretch/>
        </p:blipFill>
        <p:spPr>
          <a:xfrm>
            <a:off x="5000760" y="3143160"/>
            <a:ext cx="38574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428760"/>
            <a:ext cx="91440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Задача знамени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ндийского математика XIIв. Бхаск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«Обезьянок резвых ст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Всласть поевши, развлекалас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Их в квадрате часть вось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На поляне забавлялас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А двенадцать по лианам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Стали прыгать, повиса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Сколько ж было обезьян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d33e1"/>
                </a:solidFill>
                <a:latin typeface="Times New Roman"/>
                <a:ea typeface="Times New Roman"/>
              </a:rPr>
              <a:t>Ты скажи мне, в этой стае?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90720" y="990720"/>
            <a:ext cx="28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2"/>
          <p:cNvGrpSpPr/>
          <p:nvPr/>
        </p:nvGrpSpPr>
        <p:grpSpPr>
          <a:xfrm>
            <a:off x="457200" y="609480"/>
            <a:ext cx="2757600" cy="5257800"/>
            <a:chOff x="457200" y="609480"/>
            <a:chExt cx="2757600" cy="5257800"/>
          </a:xfrm>
        </p:grpSpPr>
        <p:pic>
          <p:nvPicPr>
            <p:cNvPr id="73" name="Picture 4" descr="2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4717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6"/>
            <p:cNvSpPr/>
            <p:nvPr/>
          </p:nvSpPr>
          <p:spPr>
            <a:xfrm>
              <a:off x="457200" y="4495680"/>
              <a:ext cx="2757600" cy="1371600"/>
            </a:xfrm>
            <a:custGeom>
              <a:avLst/>
              <a:gdLst>
                <a:gd name="textAreaLeft" fmla="*/ 689400 w 2757600"/>
                <a:gd name="textAreaRight" fmla="*/ 2068200 w 2757600"/>
                <a:gd name="textAreaTop" fmla="*/ 17136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071720" y="50720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Calibri"/>
                </a:rPr>
                <a:t>1540-16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1"/>
          <p:cNvSpPr/>
          <p:nvPr/>
        </p:nvSpPr>
        <p:spPr>
          <a:xfrm>
            <a:off x="3352680" y="175248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Французский математик, ввел систему алгебраических символов, разработал основы элементарной алгебры.Он был одним из первых, кто числа стал обозначать буквами, что существенно развило теорию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048120" y="4952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иета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часто называю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цом алгебры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71960" y="7142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Monotype Corsiva"/>
              </a:rPr>
              <a:t>Франсуа Ви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4:36:46Z</dcterms:created>
  <dc:creator>Admin</dc:creator>
  <dc:description/>
  <dc:language>en-US</dc:language>
  <cp:lastModifiedBy>Сергей</cp:lastModifiedBy>
  <dcterms:modified xsi:type="dcterms:W3CDTF">2012-02-08T18:27:49Z</dcterms:modified>
  <cp:revision>82</cp:revision>
  <dc:subject/>
  <dc:title>Теорема Виета</dc:title>
</cp:coreProperties>
</file>