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6.png" ContentType="image/png"/>
  <Override PartName="/ppt/media/image35.png" ContentType="image/png"/>
  <Override PartName="/ppt/media/image31.png" ContentType="image/png"/>
  <Override PartName="/ppt/media/image30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59.png" ContentType="image/png"/>
  <Override PartName="/ppt/media/image22.png" ContentType="image/png"/>
  <Override PartName="/ppt/media/image49.png" ContentType="image/png"/>
  <Override PartName="/ppt/media/image58.png" ContentType="image/png"/>
  <Override PartName="/ppt/media/image60.png" ContentType="image/png"/>
  <Override PartName="/ppt/media/image18.png" ContentType="image/png"/>
  <Override PartName="/ppt/media/image62.png" ContentType="image/png"/>
  <Override PartName="/ppt/media/image63.png" ContentType="image/png"/>
  <Override PartName="/ppt/media/image27.png" ContentType="image/pn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77.png" ContentType="image/png"/>
  <Override PartName="/ppt/media/image40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24.jpeg" ContentType="image/jpeg"/>
  <Override PartName="/ppt/media/image83.jpeg" ContentType="image/jpeg"/>
  <Override PartName="/ppt/media/image68.png" ContentType="image/png"/>
  <Override PartName="/ppt/media/image17.png" ContentType="image/png"/>
  <Override PartName="/ppt/media/image81.png" ContentType="image/png"/>
  <Override PartName="/ppt/media/image16.png" ContentType="image/png"/>
  <Override PartName="/ppt/media/image26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.png" ContentType="image/png"/>
  <Override PartName="/ppt/media/image14.png" ContentType="image/png"/>
  <Override PartName="/ppt/media/image11.gif" ContentType="image/gif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3.jpeg" ContentType="image/jpeg"/>
  <Override PartName="/ppt/media/image8.png" ContentType="image/png"/>
  <Override PartName="/ppt/media/image82.jpeg" ContentType="image/jpeg"/>
  <Override PartName="/ppt/media/image85.png" ContentType="image/png"/>
  <Override PartName="/ppt/media/image7.png" ContentType="image/png"/>
  <Override PartName="/ppt/media/image19.png" ContentType="image/png"/>
  <Override PartName="/ppt/media/image8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7A9-66E0-4A56-96FE-8C369E8E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B22-C268-4FDB-BC91-8928D079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89B-4621-4975-8C39-D5251753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640-778C-46BD-8294-36DA60C1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D708-8165-424A-A438-F4428A57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8A7B-0D49-4869-98AC-8DC27FDB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8E2F-9696-476D-851D-4FC63A7E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5A03-F266-47E7-93BD-0FE565BF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C8D4-F76C-46F5-814F-5F1DBA19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C705-F8A8-4C4F-8886-62F12313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4BBD-5257-48D8-BA12-E5DCFD51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7C5F-E1D0-4EF6-A56B-B3E6440D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A9C1-7D9A-490B-9EF6-FDDD572F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67A0-473E-4D0D-A7A8-D4674201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2CAB-AABB-4DEC-A761-D4FBB23A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920D-CFA8-4DEE-8C4A-CBAA5ECF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C871-3C56-490C-A445-EECBD3F2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903C3-F0D4-4C50-97B6-C3C023AF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C7B07-EA04-4F19-90B5-14DA34AE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10DBE-2143-43B8-99D2-CBB882F6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9F295-E9ED-4F49-A5C9-76C1686C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452BE-E7E6-435F-83F7-57EFDA9D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FF6-0B27-4F0C-8EB3-4A7BE6CE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34B5F-84C5-4AA9-A4D8-1395EFA8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B7210-CA17-4822-A4A0-12EAA7BD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36DC0-2131-4CFE-87C6-C52A9EDF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E7681-9107-4BC3-8F19-66E13476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1A49D-D9E8-4049-A744-016A76C4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A38AE-AF8C-47BA-B2E2-77D641AB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21C59-FCB7-4504-8637-C4D63771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595D7-944E-4ABB-875D-97739DAC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1E07C-CDBC-4D3C-AFFB-EA471068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7236F-462A-41D5-9491-F2B86C11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736-CBAE-4B2F-AD10-87BD33B8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4A966-FA00-4003-B044-1D0B06AA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BA715-1F07-4BCD-830D-0EDA3580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D2762-FC32-4BB0-91E7-B77941CD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1A27F-9B3B-4A2A-9FF4-74FA2C52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079F6-E058-4FEF-9249-EE38491A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44329-9D6A-4636-897E-0D131ECD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ED0AA-A275-4D58-B8C9-BC5A5AD9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A0B66-2809-4CB2-B1B5-D2773D07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BCA0F-FD31-4B8F-AB86-D1DB3E73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CCA8A-6398-4750-AB66-B3E1F60D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36B-EE5B-45FD-B6F9-4269F481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A5EF9-367A-4033-94E8-23A78F17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C0041-0A60-4ACF-B90C-CEDAB278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B3259-D192-470C-A54F-88E7EE46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BA862-B0CB-4932-BF64-475A6AE3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7066E-3CF2-47A3-A11C-D5928F31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8FBE4-2FF6-4423-97B9-7C7B2A1B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FAD4A-BABF-40C0-90D9-21CC598C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00E6D-2333-4EC6-9A5F-98CDC46F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40E77-F6E8-4795-AF84-F13C9B17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AAD92-38AE-445E-9FC9-74714D0E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8E3-1412-4DAB-93C3-6ECB2DF2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6E185-1574-482A-8E7D-CD7FEF0E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F81EA-1283-44A5-A412-D3098988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A6615-BE27-499F-B609-0EE4E600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62320-74F8-4BCB-BBF8-2CF9DCED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7CC66-88CE-4A71-987D-8D401B42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EAA2B-B01D-4304-AD12-2A4D2B73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7B7FD-3F2A-4BD8-A8D6-6B74507E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5FE4D-965F-48F4-BB6A-FCF9C8B8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3C47B-E792-4E34-9660-60297DFD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454AA-5301-4546-B147-ECCB6805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ED6A-06B4-415A-94E4-888CF799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CB49C-244C-4F7D-9066-D336FFBF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962C6-BE2A-4447-AA5B-17679D4E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2ADA2-ABAB-4B4F-B9C5-5C7C0D6A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B3B27-FF52-47A5-9360-BD513644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844F3-0684-460B-BA9C-E9D02071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87FB3-F32B-4745-829A-66D9FA37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1B994-C1AE-43EA-8113-D896A258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CAC49-DAE0-42D3-A259-1F7E1EDB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69117-AADF-4E2C-9E4B-44190554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D7BA3-FE58-472D-89FF-2B172D11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C2B5-B974-4A27-A010-9A2D1F5D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6C574-CAAF-49FA-A772-FDF1C1F0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DADDE-8127-4BCC-BD92-3789B025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BDB57-A24A-4161-AB2A-487FB355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CE114-2CD7-4E8A-8A02-6539EDDA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1E331-7F03-4B2F-828C-7FD2FAE2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27FE7-D5BB-4AB6-B96C-25CFA875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21A03-175C-4C78-AA19-BCEA055B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E0017-853D-4B19-BCB9-66B23384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33AE7-A4D7-41B3-A3BD-D0F7D72A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43867-9554-4686-95F7-984FD479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9479-FD16-4090-9E2E-9F4D95CE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43E4B-1FEE-42C0-A628-54A56ABE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94018-9A0D-4D25-A371-5D334B34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277DC-4A36-4E0E-972D-801D59A5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C7027-854E-4CEC-B746-1521D126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BE311-9163-4B49-B67E-3FEB5F32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8F8E9-F3B9-4538-9D74-9DBDD2B7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7A2E7-E332-47C6-B861-69C720E9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F0D1-3D3F-49EC-A6ED-C504AE75C4E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BE0D-7920-4B7F-8699-6A803EC27BF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C40E-CD8E-4334-A235-E49B1CDB78E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3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00F6-ED09-42F1-8FFF-0252F194E2C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E9E0-FB36-47FA-ABE8-D843982A31C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2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E01B-48D3-473B-AB18-0B221ABBB85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0A8E-1A64-497B-9609-9F53CD212E3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9AA0-0CEE-453B-BFCF-9201B38E8D3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2.jpe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4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39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4.png"/><Relationship Id="rId37" Type="http://schemas.openxmlformats.org/officeDocument/2006/relationships/image" Target="../media/image31.png"/><Relationship Id="rId38" Type="http://schemas.openxmlformats.org/officeDocument/2006/relationships/image" Target="../media/image32.png"/><Relationship Id="rId39" Type="http://schemas.openxmlformats.org/officeDocument/2006/relationships/image" Target="../media/image33.png"/><Relationship Id="rId40" Type="http://schemas.openxmlformats.org/officeDocument/2006/relationships/image" Target="../media/image25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4.png"/><Relationship Id="rId47" Type="http://schemas.openxmlformats.org/officeDocument/2006/relationships/image" Target="../media/image41.png"/><Relationship Id="rId48" Type="http://schemas.openxmlformats.org/officeDocument/2006/relationships/image" Target="../media/image42.png"/><Relationship Id="rId49" Type="http://schemas.openxmlformats.org/officeDocument/2006/relationships/image" Target="../media/image43.png"/><Relationship Id="rId50" Type="http://schemas.openxmlformats.org/officeDocument/2006/relationships/image" Target="../media/image46.png"/><Relationship Id="rId51" Type="http://schemas.openxmlformats.org/officeDocument/2006/relationships/image" Target="../media/image47.png"/><Relationship Id="rId52" Type="http://schemas.openxmlformats.org/officeDocument/2006/relationships/image" Target="../media/image48.png"/><Relationship Id="rId53" Type="http://schemas.openxmlformats.org/officeDocument/2006/relationships/image" Target="../media/image49.png"/><Relationship Id="rId54" Type="http://schemas.openxmlformats.org/officeDocument/2006/relationships/image" Target="../media/image50.png"/><Relationship Id="rId55" Type="http://schemas.openxmlformats.org/officeDocument/2006/relationships/image" Target="../media/image49.png"/><Relationship Id="rId56" Type="http://schemas.openxmlformats.org/officeDocument/2006/relationships/image" Target="../media/image46.png"/><Relationship Id="rId57" Type="http://schemas.openxmlformats.org/officeDocument/2006/relationships/image" Target="../media/image47.png"/><Relationship Id="rId58" Type="http://schemas.openxmlformats.org/officeDocument/2006/relationships/image" Target="../media/image48.png"/><Relationship Id="rId59" Type="http://schemas.openxmlformats.org/officeDocument/2006/relationships/image" Target="../media/image51.png"/><Relationship Id="rId60" Type="http://schemas.openxmlformats.org/officeDocument/2006/relationships/image" Target="../media/image52.png"/><Relationship Id="rId61" Type="http://schemas.openxmlformats.org/officeDocument/2006/relationships/image" Target="../media/image53.png"/><Relationship Id="rId62" Type="http://schemas.openxmlformats.org/officeDocument/2006/relationships/image" Target="../media/image54.png"/><Relationship Id="rId63" Type="http://schemas.openxmlformats.org/officeDocument/2006/relationships/image" Target="../media/image55.png"/><Relationship Id="rId64" Type="http://schemas.openxmlformats.org/officeDocument/2006/relationships/image" Target="../media/image54.png"/><Relationship Id="rId65" Type="http://schemas.openxmlformats.org/officeDocument/2006/relationships/image" Target="../media/image51.png"/><Relationship Id="rId66" Type="http://schemas.openxmlformats.org/officeDocument/2006/relationships/image" Target="../media/image52.png"/><Relationship Id="rId67" Type="http://schemas.openxmlformats.org/officeDocument/2006/relationships/image" Target="../media/image53.png"/><Relationship Id="rId68" Type="http://schemas.openxmlformats.org/officeDocument/2006/relationships/image" Target="../media/image56.png"/><Relationship Id="rId69" Type="http://schemas.openxmlformats.org/officeDocument/2006/relationships/image" Target="../media/image57.png"/><Relationship Id="rId70" Type="http://schemas.openxmlformats.org/officeDocument/2006/relationships/image" Target="../media/image58.png"/><Relationship Id="rId71" Type="http://schemas.openxmlformats.org/officeDocument/2006/relationships/image" Target="../media/image59.png"/><Relationship Id="rId72" Type="http://schemas.openxmlformats.org/officeDocument/2006/relationships/image" Target="../media/image60.png"/><Relationship Id="rId73" Type="http://schemas.openxmlformats.org/officeDocument/2006/relationships/image" Target="../media/image59.png"/><Relationship Id="rId74" Type="http://schemas.openxmlformats.org/officeDocument/2006/relationships/image" Target="../media/image56.png"/><Relationship Id="rId75" Type="http://schemas.openxmlformats.org/officeDocument/2006/relationships/image" Target="../media/image57.png"/><Relationship Id="rId76" Type="http://schemas.openxmlformats.org/officeDocument/2006/relationships/image" Target="../media/image58.png"/><Relationship Id="rId77" Type="http://schemas.openxmlformats.org/officeDocument/2006/relationships/image" Target="../media/image61.png"/><Relationship Id="rId78" Type="http://schemas.openxmlformats.org/officeDocument/2006/relationships/image" Target="../media/image62.png"/><Relationship Id="rId79" Type="http://schemas.openxmlformats.org/officeDocument/2006/relationships/image" Target="../media/image63.png"/><Relationship Id="rId80" Type="http://schemas.openxmlformats.org/officeDocument/2006/relationships/image" Target="../media/image64.png"/><Relationship Id="rId81" Type="http://schemas.openxmlformats.org/officeDocument/2006/relationships/image" Target="../media/image65.png"/><Relationship Id="rId82" Type="http://schemas.openxmlformats.org/officeDocument/2006/relationships/image" Target="../media/image64.png"/><Relationship Id="rId83" Type="http://schemas.openxmlformats.org/officeDocument/2006/relationships/image" Target="../media/image61.png"/><Relationship Id="rId84" Type="http://schemas.openxmlformats.org/officeDocument/2006/relationships/image" Target="../media/image62.png"/><Relationship Id="rId85" Type="http://schemas.openxmlformats.org/officeDocument/2006/relationships/image" Target="../media/image63.png"/><Relationship Id="rId86" Type="http://schemas.openxmlformats.org/officeDocument/2006/relationships/image" Target="../media/image66.png"/><Relationship Id="rId87" Type="http://schemas.openxmlformats.org/officeDocument/2006/relationships/image" Target="../media/image67.png"/><Relationship Id="rId88" Type="http://schemas.openxmlformats.org/officeDocument/2006/relationships/image" Target="../media/image68.png"/><Relationship Id="rId89" Type="http://schemas.openxmlformats.org/officeDocument/2006/relationships/image" Target="../media/image69.png"/><Relationship Id="rId90" Type="http://schemas.openxmlformats.org/officeDocument/2006/relationships/image" Target="../media/image70.png"/><Relationship Id="rId91" Type="http://schemas.openxmlformats.org/officeDocument/2006/relationships/image" Target="../media/image69.png"/><Relationship Id="rId92" Type="http://schemas.openxmlformats.org/officeDocument/2006/relationships/image" Target="../media/image66.png"/><Relationship Id="rId93" Type="http://schemas.openxmlformats.org/officeDocument/2006/relationships/image" Target="../media/image67.png"/><Relationship Id="rId94" Type="http://schemas.openxmlformats.org/officeDocument/2006/relationships/image" Target="../media/image68.png"/><Relationship Id="rId95" Type="http://schemas.openxmlformats.org/officeDocument/2006/relationships/image" Target="../media/image51.png"/><Relationship Id="rId96" Type="http://schemas.openxmlformats.org/officeDocument/2006/relationships/image" Target="../media/image52.png"/><Relationship Id="rId97" Type="http://schemas.openxmlformats.org/officeDocument/2006/relationships/image" Target="../media/image53.png"/><Relationship Id="rId98" Type="http://schemas.openxmlformats.org/officeDocument/2006/relationships/image" Target="../media/image54.png"/><Relationship Id="rId99" Type="http://schemas.openxmlformats.org/officeDocument/2006/relationships/image" Target="../media/image55.png"/><Relationship Id="rId100" Type="http://schemas.openxmlformats.org/officeDocument/2006/relationships/image" Target="../media/image54.png"/><Relationship Id="rId101" Type="http://schemas.openxmlformats.org/officeDocument/2006/relationships/image" Target="../media/image51.png"/><Relationship Id="rId102" Type="http://schemas.openxmlformats.org/officeDocument/2006/relationships/image" Target="../media/image52.png"/><Relationship Id="rId103" Type="http://schemas.openxmlformats.org/officeDocument/2006/relationships/image" Target="../media/image53.png"/><Relationship Id="rId104" Type="http://schemas.openxmlformats.org/officeDocument/2006/relationships/image" Target="../media/image71.png"/><Relationship Id="rId105" Type="http://schemas.openxmlformats.org/officeDocument/2006/relationships/image" Target="../media/image72.png"/><Relationship Id="rId106" Type="http://schemas.openxmlformats.org/officeDocument/2006/relationships/image" Target="../media/image73.png"/><Relationship Id="rId107" Type="http://schemas.openxmlformats.org/officeDocument/2006/relationships/image" Target="../media/image74.png"/><Relationship Id="rId108" Type="http://schemas.openxmlformats.org/officeDocument/2006/relationships/image" Target="../media/image75.png"/><Relationship Id="rId109" Type="http://schemas.openxmlformats.org/officeDocument/2006/relationships/image" Target="../media/image74.png"/><Relationship Id="rId110" Type="http://schemas.openxmlformats.org/officeDocument/2006/relationships/image" Target="../media/image71.png"/><Relationship Id="rId111" Type="http://schemas.openxmlformats.org/officeDocument/2006/relationships/image" Target="../media/image72.png"/><Relationship Id="rId112" Type="http://schemas.openxmlformats.org/officeDocument/2006/relationships/image" Target="../media/image73.png"/><Relationship Id="rId113" Type="http://schemas.openxmlformats.org/officeDocument/2006/relationships/image" Target="../media/image76.png"/><Relationship Id="rId114" Type="http://schemas.openxmlformats.org/officeDocument/2006/relationships/image" Target="../media/image77.png"/><Relationship Id="rId115" Type="http://schemas.openxmlformats.org/officeDocument/2006/relationships/image" Target="../media/image78.png"/><Relationship Id="rId116" Type="http://schemas.openxmlformats.org/officeDocument/2006/relationships/image" Target="../media/image79.png"/><Relationship Id="rId117" Type="http://schemas.openxmlformats.org/officeDocument/2006/relationships/image" Target="../media/image80.png"/><Relationship Id="rId118" Type="http://schemas.openxmlformats.org/officeDocument/2006/relationships/image" Target="../media/image79.png"/><Relationship Id="rId119" Type="http://schemas.openxmlformats.org/officeDocument/2006/relationships/image" Target="../media/image76.png"/><Relationship Id="rId120" Type="http://schemas.openxmlformats.org/officeDocument/2006/relationships/image" Target="../media/image77.png"/><Relationship Id="rId121" Type="http://schemas.openxmlformats.org/officeDocument/2006/relationships/image" Target="../media/image78.png"/><Relationship Id="rId122" Type="http://schemas.openxmlformats.org/officeDocument/2006/relationships/image" Target="../media/image61.png"/><Relationship Id="rId123" Type="http://schemas.openxmlformats.org/officeDocument/2006/relationships/image" Target="../media/image62.png"/><Relationship Id="rId124" Type="http://schemas.openxmlformats.org/officeDocument/2006/relationships/image" Target="../media/image63.png"/><Relationship Id="rId125" Type="http://schemas.openxmlformats.org/officeDocument/2006/relationships/image" Target="../media/image64.png"/><Relationship Id="rId126" Type="http://schemas.openxmlformats.org/officeDocument/2006/relationships/image" Target="../media/image65.png"/><Relationship Id="rId127" Type="http://schemas.openxmlformats.org/officeDocument/2006/relationships/image" Target="../media/image64.png"/><Relationship Id="rId128" Type="http://schemas.openxmlformats.org/officeDocument/2006/relationships/image" Target="../media/image61.png"/><Relationship Id="rId129" Type="http://schemas.openxmlformats.org/officeDocument/2006/relationships/image" Target="../media/image62.png"/><Relationship Id="rId130" Type="http://schemas.openxmlformats.org/officeDocument/2006/relationships/image" Target="../media/image63.png"/><Relationship Id="rId131" Type="http://schemas.openxmlformats.org/officeDocument/2006/relationships/image" Target="../media/image12.jpeg"/><Relationship Id="rId132" Type="http://schemas.openxmlformats.org/officeDocument/2006/relationships/image" Target="../media/image13.png"/><Relationship Id="rId133" Type="http://schemas.openxmlformats.org/officeDocument/2006/relationships/image" Target="../media/image14.png"/><Relationship Id="rId134" Type="http://schemas.openxmlformats.org/officeDocument/2006/relationships/image" Target="../media/image15.png"/><Relationship Id="rId135" Type="http://schemas.openxmlformats.org/officeDocument/2006/relationships/image" Target="../media/image16.png"/><Relationship Id="rId136" Type="http://schemas.openxmlformats.org/officeDocument/2006/relationships/image" Target="../media/image17.png"/><Relationship Id="rId137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4300" spc="-1" strike="noStrike">
                <a:solidFill>
                  <a:srgbClr val="ff0000"/>
                </a:solidFill>
                <a:latin typeface="Franklin Gothic Medium"/>
              </a:rPr>
              <a:t>РАСТРОВАЯ И ВЕКТОРНАЯ ГРАФИКА</a:t>
            </a:r>
            <a:br>
              <a:rPr sz="4300"/>
            </a:br>
            <a:endParaRPr b="0" lang="en-US" sz="43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39280" y="4653000"/>
            <a:ext cx="2519640" cy="16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443329"/>
                </a:solidFill>
                <a:uFillTx/>
                <a:latin typeface="Times New Roman"/>
                <a:ea typeface="Times New Roman"/>
              </a:rPr>
              <a:t>Участник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Ученик 10 класс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Д.М. Костере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Идентификатор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241-059-342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Подзаголовок 2"/>
          <p:cNvSpPr/>
          <p:nvPr/>
        </p:nvSpPr>
        <p:spPr>
          <a:xfrm>
            <a:off x="2843280" y="4581360"/>
            <a:ext cx="3097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Е. Уса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т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5-930-0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Рисунок 3" descr="pict1554-copy.jpg"/>
          <p:cNvPicPr/>
          <p:nvPr/>
        </p:nvPicPr>
        <p:blipFill>
          <a:blip r:embed="rId1"/>
          <a:stretch/>
        </p:blipFill>
        <p:spPr>
          <a:xfrm>
            <a:off x="214200" y="2276640"/>
            <a:ext cx="3275280" cy="436716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4" descr="i725.jpg"/>
          <p:cNvPicPr/>
          <p:nvPr/>
        </p:nvPicPr>
        <p:blipFill>
          <a:blip r:embed="rId2"/>
          <a:stretch/>
        </p:blipFill>
        <p:spPr>
          <a:xfrm>
            <a:off x="5219640" y="3284640"/>
            <a:ext cx="3592440" cy="3417840"/>
          </a:xfrm>
          <a:prstGeom prst="rect">
            <a:avLst/>
          </a:prstGeom>
          <a:ln w="0">
            <a:noFill/>
          </a:ln>
        </p:spPr>
      </p:pic>
      <p:pic>
        <p:nvPicPr>
          <p:cNvPr id="354" name="Заголовок 1" descr=""/>
          <p:cNvPicPr/>
          <p:nvPr/>
        </p:nvPicPr>
        <p:blipFill>
          <a:blip r:embed="rId3"/>
          <a:stretch/>
        </p:blipFill>
        <p:spPr>
          <a:xfrm>
            <a:off x="2505240" y="-458640"/>
            <a:ext cx="6638760" cy="411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1295640" cy="1149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067280" cy="421956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Растровая графика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358" name="Заголовок 1" descr=""/>
          <p:cNvPicPr/>
          <p:nvPr/>
        </p:nvPicPr>
        <p:blipFill>
          <a:blip r:embed="rId3"/>
          <a:stretch/>
        </p:blipFill>
        <p:spPr>
          <a:xfrm>
            <a:off x="-324000" y="2637000"/>
            <a:ext cx="5292720" cy="36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395280" y="1197000"/>
            <a:ext cx="3643200" cy="29289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2"/>
          <p:cNvSpPr/>
          <p:nvPr/>
        </p:nvSpPr>
        <p:spPr>
          <a:xfrm>
            <a:off x="1479600" y="1920960"/>
            <a:ext cx="1357200" cy="857160"/>
          </a:xfrm>
          <a:prstGeom prst="ellipse">
            <a:avLst/>
          </a:prstGeom>
          <a:solidFill>
            <a:srgbClr val="f8e19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3"/>
          <p:cNvSpPr/>
          <p:nvPr/>
        </p:nvSpPr>
        <p:spPr>
          <a:xfrm>
            <a:off x="1765440" y="2135160"/>
            <a:ext cx="214200" cy="1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4"/>
          <p:cNvSpPr/>
          <p:nvPr/>
        </p:nvSpPr>
        <p:spPr>
          <a:xfrm>
            <a:off x="2336760" y="2135160"/>
            <a:ext cx="214200" cy="1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5"/>
          <p:cNvSpPr/>
          <p:nvPr/>
        </p:nvSpPr>
        <p:spPr>
          <a:xfrm>
            <a:off x="1836720" y="2206800"/>
            <a:ext cx="46080" cy="45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6"/>
          <p:cNvSpPr/>
          <p:nvPr/>
        </p:nvSpPr>
        <p:spPr>
          <a:xfrm flipV="1">
            <a:off x="2417760" y="2206080"/>
            <a:ext cx="61920" cy="45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Равнобедренный треугольник 7"/>
          <p:cNvSpPr/>
          <p:nvPr/>
        </p:nvSpPr>
        <p:spPr>
          <a:xfrm>
            <a:off x="2122560" y="2349360"/>
            <a:ext cx="71280" cy="14292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есяц 8"/>
          <p:cNvSpPr/>
          <p:nvPr/>
        </p:nvSpPr>
        <p:spPr>
          <a:xfrm rot="16200000">
            <a:off x="2050920" y="2278080"/>
            <a:ext cx="28584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920" y="2196"/>
                  <a:pt x="12240" y="5080"/>
                  <a:pt x="12240" y="10800"/>
                </a:cubicBezTo>
                <a:cubicBezTo>
                  <a:pt x="12240" y="16520"/>
                  <a:pt x="16920" y="1940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0"/>
          <p:cNvSpPr/>
          <p:nvPr/>
        </p:nvSpPr>
        <p:spPr>
          <a:xfrm>
            <a:off x="2158920" y="2790720"/>
            <a:ext cx="36720" cy="100008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5"/>
          <p:cNvSpPr/>
          <p:nvPr/>
        </p:nvSpPr>
        <p:spPr>
          <a:xfrm flipH="1">
            <a:off x="2122200" y="2790720"/>
            <a:ext cx="36360" cy="100008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19"/>
          <p:cNvSpPr/>
          <p:nvPr/>
        </p:nvSpPr>
        <p:spPr>
          <a:xfrm flipH="1">
            <a:off x="1550520" y="2790720"/>
            <a:ext cx="608040" cy="3571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20"/>
          <p:cNvSpPr/>
          <p:nvPr/>
        </p:nvSpPr>
        <p:spPr>
          <a:xfrm>
            <a:off x="2158920" y="2778120"/>
            <a:ext cx="606600" cy="3571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22"/>
          <p:cNvSpPr/>
          <p:nvPr/>
        </p:nvSpPr>
        <p:spPr>
          <a:xfrm flipH="1">
            <a:off x="1550520" y="3706920"/>
            <a:ext cx="606600" cy="3571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23"/>
          <p:cNvSpPr/>
          <p:nvPr/>
        </p:nvSpPr>
        <p:spPr>
          <a:xfrm>
            <a:off x="2122560" y="3706920"/>
            <a:ext cx="608040" cy="3571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Равнобедренный треугольник 24"/>
          <p:cNvSpPr/>
          <p:nvPr/>
        </p:nvSpPr>
        <p:spPr>
          <a:xfrm>
            <a:off x="1765440" y="327816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Равнобедренный треугольник 25"/>
          <p:cNvSpPr/>
          <p:nvPr/>
        </p:nvSpPr>
        <p:spPr>
          <a:xfrm rot="11021400">
            <a:off x="1784160" y="279864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ятно 2 26"/>
          <p:cNvSpPr/>
          <p:nvPr/>
        </p:nvSpPr>
        <p:spPr>
          <a:xfrm rot="2523000">
            <a:off x="1692360" y="1267920"/>
            <a:ext cx="914400" cy="91440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ятно 2 27"/>
          <p:cNvSpPr/>
          <p:nvPr/>
        </p:nvSpPr>
        <p:spPr>
          <a:xfrm rot="2523000">
            <a:off x="2195640" y="1412640"/>
            <a:ext cx="914400" cy="91440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ятно 2 28"/>
          <p:cNvSpPr/>
          <p:nvPr/>
        </p:nvSpPr>
        <p:spPr>
          <a:xfrm rot="2523000">
            <a:off x="1116000" y="1412640"/>
            <a:ext cx="914400" cy="91440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Векторная графика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Прямоугольник 1"/>
          <p:cNvSpPr/>
          <p:nvPr/>
        </p:nvSpPr>
        <p:spPr>
          <a:xfrm>
            <a:off x="5003640" y="2997360"/>
            <a:ext cx="3643560" cy="29286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Овал 2"/>
          <p:cNvSpPr/>
          <p:nvPr/>
        </p:nvSpPr>
        <p:spPr>
          <a:xfrm>
            <a:off x="3708360" y="5229360"/>
            <a:ext cx="1357200" cy="857160"/>
          </a:xfrm>
          <a:prstGeom prst="ellipse">
            <a:avLst/>
          </a:prstGeom>
          <a:solidFill>
            <a:srgbClr val="f8e19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Овал 3"/>
          <p:cNvSpPr/>
          <p:nvPr/>
        </p:nvSpPr>
        <p:spPr>
          <a:xfrm>
            <a:off x="4145040" y="2706840"/>
            <a:ext cx="214200" cy="142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Овал 4"/>
          <p:cNvSpPr/>
          <p:nvPr/>
        </p:nvSpPr>
        <p:spPr>
          <a:xfrm>
            <a:off x="7812000" y="2997360"/>
            <a:ext cx="214560" cy="142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Овал 5"/>
          <p:cNvSpPr/>
          <p:nvPr/>
        </p:nvSpPr>
        <p:spPr>
          <a:xfrm>
            <a:off x="4359240" y="29210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Овал 6"/>
          <p:cNvSpPr/>
          <p:nvPr/>
        </p:nvSpPr>
        <p:spPr>
          <a:xfrm flipV="1">
            <a:off x="7308720" y="3860640"/>
            <a:ext cx="619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Равнобедренный треугольник 7"/>
          <p:cNvSpPr/>
          <p:nvPr/>
        </p:nvSpPr>
        <p:spPr>
          <a:xfrm>
            <a:off x="6859440" y="2063880"/>
            <a:ext cx="71640" cy="14292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есяц 8"/>
          <p:cNvSpPr/>
          <p:nvPr/>
        </p:nvSpPr>
        <p:spPr>
          <a:xfrm rot="16200000">
            <a:off x="4359240" y="3278160"/>
            <a:ext cx="28584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920" y="2196"/>
                  <a:pt x="12240" y="5080"/>
                  <a:pt x="12240" y="10800"/>
                </a:cubicBezTo>
                <a:cubicBezTo>
                  <a:pt x="12240" y="16520"/>
                  <a:pt x="16920" y="1940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5"/>
          <p:cNvSpPr/>
          <p:nvPr/>
        </p:nvSpPr>
        <p:spPr>
          <a:xfrm flipH="1">
            <a:off x="9145440" y="4206960"/>
            <a:ext cx="36720" cy="100008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19"/>
          <p:cNvSpPr/>
          <p:nvPr/>
        </p:nvSpPr>
        <p:spPr>
          <a:xfrm flipH="1">
            <a:off x="3930120" y="3992400"/>
            <a:ext cx="606600" cy="35748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0"/>
          <p:cNvSpPr/>
          <p:nvPr/>
        </p:nvSpPr>
        <p:spPr>
          <a:xfrm>
            <a:off x="4716360" y="3992400"/>
            <a:ext cx="606600" cy="35748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2"/>
          <p:cNvSpPr/>
          <p:nvPr/>
        </p:nvSpPr>
        <p:spPr>
          <a:xfrm flipH="1">
            <a:off x="5940000" y="5661000"/>
            <a:ext cx="608040" cy="3571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ая соединительная линия 23"/>
          <p:cNvSpPr/>
          <p:nvPr/>
        </p:nvSpPr>
        <p:spPr>
          <a:xfrm>
            <a:off x="7885080" y="4221000"/>
            <a:ext cx="608040" cy="35748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Равнобедренный треугольник 24"/>
          <p:cNvSpPr/>
          <p:nvPr/>
        </p:nvSpPr>
        <p:spPr>
          <a:xfrm>
            <a:off x="6288120" y="442116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Равнобедренный треугольник 25"/>
          <p:cNvSpPr/>
          <p:nvPr/>
        </p:nvSpPr>
        <p:spPr>
          <a:xfrm rot="11021400">
            <a:off x="6307920" y="280008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ятно 2 28"/>
          <p:cNvSpPr/>
          <p:nvPr/>
        </p:nvSpPr>
        <p:spPr>
          <a:xfrm rot="2523000">
            <a:off x="4834080" y="1823760"/>
            <a:ext cx="914400" cy="91440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Рисунок 3" descr="dis9.gif"/>
          <p:cNvPicPr/>
          <p:nvPr/>
        </p:nvPicPr>
        <p:blipFill>
          <a:blip r:embed="rId1"/>
          <a:stretch/>
        </p:blipFill>
        <p:spPr>
          <a:xfrm>
            <a:off x="3786120" y="2357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4" descr="dis9.gif"/>
          <p:cNvPicPr/>
          <p:nvPr/>
        </p:nvPicPr>
        <p:blipFill>
          <a:blip r:embed="rId2"/>
          <a:stretch/>
        </p:blipFill>
        <p:spPr>
          <a:xfrm>
            <a:off x="428760" y="100008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5" descr="dis9.gif"/>
          <p:cNvPicPr/>
          <p:nvPr/>
        </p:nvPicPr>
        <p:blipFill>
          <a:blip r:embed="rId3"/>
          <a:stretch/>
        </p:blipFill>
        <p:spPr>
          <a:xfrm>
            <a:off x="6643800" y="250020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6"/>
          <p:cNvSpPr/>
          <p:nvPr/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Масштабирование растровой граф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5000" fill="hold"/>
                                        <p:tgtEl>
                                          <p:spTgt spid="39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5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600000" y="6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75"/>
          <p:cNvGrpSpPr/>
          <p:nvPr/>
        </p:nvGrpSpPr>
        <p:grpSpPr>
          <a:xfrm>
            <a:off x="214200" y="347760"/>
            <a:ext cx="2242800" cy="2795400"/>
            <a:chOff x="214200" y="347760"/>
            <a:chExt cx="2242800" cy="2795400"/>
          </a:xfrm>
        </p:grpSpPr>
        <p:grpSp>
          <p:nvGrpSpPr>
            <p:cNvPr id="400" name="Group 276"/>
            <p:cNvGrpSpPr/>
            <p:nvPr/>
          </p:nvGrpSpPr>
          <p:grpSpPr>
            <a:xfrm>
              <a:off x="543960" y="493200"/>
              <a:ext cx="1816200" cy="2649960"/>
              <a:chOff x="543960" y="493200"/>
              <a:chExt cx="1816200" cy="2649960"/>
            </a:xfrm>
          </p:grpSpPr>
          <p:sp>
            <p:nvSpPr>
              <p:cNvPr id="401" name="Rectangle 277"/>
              <p:cNvSpPr/>
              <p:nvPr/>
            </p:nvSpPr>
            <p:spPr>
              <a:xfrm>
                <a:off x="745560" y="493200"/>
                <a:ext cx="1417680" cy="2318760"/>
              </a:xfrm>
              <a:prstGeom prst="rect">
                <a:avLst/>
              </a:prstGeom>
              <a:gradFill rotWithShape="0">
                <a:gsLst>
                  <a:gs pos="0">
                    <a:srgbClr val="b66d00"/>
                  </a:gs>
                  <a:gs pos="50000">
                    <a:srgbClr val="ff9900"/>
                  </a:gs>
                  <a:gs pos="100000">
                    <a:srgbClr val="b66d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278"/>
              <p:cNvSpPr/>
              <p:nvPr/>
            </p:nvSpPr>
            <p:spPr>
              <a:xfrm>
                <a:off x="832680" y="598320"/>
                <a:ext cx="1243800" cy="211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279"/>
              <p:cNvSpPr/>
              <p:nvPr/>
            </p:nvSpPr>
            <p:spPr>
              <a:xfrm flipV="1">
                <a:off x="834120" y="2480040"/>
                <a:ext cx="1240200" cy="236520"/>
              </a:xfrm>
              <a:custGeom>
                <a:avLst/>
                <a:gdLst>
                  <a:gd name="textAreaLeft" fmla="*/ 172080 w 1240200"/>
                  <a:gd name="textAreaRight" fmla="*/ 1068120 w 1240200"/>
                  <a:gd name="textAreaTop" fmla="*/ 32760 h 236520"/>
                  <a:gd name="textAreaBottom" fmla="*/ 203760 h 23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395" y="21600"/>
                    </a:lnTo>
                    <a:lnTo>
                      <a:pt x="19205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ffff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AutoShape 280"/>
              <p:cNvSpPr/>
              <p:nvPr/>
            </p:nvSpPr>
            <p:spPr>
              <a:xfrm flipV="1">
                <a:off x="543960" y="2811960"/>
                <a:ext cx="1816200" cy="283680"/>
              </a:xfrm>
              <a:custGeom>
                <a:avLst/>
                <a:gdLst>
                  <a:gd name="textAreaLeft" fmla="*/ 252000 w 1816200"/>
                  <a:gd name="textAreaRight" fmla="*/ 1564200 w 1816200"/>
                  <a:gd name="textAreaTop" fmla="*/ 39240 h 283680"/>
                  <a:gd name="textAreaBottom" fmla="*/ 244440 h 28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395" y="21600"/>
                    </a:lnTo>
                    <a:lnTo>
                      <a:pt x="19205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6d00"/>
                  </a:gs>
                  <a:gs pos="50000">
                    <a:srgbClr val="ff9900"/>
                  </a:gs>
                  <a:gs pos="100000">
                    <a:srgbClr val="b66d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281"/>
              <p:cNvSpPr/>
              <p:nvPr/>
            </p:nvSpPr>
            <p:spPr>
              <a:xfrm>
                <a:off x="543960" y="3096000"/>
                <a:ext cx="1816200" cy="47160"/>
              </a:xfrm>
              <a:prstGeom prst="rect">
                <a:avLst/>
              </a:prstGeom>
              <a:gradFill rotWithShape="0">
                <a:gsLst>
                  <a:gs pos="0">
                    <a:srgbClr val="b66d00"/>
                  </a:gs>
                  <a:gs pos="50000">
                    <a:srgbClr val="ff9900"/>
                  </a:gs>
                  <a:gs pos="100000">
                    <a:srgbClr val="b66d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282"/>
            <p:cNvGrpSpPr/>
            <p:nvPr/>
          </p:nvGrpSpPr>
          <p:grpSpPr>
            <a:xfrm>
              <a:off x="214200" y="347760"/>
              <a:ext cx="2242800" cy="2464200"/>
              <a:chOff x="214200" y="347760"/>
              <a:chExt cx="2242800" cy="2464200"/>
            </a:xfrm>
          </p:grpSpPr>
          <p:grpSp>
            <p:nvGrpSpPr>
              <p:cNvPr id="407" name="Group 283"/>
              <p:cNvGrpSpPr/>
              <p:nvPr/>
            </p:nvGrpSpPr>
            <p:grpSpPr>
              <a:xfrm>
                <a:off x="214200" y="347760"/>
                <a:ext cx="1644480" cy="2464200"/>
                <a:chOff x="214200" y="347760"/>
                <a:chExt cx="1644480" cy="2464200"/>
              </a:xfrm>
            </p:grpSpPr>
            <p:sp>
              <p:nvSpPr>
                <p:cNvPr id="408" name="Freeform 284"/>
                <p:cNvSpPr/>
                <p:nvPr/>
              </p:nvSpPr>
              <p:spPr>
                <a:xfrm>
                  <a:off x="603360" y="485280"/>
                  <a:ext cx="1255320" cy="2326680"/>
                </a:xfrm>
                <a:custGeom>
                  <a:avLst/>
                  <a:gdLst>
                    <a:gd name="textAreaLeft" fmla="*/ 0 w 1255320"/>
                    <a:gd name="textAreaRight" fmla="*/ 1255680 w 1255320"/>
                    <a:gd name="textAreaTop" fmla="*/ 0 h 2326680"/>
                    <a:gd name="textAreaBottom" fmla="*/ 2327040 h 2326680"/>
                  </a:gdLst>
                  <a:ahLst/>
                  <a:rect l="textAreaLeft" t="textAreaTop" r="textAreaRight" b="textAreaBottom"/>
                  <a:pathLst>
                    <a:path w="5100" h="8850">
                      <a:moveTo>
                        <a:pt x="4710" y="150"/>
                      </a:moveTo>
                      <a:cubicBezTo>
                        <a:pt x="4650" y="0"/>
                        <a:pt x="4620" y="1050"/>
                        <a:pt x="4530" y="1410"/>
                      </a:cubicBezTo>
                      <a:cubicBezTo>
                        <a:pt x="4440" y="1770"/>
                        <a:pt x="4500" y="1890"/>
                        <a:pt x="4170" y="2310"/>
                      </a:cubicBezTo>
                      <a:cubicBezTo>
                        <a:pt x="3840" y="2730"/>
                        <a:pt x="3180" y="3390"/>
                        <a:pt x="2550" y="3930"/>
                      </a:cubicBezTo>
                      <a:cubicBezTo>
                        <a:pt x="1920" y="4470"/>
                        <a:pt x="780" y="5160"/>
                        <a:pt x="390" y="5550"/>
                      </a:cubicBezTo>
                      <a:cubicBezTo>
                        <a:pt x="0" y="5940"/>
                        <a:pt x="180" y="6120"/>
                        <a:pt x="210" y="6270"/>
                      </a:cubicBezTo>
                      <a:cubicBezTo>
                        <a:pt x="240" y="6420"/>
                        <a:pt x="510" y="6330"/>
                        <a:pt x="570" y="6450"/>
                      </a:cubicBezTo>
                      <a:cubicBezTo>
                        <a:pt x="630" y="6570"/>
                        <a:pt x="510" y="6870"/>
                        <a:pt x="570" y="6990"/>
                      </a:cubicBezTo>
                      <a:cubicBezTo>
                        <a:pt x="630" y="7110"/>
                        <a:pt x="990" y="6990"/>
                        <a:pt x="930" y="7170"/>
                      </a:cubicBezTo>
                      <a:cubicBezTo>
                        <a:pt x="870" y="7350"/>
                        <a:pt x="240" y="7860"/>
                        <a:pt x="210" y="8070"/>
                      </a:cubicBezTo>
                      <a:cubicBezTo>
                        <a:pt x="180" y="8280"/>
                        <a:pt x="750" y="8340"/>
                        <a:pt x="750" y="8430"/>
                      </a:cubicBezTo>
                      <a:cubicBezTo>
                        <a:pt x="750" y="8520"/>
                        <a:pt x="210" y="8550"/>
                        <a:pt x="210" y="8610"/>
                      </a:cubicBezTo>
                      <a:cubicBezTo>
                        <a:pt x="210" y="8670"/>
                        <a:pt x="600" y="8850"/>
                        <a:pt x="750" y="8790"/>
                      </a:cubicBezTo>
                      <a:cubicBezTo>
                        <a:pt x="900" y="8730"/>
                        <a:pt x="810" y="8550"/>
                        <a:pt x="1110" y="8250"/>
                      </a:cubicBezTo>
                      <a:cubicBezTo>
                        <a:pt x="1410" y="7950"/>
                        <a:pt x="2160" y="7530"/>
                        <a:pt x="2550" y="6990"/>
                      </a:cubicBezTo>
                      <a:cubicBezTo>
                        <a:pt x="2940" y="6450"/>
                        <a:pt x="3060" y="5790"/>
                        <a:pt x="3450" y="5010"/>
                      </a:cubicBezTo>
                      <a:cubicBezTo>
                        <a:pt x="3840" y="4230"/>
                        <a:pt x="4680" y="3120"/>
                        <a:pt x="4890" y="2310"/>
                      </a:cubicBezTo>
                      <a:cubicBezTo>
                        <a:pt x="5100" y="1500"/>
                        <a:pt x="4770" y="300"/>
                        <a:pt x="4710" y="15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00ffff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285"/>
                <p:cNvSpPr/>
                <p:nvPr/>
              </p:nvSpPr>
              <p:spPr>
                <a:xfrm rot="501000">
                  <a:off x="635040" y="414360"/>
                  <a:ext cx="1063080" cy="1987560"/>
                </a:xfrm>
                <a:custGeom>
                  <a:avLst/>
                  <a:gdLst>
                    <a:gd name="textAreaLeft" fmla="*/ 0 w 1063080"/>
                    <a:gd name="textAreaRight" fmla="*/ 1063440 w 1063080"/>
                    <a:gd name="textAreaTop" fmla="*/ 0 h 1987560"/>
                    <a:gd name="textAreaBottom" fmla="*/ 1987920 h 1987560"/>
                  </a:gdLst>
                  <a:ahLst/>
                  <a:rect l="textAreaLeft" t="textAreaTop" r="textAreaRight" b="textAreaBottom"/>
                  <a:pathLst>
                    <a:path w="5100" h="8850">
                      <a:moveTo>
                        <a:pt x="4710" y="150"/>
                      </a:moveTo>
                      <a:cubicBezTo>
                        <a:pt x="4650" y="0"/>
                        <a:pt x="4620" y="1050"/>
                        <a:pt x="4530" y="1410"/>
                      </a:cubicBezTo>
                      <a:cubicBezTo>
                        <a:pt x="4440" y="1770"/>
                        <a:pt x="4500" y="1890"/>
                        <a:pt x="4170" y="2310"/>
                      </a:cubicBezTo>
                      <a:cubicBezTo>
                        <a:pt x="3840" y="2730"/>
                        <a:pt x="3180" y="3390"/>
                        <a:pt x="2550" y="3930"/>
                      </a:cubicBezTo>
                      <a:cubicBezTo>
                        <a:pt x="1920" y="4470"/>
                        <a:pt x="780" y="5160"/>
                        <a:pt x="390" y="5550"/>
                      </a:cubicBezTo>
                      <a:cubicBezTo>
                        <a:pt x="0" y="5940"/>
                        <a:pt x="180" y="6120"/>
                        <a:pt x="210" y="6270"/>
                      </a:cubicBezTo>
                      <a:cubicBezTo>
                        <a:pt x="240" y="6420"/>
                        <a:pt x="510" y="6330"/>
                        <a:pt x="570" y="6450"/>
                      </a:cubicBezTo>
                      <a:cubicBezTo>
                        <a:pt x="630" y="6570"/>
                        <a:pt x="510" y="6870"/>
                        <a:pt x="570" y="6990"/>
                      </a:cubicBezTo>
                      <a:cubicBezTo>
                        <a:pt x="630" y="7110"/>
                        <a:pt x="990" y="6990"/>
                        <a:pt x="930" y="7170"/>
                      </a:cubicBezTo>
                      <a:cubicBezTo>
                        <a:pt x="870" y="7350"/>
                        <a:pt x="240" y="7860"/>
                        <a:pt x="210" y="8070"/>
                      </a:cubicBezTo>
                      <a:cubicBezTo>
                        <a:pt x="180" y="8280"/>
                        <a:pt x="750" y="8340"/>
                        <a:pt x="750" y="8430"/>
                      </a:cubicBezTo>
                      <a:cubicBezTo>
                        <a:pt x="750" y="8520"/>
                        <a:pt x="210" y="8550"/>
                        <a:pt x="210" y="8610"/>
                      </a:cubicBezTo>
                      <a:cubicBezTo>
                        <a:pt x="210" y="8670"/>
                        <a:pt x="600" y="8850"/>
                        <a:pt x="750" y="8790"/>
                      </a:cubicBezTo>
                      <a:cubicBezTo>
                        <a:pt x="900" y="8730"/>
                        <a:pt x="810" y="8550"/>
                        <a:pt x="1110" y="8250"/>
                      </a:cubicBezTo>
                      <a:cubicBezTo>
                        <a:pt x="1410" y="7950"/>
                        <a:pt x="2160" y="7530"/>
                        <a:pt x="2550" y="6990"/>
                      </a:cubicBezTo>
                      <a:cubicBezTo>
                        <a:pt x="2940" y="6450"/>
                        <a:pt x="3060" y="5790"/>
                        <a:pt x="3450" y="5010"/>
                      </a:cubicBezTo>
                      <a:cubicBezTo>
                        <a:pt x="3840" y="4230"/>
                        <a:pt x="4680" y="3120"/>
                        <a:pt x="4890" y="2310"/>
                      </a:cubicBezTo>
                      <a:cubicBezTo>
                        <a:pt x="5100" y="1500"/>
                        <a:pt x="4770" y="300"/>
                        <a:pt x="4710" y="15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00ffff"/>
                    </a:gs>
                    <a:gs pos="100000">
                      <a:srgbClr val="ffffff"/>
                    </a:gs>
                  </a:gsLst>
                  <a:lin ang="2202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286"/>
                <p:cNvSpPr/>
                <p:nvPr/>
              </p:nvSpPr>
              <p:spPr>
                <a:xfrm>
                  <a:off x="214200" y="461160"/>
                  <a:ext cx="1518120" cy="1535400"/>
                </a:xfrm>
                <a:custGeom>
                  <a:avLst/>
                  <a:gdLst>
                    <a:gd name="textAreaLeft" fmla="*/ 0 w 1518120"/>
                    <a:gd name="textAreaRight" fmla="*/ 1518480 w 1518120"/>
                    <a:gd name="textAreaTop" fmla="*/ 0 h 1535400"/>
                    <a:gd name="textAreaBottom" fmla="*/ 1535760 h 1535400"/>
                  </a:gdLst>
                  <a:ahLst/>
                  <a:rect l="textAreaLeft" t="textAreaTop" r="textAreaRight" b="textAreaBottom"/>
                  <a:pathLst>
                    <a:path w="6168" h="5840">
                      <a:moveTo>
                        <a:pt x="6131" y="288"/>
                      </a:moveTo>
                      <a:cubicBezTo>
                        <a:pt x="6168" y="0"/>
                        <a:pt x="5924" y="280"/>
                        <a:pt x="5811" y="268"/>
                      </a:cubicBezTo>
                      <a:cubicBezTo>
                        <a:pt x="5698" y="256"/>
                        <a:pt x="5603" y="156"/>
                        <a:pt x="5455" y="218"/>
                      </a:cubicBezTo>
                      <a:cubicBezTo>
                        <a:pt x="5307" y="280"/>
                        <a:pt x="5441" y="433"/>
                        <a:pt x="4922" y="643"/>
                      </a:cubicBezTo>
                      <a:cubicBezTo>
                        <a:pt x="4404" y="853"/>
                        <a:pt x="2987" y="1034"/>
                        <a:pt x="2345" y="1480"/>
                      </a:cubicBezTo>
                      <a:cubicBezTo>
                        <a:pt x="1703" y="1927"/>
                        <a:pt x="1342" y="2930"/>
                        <a:pt x="1072" y="3326"/>
                      </a:cubicBezTo>
                      <a:cubicBezTo>
                        <a:pt x="802" y="3722"/>
                        <a:pt x="741" y="3726"/>
                        <a:pt x="722" y="3856"/>
                      </a:cubicBezTo>
                      <a:cubicBezTo>
                        <a:pt x="704" y="3984"/>
                        <a:pt x="945" y="3988"/>
                        <a:pt x="959" y="4102"/>
                      </a:cubicBezTo>
                      <a:cubicBezTo>
                        <a:pt x="972" y="4216"/>
                        <a:pt x="790" y="4424"/>
                        <a:pt x="805" y="4537"/>
                      </a:cubicBezTo>
                      <a:cubicBezTo>
                        <a:pt x="818" y="4651"/>
                        <a:pt x="1140" y="4656"/>
                        <a:pt x="1040" y="4784"/>
                      </a:cubicBezTo>
                      <a:cubicBezTo>
                        <a:pt x="940" y="4912"/>
                        <a:pt x="159" y="5266"/>
                        <a:pt x="208" y="5304"/>
                      </a:cubicBezTo>
                      <a:cubicBezTo>
                        <a:pt x="258" y="5343"/>
                        <a:pt x="1365" y="4940"/>
                        <a:pt x="1340" y="5012"/>
                      </a:cubicBezTo>
                      <a:cubicBezTo>
                        <a:pt x="1314" y="5085"/>
                        <a:pt x="108" y="5637"/>
                        <a:pt x="54" y="5739"/>
                      </a:cubicBezTo>
                      <a:cubicBezTo>
                        <a:pt x="0" y="5840"/>
                        <a:pt x="879" y="5627"/>
                        <a:pt x="1015" y="5621"/>
                      </a:cubicBezTo>
                      <a:cubicBezTo>
                        <a:pt x="1152" y="5615"/>
                        <a:pt x="647" y="5791"/>
                        <a:pt x="876" y="5703"/>
                      </a:cubicBezTo>
                      <a:cubicBezTo>
                        <a:pt x="1104" y="5616"/>
                        <a:pt x="1919" y="5422"/>
                        <a:pt x="2385" y="5098"/>
                      </a:cubicBezTo>
                      <a:cubicBezTo>
                        <a:pt x="2850" y="4774"/>
                        <a:pt x="3135" y="4277"/>
                        <a:pt x="3669" y="3760"/>
                      </a:cubicBezTo>
                      <a:cubicBezTo>
                        <a:pt x="4204" y="3242"/>
                        <a:pt x="5181" y="2573"/>
                        <a:pt x="5591" y="1994"/>
                      </a:cubicBezTo>
                      <a:cubicBezTo>
                        <a:pt x="6001" y="1415"/>
                        <a:pt x="6094" y="600"/>
                        <a:pt x="6131" y="28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00ffff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87"/>
                <p:cNvSpPr/>
                <p:nvPr/>
              </p:nvSpPr>
              <p:spPr>
                <a:xfrm>
                  <a:off x="587520" y="494280"/>
                  <a:ext cx="1013400" cy="582840"/>
                </a:xfrm>
                <a:custGeom>
                  <a:avLst/>
                  <a:gdLst>
                    <a:gd name="textAreaLeft" fmla="*/ 0 w 1013400"/>
                    <a:gd name="textAreaRight" fmla="*/ 1013760 w 1013400"/>
                    <a:gd name="textAreaTop" fmla="*/ 0 h 582840"/>
                    <a:gd name="textAreaBottom" fmla="*/ 583200 h 582840"/>
                  </a:gdLst>
                  <a:ahLst/>
                  <a:rect l="textAreaLeft" t="textAreaTop" r="textAreaRight" b="textAreaBottom"/>
                  <a:pathLst>
                    <a:path w="4117" h="2217">
                      <a:moveTo>
                        <a:pt x="4050" y="259"/>
                      </a:moveTo>
                      <a:cubicBezTo>
                        <a:pt x="4117" y="118"/>
                        <a:pt x="3941" y="220"/>
                        <a:pt x="3883" y="194"/>
                      </a:cubicBezTo>
                      <a:cubicBezTo>
                        <a:pt x="3825" y="169"/>
                        <a:pt x="3797" y="140"/>
                        <a:pt x="3702" y="108"/>
                      </a:cubicBezTo>
                      <a:cubicBezTo>
                        <a:pt x="3607" y="76"/>
                        <a:pt x="3602" y="0"/>
                        <a:pt x="3314" y="2"/>
                      </a:cubicBezTo>
                      <a:cubicBezTo>
                        <a:pt x="3026" y="4"/>
                        <a:pt x="2427" y="19"/>
                        <a:pt x="1974" y="122"/>
                      </a:cubicBezTo>
                      <a:cubicBezTo>
                        <a:pt x="1521" y="225"/>
                        <a:pt x="897" y="432"/>
                        <a:pt x="594" y="622"/>
                      </a:cubicBezTo>
                      <a:cubicBezTo>
                        <a:pt x="291" y="812"/>
                        <a:pt x="0" y="1129"/>
                        <a:pt x="154" y="1262"/>
                      </a:cubicBezTo>
                      <a:cubicBezTo>
                        <a:pt x="308" y="1395"/>
                        <a:pt x="1441" y="1346"/>
                        <a:pt x="1516" y="1419"/>
                      </a:cubicBezTo>
                      <a:cubicBezTo>
                        <a:pt x="1591" y="1492"/>
                        <a:pt x="598" y="1658"/>
                        <a:pt x="606" y="1703"/>
                      </a:cubicBezTo>
                      <a:cubicBezTo>
                        <a:pt x="612" y="1749"/>
                        <a:pt x="1538" y="1664"/>
                        <a:pt x="1558" y="1692"/>
                      </a:cubicBezTo>
                      <a:cubicBezTo>
                        <a:pt x="1579" y="1720"/>
                        <a:pt x="776" y="1805"/>
                        <a:pt x="727" y="1871"/>
                      </a:cubicBezTo>
                      <a:cubicBezTo>
                        <a:pt x="679" y="1938"/>
                        <a:pt x="1005" y="2217"/>
                        <a:pt x="1269" y="2094"/>
                      </a:cubicBezTo>
                      <a:cubicBezTo>
                        <a:pt x="1533" y="1969"/>
                        <a:pt x="1943" y="1304"/>
                        <a:pt x="2312" y="1129"/>
                      </a:cubicBezTo>
                      <a:cubicBezTo>
                        <a:pt x="2680" y="955"/>
                        <a:pt x="3193" y="1189"/>
                        <a:pt x="3483" y="1044"/>
                      </a:cubicBezTo>
                      <a:cubicBezTo>
                        <a:pt x="3773" y="898"/>
                        <a:pt x="3979" y="413"/>
                        <a:pt x="4050" y="25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00ffff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288"/>
              <p:cNvGrpSpPr/>
              <p:nvPr/>
            </p:nvGrpSpPr>
            <p:grpSpPr>
              <a:xfrm>
                <a:off x="1050120" y="729720"/>
                <a:ext cx="1406880" cy="1940040"/>
                <a:chOff x="1050120" y="729720"/>
                <a:chExt cx="1406880" cy="1940040"/>
              </a:xfrm>
            </p:grpSpPr>
            <p:grpSp>
              <p:nvGrpSpPr>
                <p:cNvPr id="413" name="Group 289"/>
                <p:cNvGrpSpPr/>
                <p:nvPr/>
              </p:nvGrpSpPr>
              <p:grpSpPr>
                <a:xfrm>
                  <a:off x="1172160" y="2046240"/>
                  <a:ext cx="789120" cy="623520"/>
                  <a:chOff x="1172160" y="2046240"/>
                  <a:chExt cx="789120" cy="623520"/>
                </a:xfrm>
              </p:grpSpPr>
              <p:grpSp>
                <p:nvGrpSpPr>
                  <p:cNvPr id="414" name="Group 290"/>
                  <p:cNvGrpSpPr/>
                  <p:nvPr/>
                </p:nvGrpSpPr>
                <p:grpSpPr>
                  <a:xfrm>
                    <a:off x="1172160" y="2046240"/>
                    <a:ext cx="789120" cy="623520"/>
                    <a:chOff x="1172160" y="2046240"/>
                    <a:chExt cx="789120" cy="623520"/>
                  </a:xfrm>
                </p:grpSpPr>
                <p:grpSp>
                  <p:nvGrpSpPr>
                    <p:cNvPr id="415" name="Group 291"/>
                    <p:cNvGrpSpPr/>
                    <p:nvPr/>
                  </p:nvGrpSpPr>
                  <p:grpSpPr>
                    <a:xfrm>
                      <a:off x="1172160" y="2113920"/>
                      <a:ext cx="788760" cy="555840"/>
                      <a:chOff x="1172160" y="2113920"/>
                      <a:chExt cx="788760" cy="555840"/>
                    </a:xfrm>
                  </p:grpSpPr>
                  <p:sp>
                    <p:nvSpPr>
                      <p:cNvPr id="416" name="AutoShape 292"/>
                      <p:cNvSpPr/>
                      <p:nvPr/>
                    </p:nvSpPr>
                    <p:spPr>
                      <a:xfrm rot="5400000">
                        <a:off x="1289160" y="1996560"/>
                        <a:ext cx="554400" cy="788760"/>
                      </a:xfrm>
                      <a:prstGeom prst="flowChartDelay">
                        <a:avLst/>
                      </a:prstGeom>
                      <a:gradFill rotWithShape="0">
                        <a:gsLst>
                          <a:gs pos="0">
                            <a:srgbClr val="762f00"/>
                          </a:gs>
                          <a:gs pos="50000">
                            <a:srgbClr val="ff6600"/>
                          </a:gs>
                          <a:gs pos="100000">
                            <a:srgbClr val="762f00"/>
                          </a:gs>
                        </a:gsLst>
                        <a:lin ang="135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7" name="AutoShape 293"/>
                      <p:cNvSpPr/>
                      <p:nvPr/>
                    </p:nvSpPr>
                    <p:spPr>
                      <a:xfrm rot="16200000">
                        <a:off x="1511280" y="2274840"/>
                        <a:ext cx="99720" cy="690120"/>
                      </a:xfrm>
                      <a:prstGeom prst="flowChartOnlineStorage">
                        <a:avLst/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ff6600"/>
                          </a:gs>
                          <a:gs pos="100000">
                            <a:srgbClr val="000000"/>
                          </a:gs>
                        </a:gsLst>
                        <a:lin ang="27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18" name="Oval 294"/>
                    <p:cNvSpPr/>
                    <p:nvPr/>
                  </p:nvSpPr>
                  <p:spPr>
                    <a:xfrm>
                      <a:off x="1172520" y="2046240"/>
                      <a:ext cx="788760" cy="152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6600"/>
                        </a:gs>
                        <a:gs pos="100000">
                          <a:srgbClr val="000000"/>
                        </a:gs>
                      </a:gsLst>
                      <a:lin ang="27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Oval 295"/>
                  <p:cNvSpPr/>
                  <p:nvPr/>
                </p:nvSpPr>
                <p:spPr>
                  <a:xfrm>
                    <a:off x="1221480" y="2101320"/>
                    <a:ext cx="690120" cy="95400"/>
                  </a:xfrm>
                  <a:prstGeom prst="ellipse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Group 296"/>
                <p:cNvGrpSpPr/>
                <p:nvPr/>
              </p:nvGrpSpPr>
              <p:grpSpPr>
                <a:xfrm>
                  <a:off x="1050120" y="729720"/>
                  <a:ext cx="1406880" cy="1463760"/>
                  <a:chOff x="1050120" y="729720"/>
                  <a:chExt cx="1406880" cy="1463760"/>
                </a:xfrm>
              </p:grpSpPr>
              <p:sp>
                <p:nvSpPr>
                  <p:cNvPr id="421" name="Freeform 297"/>
                  <p:cNvSpPr/>
                  <p:nvPr/>
                </p:nvSpPr>
                <p:spPr>
                  <a:xfrm>
                    <a:off x="2015280" y="990000"/>
                    <a:ext cx="304920" cy="119520"/>
                  </a:xfrm>
                  <a:custGeom>
                    <a:avLst/>
                    <a:gdLst>
                      <a:gd name="textAreaLeft" fmla="*/ 0 w 304920"/>
                      <a:gd name="textAreaRight" fmla="*/ 305280 w 304920"/>
                      <a:gd name="textAreaTop" fmla="*/ 0 h 119520"/>
                      <a:gd name="textAreaBottom" fmla="*/ 119880 h 119520"/>
                    </a:gdLst>
                    <a:ahLst/>
                    <a:rect l="textAreaLeft" t="textAreaTop" r="textAreaRight" b="textAreaBottom"/>
                    <a:pathLst>
                      <a:path w="1800" h="750">
                        <a:moveTo>
                          <a:pt x="0" y="750"/>
                        </a:moveTo>
                        <a:cubicBezTo>
                          <a:pt x="165" y="540"/>
                          <a:pt x="330" y="330"/>
                          <a:pt x="540" y="210"/>
                        </a:cubicBezTo>
                        <a:cubicBezTo>
                          <a:pt x="750" y="90"/>
                          <a:pt x="1050" y="60"/>
                          <a:pt x="1260" y="30"/>
                        </a:cubicBezTo>
                        <a:cubicBezTo>
                          <a:pt x="1470" y="0"/>
                          <a:pt x="1710" y="30"/>
                          <a:pt x="1800" y="30"/>
                        </a:cubicBezTo>
                      </a:path>
                    </a:pathLst>
                  </a:custGeom>
                  <a:noFill/>
                  <a:ln w="3816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Freeform 298"/>
                  <p:cNvSpPr/>
                  <p:nvPr/>
                </p:nvSpPr>
                <p:spPr>
                  <a:xfrm flipV="1" rot="14509200">
                    <a:off x="1855800" y="888840"/>
                    <a:ext cx="287280" cy="152280"/>
                  </a:xfrm>
                  <a:custGeom>
                    <a:avLst/>
                    <a:gdLst>
                      <a:gd name="textAreaLeft" fmla="*/ 0 w 287280"/>
                      <a:gd name="textAreaRight" fmla="*/ 287640 w 287280"/>
                      <a:gd name="textAreaTop" fmla="*/ -360 h 152280"/>
                      <a:gd name="textAreaBottom" fmla="*/ 152280 h 152280"/>
                    </a:gdLst>
                    <a:ahLst/>
                    <a:rect l="textAreaLeft" t="textAreaTop" r="textAreaRight" b="textAreaBottom"/>
                    <a:pathLst>
                      <a:path w="1800" h="750">
                        <a:moveTo>
                          <a:pt x="0" y="750"/>
                        </a:moveTo>
                        <a:cubicBezTo>
                          <a:pt x="165" y="540"/>
                          <a:pt x="330" y="330"/>
                          <a:pt x="540" y="210"/>
                        </a:cubicBezTo>
                        <a:cubicBezTo>
                          <a:pt x="750" y="90"/>
                          <a:pt x="1050" y="60"/>
                          <a:pt x="1260" y="30"/>
                        </a:cubicBezTo>
                        <a:cubicBezTo>
                          <a:pt x="1470" y="0"/>
                          <a:pt x="1710" y="30"/>
                          <a:pt x="1800" y="30"/>
                        </a:cubicBezTo>
                      </a:path>
                    </a:pathLst>
                  </a:custGeom>
                  <a:noFill/>
                  <a:ln w="3816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3" name="Group 299"/>
                  <p:cNvGrpSpPr/>
                  <p:nvPr/>
                </p:nvGrpSpPr>
                <p:grpSpPr>
                  <a:xfrm>
                    <a:off x="1509840" y="840960"/>
                    <a:ext cx="947160" cy="674280"/>
                    <a:chOff x="1509840" y="840960"/>
                    <a:chExt cx="947160" cy="674280"/>
                  </a:xfrm>
                </p:grpSpPr>
                <p:sp>
                  <p:nvSpPr>
                    <p:cNvPr id="424" name="Freeform 300"/>
                    <p:cNvSpPr/>
                    <p:nvPr/>
                  </p:nvSpPr>
                  <p:spPr>
                    <a:xfrm flipV="1" rot="10696800">
                      <a:off x="1513080" y="981000"/>
                      <a:ext cx="396720" cy="230040"/>
                    </a:xfrm>
                    <a:custGeom>
                      <a:avLst/>
                      <a:gdLst>
                        <a:gd name="textAreaLeft" fmla="*/ 0 w 396720"/>
                        <a:gd name="textAreaRight" fmla="*/ 397080 w 396720"/>
                        <a:gd name="textAreaTop" fmla="*/ -360 h 230040"/>
                        <a:gd name="textAreaBottom" fmla="*/ 230040 h 23004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2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Freeform 301"/>
                    <p:cNvSpPr/>
                    <p:nvPr/>
                  </p:nvSpPr>
                  <p:spPr>
                    <a:xfrm flipV="1" rot="12576600">
                      <a:off x="1666080" y="923760"/>
                      <a:ext cx="396720" cy="230040"/>
                    </a:xfrm>
                    <a:custGeom>
                      <a:avLst/>
                      <a:gdLst>
                        <a:gd name="textAreaLeft" fmla="*/ 0 w 396720"/>
                        <a:gd name="textAreaRight" fmla="*/ 397080 w 396720"/>
                        <a:gd name="textAreaTop" fmla="*/ -360 h 230040"/>
                        <a:gd name="textAreaBottom" fmla="*/ 230040 h 23004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Freeform 302"/>
                    <p:cNvSpPr/>
                    <p:nvPr/>
                  </p:nvSpPr>
                  <p:spPr>
                    <a:xfrm rot="1273200">
                      <a:off x="2031840" y="1125360"/>
                      <a:ext cx="396720" cy="230040"/>
                    </a:xfrm>
                    <a:custGeom>
                      <a:avLst/>
                      <a:gdLst>
                        <a:gd name="textAreaLeft" fmla="*/ 0 w 396720"/>
                        <a:gd name="textAreaRight" fmla="*/ 397080 w 396720"/>
                        <a:gd name="textAreaTop" fmla="*/ 0 h 230040"/>
                        <a:gd name="textAreaBottom" fmla="*/ 230400 h 23004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4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Freeform 303"/>
                    <p:cNvSpPr/>
                    <p:nvPr/>
                  </p:nvSpPr>
                  <p:spPr>
                    <a:xfrm>
                      <a:off x="1971360" y="1068120"/>
                      <a:ext cx="304920" cy="153360"/>
                    </a:xfrm>
                    <a:custGeom>
                      <a:avLst/>
                      <a:gdLst>
                        <a:gd name="textAreaLeft" fmla="*/ 0 w 304920"/>
                        <a:gd name="textAreaRight" fmla="*/ 305280 w 304920"/>
                        <a:gd name="textAreaTop" fmla="*/ 0 h 153360"/>
                        <a:gd name="textAreaBottom" fmla="*/ 153720 h 15336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5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Freeform 304"/>
                    <p:cNvSpPr/>
                    <p:nvPr/>
                  </p:nvSpPr>
                  <p:spPr>
                    <a:xfrm rot="2715000">
                      <a:off x="2031120" y="1274400"/>
                      <a:ext cx="287280" cy="162720"/>
                    </a:xfrm>
                    <a:custGeom>
                      <a:avLst/>
                      <a:gdLst>
                        <a:gd name="textAreaLeft" fmla="*/ 0 w 287280"/>
                        <a:gd name="textAreaRight" fmla="*/ 287640 w 287280"/>
                        <a:gd name="textAreaTop" fmla="*/ 0 h 162720"/>
                        <a:gd name="textAreaBottom" fmla="*/ 163080 h 16272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6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9" name="Group 305"/>
                  <p:cNvGrpSpPr/>
                  <p:nvPr/>
                </p:nvGrpSpPr>
                <p:grpSpPr>
                  <a:xfrm>
                    <a:off x="1050120" y="1062000"/>
                    <a:ext cx="1107720" cy="1131480"/>
                    <a:chOff x="1050120" y="1062000"/>
                    <a:chExt cx="1107720" cy="1131480"/>
                  </a:xfrm>
                </p:grpSpPr>
                <p:grpSp>
                  <p:nvGrpSpPr>
                    <p:cNvPr id="430" name="Group 306"/>
                    <p:cNvGrpSpPr/>
                    <p:nvPr/>
                  </p:nvGrpSpPr>
                  <p:grpSpPr>
                    <a:xfrm>
                      <a:off x="1050120" y="1062000"/>
                      <a:ext cx="1107720" cy="1131480"/>
                      <a:chOff x="1050120" y="1062000"/>
                      <a:chExt cx="1107720" cy="1131480"/>
                    </a:xfrm>
                  </p:grpSpPr>
                  <p:sp>
                    <p:nvSpPr>
                      <p:cNvPr id="431" name="Freeform 307"/>
                      <p:cNvSpPr/>
                      <p:nvPr/>
                    </p:nvSpPr>
                    <p:spPr>
                      <a:xfrm>
                        <a:off x="1116720" y="1528200"/>
                        <a:ext cx="304920" cy="272880"/>
                      </a:xfrm>
                      <a:custGeom>
                        <a:avLst/>
                        <a:gdLst>
                          <a:gd name="textAreaLeft" fmla="*/ 0 w 304920"/>
                          <a:gd name="textAreaRight" fmla="*/ 305280 w 304920"/>
                          <a:gd name="textAreaTop" fmla="*/ 0 h 272880"/>
                          <a:gd name="textAreaBottom" fmla="*/ 273240 h 272880"/>
                        </a:gdLst>
                        <a:ahLst/>
                        <a:rect l="textAreaLeft" t="textAreaTop" r="textAreaRight" b="textAreaBottom"/>
                        <a:pathLst>
                          <a:path w="2310" h="2250">
                            <a:moveTo>
                              <a:pt x="1920" y="960"/>
                            </a:moveTo>
                            <a:cubicBezTo>
                              <a:pt x="1830" y="930"/>
                              <a:pt x="1650" y="900"/>
                              <a:pt x="1560" y="780"/>
                            </a:cubicBezTo>
                            <a:cubicBezTo>
                              <a:pt x="1470" y="660"/>
                              <a:pt x="1530" y="360"/>
                              <a:pt x="1380" y="240"/>
                            </a:cubicBezTo>
                            <a:cubicBezTo>
                              <a:pt x="1230" y="120"/>
                              <a:pt x="870" y="0"/>
                              <a:pt x="660" y="60"/>
                            </a:cubicBezTo>
                            <a:cubicBezTo>
                              <a:pt x="450" y="120"/>
                              <a:pt x="210" y="330"/>
                              <a:pt x="120" y="600"/>
                            </a:cubicBezTo>
                            <a:cubicBezTo>
                              <a:pt x="30" y="870"/>
                              <a:pt x="0" y="1410"/>
                              <a:pt x="120" y="1680"/>
                            </a:cubicBezTo>
                            <a:cubicBezTo>
                              <a:pt x="240" y="1950"/>
                              <a:pt x="510" y="2190"/>
                              <a:pt x="840" y="2220"/>
                            </a:cubicBezTo>
                            <a:cubicBezTo>
                              <a:pt x="1170" y="2250"/>
                              <a:pt x="1890" y="2070"/>
                              <a:pt x="2100" y="1860"/>
                            </a:cubicBezTo>
                            <a:cubicBezTo>
                              <a:pt x="2310" y="1650"/>
                              <a:pt x="2130" y="1110"/>
                              <a:pt x="2100" y="960"/>
                            </a:cubicBezTo>
                            <a:cubicBezTo>
                              <a:pt x="2070" y="810"/>
                              <a:pt x="2010" y="990"/>
                              <a:pt x="1920" y="96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ffcc"/>
                          </a:gs>
                          <a:gs pos="50000">
                            <a:srgbClr val="008000"/>
                          </a:gs>
                          <a:gs pos="100000">
                            <a:srgbClr val="ccffcc"/>
                          </a:gs>
                        </a:gsLst>
                        <a:lin ang="27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Freeform 308"/>
                      <p:cNvSpPr/>
                      <p:nvPr/>
                    </p:nvSpPr>
                    <p:spPr>
                      <a:xfrm>
                        <a:off x="1346040" y="1123560"/>
                        <a:ext cx="811440" cy="1069920"/>
                      </a:xfrm>
                      <a:custGeom>
                        <a:avLst/>
                        <a:gdLst>
                          <a:gd name="textAreaLeft" fmla="*/ 0 w 811440"/>
                          <a:gd name="textAreaRight" fmla="*/ 811800 w 811440"/>
                          <a:gd name="textAreaTop" fmla="*/ 0 h 1069920"/>
                          <a:gd name="textAreaBottom" fmla="*/ 1070280 h 1069920"/>
                        </a:gdLst>
                        <a:ahLst/>
                        <a:rect l="textAreaLeft" t="textAreaTop" r="textAreaRight" b="textAreaBottom"/>
                        <a:pathLst>
                          <a:path w="4787" h="6697">
                            <a:moveTo>
                              <a:pt x="207" y="4137"/>
                            </a:moveTo>
                            <a:cubicBezTo>
                              <a:pt x="0" y="3600"/>
                              <a:pt x="3" y="3575"/>
                              <a:pt x="7" y="3057"/>
                            </a:cubicBezTo>
                            <a:cubicBezTo>
                              <a:pt x="11" y="2539"/>
                              <a:pt x="274" y="1857"/>
                              <a:pt x="587" y="1397"/>
                            </a:cubicBezTo>
                            <a:cubicBezTo>
                              <a:pt x="900" y="937"/>
                              <a:pt x="1410" y="494"/>
                              <a:pt x="1887" y="297"/>
                            </a:cubicBezTo>
                            <a:cubicBezTo>
                              <a:pt x="2364" y="100"/>
                              <a:pt x="3007" y="0"/>
                              <a:pt x="3447" y="217"/>
                            </a:cubicBezTo>
                            <a:cubicBezTo>
                              <a:pt x="3737" y="374"/>
                              <a:pt x="4787" y="851"/>
                              <a:pt x="4527" y="1597"/>
                            </a:cubicBezTo>
                            <a:cubicBezTo>
                              <a:pt x="4544" y="2044"/>
                              <a:pt x="4370" y="2365"/>
                              <a:pt x="3947" y="2877"/>
                            </a:cubicBezTo>
                            <a:cubicBezTo>
                              <a:pt x="3700" y="3239"/>
                              <a:pt x="3143" y="3651"/>
                              <a:pt x="2827" y="3957"/>
                            </a:cubicBezTo>
                            <a:cubicBezTo>
                              <a:pt x="2537" y="4297"/>
                              <a:pt x="2360" y="4620"/>
                              <a:pt x="2207" y="4917"/>
                            </a:cubicBezTo>
                            <a:cubicBezTo>
                              <a:pt x="2054" y="5214"/>
                              <a:pt x="1977" y="5507"/>
                              <a:pt x="1907" y="5737"/>
                            </a:cubicBezTo>
                            <a:cubicBezTo>
                              <a:pt x="1837" y="5967"/>
                              <a:pt x="1877" y="6197"/>
                              <a:pt x="1787" y="6297"/>
                            </a:cubicBezTo>
                            <a:cubicBezTo>
                              <a:pt x="1697" y="6397"/>
                              <a:pt x="1630" y="6697"/>
                              <a:pt x="1367" y="6337"/>
                            </a:cubicBezTo>
                            <a:cubicBezTo>
                              <a:pt x="1104" y="5977"/>
                              <a:pt x="414" y="4674"/>
                              <a:pt x="207" y="4137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ffcc"/>
                          </a:gs>
                          <a:gs pos="50000">
                            <a:srgbClr val="008000"/>
                          </a:gs>
                          <a:gs pos="100000">
                            <a:srgbClr val="ccffcc"/>
                          </a:gs>
                        </a:gsLst>
                        <a:lin ang="27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" name="Freeform 309"/>
                      <p:cNvSpPr/>
                      <p:nvPr/>
                    </p:nvSpPr>
                    <p:spPr>
                      <a:xfrm rot="2323800">
                        <a:off x="1706400" y="1505160"/>
                        <a:ext cx="244080" cy="344880"/>
                      </a:xfrm>
                      <a:custGeom>
                        <a:avLst/>
                        <a:gdLst>
                          <a:gd name="textAreaLeft" fmla="*/ 0 w 244080"/>
                          <a:gd name="textAreaRight" fmla="*/ 244440 w 244080"/>
                          <a:gd name="textAreaTop" fmla="*/ 0 h 344880"/>
                          <a:gd name="textAreaBottom" fmla="*/ 344880 h 344880"/>
                        </a:gdLst>
                        <a:ahLst/>
                        <a:rect l="textAreaLeft" t="textAreaTop" r="textAreaRight" b="textAreaBottom"/>
                        <a:pathLst>
                          <a:path w="1687" h="3090">
                            <a:moveTo>
                              <a:pt x="1642" y="235"/>
                            </a:moveTo>
                            <a:cubicBezTo>
                              <a:pt x="1639" y="66"/>
                              <a:pt x="1391" y="0"/>
                              <a:pt x="1231" y="0"/>
                            </a:cubicBezTo>
                            <a:cubicBezTo>
                              <a:pt x="1072" y="0"/>
                              <a:pt x="866" y="0"/>
                              <a:pt x="684" y="235"/>
                            </a:cubicBezTo>
                            <a:cubicBezTo>
                              <a:pt x="502" y="469"/>
                              <a:pt x="251" y="1095"/>
                              <a:pt x="137" y="1408"/>
                            </a:cubicBezTo>
                            <a:cubicBezTo>
                              <a:pt x="23" y="1721"/>
                              <a:pt x="0" y="1877"/>
                              <a:pt x="0" y="2112"/>
                            </a:cubicBezTo>
                            <a:cubicBezTo>
                              <a:pt x="0" y="2347"/>
                              <a:pt x="46" y="2660"/>
                              <a:pt x="137" y="2816"/>
                            </a:cubicBezTo>
                            <a:cubicBezTo>
                              <a:pt x="228" y="2973"/>
                              <a:pt x="388" y="3090"/>
                              <a:pt x="547" y="3051"/>
                            </a:cubicBezTo>
                            <a:cubicBezTo>
                              <a:pt x="707" y="3012"/>
                              <a:pt x="980" y="2816"/>
                              <a:pt x="1094" y="2582"/>
                            </a:cubicBezTo>
                            <a:cubicBezTo>
                              <a:pt x="1208" y="2347"/>
                              <a:pt x="1186" y="1917"/>
                              <a:pt x="1231" y="1643"/>
                            </a:cubicBezTo>
                            <a:cubicBezTo>
                              <a:pt x="1277" y="1369"/>
                              <a:pt x="1300" y="1134"/>
                              <a:pt x="1368" y="939"/>
                            </a:cubicBezTo>
                            <a:cubicBezTo>
                              <a:pt x="1436" y="743"/>
                              <a:pt x="1596" y="587"/>
                              <a:pt x="1642" y="469"/>
                            </a:cubicBezTo>
                            <a:cubicBezTo>
                              <a:pt x="1687" y="352"/>
                              <a:pt x="1645" y="404"/>
                              <a:pt x="1642" y="235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ffcc"/>
                          </a:gs>
                          <a:gs pos="50000">
                            <a:srgbClr val="008000"/>
                          </a:gs>
                          <a:gs pos="100000">
                            <a:srgbClr val="ccffcc"/>
                          </a:gs>
                        </a:gsLst>
                        <a:lin ang="378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34" name="Group 310"/>
                      <p:cNvGrpSpPr/>
                      <p:nvPr/>
                    </p:nvGrpSpPr>
                    <p:grpSpPr>
                      <a:xfrm>
                        <a:off x="1568520" y="1204920"/>
                        <a:ext cx="423360" cy="336960"/>
                        <a:chOff x="1568520" y="1204920"/>
                        <a:chExt cx="423360" cy="336960"/>
                      </a:xfrm>
                    </p:grpSpPr>
                    <p:sp>
                      <p:nvSpPr>
                        <p:cNvPr id="435" name="Freeform 311"/>
                        <p:cNvSpPr/>
                        <p:nvPr/>
                      </p:nvSpPr>
                      <p:spPr>
                        <a:xfrm rot="1973400">
                          <a:off x="1611000" y="1230120"/>
                          <a:ext cx="152640" cy="201240"/>
                        </a:xfrm>
                        <a:custGeom>
                          <a:avLst/>
                          <a:gdLst>
                            <a:gd name="textAreaLeft" fmla="*/ 0 w 152640"/>
                            <a:gd name="textAreaRight" fmla="*/ 152640 w 152640"/>
                            <a:gd name="textAreaTop" fmla="*/ 0 h 201240"/>
                            <a:gd name="textAreaBottom" fmla="*/ 201600 h 201240"/>
                          </a:gdLst>
                          <a:ahLst/>
                          <a:rect l="textAreaLeft" t="textAreaTop" r="textAreaRight" b="textAreaBottom"/>
                          <a:pathLst>
                            <a:path w="1490" h="2346">
                              <a:moveTo>
                                <a:pt x="1332" y="244"/>
                              </a:moveTo>
                              <a:cubicBezTo>
                                <a:pt x="1399" y="361"/>
                                <a:pt x="1425" y="561"/>
                                <a:pt x="1447" y="740"/>
                              </a:cubicBezTo>
                              <a:cubicBezTo>
                                <a:pt x="1469" y="919"/>
                                <a:pt x="1490" y="1133"/>
                                <a:pt x="1467" y="1320"/>
                              </a:cubicBezTo>
                              <a:cubicBezTo>
                                <a:pt x="1444" y="1507"/>
                                <a:pt x="1417" y="1690"/>
                                <a:pt x="1307" y="1860"/>
                              </a:cubicBezTo>
                              <a:cubicBezTo>
                                <a:pt x="1257" y="1993"/>
                                <a:pt x="1250" y="2040"/>
                                <a:pt x="1167" y="2120"/>
                              </a:cubicBezTo>
                              <a:cubicBezTo>
                                <a:pt x="1084" y="2200"/>
                                <a:pt x="930" y="2332"/>
                                <a:pt x="807" y="2339"/>
                              </a:cubicBezTo>
                              <a:cubicBezTo>
                                <a:pt x="684" y="2346"/>
                                <a:pt x="534" y="2260"/>
                                <a:pt x="427" y="2160"/>
                              </a:cubicBezTo>
                              <a:cubicBezTo>
                                <a:pt x="320" y="2060"/>
                                <a:pt x="234" y="1903"/>
                                <a:pt x="167" y="1740"/>
                              </a:cubicBezTo>
                              <a:cubicBezTo>
                                <a:pt x="100" y="1577"/>
                                <a:pt x="50" y="1360"/>
                                <a:pt x="27" y="1180"/>
                              </a:cubicBezTo>
                              <a:cubicBezTo>
                                <a:pt x="7" y="1017"/>
                                <a:pt x="0" y="810"/>
                                <a:pt x="27" y="660"/>
                              </a:cubicBezTo>
                              <a:cubicBezTo>
                                <a:pt x="54" y="510"/>
                                <a:pt x="104" y="383"/>
                                <a:pt x="187" y="280"/>
                              </a:cubicBezTo>
                              <a:cubicBezTo>
                                <a:pt x="270" y="177"/>
                                <a:pt x="384" y="80"/>
                                <a:pt x="527" y="40"/>
                              </a:cubicBezTo>
                              <a:cubicBezTo>
                                <a:pt x="670" y="0"/>
                                <a:pt x="913" y="6"/>
                                <a:pt x="1047" y="40"/>
                              </a:cubicBezTo>
                              <a:cubicBezTo>
                                <a:pt x="1181" y="74"/>
                                <a:pt x="1297" y="128"/>
                                <a:pt x="1332" y="244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6" name="Freeform 312"/>
                        <p:cNvSpPr/>
                        <p:nvPr/>
                      </p:nvSpPr>
                      <p:spPr>
                        <a:xfrm rot="21274200">
                          <a:off x="1620000" y="1311480"/>
                          <a:ext cx="153720" cy="106920"/>
                        </a:xfrm>
                        <a:custGeom>
                          <a:avLst/>
                          <a:gdLst>
                            <a:gd name="textAreaLeft" fmla="*/ 0 w 153720"/>
                            <a:gd name="textAreaRight" fmla="*/ 154080 w 153720"/>
                            <a:gd name="textAreaTop" fmla="*/ 0 h 106920"/>
                            <a:gd name="textAreaBottom" fmla="*/ 107280 h 106920"/>
                          </a:gdLst>
                          <a:ahLst/>
                          <a:rect l="textAreaLeft" t="textAreaTop" r="textAreaRight" b="textAreaBottom"/>
                          <a:pathLst>
                            <a:path w="906" h="669">
                              <a:moveTo>
                                <a:pt x="906" y="161"/>
                              </a:moveTo>
                              <a:cubicBezTo>
                                <a:pt x="905" y="122"/>
                                <a:pt x="803" y="50"/>
                                <a:pt x="732" y="27"/>
                              </a:cubicBezTo>
                              <a:cubicBezTo>
                                <a:pt x="660" y="3"/>
                                <a:pt x="553" y="0"/>
                                <a:pt x="477" y="17"/>
                              </a:cubicBezTo>
                              <a:cubicBezTo>
                                <a:pt x="389" y="22"/>
                                <a:pt x="332" y="88"/>
                                <a:pt x="278" y="133"/>
                              </a:cubicBezTo>
                              <a:cubicBezTo>
                                <a:pt x="227" y="186"/>
                                <a:pt x="150" y="273"/>
                                <a:pt x="125" y="327"/>
                              </a:cubicBezTo>
                              <a:cubicBezTo>
                                <a:pt x="89" y="379"/>
                                <a:pt x="65" y="391"/>
                                <a:pt x="64" y="443"/>
                              </a:cubicBezTo>
                              <a:cubicBezTo>
                                <a:pt x="0" y="504"/>
                                <a:pt x="101" y="600"/>
                                <a:pt x="111" y="641"/>
                              </a:cubicBezTo>
                              <a:cubicBezTo>
                                <a:pt x="178" y="669"/>
                                <a:pt x="352" y="659"/>
                                <a:pt x="464" y="611"/>
                              </a:cubicBezTo>
                              <a:cubicBezTo>
                                <a:pt x="576" y="563"/>
                                <a:pt x="710" y="426"/>
                                <a:pt x="784" y="351"/>
                              </a:cubicBezTo>
                              <a:cubicBezTo>
                                <a:pt x="858" y="276"/>
                                <a:pt x="881" y="201"/>
                                <a:pt x="906" y="161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333333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7" name="Freeform 313"/>
                        <p:cNvSpPr/>
                        <p:nvPr/>
                      </p:nvSpPr>
                      <p:spPr>
                        <a:xfrm rot="2050200">
                          <a:off x="1795680" y="1314720"/>
                          <a:ext cx="152640" cy="201240"/>
                        </a:xfrm>
                        <a:custGeom>
                          <a:avLst/>
                          <a:gdLst>
                            <a:gd name="textAreaLeft" fmla="*/ 0 w 152640"/>
                            <a:gd name="textAreaRight" fmla="*/ 152640 w 152640"/>
                            <a:gd name="textAreaTop" fmla="*/ 0 h 201240"/>
                            <a:gd name="textAreaBottom" fmla="*/ 201600 h 201240"/>
                          </a:gdLst>
                          <a:ahLst/>
                          <a:rect l="textAreaLeft" t="textAreaTop" r="textAreaRight" b="textAreaBottom"/>
                          <a:pathLst>
                            <a:path w="1490" h="2346">
                              <a:moveTo>
                                <a:pt x="1332" y="244"/>
                              </a:moveTo>
                              <a:cubicBezTo>
                                <a:pt x="1399" y="361"/>
                                <a:pt x="1425" y="561"/>
                                <a:pt x="1447" y="740"/>
                              </a:cubicBezTo>
                              <a:cubicBezTo>
                                <a:pt x="1469" y="919"/>
                                <a:pt x="1490" y="1133"/>
                                <a:pt x="1467" y="1320"/>
                              </a:cubicBezTo>
                              <a:cubicBezTo>
                                <a:pt x="1444" y="1507"/>
                                <a:pt x="1417" y="1690"/>
                                <a:pt x="1307" y="1860"/>
                              </a:cubicBezTo>
                              <a:cubicBezTo>
                                <a:pt x="1257" y="1993"/>
                                <a:pt x="1250" y="2040"/>
                                <a:pt x="1167" y="2120"/>
                              </a:cubicBezTo>
                              <a:cubicBezTo>
                                <a:pt x="1084" y="2200"/>
                                <a:pt x="930" y="2332"/>
                                <a:pt x="807" y="2339"/>
                              </a:cubicBezTo>
                              <a:cubicBezTo>
                                <a:pt x="684" y="2346"/>
                                <a:pt x="534" y="2260"/>
                                <a:pt x="427" y="2160"/>
                              </a:cubicBezTo>
                              <a:cubicBezTo>
                                <a:pt x="320" y="2060"/>
                                <a:pt x="234" y="1903"/>
                                <a:pt x="167" y="1740"/>
                              </a:cubicBezTo>
                              <a:cubicBezTo>
                                <a:pt x="100" y="1577"/>
                                <a:pt x="50" y="1360"/>
                                <a:pt x="27" y="1180"/>
                              </a:cubicBezTo>
                              <a:cubicBezTo>
                                <a:pt x="7" y="1017"/>
                                <a:pt x="0" y="810"/>
                                <a:pt x="27" y="660"/>
                              </a:cubicBezTo>
                              <a:cubicBezTo>
                                <a:pt x="54" y="510"/>
                                <a:pt x="104" y="383"/>
                                <a:pt x="187" y="280"/>
                              </a:cubicBezTo>
                              <a:cubicBezTo>
                                <a:pt x="270" y="177"/>
                                <a:pt x="384" y="80"/>
                                <a:pt x="527" y="40"/>
                              </a:cubicBezTo>
                              <a:cubicBezTo>
                                <a:pt x="670" y="0"/>
                                <a:pt x="913" y="6"/>
                                <a:pt x="1047" y="40"/>
                              </a:cubicBezTo>
                              <a:cubicBezTo>
                                <a:pt x="1181" y="74"/>
                                <a:pt x="1297" y="128"/>
                                <a:pt x="1332" y="244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8" name="Freeform 314"/>
                        <p:cNvSpPr/>
                        <p:nvPr/>
                      </p:nvSpPr>
                      <p:spPr>
                        <a:xfrm rot="21274200">
                          <a:off x="1806120" y="1397520"/>
                          <a:ext cx="153360" cy="106920"/>
                        </a:xfrm>
                        <a:custGeom>
                          <a:avLst/>
                          <a:gdLst>
                            <a:gd name="textAreaLeft" fmla="*/ 0 w 153360"/>
                            <a:gd name="textAreaRight" fmla="*/ 153720 w 153360"/>
                            <a:gd name="textAreaTop" fmla="*/ 0 h 106920"/>
                            <a:gd name="textAreaBottom" fmla="*/ 107280 h 106920"/>
                          </a:gdLst>
                          <a:ahLst/>
                          <a:rect l="textAreaLeft" t="textAreaTop" r="textAreaRight" b="textAreaBottom"/>
                          <a:pathLst>
                            <a:path w="906" h="669">
                              <a:moveTo>
                                <a:pt x="906" y="161"/>
                              </a:moveTo>
                              <a:cubicBezTo>
                                <a:pt x="905" y="122"/>
                                <a:pt x="803" y="50"/>
                                <a:pt x="732" y="27"/>
                              </a:cubicBezTo>
                              <a:cubicBezTo>
                                <a:pt x="660" y="3"/>
                                <a:pt x="553" y="0"/>
                                <a:pt x="477" y="17"/>
                              </a:cubicBezTo>
                              <a:cubicBezTo>
                                <a:pt x="389" y="22"/>
                                <a:pt x="332" y="88"/>
                                <a:pt x="278" y="133"/>
                              </a:cubicBezTo>
                              <a:cubicBezTo>
                                <a:pt x="227" y="186"/>
                                <a:pt x="150" y="273"/>
                                <a:pt x="125" y="327"/>
                              </a:cubicBezTo>
                              <a:cubicBezTo>
                                <a:pt x="89" y="379"/>
                                <a:pt x="65" y="391"/>
                                <a:pt x="64" y="443"/>
                              </a:cubicBezTo>
                              <a:cubicBezTo>
                                <a:pt x="0" y="504"/>
                                <a:pt x="101" y="600"/>
                                <a:pt x="111" y="641"/>
                              </a:cubicBezTo>
                              <a:cubicBezTo>
                                <a:pt x="178" y="669"/>
                                <a:pt x="352" y="659"/>
                                <a:pt x="464" y="611"/>
                              </a:cubicBezTo>
                              <a:cubicBezTo>
                                <a:pt x="576" y="563"/>
                                <a:pt x="710" y="426"/>
                                <a:pt x="784" y="351"/>
                              </a:cubicBezTo>
                              <a:cubicBezTo>
                                <a:pt x="858" y="276"/>
                                <a:pt x="881" y="201"/>
                                <a:pt x="906" y="161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333333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39" name="Freeform 315"/>
                      <p:cNvSpPr/>
                      <p:nvPr/>
                    </p:nvSpPr>
                    <p:spPr>
                      <a:xfrm rot="20497200">
                        <a:off x="1330560" y="1182960"/>
                        <a:ext cx="315360" cy="363960"/>
                      </a:xfrm>
                      <a:custGeom>
                        <a:avLst/>
                        <a:gdLst>
                          <a:gd name="textAreaLeft" fmla="*/ 0 w 315360"/>
                          <a:gd name="textAreaRight" fmla="*/ 315720 w 315360"/>
                          <a:gd name="textAreaTop" fmla="*/ 0 h 363960"/>
                          <a:gd name="textAreaBottom" fmla="*/ 364320 h 363960"/>
                        </a:gdLst>
                        <a:ahLst/>
                        <a:rect l="textAreaLeft" t="textAreaTop" r="textAreaRight" b="textAreaBottom"/>
                        <a:pathLst>
                          <a:path w="1278" h="1733">
                            <a:moveTo>
                              <a:pt x="831" y="1642"/>
                            </a:moveTo>
                            <a:cubicBezTo>
                              <a:pt x="872" y="1667"/>
                              <a:pt x="889" y="1733"/>
                              <a:pt x="955" y="1717"/>
                            </a:cubicBezTo>
                            <a:cubicBezTo>
                              <a:pt x="1020" y="1701"/>
                              <a:pt x="1178" y="1610"/>
                              <a:pt x="1228" y="1547"/>
                            </a:cubicBezTo>
                            <a:cubicBezTo>
                              <a:pt x="1278" y="1484"/>
                              <a:pt x="1265" y="1431"/>
                              <a:pt x="1256" y="1340"/>
                            </a:cubicBezTo>
                            <a:cubicBezTo>
                              <a:pt x="1247" y="1249"/>
                              <a:pt x="1183" y="1110"/>
                              <a:pt x="1176" y="1000"/>
                            </a:cubicBezTo>
                            <a:cubicBezTo>
                              <a:pt x="1169" y="890"/>
                              <a:pt x="1223" y="795"/>
                              <a:pt x="1216" y="680"/>
                            </a:cubicBezTo>
                            <a:cubicBezTo>
                              <a:pt x="1209" y="565"/>
                              <a:pt x="1230" y="421"/>
                              <a:pt x="1134" y="309"/>
                            </a:cubicBezTo>
                            <a:cubicBezTo>
                              <a:pt x="1038" y="197"/>
                              <a:pt x="812" y="0"/>
                              <a:pt x="638" y="7"/>
                            </a:cubicBezTo>
                            <a:cubicBezTo>
                              <a:pt x="464" y="13"/>
                              <a:pt x="180" y="185"/>
                              <a:pt x="90" y="347"/>
                            </a:cubicBezTo>
                            <a:cubicBezTo>
                              <a:pt x="0" y="509"/>
                              <a:pt x="55" y="815"/>
                              <a:pt x="96" y="980"/>
                            </a:cubicBezTo>
                            <a:cubicBezTo>
                              <a:pt x="137" y="1145"/>
                              <a:pt x="233" y="1243"/>
                              <a:pt x="335" y="1340"/>
                            </a:cubicBezTo>
                            <a:cubicBezTo>
                              <a:pt x="437" y="1437"/>
                              <a:pt x="624" y="1516"/>
                              <a:pt x="707" y="1566"/>
                            </a:cubicBezTo>
                            <a:cubicBezTo>
                              <a:pt x="789" y="1616"/>
                              <a:pt x="789" y="1616"/>
                              <a:pt x="831" y="1642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ffcc"/>
                          </a:gs>
                          <a:gs pos="50000">
                            <a:srgbClr val="008000"/>
                          </a:gs>
                          <a:gs pos="100000">
                            <a:srgbClr val="ccffcc"/>
                          </a:gs>
                        </a:gsLst>
                        <a:lin ang="3804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Freeform 316"/>
                      <p:cNvSpPr/>
                      <p:nvPr/>
                    </p:nvSpPr>
                    <p:spPr>
                      <a:xfrm rot="224400">
                        <a:off x="1940400" y="1240560"/>
                        <a:ext cx="75960" cy="119520"/>
                      </a:xfrm>
                      <a:custGeom>
                        <a:avLst/>
                        <a:gdLst>
                          <a:gd name="textAreaLeft" fmla="*/ 0 w 75960"/>
                          <a:gd name="textAreaRight" fmla="*/ 76320 w 75960"/>
                          <a:gd name="textAreaTop" fmla="*/ 0 h 119520"/>
                          <a:gd name="textAreaBottom" fmla="*/ 119880 h 119520"/>
                        </a:gdLst>
                        <a:ahLst/>
                        <a:rect l="textAreaLeft" t="textAreaTop" r="textAreaRight" b="textAreaBottom"/>
                        <a:pathLst>
                          <a:path w="840" h="1890">
                            <a:moveTo>
                              <a:pt x="810" y="1830"/>
                            </a:moveTo>
                            <a:cubicBezTo>
                              <a:pt x="780" y="1890"/>
                              <a:pt x="180" y="840"/>
                              <a:pt x="90" y="570"/>
                            </a:cubicBezTo>
                            <a:cubicBezTo>
                              <a:pt x="0" y="300"/>
                              <a:pt x="150" y="0"/>
                              <a:pt x="270" y="210"/>
                            </a:cubicBezTo>
                            <a:cubicBezTo>
                              <a:pt x="390" y="420"/>
                              <a:pt x="840" y="1770"/>
                              <a:pt x="810" y="1830"/>
                            </a:cubicBezTo>
                            <a:close/>
                          </a:path>
                        </a:pathLst>
                      </a:custGeom>
                      <a:solidFill>
                        <a:srgbClr val="333333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Freeform 317"/>
                      <p:cNvSpPr/>
                      <p:nvPr/>
                    </p:nvSpPr>
                    <p:spPr>
                      <a:xfrm rot="224400">
                        <a:off x="1757160" y="1153800"/>
                        <a:ext cx="76320" cy="119520"/>
                      </a:xfrm>
                      <a:custGeom>
                        <a:avLst/>
                        <a:gdLst>
                          <a:gd name="textAreaLeft" fmla="*/ 0 w 76320"/>
                          <a:gd name="textAreaRight" fmla="*/ 76680 w 76320"/>
                          <a:gd name="textAreaTop" fmla="*/ 0 h 119520"/>
                          <a:gd name="textAreaBottom" fmla="*/ 119880 h 119520"/>
                        </a:gdLst>
                        <a:ahLst/>
                        <a:rect l="textAreaLeft" t="textAreaTop" r="textAreaRight" b="textAreaBottom"/>
                        <a:pathLst>
                          <a:path w="840" h="1890">
                            <a:moveTo>
                              <a:pt x="810" y="1830"/>
                            </a:moveTo>
                            <a:cubicBezTo>
                              <a:pt x="780" y="1890"/>
                              <a:pt x="180" y="840"/>
                              <a:pt x="90" y="570"/>
                            </a:cubicBezTo>
                            <a:cubicBezTo>
                              <a:pt x="0" y="300"/>
                              <a:pt x="150" y="0"/>
                              <a:pt x="270" y="210"/>
                            </a:cubicBezTo>
                            <a:cubicBezTo>
                              <a:pt x="390" y="420"/>
                              <a:pt x="840" y="1770"/>
                              <a:pt x="810" y="1830"/>
                            </a:cubicBezTo>
                            <a:close/>
                          </a:path>
                        </a:pathLst>
                      </a:custGeom>
                      <a:solidFill>
                        <a:srgbClr val="333333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42" name="Group 318"/>
                      <p:cNvGrpSpPr/>
                      <p:nvPr/>
                    </p:nvGrpSpPr>
                    <p:grpSpPr>
                      <a:xfrm>
                        <a:off x="1627560" y="1759680"/>
                        <a:ext cx="69480" cy="41760"/>
                        <a:chOff x="1627560" y="1759680"/>
                        <a:chExt cx="69480" cy="41760"/>
                      </a:xfrm>
                    </p:grpSpPr>
                    <p:sp>
                      <p:nvSpPr>
                        <p:cNvPr id="443" name="Line 319"/>
                        <p:cNvSpPr/>
                        <p:nvPr/>
                      </p:nvSpPr>
                      <p:spPr>
                        <a:xfrm flipH="1">
                          <a:off x="1627560" y="1766520"/>
                          <a:ext cx="67680" cy="349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Line 320"/>
                        <p:cNvSpPr/>
                        <p:nvPr/>
                      </p:nvSpPr>
                      <p:spPr>
                        <a:xfrm flipV="1">
                          <a:off x="1627920" y="1759680"/>
                          <a:ext cx="69120" cy="41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040" bIns="-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Line 321"/>
                        <p:cNvSpPr/>
                        <p:nvPr/>
                      </p:nvSpPr>
                      <p:spPr>
                        <a:xfrm flipH="1">
                          <a:off x="1695600" y="1759680"/>
                          <a:ext cx="1440" cy="6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6" name="Group 322"/>
                      <p:cNvGrpSpPr/>
                      <p:nvPr/>
                    </p:nvGrpSpPr>
                    <p:grpSpPr>
                      <a:xfrm>
                        <a:off x="1608120" y="1668600"/>
                        <a:ext cx="70200" cy="51840"/>
                        <a:chOff x="1608120" y="1668600"/>
                        <a:chExt cx="70200" cy="51840"/>
                      </a:xfrm>
                    </p:grpSpPr>
                    <p:sp>
                      <p:nvSpPr>
                        <p:cNvPr id="447" name="Line 323"/>
                        <p:cNvSpPr/>
                        <p:nvPr/>
                      </p:nvSpPr>
                      <p:spPr>
                        <a:xfrm flipH="1" flipV="1">
                          <a:off x="1608120" y="1668600"/>
                          <a:ext cx="63360" cy="514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Line 324"/>
                        <p:cNvSpPr/>
                        <p:nvPr/>
                      </p:nvSpPr>
                      <p:spPr>
                        <a:xfrm>
                          <a:off x="1608120" y="1668600"/>
                          <a:ext cx="70200" cy="478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Line 325"/>
                        <p:cNvSpPr/>
                        <p:nvPr/>
                      </p:nvSpPr>
                      <p:spPr>
                        <a:xfrm flipH="1">
                          <a:off x="1671120" y="1716840"/>
                          <a:ext cx="6840" cy="36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0" name="Group 326"/>
                      <p:cNvGrpSpPr/>
                      <p:nvPr/>
                    </p:nvGrpSpPr>
                    <p:grpSpPr>
                      <a:xfrm>
                        <a:off x="1756800" y="1554480"/>
                        <a:ext cx="5400" cy="104040"/>
                        <a:chOff x="1756800" y="1554480"/>
                        <a:chExt cx="5400" cy="104040"/>
                      </a:xfrm>
                    </p:grpSpPr>
                    <p:sp>
                      <p:nvSpPr>
                        <p:cNvPr id="451" name="Line 327"/>
                        <p:cNvSpPr/>
                        <p:nvPr/>
                      </p:nvSpPr>
                      <p:spPr>
                        <a:xfrm flipV="1">
                          <a:off x="1757160" y="1554480"/>
                          <a:ext cx="2880" cy="96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2" name="Line 328"/>
                        <p:cNvSpPr/>
                        <p:nvPr/>
                      </p:nvSpPr>
                      <p:spPr>
                        <a:xfrm>
                          <a:off x="1759680" y="1554480"/>
                          <a:ext cx="2520" cy="1040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Line 329"/>
                        <p:cNvSpPr/>
                        <p:nvPr/>
                      </p:nvSpPr>
                      <p:spPr>
                        <a:xfrm flipH="1" flipV="1">
                          <a:off x="1756800" y="1650960"/>
                          <a:ext cx="5400" cy="72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0" bIns="-39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4" name="Group 330"/>
                      <p:cNvGrpSpPr/>
                      <p:nvPr/>
                    </p:nvGrpSpPr>
                    <p:grpSpPr>
                      <a:xfrm>
                        <a:off x="1848960" y="1527840"/>
                        <a:ext cx="30600" cy="86400"/>
                        <a:chOff x="1848960" y="1527840"/>
                        <a:chExt cx="30600" cy="86400"/>
                      </a:xfrm>
                    </p:grpSpPr>
                    <p:sp>
                      <p:nvSpPr>
                        <p:cNvPr id="455" name="Line 331"/>
                        <p:cNvSpPr/>
                        <p:nvPr/>
                      </p:nvSpPr>
                      <p:spPr>
                        <a:xfrm flipV="1">
                          <a:off x="1849320" y="1527840"/>
                          <a:ext cx="30240" cy="78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040" bIns="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6" name="Line 332"/>
                        <p:cNvSpPr/>
                        <p:nvPr/>
                      </p:nvSpPr>
                      <p:spPr>
                        <a:xfrm flipH="1">
                          <a:off x="1852200" y="1528200"/>
                          <a:ext cx="27000" cy="860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240" bIns="39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7" name="Line 333"/>
                        <p:cNvSpPr/>
                        <p:nvPr/>
                      </p:nvSpPr>
                      <p:spPr>
                        <a:xfrm flipH="1" flipV="1">
                          <a:off x="1848960" y="1607040"/>
                          <a:ext cx="3240" cy="72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0" bIns="-39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8" name="Group 334"/>
                      <p:cNvGrpSpPr/>
                      <p:nvPr/>
                    </p:nvGrpSpPr>
                    <p:grpSpPr>
                      <a:xfrm>
                        <a:off x="1756440" y="1759320"/>
                        <a:ext cx="30240" cy="75600"/>
                        <a:chOff x="1756440" y="1759320"/>
                        <a:chExt cx="30240" cy="75600"/>
                      </a:xfrm>
                    </p:grpSpPr>
                    <p:sp>
                      <p:nvSpPr>
                        <p:cNvPr id="459" name="Line 335"/>
                        <p:cNvSpPr/>
                        <p:nvPr/>
                      </p:nvSpPr>
                      <p:spPr>
                        <a:xfrm>
                          <a:off x="1762560" y="1762200"/>
                          <a:ext cx="24120" cy="72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Line 336"/>
                        <p:cNvSpPr/>
                        <p:nvPr/>
                      </p:nvSpPr>
                      <p:spPr>
                        <a:xfrm flipH="1" flipV="1">
                          <a:off x="1756440" y="1759320"/>
                          <a:ext cx="30240" cy="756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0" bIns="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1" name="Line 337"/>
                        <p:cNvSpPr/>
                        <p:nvPr/>
                      </p:nvSpPr>
                      <p:spPr>
                        <a:xfrm>
                          <a:off x="1756440" y="1759680"/>
                          <a:ext cx="6480" cy="25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2" name="Group 338"/>
                      <p:cNvGrpSpPr/>
                      <p:nvPr/>
                    </p:nvGrpSpPr>
                    <p:grpSpPr>
                      <a:xfrm>
                        <a:off x="1831680" y="1682280"/>
                        <a:ext cx="52920" cy="67320"/>
                        <a:chOff x="1831680" y="1682280"/>
                        <a:chExt cx="52920" cy="67320"/>
                      </a:xfrm>
                    </p:grpSpPr>
                    <p:sp>
                      <p:nvSpPr>
                        <p:cNvPr id="463" name="Line 339"/>
                        <p:cNvSpPr/>
                        <p:nvPr/>
                      </p:nvSpPr>
                      <p:spPr>
                        <a:xfrm>
                          <a:off x="1838880" y="1684080"/>
                          <a:ext cx="45720" cy="655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720" bIns="18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4" name="Line 340"/>
                        <p:cNvSpPr/>
                        <p:nvPr/>
                      </p:nvSpPr>
                      <p:spPr>
                        <a:xfrm flipH="1" flipV="1">
                          <a:off x="1832040" y="1682280"/>
                          <a:ext cx="52560" cy="666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9800" bIns="19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5" name="Line 341"/>
                        <p:cNvSpPr/>
                        <p:nvPr/>
                      </p:nvSpPr>
                      <p:spPr>
                        <a:xfrm>
                          <a:off x="1831680" y="1682640"/>
                          <a:ext cx="6840" cy="10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6" name="Group 342"/>
                      <p:cNvGrpSpPr/>
                      <p:nvPr/>
                    </p:nvGrpSpPr>
                    <p:grpSpPr>
                      <a:xfrm>
                        <a:off x="1893960" y="1656720"/>
                        <a:ext cx="79560" cy="33480"/>
                        <a:chOff x="1893960" y="1656720"/>
                        <a:chExt cx="79560" cy="33480"/>
                      </a:xfrm>
                    </p:grpSpPr>
                    <p:sp>
                      <p:nvSpPr>
                        <p:cNvPr id="467" name="Line 343"/>
                        <p:cNvSpPr/>
                        <p:nvPr/>
                      </p:nvSpPr>
                      <p:spPr>
                        <a:xfrm>
                          <a:off x="1900800" y="1656720"/>
                          <a:ext cx="72720" cy="334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8" name="Line 344"/>
                        <p:cNvSpPr/>
                        <p:nvPr/>
                      </p:nvSpPr>
                      <p:spPr>
                        <a:xfrm flipH="1" flipV="1">
                          <a:off x="1893960" y="1658520"/>
                          <a:ext cx="79560" cy="31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480" bIns="-15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9" name="Line 345"/>
                        <p:cNvSpPr/>
                        <p:nvPr/>
                      </p:nvSpPr>
                      <p:spPr>
                        <a:xfrm flipV="1">
                          <a:off x="1893960" y="1656720"/>
                          <a:ext cx="6840" cy="21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0" name="Group 346"/>
                      <p:cNvGrpSpPr/>
                      <p:nvPr/>
                    </p:nvGrpSpPr>
                    <p:grpSpPr>
                      <a:xfrm>
                        <a:off x="1144800" y="1501920"/>
                        <a:ext cx="13680" cy="81720"/>
                        <a:chOff x="1144800" y="1501920"/>
                        <a:chExt cx="13680" cy="81720"/>
                      </a:xfrm>
                    </p:grpSpPr>
                    <p:sp>
                      <p:nvSpPr>
                        <p:cNvPr id="471" name="Line 347"/>
                        <p:cNvSpPr/>
                        <p:nvPr/>
                      </p:nvSpPr>
                      <p:spPr>
                        <a:xfrm flipH="1" flipV="1">
                          <a:off x="1144800" y="1501920"/>
                          <a:ext cx="5760" cy="799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120" bIns="33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2" name="Line 348"/>
                        <p:cNvSpPr/>
                        <p:nvPr/>
                      </p:nvSpPr>
                      <p:spPr>
                        <a:xfrm>
                          <a:off x="1144800" y="1502280"/>
                          <a:ext cx="13320" cy="813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560" bIns="34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3" name="Line 349"/>
                        <p:cNvSpPr/>
                        <p:nvPr/>
                      </p:nvSpPr>
                      <p:spPr>
                        <a:xfrm flipH="1" flipV="1">
                          <a:off x="1150920" y="1582200"/>
                          <a:ext cx="7560" cy="14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4" name="Group 350"/>
                      <p:cNvGrpSpPr/>
                      <p:nvPr/>
                    </p:nvGrpSpPr>
                    <p:grpSpPr>
                      <a:xfrm>
                        <a:off x="1050120" y="1661400"/>
                        <a:ext cx="84960" cy="8280"/>
                        <a:chOff x="1050120" y="1661400"/>
                        <a:chExt cx="84960" cy="8280"/>
                      </a:xfrm>
                    </p:grpSpPr>
                    <p:sp>
                      <p:nvSpPr>
                        <p:cNvPr id="475" name="Line 351"/>
                        <p:cNvSpPr/>
                        <p:nvPr/>
                      </p:nvSpPr>
                      <p:spPr>
                        <a:xfrm flipH="1" flipV="1">
                          <a:off x="1050120" y="1661400"/>
                          <a:ext cx="81720" cy="79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6" name="Line 352"/>
                        <p:cNvSpPr/>
                        <p:nvPr/>
                      </p:nvSpPr>
                      <p:spPr>
                        <a:xfrm>
                          <a:off x="1050120" y="1661400"/>
                          <a:ext cx="84960" cy="10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Line 353"/>
                        <p:cNvSpPr/>
                        <p:nvPr/>
                      </p:nvSpPr>
                      <p:spPr>
                        <a:xfrm flipH="1">
                          <a:off x="1131480" y="1662840"/>
                          <a:ext cx="3600" cy="6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8" name="Group 354"/>
                      <p:cNvGrpSpPr/>
                      <p:nvPr/>
                    </p:nvGrpSpPr>
                    <p:grpSpPr>
                      <a:xfrm>
                        <a:off x="1096920" y="1751400"/>
                        <a:ext cx="81720" cy="23400"/>
                        <a:chOff x="1096920" y="1751400"/>
                        <a:chExt cx="81720" cy="23400"/>
                      </a:xfrm>
                    </p:grpSpPr>
                    <p:sp>
                      <p:nvSpPr>
                        <p:cNvPr id="479" name="Line 355"/>
                        <p:cNvSpPr/>
                        <p:nvPr/>
                      </p:nvSpPr>
                      <p:spPr>
                        <a:xfrm flipH="1">
                          <a:off x="1096920" y="1758960"/>
                          <a:ext cx="80280" cy="15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0" name="Line 356"/>
                        <p:cNvSpPr/>
                        <p:nvPr/>
                      </p:nvSpPr>
                      <p:spPr>
                        <a:xfrm flipV="1">
                          <a:off x="1096920" y="1751400"/>
                          <a:ext cx="81720" cy="234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1" name="Line 357"/>
                        <p:cNvSpPr/>
                        <p:nvPr/>
                      </p:nvSpPr>
                      <p:spPr>
                        <a:xfrm flipH="1">
                          <a:off x="1177200" y="1752120"/>
                          <a:ext cx="1440" cy="75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2" name="Group 358"/>
                      <p:cNvGrpSpPr/>
                      <p:nvPr/>
                    </p:nvGrpSpPr>
                    <p:grpSpPr>
                      <a:xfrm>
                        <a:off x="1180800" y="1785240"/>
                        <a:ext cx="39960" cy="75240"/>
                        <a:chOff x="1180800" y="1785240"/>
                        <a:chExt cx="39960" cy="75240"/>
                      </a:xfrm>
                    </p:grpSpPr>
                    <p:sp>
                      <p:nvSpPr>
                        <p:cNvPr id="483" name="Line 359"/>
                        <p:cNvSpPr/>
                        <p:nvPr/>
                      </p:nvSpPr>
                      <p:spPr>
                        <a:xfrm flipH="1">
                          <a:off x="1180800" y="1791000"/>
                          <a:ext cx="39960" cy="694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680" bIns="22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4" name="Line 360"/>
                        <p:cNvSpPr/>
                        <p:nvPr/>
                      </p:nvSpPr>
                      <p:spPr>
                        <a:xfrm flipV="1">
                          <a:off x="1181160" y="1785240"/>
                          <a:ext cx="34200" cy="748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080" bIns="28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5" name="Line 361"/>
                        <p:cNvSpPr/>
                        <p:nvPr/>
                      </p:nvSpPr>
                      <p:spPr>
                        <a:xfrm>
                          <a:off x="1215000" y="1785240"/>
                          <a:ext cx="5760" cy="54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400" bIns="-41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6" name="Group 362"/>
                      <p:cNvGrpSpPr/>
                      <p:nvPr/>
                    </p:nvGrpSpPr>
                    <p:grpSpPr>
                      <a:xfrm>
                        <a:off x="1288800" y="1771200"/>
                        <a:ext cx="34560" cy="78480"/>
                        <a:chOff x="1288800" y="1771200"/>
                        <a:chExt cx="34560" cy="78480"/>
                      </a:xfrm>
                    </p:grpSpPr>
                    <p:sp>
                      <p:nvSpPr>
                        <p:cNvPr id="487" name="Line 363"/>
                        <p:cNvSpPr/>
                        <p:nvPr/>
                      </p:nvSpPr>
                      <p:spPr>
                        <a:xfrm>
                          <a:off x="1296720" y="1771560"/>
                          <a:ext cx="26640" cy="781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8" name="Line 364"/>
                        <p:cNvSpPr/>
                        <p:nvPr/>
                      </p:nvSpPr>
                      <p:spPr>
                        <a:xfrm flipH="1" flipV="1">
                          <a:off x="1288800" y="1771200"/>
                          <a:ext cx="34200" cy="781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9" name="Line 365"/>
                        <p:cNvSpPr/>
                        <p:nvPr/>
                      </p:nvSpPr>
                      <p:spPr>
                        <a:xfrm>
                          <a:off x="1289160" y="1771200"/>
                          <a:ext cx="7920" cy="3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0" name="Group 366"/>
                      <p:cNvGrpSpPr/>
                      <p:nvPr/>
                    </p:nvGrpSpPr>
                    <p:grpSpPr>
                      <a:xfrm>
                        <a:off x="1279800" y="1475280"/>
                        <a:ext cx="137880" cy="86400"/>
                        <a:chOff x="1279800" y="1475280"/>
                        <a:chExt cx="137880" cy="86400"/>
                      </a:xfrm>
                    </p:grpSpPr>
                    <p:sp>
                      <p:nvSpPr>
                        <p:cNvPr id="491" name="Line 367"/>
                        <p:cNvSpPr/>
                        <p:nvPr/>
                      </p:nvSpPr>
                      <p:spPr>
                        <a:xfrm flipH="1" flipV="1">
                          <a:off x="1279800" y="1475280"/>
                          <a:ext cx="124200" cy="860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240" bIns="39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2" name="Line 368"/>
                        <p:cNvSpPr/>
                        <p:nvPr/>
                      </p:nvSpPr>
                      <p:spPr>
                        <a:xfrm>
                          <a:off x="1279800" y="1475280"/>
                          <a:ext cx="137880" cy="82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000" bIns="36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3" name="Line 369"/>
                        <p:cNvSpPr/>
                        <p:nvPr/>
                      </p:nvSpPr>
                      <p:spPr>
                        <a:xfrm flipH="1">
                          <a:off x="1403640" y="1558440"/>
                          <a:ext cx="13320" cy="32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4" name="Group 370"/>
                      <p:cNvGrpSpPr/>
                      <p:nvPr/>
                    </p:nvGrpSpPr>
                    <p:grpSpPr>
                      <a:xfrm>
                        <a:off x="1342440" y="1853280"/>
                        <a:ext cx="122760" cy="92880"/>
                        <a:chOff x="1342440" y="1853280"/>
                        <a:chExt cx="122760" cy="92880"/>
                      </a:xfrm>
                    </p:grpSpPr>
                    <p:sp>
                      <p:nvSpPr>
                        <p:cNvPr id="495" name="Line 371"/>
                        <p:cNvSpPr/>
                        <p:nvPr/>
                      </p:nvSpPr>
                      <p:spPr>
                        <a:xfrm flipH="1">
                          <a:off x="1342440" y="1866600"/>
                          <a:ext cx="121680" cy="792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0" bIns="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6" name="Line 372"/>
                        <p:cNvSpPr/>
                        <p:nvPr/>
                      </p:nvSpPr>
                      <p:spPr>
                        <a:xfrm flipV="1">
                          <a:off x="1342800" y="1853280"/>
                          <a:ext cx="122400" cy="928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080" bIns="46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Line 373"/>
                        <p:cNvSpPr/>
                        <p:nvPr/>
                      </p:nvSpPr>
                      <p:spPr>
                        <a:xfrm flipH="1">
                          <a:off x="1463760" y="1853640"/>
                          <a:ext cx="1080" cy="13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8" name="Group 374"/>
                      <p:cNvGrpSpPr/>
                      <p:nvPr/>
                    </p:nvGrpSpPr>
                    <p:grpSpPr>
                      <a:xfrm>
                        <a:off x="1439640" y="1146960"/>
                        <a:ext cx="7560" cy="83160"/>
                        <a:chOff x="1439640" y="1146960"/>
                        <a:chExt cx="7560" cy="83160"/>
                      </a:xfrm>
                    </p:grpSpPr>
                    <p:sp>
                      <p:nvSpPr>
                        <p:cNvPr id="499" name="Line 375"/>
                        <p:cNvSpPr/>
                        <p:nvPr/>
                      </p:nvSpPr>
                      <p:spPr>
                        <a:xfrm flipV="1">
                          <a:off x="1439640" y="1146960"/>
                          <a:ext cx="7560" cy="799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120" bIns="33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0" name="Line 376"/>
                        <p:cNvSpPr/>
                        <p:nvPr/>
                      </p:nvSpPr>
                      <p:spPr>
                        <a:xfrm flipH="1">
                          <a:off x="1446480" y="1147680"/>
                          <a:ext cx="720" cy="824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5640" bIns="35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1" name="Line 377"/>
                        <p:cNvSpPr/>
                        <p:nvPr/>
                      </p:nvSpPr>
                      <p:spPr>
                        <a:xfrm flipH="1" flipV="1">
                          <a:off x="1439640" y="1227240"/>
                          <a:ext cx="7200" cy="25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02" name="Group 378"/>
                      <p:cNvGrpSpPr/>
                      <p:nvPr/>
                    </p:nvGrpSpPr>
                    <p:grpSpPr>
                      <a:xfrm>
                        <a:off x="1307520" y="1201680"/>
                        <a:ext cx="62280" cy="60840"/>
                        <a:chOff x="1307520" y="1201680"/>
                        <a:chExt cx="62280" cy="60840"/>
                      </a:xfrm>
                    </p:grpSpPr>
                    <p:sp>
                      <p:nvSpPr>
                        <p:cNvPr id="503" name="Line 379"/>
                        <p:cNvSpPr/>
                        <p:nvPr/>
                      </p:nvSpPr>
                      <p:spPr>
                        <a:xfrm flipH="1" flipV="1">
                          <a:off x="1307520" y="1201680"/>
                          <a:ext cx="55080" cy="60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040" bIns="14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4" name="Line 380"/>
                        <p:cNvSpPr/>
                        <p:nvPr/>
                      </p:nvSpPr>
                      <p:spPr>
                        <a:xfrm>
                          <a:off x="1307520" y="1201680"/>
                          <a:ext cx="62280" cy="579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160" bIns="11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5" name="Line 381"/>
                        <p:cNvSpPr/>
                        <p:nvPr/>
                      </p:nvSpPr>
                      <p:spPr>
                        <a:xfrm flipH="1">
                          <a:off x="1362240" y="1259640"/>
                          <a:ext cx="7200" cy="28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06" name="Group 382"/>
                      <p:cNvGrpSpPr/>
                      <p:nvPr/>
                    </p:nvGrpSpPr>
                    <p:grpSpPr>
                      <a:xfrm>
                        <a:off x="1248480" y="1328040"/>
                        <a:ext cx="85680" cy="13320"/>
                        <a:chOff x="1248480" y="1328040"/>
                        <a:chExt cx="85680" cy="13320"/>
                      </a:xfrm>
                    </p:grpSpPr>
                    <p:sp>
                      <p:nvSpPr>
                        <p:cNvPr id="507" name="Line 383"/>
                        <p:cNvSpPr/>
                        <p:nvPr/>
                      </p:nvSpPr>
                      <p:spPr>
                        <a:xfrm flipH="1" flipV="1">
                          <a:off x="1248480" y="1328040"/>
                          <a:ext cx="81360" cy="129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Line 384"/>
                        <p:cNvSpPr/>
                        <p:nvPr/>
                      </p:nvSpPr>
                      <p:spPr>
                        <a:xfrm>
                          <a:off x="1248840" y="1328040"/>
                          <a:ext cx="85320" cy="61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Line 385"/>
                        <p:cNvSpPr/>
                        <p:nvPr/>
                      </p:nvSpPr>
                      <p:spPr>
                        <a:xfrm flipH="1">
                          <a:off x="1329840" y="1334880"/>
                          <a:ext cx="3960" cy="64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0" name="Group 386"/>
                      <p:cNvGrpSpPr/>
                      <p:nvPr/>
                    </p:nvGrpSpPr>
                    <p:grpSpPr>
                      <a:xfrm>
                        <a:off x="1413720" y="1302480"/>
                        <a:ext cx="63000" cy="60120"/>
                        <a:chOff x="1413720" y="1302480"/>
                        <a:chExt cx="63000" cy="60120"/>
                      </a:xfrm>
                    </p:grpSpPr>
                    <p:sp>
                      <p:nvSpPr>
                        <p:cNvPr id="511" name="Line 387"/>
                        <p:cNvSpPr/>
                        <p:nvPr/>
                      </p:nvSpPr>
                      <p:spPr>
                        <a:xfrm flipH="1" flipV="1">
                          <a:off x="1413720" y="1302480"/>
                          <a:ext cx="55800" cy="601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320" bIns="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2" name="Line 388"/>
                        <p:cNvSpPr/>
                        <p:nvPr/>
                      </p:nvSpPr>
                      <p:spPr>
                        <a:xfrm>
                          <a:off x="1413720" y="1302480"/>
                          <a:ext cx="63000" cy="572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Line 389"/>
                        <p:cNvSpPr/>
                        <p:nvPr/>
                      </p:nvSpPr>
                      <p:spPr>
                        <a:xfrm flipH="1">
                          <a:off x="1469160" y="1359720"/>
                          <a:ext cx="7200" cy="28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4" name="Group 390"/>
                      <p:cNvGrpSpPr/>
                      <p:nvPr/>
                    </p:nvGrpSpPr>
                    <p:grpSpPr>
                      <a:xfrm>
                        <a:off x="2077920" y="1381320"/>
                        <a:ext cx="79920" cy="23040"/>
                        <a:chOff x="2077920" y="1381320"/>
                        <a:chExt cx="79920" cy="23040"/>
                      </a:xfrm>
                    </p:grpSpPr>
                    <p:sp>
                      <p:nvSpPr>
                        <p:cNvPr id="515" name="Line 391"/>
                        <p:cNvSpPr/>
                        <p:nvPr/>
                      </p:nvSpPr>
                      <p:spPr>
                        <a:xfrm flipV="1">
                          <a:off x="2079000" y="1381320"/>
                          <a:ext cx="78840" cy="151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6" name="Line 392"/>
                        <p:cNvSpPr/>
                        <p:nvPr/>
                      </p:nvSpPr>
                      <p:spPr>
                        <a:xfrm flipH="1">
                          <a:off x="2077920" y="1381320"/>
                          <a:ext cx="79200" cy="226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Line 393"/>
                        <p:cNvSpPr/>
                        <p:nvPr/>
                      </p:nvSpPr>
                      <p:spPr>
                        <a:xfrm flipV="1">
                          <a:off x="2078280" y="1396800"/>
                          <a:ext cx="360" cy="75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8" name="Group 394"/>
                      <p:cNvGrpSpPr/>
                      <p:nvPr/>
                    </p:nvGrpSpPr>
                    <p:grpSpPr>
                      <a:xfrm>
                        <a:off x="2050560" y="1228320"/>
                        <a:ext cx="73080" cy="40680"/>
                        <a:chOff x="2050560" y="1228320"/>
                        <a:chExt cx="73080" cy="40680"/>
                      </a:xfrm>
                    </p:grpSpPr>
                    <p:sp>
                      <p:nvSpPr>
                        <p:cNvPr id="519" name="Line 395"/>
                        <p:cNvSpPr/>
                        <p:nvPr/>
                      </p:nvSpPr>
                      <p:spPr>
                        <a:xfrm flipV="1">
                          <a:off x="2050560" y="1228320"/>
                          <a:ext cx="73080" cy="331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680" bIns="-13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Line 396"/>
                        <p:cNvSpPr/>
                        <p:nvPr/>
                      </p:nvSpPr>
                      <p:spPr>
                        <a:xfrm flipH="1">
                          <a:off x="2051640" y="1228680"/>
                          <a:ext cx="71640" cy="40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480" bIns="-6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1" name="Line 397"/>
                        <p:cNvSpPr/>
                        <p:nvPr/>
                      </p:nvSpPr>
                      <p:spPr>
                        <a:xfrm flipH="1" flipV="1">
                          <a:off x="2050560" y="1261440"/>
                          <a:ext cx="1080" cy="75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22" name="Group 398"/>
                      <p:cNvGrpSpPr/>
                      <p:nvPr/>
                    </p:nvGrpSpPr>
                    <p:grpSpPr>
                      <a:xfrm>
                        <a:off x="1963080" y="1133640"/>
                        <a:ext cx="63720" cy="56160"/>
                        <a:chOff x="1963080" y="1133640"/>
                        <a:chExt cx="63720" cy="56160"/>
                      </a:xfrm>
                    </p:grpSpPr>
                    <p:sp>
                      <p:nvSpPr>
                        <p:cNvPr id="523" name="Line 399"/>
                        <p:cNvSpPr/>
                        <p:nvPr/>
                      </p:nvSpPr>
                      <p:spPr>
                        <a:xfrm flipV="1">
                          <a:off x="1963440" y="1133640"/>
                          <a:ext cx="63360" cy="489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" bIns="2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4" name="Line 400"/>
                        <p:cNvSpPr/>
                        <p:nvPr/>
                      </p:nvSpPr>
                      <p:spPr>
                        <a:xfrm flipH="1">
                          <a:off x="1965960" y="1134000"/>
                          <a:ext cx="60480" cy="55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5" name="Line 401"/>
                        <p:cNvSpPr/>
                        <p:nvPr/>
                      </p:nvSpPr>
                      <p:spPr>
                        <a:xfrm flipH="1" flipV="1">
                          <a:off x="1963080" y="1182960"/>
                          <a:ext cx="3240" cy="6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26" name="Group 402"/>
                      <p:cNvGrpSpPr/>
                      <p:nvPr/>
                    </p:nvGrpSpPr>
                    <p:grpSpPr>
                      <a:xfrm>
                        <a:off x="1741680" y="1062000"/>
                        <a:ext cx="20520" cy="80280"/>
                        <a:chOff x="1741680" y="1062000"/>
                        <a:chExt cx="20520" cy="80280"/>
                      </a:xfrm>
                    </p:grpSpPr>
                    <p:sp>
                      <p:nvSpPr>
                        <p:cNvPr id="527" name="Line 403"/>
                        <p:cNvSpPr/>
                        <p:nvPr/>
                      </p:nvSpPr>
                      <p:spPr>
                        <a:xfrm flipH="1" flipV="1">
                          <a:off x="1741680" y="1062000"/>
                          <a:ext cx="12600" cy="792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0" bIns="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8" name="Line 404"/>
                        <p:cNvSpPr/>
                        <p:nvPr/>
                      </p:nvSpPr>
                      <p:spPr>
                        <a:xfrm>
                          <a:off x="1741680" y="1062360"/>
                          <a:ext cx="20160" cy="799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120" bIns="33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9" name="Line 405"/>
                        <p:cNvSpPr/>
                        <p:nvPr/>
                      </p:nvSpPr>
                      <p:spPr>
                        <a:xfrm flipH="1" flipV="1">
                          <a:off x="1754640" y="1141200"/>
                          <a:ext cx="7560" cy="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080" bIns="-46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30" name="AutoShape 406"/>
                    <p:cNvSpPr/>
                    <p:nvPr/>
                  </p:nvSpPr>
                  <p:spPr>
                    <a:xfrm rot="16599600">
                      <a:off x="1545480" y="1493280"/>
                      <a:ext cx="114840" cy="18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000" y="1866"/>
                            <a:pt x="10400" y="5080"/>
                            <a:pt x="10400" y="10800"/>
                          </a:cubicBezTo>
                          <a:cubicBezTo>
                            <a:pt x="10400" y="16520"/>
                            <a:pt x="16000" y="19734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Oval 407"/>
                  <p:cNvSpPr/>
                  <p:nvPr/>
                </p:nvSpPr>
                <p:spPr>
                  <a:xfrm>
                    <a:off x="1923840" y="729720"/>
                    <a:ext cx="108360" cy="108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0982"/>
                      </a:gs>
                      <a:gs pos="100000">
                        <a:srgbClr val="63043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Oval 408"/>
                  <p:cNvSpPr/>
                  <p:nvPr/>
                </p:nvSpPr>
                <p:spPr>
                  <a:xfrm>
                    <a:off x="2276280" y="924480"/>
                    <a:ext cx="122040" cy="114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0982"/>
                      </a:gs>
                      <a:gs pos="100000">
                        <a:srgbClr val="63043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3" name="Rectangle 409"/>
              <p:cNvSpPr/>
              <p:nvPr/>
            </p:nvSpPr>
            <p:spPr>
              <a:xfrm>
                <a:off x="745560" y="487800"/>
                <a:ext cx="1417320" cy="946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Group 275"/>
          <p:cNvGrpSpPr/>
          <p:nvPr/>
        </p:nvGrpSpPr>
        <p:grpSpPr>
          <a:xfrm>
            <a:off x="6724800" y="300240"/>
            <a:ext cx="2242440" cy="2795400"/>
            <a:chOff x="6724800" y="300240"/>
            <a:chExt cx="2242440" cy="2795400"/>
          </a:xfrm>
        </p:grpSpPr>
        <p:grpSp>
          <p:nvGrpSpPr>
            <p:cNvPr id="535" name="Group 276"/>
            <p:cNvGrpSpPr/>
            <p:nvPr/>
          </p:nvGrpSpPr>
          <p:grpSpPr>
            <a:xfrm>
              <a:off x="7054200" y="445680"/>
              <a:ext cx="1815840" cy="2649960"/>
              <a:chOff x="7054200" y="445680"/>
              <a:chExt cx="1815840" cy="2649960"/>
            </a:xfrm>
          </p:grpSpPr>
          <p:sp>
            <p:nvSpPr>
              <p:cNvPr id="536" name="Rectangle 277"/>
              <p:cNvSpPr/>
              <p:nvPr/>
            </p:nvSpPr>
            <p:spPr>
              <a:xfrm>
                <a:off x="7255800" y="445680"/>
                <a:ext cx="1417320" cy="2318760"/>
              </a:xfrm>
              <a:prstGeom prst="rect">
                <a:avLst/>
              </a:prstGeom>
              <a:gradFill rotWithShape="0">
                <a:gsLst>
                  <a:gs pos="0">
                    <a:srgbClr val="b66d00"/>
                  </a:gs>
                  <a:gs pos="50000">
                    <a:srgbClr val="ff9900"/>
                  </a:gs>
                  <a:gs pos="100000">
                    <a:srgbClr val="b66d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278"/>
              <p:cNvSpPr/>
              <p:nvPr/>
            </p:nvSpPr>
            <p:spPr>
              <a:xfrm>
                <a:off x="7342560" y="550800"/>
                <a:ext cx="1243440" cy="211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279"/>
              <p:cNvSpPr/>
              <p:nvPr/>
            </p:nvSpPr>
            <p:spPr>
              <a:xfrm flipV="1">
                <a:off x="7344360" y="2432520"/>
                <a:ext cx="1240200" cy="236520"/>
              </a:xfrm>
              <a:custGeom>
                <a:avLst/>
                <a:gdLst>
                  <a:gd name="textAreaLeft" fmla="*/ 172080 w 1240200"/>
                  <a:gd name="textAreaRight" fmla="*/ 1068120 w 1240200"/>
                  <a:gd name="textAreaTop" fmla="*/ 32760 h 236520"/>
                  <a:gd name="textAreaBottom" fmla="*/ 203760 h 23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395" y="21600"/>
                    </a:lnTo>
                    <a:lnTo>
                      <a:pt x="19205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ffff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280"/>
              <p:cNvSpPr/>
              <p:nvPr/>
            </p:nvSpPr>
            <p:spPr>
              <a:xfrm flipV="1">
                <a:off x="7054200" y="2764440"/>
                <a:ext cx="1815840" cy="283680"/>
              </a:xfrm>
              <a:custGeom>
                <a:avLst/>
                <a:gdLst>
                  <a:gd name="textAreaLeft" fmla="*/ 251640 w 1815840"/>
                  <a:gd name="textAreaRight" fmla="*/ 1564200 w 1815840"/>
                  <a:gd name="textAreaTop" fmla="*/ 39240 h 283680"/>
                  <a:gd name="textAreaBottom" fmla="*/ 244440 h 28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395" y="21600"/>
                    </a:lnTo>
                    <a:lnTo>
                      <a:pt x="19205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6d00"/>
                  </a:gs>
                  <a:gs pos="50000">
                    <a:srgbClr val="ff9900"/>
                  </a:gs>
                  <a:gs pos="100000">
                    <a:srgbClr val="b66d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281"/>
              <p:cNvSpPr/>
              <p:nvPr/>
            </p:nvSpPr>
            <p:spPr>
              <a:xfrm>
                <a:off x="7054200" y="3048480"/>
                <a:ext cx="1815840" cy="47160"/>
              </a:xfrm>
              <a:prstGeom prst="rect">
                <a:avLst/>
              </a:prstGeom>
              <a:gradFill rotWithShape="0">
                <a:gsLst>
                  <a:gs pos="0">
                    <a:srgbClr val="b66d00"/>
                  </a:gs>
                  <a:gs pos="50000">
                    <a:srgbClr val="ff9900"/>
                  </a:gs>
                  <a:gs pos="100000">
                    <a:srgbClr val="b66d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Group 282"/>
            <p:cNvGrpSpPr/>
            <p:nvPr/>
          </p:nvGrpSpPr>
          <p:grpSpPr>
            <a:xfrm>
              <a:off x="6724800" y="300240"/>
              <a:ext cx="2242440" cy="2464200"/>
              <a:chOff x="6724800" y="300240"/>
              <a:chExt cx="2242440" cy="2464200"/>
            </a:xfrm>
          </p:grpSpPr>
          <p:grpSp>
            <p:nvGrpSpPr>
              <p:cNvPr id="542" name="Group 283"/>
              <p:cNvGrpSpPr/>
              <p:nvPr/>
            </p:nvGrpSpPr>
            <p:grpSpPr>
              <a:xfrm>
                <a:off x="6724800" y="300240"/>
                <a:ext cx="1644120" cy="2464200"/>
                <a:chOff x="6724800" y="300240"/>
                <a:chExt cx="1644120" cy="2464200"/>
              </a:xfrm>
            </p:grpSpPr>
            <p:sp>
              <p:nvSpPr>
                <p:cNvPr id="543" name="Freeform 284"/>
                <p:cNvSpPr/>
                <p:nvPr/>
              </p:nvSpPr>
              <p:spPr>
                <a:xfrm>
                  <a:off x="7113960" y="437760"/>
                  <a:ext cx="1254960" cy="2326680"/>
                </a:xfrm>
                <a:custGeom>
                  <a:avLst/>
                  <a:gdLst>
                    <a:gd name="textAreaLeft" fmla="*/ 0 w 1254960"/>
                    <a:gd name="textAreaRight" fmla="*/ 1255320 w 1254960"/>
                    <a:gd name="textAreaTop" fmla="*/ 0 h 2326680"/>
                    <a:gd name="textAreaBottom" fmla="*/ 2327040 h 2326680"/>
                  </a:gdLst>
                  <a:ahLst/>
                  <a:rect l="textAreaLeft" t="textAreaTop" r="textAreaRight" b="textAreaBottom"/>
                  <a:pathLst>
                    <a:path w="5100" h="8850">
                      <a:moveTo>
                        <a:pt x="4710" y="150"/>
                      </a:moveTo>
                      <a:cubicBezTo>
                        <a:pt x="4650" y="0"/>
                        <a:pt x="4620" y="1050"/>
                        <a:pt x="4530" y="1410"/>
                      </a:cubicBezTo>
                      <a:cubicBezTo>
                        <a:pt x="4440" y="1770"/>
                        <a:pt x="4500" y="1890"/>
                        <a:pt x="4170" y="2310"/>
                      </a:cubicBezTo>
                      <a:cubicBezTo>
                        <a:pt x="3840" y="2730"/>
                        <a:pt x="3180" y="3390"/>
                        <a:pt x="2550" y="3930"/>
                      </a:cubicBezTo>
                      <a:cubicBezTo>
                        <a:pt x="1920" y="4470"/>
                        <a:pt x="780" y="5160"/>
                        <a:pt x="390" y="5550"/>
                      </a:cubicBezTo>
                      <a:cubicBezTo>
                        <a:pt x="0" y="5940"/>
                        <a:pt x="180" y="6120"/>
                        <a:pt x="210" y="6270"/>
                      </a:cubicBezTo>
                      <a:cubicBezTo>
                        <a:pt x="240" y="6420"/>
                        <a:pt x="510" y="6330"/>
                        <a:pt x="570" y="6450"/>
                      </a:cubicBezTo>
                      <a:cubicBezTo>
                        <a:pt x="630" y="6570"/>
                        <a:pt x="510" y="6870"/>
                        <a:pt x="570" y="6990"/>
                      </a:cubicBezTo>
                      <a:cubicBezTo>
                        <a:pt x="630" y="7110"/>
                        <a:pt x="990" y="6990"/>
                        <a:pt x="930" y="7170"/>
                      </a:cubicBezTo>
                      <a:cubicBezTo>
                        <a:pt x="870" y="7350"/>
                        <a:pt x="240" y="7860"/>
                        <a:pt x="210" y="8070"/>
                      </a:cubicBezTo>
                      <a:cubicBezTo>
                        <a:pt x="180" y="8280"/>
                        <a:pt x="750" y="8340"/>
                        <a:pt x="750" y="8430"/>
                      </a:cubicBezTo>
                      <a:cubicBezTo>
                        <a:pt x="750" y="8520"/>
                        <a:pt x="210" y="8550"/>
                        <a:pt x="210" y="8610"/>
                      </a:cubicBezTo>
                      <a:cubicBezTo>
                        <a:pt x="210" y="8670"/>
                        <a:pt x="600" y="8850"/>
                        <a:pt x="750" y="8790"/>
                      </a:cubicBezTo>
                      <a:cubicBezTo>
                        <a:pt x="900" y="8730"/>
                        <a:pt x="810" y="8550"/>
                        <a:pt x="1110" y="8250"/>
                      </a:cubicBezTo>
                      <a:cubicBezTo>
                        <a:pt x="1410" y="7950"/>
                        <a:pt x="2160" y="7530"/>
                        <a:pt x="2550" y="6990"/>
                      </a:cubicBezTo>
                      <a:cubicBezTo>
                        <a:pt x="2940" y="6450"/>
                        <a:pt x="3060" y="5790"/>
                        <a:pt x="3450" y="5010"/>
                      </a:cubicBezTo>
                      <a:cubicBezTo>
                        <a:pt x="3840" y="4230"/>
                        <a:pt x="4680" y="3120"/>
                        <a:pt x="4890" y="2310"/>
                      </a:cubicBezTo>
                      <a:cubicBezTo>
                        <a:pt x="5100" y="1500"/>
                        <a:pt x="4770" y="300"/>
                        <a:pt x="4710" y="15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00ffff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285"/>
                <p:cNvSpPr/>
                <p:nvPr/>
              </p:nvSpPr>
              <p:spPr>
                <a:xfrm rot="501000">
                  <a:off x="7145640" y="366840"/>
                  <a:ext cx="1063080" cy="1987560"/>
                </a:xfrm>
                <a:custGeom>
                  <a:avLst/>
                  <a:gdLst>
                    <a:gd name="textAreaLeft" fmla="*/ 0 w 1063080"/>
                    <a:gd name="textAreaRight" fmla="*/ 1063440 w 1063080"/>
                    <a:gd name="textAreaTop" fmla="*/ 0 h 1987560"/>
                    <a:gd name="textAreaBottom" fmla="*/ 1987920 h 1987560"/>
                  </a:gdLst>
                  <a:ahLst/>
                  <a:rect l="textAreaLeft" t="textAreaTop" r="textAreaRight" b="textAreaBottom"/>
                  <a:pathLst>
                    <a:path w="5100" h="8850">
                      <a:moveTo>
                        <a:pt x="4710" y="150"/>
                      </a:moveTo>
                      <a:cubicBezTo>
                        <a:pt x="4650" y="0"/>
                        <a:pt x="4620" y="1050"/>
                        <a:pt x="4530" y="1410"/>
                      </a:cubicBezTo>
                      <a:cubicBezTo>
                        <a:pt x="4440" y="1770"/>
                        <a:pt x="4500" y="1890"/>
                        <a:pt x="4170" y="2310"/>
                      </a:cubicBezTo>
                      <a:cubicBezTo>
                        <a:pt x="3840" y="2730"/>
                        <a:pt x="3180" y="3390"/>
                        <a:pt x="2550" y="3930"/>
                      </a:cubicBezTo>
                      <a:cubicBezTo>
                        <a:pt x="1920" y="4470"/>
                        <a:pt x="780" y="5160"/>
                        <a:pt x="390" y="5550"/>
                      </a:cubicBezTo>
                      <a:cubicBezTo>
                        <a:pt x="0" y="5940"/>
                        <a:pt x="180" y="6120"/>
                        <a:pt x="210" y="6270"/>
                      </a:cubicBezTo>
                      <a:cubicBezTo>
                        <a:pt x="240" y="6420"/>
                        <a:pt x="510" y="6330"/>
                        <a:pt x="570" y="6450"/>
                      </a:cubicBezTo>
                      <a:cubicBezTo>
                        <a:pt x="630" y="6570"/>
                        <a:pt x="510" y="6870"/>
                        <a:pt x="570" y="6990"/>
                      </a:cubicBezTo>
                      <a:cubicBezTo>
                        <a:pt x="630" y="7110"/>
                        <a:pt x="990" y="6990"/>
                        <a:pt x="930" y="7170"/>
                      </a:cubicBezTo>
                      <a:cubicBezTo>
                        <a:pt x="870" y="7350"/>
                        <a:pt x="240" y="7860"/>
                        <a:pt x="210" y="8070"/>
                      </a:cubicBezTo>
                      <a:cubicBezTo>
                        <a:pt x="180" y="8280"/>
                        <a:pt x="750" y="8340"/>
                        <a:pt x="750" y="8430"/>
                      </a:cubicBezTo>
                      <a:cubicBezTo>
                        <a:pt x="750" y="8520"/>
                        <a:pt x="210" y="8550"/>
                        <a:pt x="210" y="8610"/>
                      </a:cubicBezTo>
                      <a:cubicBezTo>
                        <a:pt x="210" y="8670"/>
                        <a:pt x="600" y="8850"/>
                        <a:pt x="750" y="8790"/>
                      </a:cubicBezTo>
                      <a:cubicBezTo>
                        <a:pt x="900" y="8730"/>
                        <a:pt x="810" y="8550"/>
                        <a:pt x="1110" y="8250"/>
                      </a:cubicBezTo>
                      <a:cubicBezTo>
                        <a:pt x="1410" y="7950"/>
                        <a:pt x="2160" y="7530"/>
                        <a:pt x="2550" y="6990"/>
                      </a:cubicBezTo>
                      <a:cubicBezTo>
                        <a:pt x="2940" y="6450"/>
                        <a:pt x="3060" y="5790"/>
                        <a:pt x="3450" y="5010"/>
                      </a:cubicBezTo>
                      <a:cubicBezTo>
                        <a:pt x="3840" y="4230"/>
                        <a:pt x="4680" y="3120"/>
                        <a:pt x="4890" y="2310"/>
                      </a:cubicBezTo>
                      <a:cubicBezTo>
                        <a:pt x="5100" y="1500"/>
                        <a:pt x="4770" y="300"/>
                        <a:pt x="4710" y="15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00ffff"/>
                    </a:gs>
                    <a:gs pos="100000">
                      <a:srgbClr val="ffffff"/>
                    </a:gs>
                  </a:gsLst>
                  <a:lin ang="2202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286"/>
                <p:cNvSpPr/>
                <p:nvPr/>
              </p:nvSpPr>
              <p:spPr>
                <a:xfrm>
                  <a:off x="6724800" y="413640"/>
                  <a:ext cx="1517760" cy="1535400"/>
                </a:xfrm>
                <a:custGeom>
                  <a:avLst/>
                  <a:gdLst>
                    <a:gd name="textAreaLeft" fmla="*/ 0 w 1517760"/>
                    <a:gd name="textAreaRight" fmla="*/ 1518120 w 1517760"/>
                    <a:gd name="textAreaTop" fmla="*/ 0 h 1535400"/>
                    <a:gd name="textAreaBottom" fmla="*/ 1535760 h 1535400"/>
                  </a:gdLst>
                  <a:ahLst/>
                  <a:rect l="textAreaLeft" t="textAreaTop" r="textAreaRight" b="textAreaBottom"/>
                  <a:pathLst>
                    <a:path w="6168" h="5840">
                      <a:moveTo>
                        <a:pt x="6131" y="288"/>
                      </a:moveTo>
                      <a:cubicBezTo>
                        <a:pt x="6168" y="0"/>
                        <a:pt x="5924" y="280"/>
                        <a:pt x="5811" y="268"/>
                      </a:cubicBezTo>
                      <a:cubicBezTo>
                        <a:pt x="5698" y="256"/>
                        <a:pt x="5603" y="156"/>
                        <a:pt x="5455" y="218"/>
                      </a:cubicBezTo>
                      <a:cubicBezTo>
                        <a:pt x="5307" y="280"/>
                        <a:pt x="5441" y="433"/>
                        <a:pt x="4922" y="643"/>
                      </a:cubicBezTo>
                      <a:cubicBezTo>
                        <a:pt x="4404" y="853"/>
                        <a:pt x="2987" y="1034"/>
                        <a:pt x="2345" y="1480"/>
                      </a:cubicBezTo>
                      <a:cubicBezTo>
                        <a:pt x="1703" y="1927"/>
                        <a:pt x="1342" y="2930"/>
                        <a:pt x="1072" y="3326"/>
                      </a:cubicBezTo>
                      <a:cubicBezTo>
                        <a:pt x="802" y="3722"/>
                        <a:pt x="741" y="3726"/>
                        <a:pt x="722" y="3856"/>
                      </a:cubicBezTo>
                      <a:cubicBezTo>
                        <a:pt x="704" y="3984"/>
                        <a:pt x="945" y="3988"/>
                        <a:pt x="959" y="4102"/>
                      </a:cubicBezTo>
                      <a:cubicBezTo>
                        <a:pt x="972" y="4216"/>
                        <a:pt x="790" y="4424"/>
                        <a:pt x="805" y="4537"/>
                      </a:cubicBezTo>
                      <a:cubicBezTo>
                        <a:pt x="818" y="4651"/>
                        <a:pt x="1140" y="4656"/>
                        <a:pt x="1040" y="4784"/>
                      </a:cubicBezTo>
                      <a:cubicBezTo>
                        <a:pt x="940" y="4912"/>
                        <a:pt x="159" y="5266"/>
                        <a:pt x="208" y="5304"/>
                      </a:cubicBezTo>
                      <a:cubicBezTo>
                        <a:pt x="258" y="5343"/>
                        <a:pt x="1365" y="4940"/>
                        <a:pt x="1340" y="5012"/>
                      </a:cubicBezTo>
                      <a:cubicBezTo>
                        <a:pt x="1314" y="5085"/>
                        <a:pt x="108" y="5637"/>
                        <a:pt x="54" y="5739"/>
                      </a:cubicBezTo>
                      <a:cubicBezTo>
                        <a:pt x="0" y="5840"/>
                        <a:pt x="879" y="5627"/>
                        <a:pt x="1015" y="5621"/>
                      </a:cubicBezTo>
                      <a:cubicBezTo>
                        <a:pt x="1152" y="5615"/>
                        <a:pt x="647" y="5791"/>
                        <a:pt x="876" y="5703"/>
                      </a:cubicBezTo>
                      <a:cubicBezTo>
                        <a:pt x="1104" y="5616"/>
                        <a:pt x="1919" y="5422"/>
                        <a:pt x="2385" y="5098"/>
                      </a:cubicBezTo>
                      <a:cubicBezTo>
                        <a:pt x="2850" y="4774"/>
                        <a:pt x="3135" y="4277"/>
                        <a:pt x="3669" y="3760"/>
                      </a:cubicBezTo>
                      <a:cubicBezTo>
                        <a:pt x="4204" y="3242"/>
                        <a:pt x="5181" y="2573"/>
                        <a:pt x="5591" y="1994"/>
                      </a:cubicBezTo>
                      <a:cubicBezTo>
                        <a:pt x="6001" y="1415"/>
                        <a:pt x="6094" y="600"/>
                        <a:pt x="6131" y="28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00ffff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287"/>
                <p:cNvSpPr/>
                <p:nvPr/>
              </p:nvSpPr>
              <p:spPr>
                <a:xfrm>
                  <a:off x="7098120" y="446760"/>
                  <a:ext cx="1013040" cy="582840"/>
                </a:xfrm>
                <a:custGeom>
                  <a:avLst/>
                  <a:gdLst>
                    <a:gd name="textAreaLeft" fmla="*/ 0 w 1013040"/>
                    <a:gd name="textAreaRight" fmla="*/ 1013400 w 1013040"/>
                    <a:gd name="textAreaTop" fmla="*/ 0 h 582840"/>
                    <a:gd name="textAreaBottom" fmla="*/ 583200 h 582840"/>
                  </a:gdLst>
                  <a:ahLst/>
                  <a:rect l="textAreaLeft" t="textAreaTop" r="textAreaRight" b="textAreaBottom"/>
                  <a:pathLst>
                    <a:path w="4117" h="2217">
                      <a:moveTo>
                        <a:pt x="4050" y="259"/>
                      </a:moveTo>
                      <a:cubicBezTo>
                        <a:pt x="4117" y="118"/>
                        <a:pt x="3941" y="220"/>
                        <a:pt x="3883" y="194"/>
                      </a:cubicBezTo>
                      <a:cubicBezTo>
                        <a:pt x="3825" y="169"/>
                        <a:pt x="3797" y="140"/>
                        <a:pt x="3702" y="108"/>
                      </a:cubicBezTo>
                      <a:cubicBezTo>
                        <a:pt x="3607" y="76"/>
                        <a:pt x="3602" y="0"/>
                        <a:pt x="3314" y="2"/>
                      </a:cubicBezTo>
                      <a:cubicBezTo>
                        <a:pt x="3026" y="4"/>
                        <a:pt x="2427" y="19"/>
                        <a:pt x="1974" y="122"/>
                      </a:cubicBezTo>
                      <a:cubicBezTo>
                        <a:pt x="1521" y="225"/>
                        <a:pt x="897" y="432"/>
                        <a:pt x="594" y="622"/>
                      </a:cubicBezTo>
                      <a:cubicBezTo>
                        <a:pt x="291" y="812"/>
                        <a:pt x="0" y="1129"/>
                        <a:pt x="154" y="1262"/>
                      </a:cubicBezTo>
                      <a:cubicBezTo>
                        <a:pt x="308" y="1395"/>
                        <a:pt x="1441" y="1346"/>
                        <a:pt x="1516" y="1419"/>
                      </a:cubicBezTo>
                      <a:cubicBezTo>
                        <a:pt x="1591" y="1492"/>
                        <a:pt x="598" y="1658"/>
                        <a:pt x="606" y="1703"/>
                      </a:cubicBezTo>
                      <a:cubicBezTo>
                        <a:pt x="612" y="1749"/>
                        <a:pt x="1538" y="1664"/>
                        <a:pt x="1558" y="1692"/>
                      </a:cubicBezTo>
                      <a:cubicBezTo>
                        <a:pt x="1579" y="1720"/>
                        <a:pt x="776" y="1805"/>
                        <a:pt x="727" y="1871"/>
                      </a:cubicBezTo>
                      <a:cubicBezTo>
                        <a:pt x="679" y="1938"/>
                        <a:pt x="1005" y="2217"/>
                        <a:pt x="1269" y="2094"/>
                      </a:cubicBezTo>
                      <a:cubicBezTo>
                        <a:pt x="1533" y="1969"/>
                        <a:pt x="1943" y="1304"/>
                        <a:pt x="2312" y="1129"/>
                      </a:cubicBezTo>
                      <a:cubicBezTo>
                        <a:pt x="2680" y="955"/>
                        <a:pt x="3193" y="1189"/>
                        <a:pt x="3483" y="1044"/>
                      </a:cubicBezTo>
                      <a:cubicBezTo>
                        <a:pt x="3773" y="898"/>
                        <a:pt x="3979" y="413"/>
                        <a:pt x="4050" y="25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00ffff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Group 288"/>
              <p:cNvGrpSpPr/>
              <p:nvPr/>
            </p:nvGrpSpPr>
            <p:grpSpPr>
              <a:xfrm>
                <a:off x="7560720" y="682560"/>
                <a:ext cx="1406520" cy="1940400"/>
                <a:chOff x="7560720" y="682560"/>
                <a:chExt cx="1406520" cy="1940400"/>
              </a:xfrm>
            </p:grpSpPr>
            <p:grpSp>
              <p:nvGrpSpPr>
                <p:cNvPr id="548" name="Group 289"/>
                <p:cNvGrpSpPr/>
                <p:nvPr/>
              </p:nvGrpSpPr>
              <p:grpSpPr>
                <a:xfrm>
                  <a:off x="7682760" y="1999440"/>
                  <a:ext cx="789120" cy="623520"/>
                  <a:chOff x="7682760" y="1999440"/>
                  <a:chExt cx="789120" cy="623520"/>
                </a:xfrm>
              </p:grpSpPr>
              <p:grpSp>
                <p:nvGrpSpPr>
                  <p:cNvPr id="549" name="Group 290"/>
                  <p:cNvGrpSpPr/>
                  <p:nvPr/>
                </p:nvGrpSpPr>
                <p:grpSpPr>
                  <a:xfrm>
                    <a:off x="7682760" y="1999440"/>
                    <a:ext cx="789120" cy="623520"/>
                    <a:chOff x="7682760" y="1999440"/>
                    <a:chExt cx="789120" cy="623520"/>
                  </a:xfrm>
                </p:grpSpPr>
                <p:grpSp>
                  <p:nvGrpSpPr>
                    <p:cNvPr id="550" name="Group 291"/>
                    <p:cNvGrpSpPr/>
                    <p:nvPr/>
                  </p:nvGrpSpPr>
                  <p:grpSpPr>
                    <a:xfrm>
                      <a:off x="7682760" y="2067120"/>
                      <a:ext cx="788760" cy="555840"/>
                      <a:chOff x="7682760" y="2067120"/>
                      <a:chExt cx="788760" cy="555840"/>
                    </a:xfrm>
                  </p:grpSpPr>
                  <p:sp>
                    <p:nvSpPr>
                      <p:cNvPr id="551" name="AutoShape 292"/>
                      <p:cNvSpPr/>
                      <p:nvPr/>
                    </p:nvSpPr>
                    <p:spPr>
                      <a:xfrm rot="5400000">
                        <a:off x="7799760" y="1949760"/>
                        <a:ext cx="554400" cy="788760"/>
                      </a:xfrm>
                      <a:prstGeom prst="flowChartDelay">
                        <a:avLst/>
                      </a:prstGeom>
                      <a:gradFill rotWithShape="0">
                        <a:gsLst>
                          <a:gs pos="0">
                            <a:srgbClr val="762f00"/>
                          </a:gs>
                          <a:gs pos="50000">
                            <a:srgbClr val="ff6600"/>
                          </a:gs>
                          <a:gs pos="100000">
                            <a:srgbClr val="762f00"/>
                          </a:gs>
                        </a:gsLst>
                        <a:lin ang="135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" name="AutoShape 293"/>
                      <p:cNvSpPr/>
                      <p:nvPr/>
                    </p:nvSpPr>
                    <p:spPr>
                      <a:xfrm rot="16200000">
                        <a:off x="8021880" y="2228040"/>
                        <a:ext cx="99720" cy="690120"/>
                      </a:xfrm>
                      <a:prstGeom prst="flowChartOnlineStorage">
                        <a:avLst/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ff6600"/>
                          </a:gs>
                          <a:gs pos="100000">
                            <a:srgbClr val="000000"/>
                          </a:gs>
                        </a:gsLst>
                        <a:lin ang="27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3" name="Oval 294"/>
                    <p:cNvSpPr/>
                    <p:nvPr/>
                  </p:nvSpPr>
                  <p:spPr>
                    <a:xfrm>
                      <a:off x="7683120" y="1999440"/>
                      <a:ext cx="788760" cy="152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6600"/>
                        </a:gs>
                        <a:gs pos="100000">
                          <a:srgbClr val="000000"/>
                        </a:gs>
                      </a:gsLst>
                      <a:lin ang="27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4" name="Oval 295"/>
                  <p:cNvSpPr/>
                  <p:nvPr/>
                </p:nvSpPr>
                <p:spPr>
                  <a:xfrm>
                    <a:off x="7732080" y="2054520"/>
                    <a:ext cx="690120" cy="95400"/>
                  </a:xfrm>
                  <a:prstGeom prst="ellipse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Group 296"/>
                <p:cNvGrpSpPr/>
                <p:nvPr/>
              </p:nvGrpSpPr>
              <p:grpSpPr>
                <a:xfrm>
                  <a:off x="7560720" y="682560"/>
                  <a:ext cx="1406520" cy="1464120"/>
                  <a:chOff x="7560720" y="682560"/>
                  <a:chExt cx="1406520" cy="1464120"/>
                </a:xfrm>
              </p:grpSpPr>
              <p:sp>
                <p:nvSpPr>
                  <p:cNvPr id="556" name="Freeform 297"/>
                  <p:cNvSpPr/>
                  <p:nvPr/>
                </p:nvSpPr>
                <p:spPr>
                  <a:xfrm>
                    <a:off x="8525520" y="942840"/>
                    <a:ext cx="304920" cy="119880"/>
                  </a:xfrm>
                  <a:custGeom>
                    <a:avLst/>
                    <a:gdLst>
                      <a:gd name="textAreaLeft" fmla="*/ 0 w 304920"/>
                      <a:gd name="textAreaRight" fmla="*/ 305280 w 304920"/>
                      <a:gd name="textAreaTop" fmla="*/ 0 h 119880"/>
                      <a:gd name="textAreaBottom" fmla="*/ 120240 h 119880"/>
                    </a:gdLst>
                    <a:ahLst/>
                    <a:rect l="textAreaLeft" t="textAreaTop" r="textAreaRight" b="textAreaBottom"/>
                    <a:pathLst>
                      <a:path w="1800" h="750">
                        <a:moveTo>
                          <a:pt x="0" y="750"/>
                        </a:moveTo>
                        <a:cubicBezTo>
                          <a:pt x="165" y="540"/>
                          <a:pt x="330" y="330"/>
                          <a:pt x="540" y="210"/>
                        </a:cubicBezTo>
                        <a:cubicBezTo>
                          <a:pt x="750" y="90"/>
                          <a:pt x="1050" y="60"/>
                          <a:pt x="1260" y="30"/>
                        </a:cubicBezTo>
                        <a:cubicBezTo>
                          <a:pt x="1470" y="0"/>
                          <a:pt x="1710" y="30"/>
                          <a:pt x="1800" y="30"/>
                        </a:cubicBezTo>
                      </a:path>
                    </a:pathLst>
                  </a:custGeom>
                  <a:noFill/>
                  <a:ln w="3816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Freeform 298"/>
                  <p:cNvSpPr/>
                  <p:nvPr/>
                </p:nvSpPr>
                <p:spPr>
                  <a:xfrm flipV="1" rot="14509200">
                    <a:off x="8365680" y="842400"/>
                    <a:ext cx="287640" cy="152280"/>
                  </a:xfrm>
                  <a:custGeom>
                    <a:avLst/>
                    <a:gdLst>
                      <a:gd name="textAreaLeft" fmla="*/ 0 w 287640"/>
                      <a:gd name="textAreaRight" fmla="*/ 288000 w 287640"/>
                      <a:gd name="textAreaTop" fmla="*/ -360 h 152280"/>
                      <a:gd name="textAreaBottom" fmla="*/ 152280 h 152280"/>
                    </a:gdLst>
                    <a:ahLst/>
                    <a:rect l="textAreaLeft" t="textAreaTop" r="textAreaRight" b="textAreaBottom"/>
                    <a:pathLst>
                      <a:path w="1800" h="750">
                        <a:moveTo>
                          <a:pt x="0" y="750"/>
                        </a:moveTo>
                        <a:cubicBezTo>
                          <a:pt x="165" y="540"/>
                          <a:pt x="330" y="330"/>
                          <a:pt x="540" y="210"/>
                        </a:cubicBezTo>
                        <a:cubicBezTo>
                          <a:pt x="750" y="90"/>
                          <a:pt x="1050" y="60"/>
                          <a:pt x="1260" y="30"/>
                        </a:cubicBezTo>
                        <a:cubicBezTo>
                          <a:pt x="1470" y="0"/>
                          <a:pt x="1710" y="30"/>
                          <a:pt x="1800" y="30"/>
                        </a:cubicBezTo>
                      </a:path>
                    </a:pathLst>
                  </a:custGeom>
                  <a:noFill/>
                  <a:ln w="3816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8" name="Group 299"/>
                  <p:cNvGrpSpPr/>
                  <p:nvPr/>
                </p:nvGrpSpPr>
                <p:grpSpPr>
                  <a:xfrm>
                    <a:off x="8020080" y="793800"/>
                    <a:ext cx="947160" cy="674640"/>
                    <a:chOff x="8020080" y="793800"/>
                    <a:chExt cx="947160" cy="674640"/>
                  </a:xfrm>
                </p:grpSpPr>
                <p:sp>
                  <p:nvSpPr>
                    <p:cNvPr id="559" name="Freeform 300"/>
                    <p:cNvSpPr/>
                    <p:nvPr/>
                  </p:nvSpPr>
                  <p:spPr>
                    <a:xfrm flipV="1" rot="10696800">
                      <a:off x="8023320" y="933840"/>
                      <a:ext cx="396720" cy="230040"/>
                    </a:xfrm>
                    <a:custGeom>
                      <a:avLst/>
                      <a:gdLst>
                        <a:gd name="textAreaLeft" fmla="*/ 0 w 396720"/>
                        <a:gd name="textAreaRight" fmla="*/ 397080 w 396720"/>
                        <a:gd name="textAreaTop" fmla="*/ -360 h 230040"/>
                        <a:gd name="textAreaBottom" fmla="*/ 230040 h 23004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Freeform 301"/>
                    <p:cNvSpPr/>
                    <p:nvPr/>
                  </p:nvSpPr>
                  <p:spPr>
                    <a:xfrm flipV="1" rot="12576600">
                      <a:off x="8176320" y="876600"/>
                      <a:ext cx="396720" cy="230040"/>
                    </a:xfrm>
                    <a:custGeom>
                      <a:avLst/>
                      <a:gdLst>
                        <a:gd name="textAreaLeft" fmla="*/ 0 w 396720"/>
                        <a:gd name="textAreaRight" fmla="*/ 397080 w 396720"/>
                        <a:gd name="textAreaTop" fmla="*/ -360 h 230040"/>
                        <a:gd name="textAreaBottom" fmla="*/ 230040 h 23004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9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Freeform 302"/>
                    <p:cNvSpPr/>
                    <p:nvPr/>
                  </p:nvSpPr>
                  <p:spPr>
                    <a:xfrm rot="1273200">
                      <a:off x="8542080" y="1078200"/>
                      <a:ext cx="396720" cy="230040"/>
                    </a:xfrm>
                    <a:custGeom>
                      <a:avLst/>
                      <a:gdLst>
                        <a:gd name="textAreaLeft" fmla="*/ 0 w 396720"/>
                        <a:gd name="textAreaRight" fmla="*/ 397080 w 396720"/>
                        <a:gd name="textAreaTop" fmla="*/ 0 h 230040"/>
                        <a:gd name="textAreaBottom" fmla="*/ 230400 h 23004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Freeform 303"/>
                    <p:cNvSpPr/>
                    <p:nvPr/>
                  </p:nvSpPr>
                  <p:spPr>
                    <a:xfrm>
                      <a:off x="8481600" y="1020960"/>
                      <a:ext cx="304920" cy="153360"/>
                    </a:xfrm>
                    <a:custGeom>
                      <a:avLst/>
                      <a:gdLst>
                        <a:gd name="textAreaLeft" fmla="*/ 0 w 304920"/>
                        <a:gd name="textAreaRight" fmla="*/ 305280 w 304920"/>
                        <a:gd name="textAreaTop" fmla="*/ 0 h 153360"/>
                        <a:gd name="textAreaBottom" fmla="*/ 153720 h 15336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Freeform 304"/>
                    <p:cNvSpPr/>
                    <p:nvPr/>
                  </p:nvSpPr>
                  <p:spPr>
                    <a:xfrm rot="2715000">
                      <a:off x="8541360" y="1227240"/>
                      <a:ext cx="287640" cy="162720"/>
                    </a:xfrm>
                    <a:custGeom>
                      <a:avLst/>
                      <a:gdLst>
                        <a:gd name="textAreaLeft" fmla="*/ 0 w 287640"/>
                        <a:gd name="textAreaRight" fmla="*/ 288000 w 287640"/>
                        <a:gd name="textAreaTop" fmla="*/ 0 h 162720"/>
                        <a:gd name="textAreaBottom" fmla="*/ 163080 h 16272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12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Group 305"/>
                  <p:cNvGrpSpPr/>
                  <p:nvPr/>
                </p:nvGrpSpPr>
                <p:grpSpPr>
                  <a:xfrm>
                    <a:off x="7560720" y="1015560"/>
                    <a:ext cx="1107000" cy="1131120"/>
                    <a:chOff x="7560720" y="1015560"/>
                    <a:chExt cx="1107000" cy="1131120"/>
                  </a:xfrm>
                </p:grpSpPr>
                <p:grpSp>
                  <p:nvGrpSpPr>
                    <p:cNvPr id="565" name="Group 306"/>
                    <p:cNvGrpSpPr/>
                    <p:nvPr/>
                  </p:nvGrpSpPr>
                  <p:grpSpPr>
                    <a:xfrm>
                      <a:off x="7560720" y="1015560"/>
                      <a:ext cx="1107000" cy="1131120"/>
                      <a:chOff x="7560720" y="1015560"/>
                      <a:chExt cx="1107000" cy="1131120"/>
                    </a:xfrm>
                  </p:grpSpPr>
                  <p:sp>
                    <p:nvSpPr>
                      <p:cNvPr id="566" name="Freeform 307"/>
                      <p:cNvSpPr/>
                      <p:nvPr/>
                    </p:nvSpPr>
                    <p:spPr>
                      <a:xfrm>
                        <a:off x="7626960" y="1481040"/>
                        <a:ext cx="304920" cy="273240"/>
                      </a:xfrm>
                      <a:custGeom>
                        <a:avLst/>
                        <a:gdLst>
                          <a:gd name="textAreaLeft" fmla="*/ 0 w 304920"/>
                          <a:gd name="textAreaRight" fmla="*/ 305280 w 304920"/>
                          <a:gd name="textAreaTop" fmla="*/ 0 h 273240"/>
                          <a:gd name="textAreaBottom" fmla="*/ 273600 h 273240"/>
                        </a:gdLst>
                        <a:ahLst/>
                        <a:rect l="textAreaLeft" t="textAreaTop" r="textAreaRight" b="textAreaBottom"/>
                        <a:pathLst>
                          <a:path w="2310" h="2250">
                            <a:moveTo>
                              <a:pt x="1920" y="960"/>
                            </a:moveTo>
                            <a:cubicBezTo>
                              <a:pt x="1830" y="930"/>
                              <a:pt x="1650" y="900"/>
                              <a:pt x="1560" y="780"/>
                            </a:cubicBezTo>
                            <a:cubicBezTo>
                              <a:pt x="1470" y="660"/>
                              <a:pt x="1530" y="360"/>
                              <a:pt x="1380" y="240"/>
                            </a:cubicBezTo>
                            <a:cubicBezTo>
                              <a:pt x="1230" y="120"/>
                              <a:pt x="870" y="0"/>
                              <a:pt x="660" y="60"/>
                            </a:cubicBezTo>
                            <a:cubicBezTo>
                              <a:pt x="450" y="120"/>
                              <a:pt x="210" y="330"/>
                              <a:pt x="120" y="600"/>
                            </a:cubicBezTo>
                            <a:cubicBezTo>
                              <a:pt x="30" y="870"/>
                              <a:pt x="0" y="1410"/>
                              <a:pt x="120" y="1680"/>
                            </a:cubicBezTo>
                            <a:cubicBezTo>
                              <a:pt x="240" y="1950"/>
                              <a:pt x="510" y="2190"/>
                              <a:pt x="840" y="2220"/>
                            </a:cubicBezTo>
                            <a:cubicBezTo>
                              <a:pt x="1170" y="2250"/>
                              <a:pt x="1890" y="2070"/>
                              <a:pt x="2100" y="1860"/>
                            </a:cubicBezTo>
                            <a:cubicBezTo>
                              <a:pt x="2310" y="1650"/>
                              <a:pt x="2130" y="1110"/>
                              <a:pt x="2100" y="960"/>
                            </a:cubicBezTo>
                            <a:cubicBezTo>
                              <a:pt x="2070" y="810"/>
                              <a:pt x="2010" y="990"/>
                              <a:pt x="1920" y="96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ffcc"/>
                          </a:gs>
                          <a:gs pos="50000">
                            <a:srgbClr val="008000"/>
                          </a:gs>
                          <a:gs pos="100000">
                            <a:srgbClr val="ccffcc"/>
                          </a:gs>
                        </a:gsLst>
                        <a:lin ang="27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7" name="Freeform 308"/>
                      <p:cNvSpPr/>
                      <p:nvPr/>
                    </p:nvSpPr>
                    <p:spPr>
                      <a:xfrm>
                        <a:off x="7856280" y="1076760"/>
                        <a:ext cx="811440" cy="1069920"/>
                      </a:xfrm>
                      <a:custGeom>
                        <a:avLst/>
                        <a:gdLst>
                          <a:gd name="textAreaLeft" fmla="*/ 0 w 811440"/>
                          <a:gd name="textAreaRight" fmla="*/ 811800 w 811440"/>
                          <a:gd name="textAreaTop" fmla="*/ 0 h 1069920"/>
                          <a:gd name="textAreaBottom" fmla="*/ 1070280 h 1069920"/>
                        </a:gdLst>
                        <a:ahLst/>
                        <a:rect l="textAreaLeft" t="textAreaTop" r="textAreaRight" b="textAreaBottom"/>
                        <a:pathLst>
                          <a:path w="4787" h="6697">
                            <a:moveTo>
                              <a:pt x="207" y="4137"/>
                            </a:moveTo>
                            <a:cubicBezTo>
                              <a:pt x="0" y="3600"/>
                              <a:pt x="3" y="3575"/>
                              <a:pt x="7" y="3057"/>
                            </a:cubicBezTo>
                            <a:cubicBezTo>
                              <a:pt x="11" y="2539"/>
                              <a:pt x="274" y="1857"/>
                              <a:pt x="587" y="1397"/>
                            </a:cubicBezTo>
                            <a:cubicBezTo>
                              <a:pt x="900" y="937"/>
                              <a:pt x="1410" y="494"/>
                              <a:pt x="1887" y="297"/>
                            </a:cubicBezTo>
                            <a:cubicBezTo>
                              <a:pt x="2364" y="100"/>
                              <a:pt x="3007" y="0"/>
                              <a:pt x="3447" y="217"/>
                            </a:cubicBezTo>
                            <a:cubicBezTo>
                              <a:pt x="3737" y="374"/>
                              <a:pt x="4787" y="851"/>
                              <a:pt x="4527" y="1597"/>
                            </a:cubicBezTo>
                            <a:cubicBezTo>
                              <a:pt x="4544" y="2044"/>
                              <a:pt x="4370" y="2365"/>
                              <a:pt x="3947" y="2877"/>
                            </a:cubicBezTo>
                            <a:cubicBezTo>
                              <a:pt x="3700" y="3239"/>
                              <a:pt x="3143" y="3651"/>
                              <a:pt x="2827" y="3957"/>
                            </a:cubicBezTo>
                            <a:cubicBezTo>
                              <a:pt x="2537" y="4297"/>
                              <a:pt x="2360" y="4620"/>
                              <a:pt x="2207" y="4917"/>
                            </a:cubicBezTo>
                            <a:cubicBezTo>
                              <a:pt x="2054" y="5214"/>
                              <a:pt x="1977" y="5507"/>
                              <a:pt x="1907" y="5737"/>
                            </a:cubicBezTo>
                            <a:cubicBezTo>
                              <a:pt x="1837" y="5967"/>
                              <a:pt x="1877" y="6197"/>
                              <a:pt x="1787" y="6297"/>
                            </a:cubicBezTo>
                            <a:cubicBezTo>
                              <a:pt x="1697" y="6397"/>
                              <a:pt x="1630" y="6697"/>
                              <a:pt x="1367" y="6337"/>
                            </a:cubicBezTo>
                            <a:cubicBezTo>
                              <a:pt x="1104" y="5977"/>
                              <a:pt x="414" y="4674"/>
                              <a:pt x="207" y="4137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ffcc"/>
                          </a:gs>
                          <a:gs pos="50000">
                            <a:srgbClr val="008000"/>
                          </a:gs>
                          <a:gs pos="100000">
                            <a:srgbClr val="ccffcc"/>
                          </a:gs>
                        </a:gsLst>
                        <a:lin ang="27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8" name="Freeform 309"/>
                      <p:cNvSpPr/>
                      <p:nvPr/>
                    </p:nvSpPr>
                    <p:spPr>
                      <a:xfrm rot="2323800">
                        <a:off x="8216640" y="1458360"/>
                        <a:ext cx="244080" cy="344880"/>
                      </a:xfrm>
                      <a:custGeom>
                        <a:avLst/>
                        <a:gdLst>
                          <a:gd name="textAreaLeft" fmla="*/ 0 w 244080"/>
                          <a:gd name="textAreaRight" fmla="*/ 244440 w 244080"/>
                          <a:gd name="textAreaTop" fmla="*/ 0 h 344880"/>
                          <a:gd name="textAreaBottom" fmla="*/ 344880 h 344880"/>
                        </a:gdLst>
                        <a:ahLst/>
                        <a:rect l="textAreaLeft" t="textAreaTop" r="textAreaRight" b="textAreaBottom"/>
                        <a:pathLst>
                          <a:path w="1687" h="3090">
                            <a:moveTo>
                              <a:pt x="1642" y="235"/>
                            </a:moveTo>
                            <a:cubicBezTo>
                              <a:pt x="1639" y="66"/>
                              <a:pt x="1391" y="0"/>
                              <a:pt x="1231" y="0"/>
                            </a:cubicBezTo>
                            <a:cubicBezTo>
                              <a:pt x="1072" y="0"/>
                              <a:pt x="866" y="0"/>
                              <a:pt x="684" y="235"/>
                            </a:cubicBezTo>
                            <a:cubicBezTo>
                              <a:pt x="502" y="469"/>
                              <a:pt x="251" y="1095"/>
                              <a:pt x="137" y="1408"/>
                            </a:cubicBezTo>
                            <a:cubicBezTo>
                              <a:pt x="23" y="1721"/>
                              <a:pt x="0" y="1877"/>
                              <a:pt x="0" y="2112"/>
                            </a:cubicBezTo>
                            <a:cubicBezTo>
                              <a:pt x="0" y="2347"/>
                              <a:pt x="46" y="2660"/>
                              <a:pt x="137" y="2816"/>
                            </a:cubicBezTo>
                            <a:cubicBezTo>
                              <a:pt x="228" y="2973"/>
                              <a:pt x="388" y="3090"/>
                              <a:pt x="547" y="3051"/>
                            </a:cubicBezTo>
                            <a:cubicBezTo>
                              <a:pt x="707" y="3012"/>
                              <a:pt x="980" y="2816"/>
                              <a:pt x="1094" y="2582"/>
                            </a:cubicBezTo>
                            <a:cubicBezTo>
                              <a:pt x="1208" y="2347"/>
                              <a:pt x="1186" y="1917"/>
                              <a:pt x="1231" y="1643"/>
                            </a:cubicBezTo>
                            <a:cubicBezTo>
                              <a:pt x="1277" y="1369"/>
                              <a:pt x="1300" y="1134"/>
                              <a:pt x="1368" y="939"/>
                            </a:cubicBezTo>
                            <a:cubicBezTo>
                              <a:pt x="1436" y="743"/>
                              <a:pt x="1596" y="587"/>
                              <a:pt x="1642" y="469"/>
                            </a:cubicBezTo>
                            <a:cubicBezTo>
                              <a:pt x="1687" y="352"/>
                              <a:pt x="1645" y="404"/>
                              <a:pt x="1642" y="235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ffcc"/>
                          </a:gs>
                          <a:gs pos="50000">
                            <a:srgbClr val="008000"/>
                          </a:gs>
                          <a:gs pos="100000">
                            <a:srgbClr val="ccffcc"/>
                          </a:gs>
                        </a:gsLst>
                        <a:lin ang="378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69" name="Group 310"/>
                      <p:cNvGrpSpPr/>
                      <p:nvPr/>
                    </p:nvGrpSpPr>
                    <p:grpSpPr>
                      <a:xfrm>
                        <a:off x="8078760" y="1158120"/>
                        <a:ext cx="423360" cy="336960"/>
                        <a:chOff x="8078760" y="1158120"/>
                        <a:chExt cx="423360" cy="336960"/>
                      </a:xfrm>
                    </p:grpSpPr>
                    <p:sp>
                      <p:nvSpPr>
                        <p:cNvPr id="570" name="Freeform 311"/>
                        <p:cNvSpPr/>
                        <p:nvPr/>
                      </p:nvSpPr>
                      <p:spPr>
                        <a:xfrm rot="1973400">
                          <a:off x="8121240" y="1183320"/>
                          <a:ext cx="152640" cy="201240"/>
                        </a:xfrm>
                        <a:custGeom>
                          <a:avLst/>
                          <a:gdLst>
                            <a:gd name="textAreaLeft" fmla="*/ 0 w 152640"/>
                            <a:gd name="textAreaRight" fmla="*/ 152640 w 152640"/>
                            <a:gd name="textAreaTop" fmla="*/ 0 h 201240"/>
                            <a:gd name="textAreaBottom" fmla="*/ 201600 h 201240"/>
                          </a:gdLst>
                          <a:ahLst/>
                          <a:rect l="textAreaLeft" t="textAreaTop" r="textAreaRight" b="textAreaBottom"/>
                          <a:pathLst>
                            <a:path w="1490" h="2346">
                              <a:moveTo>
                                <a:pt x="1332" y="244"/>
                              </a:moveTo>
                              <a:cubicBezTo>
                                <a:pt x="1399" y="361"/>
                                <a:pt x="1425" y="561"/>
                                <a:pt x="1447" y="740"/>
                              </a:cubicBezTo>
                              <a:cubicBezTo>
                                <a:pt x="1469" y="919"/>
                                <a:pt x="1490" y="1133"/>
                                <a:pt x="1467" y="1320"/>
                              </a:cubicBezTo>
                              <a:cubicBezTo>
                                <a:pt x="1444" y="1507"/>
                                <a:pt x="1417" y="1690"/>
                                <a:pt x="1307" y="1860"/>
                              </a:cubicBezTo>
                              <a:cubicBezTo>
                                <a:pt x="1257" y="1993"/>
                                <a:pt x="1250" y="2040"/>
                                <a:pt x="1167" y="2120"/>
                              </a:cubicBezTo>
                              <a:cubicBezTo>
                                <a:pt x="1084" y="2200"/>
                                <a:pt x="930" y="2332"/>
                                <a:pt x="807" y="2339"/>
                              </a:cubicBezTo>
                              <a:cubicBezTo>
                                <a:pt x="684" y="2346"/>
                                <a:pt x="534" y="2260"/>
                                <a:pt x="427" y="2160"/>
                              </a:cubicBezTo>
                              <a:cubicBezTo>
                                <a:pt x="320" y="2060"/>
                                <a:pt x="234" y="1903"/>
                                <a:pt x="167" y="1740"/>
                              </a:cubicBezTo>
                              <a:cubicBezTo>
                                <a:pt x="100" y="1577"/>
                                <a:pt x="50" y="1360"/>
                                <a:pt x="27" y="1180"/>
                              </a:cubicBezTo>
                              <a:cubicBezTo>
                                <a:pt x="7" y="1017"/>
                                <a:pt x="0" y="810"/>
                                <a:pt x="27" y="660"/>
                              </a:cubicBezTo>
                              <a:cubicBezTo>
                                <a:pt x="54" y="510"/>
                                <a:pt x="104" y="383"/>
                                <a:pt x="187" y="280"/>
                              </a:cubicBezTo>
                              <a:cubicBezTo>
                                <a:pt x="270" y="177"/>
                                <a:pt x="384" y="80"/>
                                <a:pt x="527" y="40"/>
                              </a:cubicBezTo>
                              <a:cubicBezTo>
                                <a:pt x="670" y="0"/>
                                <a:pt x="913" y="6"/>
                                <a:pt x="1047" y="40"/>
                              </a:cubicBezTo>
                              <a:cubicBezTo>
                                <a:pt x="1181" y="74"/>
                                <a:pt x="1297" y="128"/>
                                <a:pt x="1332" y="244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1" name="Freeform 312"/>
                        <p:cNvSpPr/>
                        <p:nvPr/>
                      </p:nvSpPr>
                      <p:spPr>
                        <a:xfrm rot="21274200">
                          <a:off x="8130240" y="1264680"/>
                          <a:ext cx="153720" cy="106920"/>
                        </a:xfrm>
                        <a:custGeom>
                          <a:avLst/>
                          <a:gdLst>
                            <a:gd name="textAreaLeft" fmla="*/ 0 w 153720"/>
                            <a:gd name="textAreaRight" fmla="*/ 154080 w 153720"/>
                            <a:gd name="textAreaTop" fmla="*/ 0 h 106920"/>
                            <a:gd name="textAreaBottom" fmla="*/ 107280 h 106920"/>
                          </a:gdLst>
                          <a:ahLst/>
                          <a:rect l="textAreaLeft" t="textAreaTop" r="textAreaRight" b="textAreaBottom"/>
                          <a:pathLst>
                            <a:path w="906" h="669">
                              <a:moveTo>
                                <a:pt x="906" y="161"/>
                              </a:moveTo>
                              <a:cubicBezTo>
                                <a:pt x="905" y="122"/>
                                <a:pt x="803" y="50"/>
                                <a:pt x="732" y="27"/>
                              </a:cubicBezTo>
                              <a:cubicBezTo>
                                <a:pt x="660" y="3"/>
                                <a:pt x="553" y="0"/>
                                <a:pt x="477" y="17"/>
                              </a:cubicBezTo>
                              <a:cubicBezTo>
                                <a:pt x="389" y="22"/>
                                <a:pt x="332" y="88"/>
                                <a:pt x="278" y="133"/>
                              </a:cubicBezTo>
                              <a:cubicBezTo>
                                <a:pt x="227" y="186"/>
                                <a:pt x="150" y="273"/>
                                <a:pt x="125" y="327"/>
                              </a:cubicBezTo>
                              <a:cubicBezTo>
                                <a:pt x="89" y="379"/>
                                <a:pt x="65" y="391"/>
                                <a:pt x="64" y="443"/>
                              </a:cubicBezTo>
                              <a:cubicBezTo>
                                <a:pt x="0" y="504"/>
                                <a:pt x="101" y="600"/>
                                <a:pt x="111" y="641"/>
                              </a:cubicBezTo>
                              <a:cubicBezTo>
                                <a:pt x="178" y="669"/>
                                <a:pt x="352" y="659"/>
                                <a:pt x="464" y="611"/>
                              </a:cubicBezTo>
                              <a:cubicBezTo>
                                <a:pt x="576" y="563"/>
                                <a:pt x="710" y="426"/>
                                <a:pt x="784" y="351"/>
                              </a:cubicBezTo>
                              <a:cubicBezTo>
                                <a:pt x="858" y="276"/>
                                <a:pt x="881" y="201"/>
                                <a:pt x="906" y="161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333333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2" name="Freeform 313"/>
                        <p:cNvSpPr/>
                        <p:nvPr/>
                      </p:nvSpPr>
                      <p:spPr>
                        <a:xfrm rot="2050200">
                          <a:off x="8305920" y="1267920"/>
                          <a:ext cx="152640" cy="201240"/>
                        </a:xfrm>
                        <a:custGeom>
                          <a:avLst/>
                          <a:gdLst>
                            <a:gd name="textAreaLeft" fmla="*/ 0 w 152640"/>
                            <a:gd name="textAreaRight" fmla="*/ 152640 w 152640"/>
                            <a:gd name="textAreaTop" fmla="*/ 0 h 201240"/>
                            <a:gd name="textAreaBottom" fmla="*/ 201600 h 201240"/>
                          </a:gdLst>
                          <a:ahLst/>
                          <a:rect l="textAreaLeft" t="textAreaTop" r="textAreaRight" b="textAreaBottom"/>
                          <a:pathLst>
                            <a:path w="1490" h="2346">
                              <a:moveTo>
                                <a:pt x="1332" y="244"/>
                              </a:moveTo>
                              <a:cubicBezTo>
                                <a:pt x="1399" y="361"/>
                                <a:pt x="1425" y="561"/>
                                <a:pt x="1447" y="740"/>
                              </a:cubicBezTo>
                              <a:cubicBezTo>
                                <a:pt x="1469" y="919"/>
                                <a:pt x="1490" y="1133"/>
                                <a:pt x="1467" y="1320"/>
                              </a:cubicBezTo>
                              <a:cubicBezTo>
                                <a:pt x="1444" y="1507"/>
                                <a:pt x="1417" y="1690"/>
                                <a:pt x="1307" y="1860"/>
                              </a:cubicBezTo>
                              <a:cubicBezTo>
                                <a:pt x="1257" y="1993"/>
                                <a:pt x="1250" y="2040"/>
                                <a:pt x="1167" y="2120"/>
                              </a:cubicBezTo>
                              <a:cubicBezTo>
                                <a:pt x="1084" y="2200"/>
                                <a:pt x="930" y="2332"/>
                                <a:pt x="807" y="2339"/>
                              </a:cubicBezTo>
                              <a:cubicBezTo>
                                <a:pt x="684" y="2346"/>
                                <a:pt x="534" y="2260"/>
                                <a:pt x="427" y="2160"/>
                              </a:cubicBezTo>
                              <a:cubicBezTo>
                                <a:pt x="320" y="2060"/>
                                <a:pt x="234" y="1903"/>
                                <a:pt x="167" y="1740"/>
                              </a:cubicBezTo>
                              <a:cubicBezTo>
                                <a:pt x="100" y="1577"/>
                                <a:pt x="50" y="1360"/>
                                <a:pt x="27" y="1180"/>
                              </a:cubicBezTo>
                              <a:cubicBezTo>
                                <a:pt x="7" y="1017"/>
                                <a:pt x="0" y="810"/>
                                <a:pt x="27" y="660"/>
                              </a:cubicBezTo>
                              <a:cubicBezTo>
                                <a:pt x="54" y="510"/>
                                <a:pt x="104" y="383"/>
                                <a:pt x="187" y="280"/>
                              </a:cubicBezTo>
                              <a:cubicBezTo>
                                <a:pt x="270" y="177"/>
                                <a:pt x="384" y="80"/>
                                <a:pt x="527" y="40"/>
                              </a:cubicBezTo>
                              <a:cubicBezTo>
                                <a:pt x="670" y="0"/>
                                <a:pt x="913" y="6"/>
                                <a:pt x="1047" y="40"/>
                              </a:cubicBezTo>
                              <a:cubicBezTo>
                                <a:pt x="1181" y="74"/>
                                <a:pt x="1297" y="128"/>
                                <a:pt x="1332" y="244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3" name="Freeform 314"/>
                        <p:cNvSpPr/>
                        <p:nvPr/>
                      </p:nvSpPr>
                      <p:spPr>
                        <a:xfrm rot="21274200">
                          <a:off x="8316360" y="1350720"/>
                          <a:ext cx="153360" cy="106920"/>
                        </a:xfrm>
                        <a:custGeom>
                          <a:avLst/>
                          <a:gdLst>
                            <a:gd name="textAreaLeft" fmla="*/ 0 w 153360"/>
                            <a:gd name="textAreaRight" fmla="*/ 153720 w 153360"/>
                            <a:gd name="textAreaTop" fmla="*/ 0 h 106920"/>
                            <a:gd name="textAreaBottom" fmla="*/ 107280 h 106920"/>
                          </a:gdLst>
                          <a:ahLst/>
                          <a:rect l="textAreaLeft" t="textAreaTop" r="textAreaRight" b="textAreaBottom"/>
                          <a:pathLst>
                            <a:path w="906" h="669">
                              <a:moveTo>
                                <a:pt x="906" y="161"/>
                              </a:moveTo>
                              <a:cubicBezTo>
                                <a:pt x="905" y="122"/>
                                <a:pt x="803" y="50"/>
                                <a:pt x="732" y="27"/>
                              </a:cubicBezTo>
                              <a:cubicBezTo>
                                <a:pt x="660" y="3"/>
                                <a:pt x="553" y="0"/>
                                <a:pt x="477" y="17"/>
                              </a:cubicBezTo>
                              <a:cubicBezTo>
                                <a:pt x="389" y="22"/>
                                <a:pt x="332" y="88"/>
                                <a:pt x="278" y="133"/>
                              </a:cubicBezTo>
                              <a:cubicBezTo>
                                <a:pt x="227" y="186"/>
                                <a:pt x="150" y="273"/>
                                <a:pt x="125" y="327"/>
                              </a:cubicBezTo>
                              <a:cubicBezTo>
                                <a:pt x="89" y="379"/>
                                <a:pt x="65" y="391"/>
                                <a:pt x="64" y="443"/>
                              </a:cubicBezTo>
                              <a:cubicBezTo>
                                <a:pt x="0" y="504"/>
                                <a:pt x="101" y="600"/>
                                <a:pt x="111" y="641"/>
                              </a:cubicBezTo>
                              <a:cubicBezTo>
                                <a:pt x="178" y="669"/>
                                <a:pt x="352" y="659"/>
                                <a:pt x="464" y="611"/>
                              </a:cubicBezTo>
                              <a:cubicBezTo>
                                <a:pt x="576" y="563"/>
                                <a:pt x="710" y="426"/>
                                <a:pt x="784" y="351"/>
                              </a:cubicBezTo>
                              <a:cubicBezTo>
                                <a:pt x="858" y="276"/>
                                <a:pt x="881" y="201"/>
                                <a:pt x="906" y="161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333333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74" name="Freeform 315"/>
                      <p:cNvSpPr/>
                      <p:nvPr/>
                    </p:nvSpPr>
                    <p:spPr>
                      <a:xfrm rot="20497200">
                        <a:off x="7840800" y="1135800"/>
                        <a:ext cx="315360" cy="363960"/>
                      </a:xfrm>
                      <a:custGeom>
                        <a:avLst/>
                        <a:gdLst>
                          <a:gd name="textAreaLeft" fmla="*/ 0 w 315360"/>
                          <a:gd name="textAreaRight" fmla="*/ 315720 w 315360"/>
                          <a:gd name="textAreaTop" fmla="*/ 0 h 363960"/>
                          <a:gd name="textAreaBottom" fmla="*/ 364320 h 363960"/>
                        </a:gdLst>
                        <a:ahLst/>
                        <a:rect l="textAreaLeft" t="textAreaTop" r="textAreaRight" b="textAreaBottom"/>
                        <a:pathLst>
                          <a:path w="1278" h="1733">
                            <a:moveTo>
                              <a:pt x="831" y="1642"/>
                            </a:moveTo>
                            <a:cubicBezTo>
                              <a:pt x="872" y="1667"/>
                              <a:pt x="889" y="1733"/>
                              <a:pt x="955" y="1717"/>
                            </a:cubicBezTo>
                            <a:cubicBezTo>
                              <a:pt x="1020" y="1701"/>
                              <a:pt x="1178" y="1610"/>
                              <a:pt x="1228" y="1547"/>
                            </a:cubicBezTo>
                            <a:cubicBezTo>
                              <a:pt x="1278" y="1484"/>
                              <a:pt x="1265" y="1431"/>
                              <a:pt x="1256" y="1340"/>
                            </a:cubicBezTo>
                            <a:cubicBezTo>
                              <a:pt x="1247" y="1249"/>
                              <a:pt x="1183" y="1110"/>
                              <a:pt x="1176" y="1000"/>
                            </a:cubicBezTo>
                            <a:cubicBezTo>
                              <a:pt x="1169" y="890"/>
                              <a:pt x="1223" y="795"/>
                              <a:pt x="1216" y="680"/>
                            </a:cubicBezTo>
                            <a:cubicBezTo>
                              <a:pt x="1209" y="565"/>
                              <a:pt x="1230" y="421"/>
                              <a:pt x="1134" y="309"/>
                            </a:cubicBezTo>
                            <a:cubicBezTo>
                              <a:pt x="1038" y="197"/>
                              <a:pt x="812" y="0"/>
                              <a:pt x="638" y="7"/>
                            </a:cubicBezTo>
                            <a:cubicBezTo>
                              <a:pt x="464" y="13"/>
                              <a:pt x="180" y="185"/>
                              <a:pt x="90" y="347"/>
                            </a:cubicBezTo>
                            <a:cubicBezTo>
                              <a:pt x="0" y="509"/>
                              <a:pt x="55" y="815"/>
                              <a:pt x="96" y="980"/>
                            </a:cubicBezTo>
                            <a:cubicBezTo>
                              <a:pt x="137" y="1145"/>
                              <a:pt x="233" y="1243"/>
                              <a:pt x="335" y="1340"/>
                            </a:cubicBezTo>
                            <a:cubicBezTo>
                              <a:pt x="437" y="1437"/>
                              <a:pt x="624" y="1516"/>
                              <a:pt x="707" y="1566"/>
                            </a:cubicBezTo>
                            <a:cubicBezTo>
                              <a:pt x="789" y="1616"/>
                              <a:pt x="789" y="1616"/>
                              <a:pt x="831" y="1642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ffcc"/>
                          </a:gs>
                          <a:gs pos="50000">
                            <a:srgbClr val="008000"/>
                          </a:gs>
                          <a:gs pos="100000">
                            <a:srgbClr val="ccffcc"/>
                          </a:gs>
                        </a:gsLst>
                        <a:lin ang="3804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5" name="Freeform 316"/>
                      <p:cNvSpPr/>
                      <p:nvPr/>
                    </p:nvSpPr>
                    <p:spPr>
                      <a:xfrm rot="224400">
                        <a:off x="8450640" y="1193400"/>
                        <a:ext cx="75960" cy="119880"/>
                      </a:xfrm>
                      <a:custGeom>
                        <a:avLst/>
                        <a:gdLst>
                          <a:gd name="textAreaLeft" fmla="*/ 0 w 75960"/>
                          <a:gd name="textAreaRight" fmla="*/ 76320 w 75960"/>
                          <a:gd name="textAreaTop" fmla="*/ 0 h 119880"/>
                          <a:gd name="textAreaBottom" fmla="*/ 120240 h 119880"/>
                        </a:gdLst>
                        <a:ahLst/>
                        <a:rect l="textAreaLeft" t="textAreaTop" r="textAreaRight" b="textAreaBottom"/>
                        <a:pathLst>
                          <a:path w="840" h="1890">
                            <a:moveTo>
                              <a:pt x="810" y="1830"/>
                            </a:moveTo>
                            <a:cubicBezTo>
                              <a:pt x="780" y="1890"/>
                              <a:pt x="180" y="840"/>
                              <a:pt x="90" y="570"/>
                            </a:cubicBezTo>
                            <a:cubicBezTo>
                              <a:pt x="0" y="300"/>
                              <a:pt x="150" y="0"/>
                              <a:pt x="270" y="210"/>
                            </a:cubicBezTo>
                            <a:cubicBezTo>
                              <a:pt x="390" y="420"/>
                              <a:pt x="840" y="1770"/>
                              <a:pt x="810" y="1830"/>
                            </a:cubicBezTo>
                            <a:close/>
                          </a:path>
                        </a:pathLst>
                      </a:custGeom>
                      <a:solidFill>
                        <a:srgbClr val="333333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6" name="Freeform 317"/>
                      <p:cNvSpPr/>
                      <p:nvPr/>
                    </p:nvSpPr>
                    <p:spPr>
                      <a:xfrm rot="224400">
                        <a:off x="8267400" y="1106640"/>
                        <a:ext cx="76320" cy="119520"/>
                      </a:xfrm>
                      <a:custGeom>
                        <a:avLst/>
                        <a:gdLst>
                          <a:gd name="textAreaLeft" fmla="*/ 0 w 76320"/>
                          <a:gd name="textAreaRight" fmla="*/ 76680 w 76320"/>
                          <a:gd name="textAreaTop" fmla="*/ 0 h 119520"/>
                          <a:gd name="textAreaBottom" fmla="*/ 119880 h 119520"/>
                        </a:gdLst>
                        <a:ahLst/>
                        <a:rect l="textAreaLeft" t="textAreaTop" r="textAreaRight" b="textAreaBottom"/>
                        <a:pathLst>
                          <a:path w="840" h="1890">
                            <a:moveTo>
                              <a:pt x="810" y="1830"/>
                            </a:moveTo>
                            <a:cubicBezTo>
                              <a:pt x="780" y="1890"/>
                              <a:pt x="180" y="840"/>
                              <a:pt x="90" y="570"/>
                            </a:cubicBezTo>
                            <a:cubicBezTo>
                              <a:pt x="0" y="300"/>
                              <a:pt x="150" y="0"/>
                              <a:pt x="270" y="210"/>
                            </a:cubicBezTo>
                            <a:cubicBezTo>
                              <a:pt x="390" y="420"/>
                              <a:pt x="840" y="1770"/>
                              <a:pt x="810" y="1830"/>
                            </a:cubicBezTo>
                            <a:close/>
                          </a:path>
                        </a:pathLst>
                      </a:custGeom>
                      <a:solidFill>
                        <a:srgbClr val="333333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77" name="Group 318"/>
                      <p:cNvGrpSpPr/>
                      <p:nvPr/>
                    </p:nvGrpSpPr>
                    <p:grpSpPr>
                      <a:xfrm>
                        <a:off x="8137800" y="1712520"/>
                        <a:ext cx="69840" cy="42120"/>
                        <a:chOff x="8137800" y="1712520"/>
                        <a:chExt cx="69840" cy="42120"/>
                      </a:xfrm>
                    </p:grpSpPr>
                    <p:sp>
                      <p:nvSpPr>
                        <p:cNvPr id="578" name="Line 319"/>
                        <p:cNvSpPr/>
                        <p:nvPr/>
                      </p:nvSpPr>
                      <p:spPr>
                        <a:xfrm flipH="1">
                          <a:off x="8137800" y="1719000"/>
                          <a:ext cx="68400" cy="352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9" name="Line 320"/>
                        <p:cNvSpPr/>
                        <p:nvPr/>
                      </p:nvSpPr>
                      <p:spPr>
                        <a:xfrm flipV="1">
                          <a:off x="8138160" y="1712520"/>
                          <a:ext cx="69480" cy="421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" bIns="-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0" name="Line 321"/>
                        <p:cNvSpPr/>
                        <p:nvPr/>
                      </p:nvSpPr>
                      <p:spPr>
                        <a:xfrm flipH="1">
                          <a:off x="8206200" y="1712880"/>
                          <a:ext cx="1080" cy="64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1" name="Group 322"/>
                      <p:cNvGrpSpPr/>
                      <p:nvPr/>
                    </p:nvGrpSpPr>
                    <p:grpSpPr>
                      <a:xfrm>
                        <a:off x="8118360" y="1621440"/>
                        <a:ext cx="70920" cy="52200"/>
                        <a:chOff x="8118360" y="1621440"/>
                        <a:chExt cx="70920" cy="52200"/>
                      </a:xfrm>
                    </p:grpSpPr>
                    <p:sp>
                      <p:nvSpPr>
                        <p:cNvPr id="582" name="Line 323"/>
                        <p:cNvSpPr/>
                        <p:nvPr/>
                      </p:nvSpPr>
                      <p:spPr>
                        <a:xfrm flipH="1" flipV="1">
                          <a:off x="8118360" y="1621440"/>
                          <a:ext cx="63720" cy="51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3" name="Line 324"/>
                        <p:cNvSpPr/>
                        <p:nvPr/>
                      </p:nvSpPr>
                      <p:spPr>
                        <a:xfrm>
                          <a:off x="8118720" y="1621440"/>
                          <a:ext cx="70560" cy="482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40" bIns="1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4" name="Line 325"/>
                        <p:cNvSpPr/>
                        <p:nvPr/>
                      </p:nvSpPr>
                      <p:spPr>
                        <a:xfrm flipH="1">
                          <a:off x="8182080" y="1670040"/>
                          <a:ext cx="6840" cy="36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5" name="Group 326"/>
                      <p:cNvGrpSpPr/>
                      <p:nvPr/>
                    </p:nvGrpSpPr>
                    <p:grpSpPr>
                      <a:xfrm>
                        <a:off x="8267040" y="1507320"/>
                        <a:ext cx="5400" cy="104760"/>
                        <a:chOff x="8267040" y="1507320"/>
                        <a:chExt cx="5400" cy="104760"/>
                      </a:xfrm>
                    </p:grpSpPr>
                    <p:sp>
                      <p:nvSpPr>
                        <p:cNvPr id="586" name="Line 327"/>
                        <p:cNvSpPr/>
                        <p:nvPr/>
                      </p:nvSpPr>
                      <p:spPr>
                        <a:xfrm flipV="1">
                          <a:off x="8267400" y="1507320"/>
                          <a:ext cx="2520" cy="972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7" name="Line 328"/>
                        <p:cNvSpPr/>
                        <p:nvPr/>
                      </p:nvSpPr>
                      <p:spPr>
                        <a:xfrm>
                          <a:off x="8269920" y="1507680"/>
                          <a:ext cx="2520" cy="1044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8" name="Line 329"/>
                        <p:cNvSpPr/>
                        <p:nvPr/>
                      </p:nvSpPr>
                      <p:spPr>
                        <a:xfrm flipH="1" flipV="1">
                          <a:off x="8267040" y="1604520"/>
                          <a:ext cx="5400" cy="72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0" bIns="-39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9" name="Group 330"/>
                      <p:cNvGrpSpPr/>
                      <p:nvPr/>
                    </p:nvGrpSpPr>
                    <p:grpSpPr>
                      <a:xfrm>
                        <a:off x="8359200" y="1480680"/>
                        <a:ext cx="30600" cy="86400"/>
                        <a:chOff x="8359200" y="1480680"/>
                        <a:chExt cx="30600" cy="86400"/>
                      </a:xfrm>
                    </p:grpSpPr>
                    <p:sp>
                      <p:nvSpPr>
                        <p:cNvPr id="590" name="Line 331"/>
                        <p:cNvSpPr/>
                        <p:nvPr/>
                      </p:nvSpPr>
                      <p:spPr>
                        <a:xfrm flipV="1">
                          <a:off x="8359560" y="1480680"/>
                          <a:ext cx="30240" cy="78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040" bIns="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1" name="Line 332"/>
                        <p:cNvSpPr/>
                        <p:nvPr/>
                      </p:nvSpPr>
                      <p:spPr>
                        <a:xfrm flipH="1">
                          <a:off x="8362440" y="1481040"/>
                          <a:ext cx="27000" cy="860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240" bIns="39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2" name="Line 333"/>
                        <p:cNvSpPr/>
                        <p:nvPr/>
                      </p:nvSpPr>
                      <p:spPr>
                        <a:xfrm flipH="1" flipV="1">
                          <a:off x="8359200" y="1559880"/>
                          <a:ext cx="3240" cy="72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0" bIns="-39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93" name="Group 334"/>
                      <p:cNvGrpSpPr/>
                      <p:nvPr/>
                    </p:nvGrpSpPr>
                    <p:grpSpPr>
                      <a:xfrm>
                        <a:off x="8266680" y="1712160"/>
                        <a:ext cx="30240" cy="75600"/>
                        <a:chOff x="8266680" y="1712160"/>
                        <a:chExt cx="30240" cy="75600"/>
                      </a:xfrm>
                    </p:grpSpPr>
                    <p:sp>
                      <p:nvSpPr>
                        <p:cNvPr id="594" name="Line 335"/>
                        <p:cNvSpPr/>
                        <p:nvPr/>
                      </p:nvSpPr>
                      <p:spPr>
                        <a:xfrm>
                          <a:off x="8272800" y="1715040"/>
                          <a:ext cx="24120" cy="72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Line 336"/>
                        <p:cNvSpPr/>
                        <p:nvPr/>
                      </p:nvSpPr>
                      <p:spPr>
                        <a:xfrm flipH="1" flipV="1">
                          <a:off x="8266680" y="1712160"/>
                          <a:ext cx="30240" cy="756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0" bIns="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6" name="Line 337"/>
                        <p:cNvSpPr/>
                        <p:nvPr/>
                      </p:nvSpPr>
                      <p:spPr>
                        <a:xfrm>
                          <a:off x="8266680" y="1712520"/>
                          <a:ext cx="6480" cy="25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97" name="Group 338"/>
                      <p:cNvGrpSpPr/>
                      <p:nvPr/>
                    </p:nvGrpSpPr>
                    <p:grpSpPr>
                      <a:xfrm>
                        <a:off x="8341920" y="1635120"/>
                        <a:ext cx="52920" cy="67320"/>
                        <a:chOff x="8341920" y="1635120"/>
                        <a:chExt cx="52920" cy="67320"/>
                      </a:xfrm>
                    </p:grpSpPr>
                    <p:sp>
                      <p:nvSpPr>
                        <p:cNvPr id="598" name="Line 339"/>
                        <p:cNvSpPr/>
                        <p:nvPr/>
                      </p:nvSpPr>
                      <p:spPr>
                        <a:xfrm>
                          <a:off x="8349120" y="1636920"/>
                          <a:ext cx="45720" cy="655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720" bIns="18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9" name="Line 340"/>
                        <p:cNvSpPr/>
                        <p:nvPr/>
                      </p:nvSpPr>
                      <p:spPr>
                        <a:xfrm flipH="1" flipV="1">
                          <a:off x="8342280" y="1635120"/>
                          <a:ext cx="52560" cy="666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9800" bIns="19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0" name="Line 341"/>
                        <p:cNvSpPr/>
                        <p:nvPr/>
                      </p:nvSpPr>
                      <p:spPr>
                        <a:xfrm>
                          <a:off x="8341920" y="1635480"/>
                          <a:ext cx="6840" cy="10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01" name="Group 342"/>
                      <p:cNvGrpSpPr/>
                      <p:nvPr/>
                    </p:nvGrpSpPr>
                    <p:grpSpPr>
                      <a:xfrm>
                        <a:off x="8404200" y="1609920"/>
                        <a:ext cx="79560" cy="33480"/>
                        <a:chOff x="8404200" y="1609920"/>
                        <a:chExt cx="79560" cy="33480"/>
                      </a:xfrm>
                    </p:grpSpPr>
                    <p:sp>
                      <p:nvSpPr>
                        <p:cNvPr id="602" name="Line 343"/>
                        <p:cNvSpPr/>
                        <p:nvPr/>
                      </p:nvSpPr>
                      <p:spPr>
                        <a:xfrm>
                          <a:off x="8411040" y="1609920"/>
                          <a:ext cx="72720" cy="334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3" name="Line 344"/>
                        <p:cNvSpPr/>
                        <p:nvPr/>
                      </p:nvSpPr>
                      <p:spPr>
                        <a:xfrm flipH="1" flipV="1">
                          <a:off x="8404200" y="1611720"/>
                          <a:ext cx="79560" cy="31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480" bIns="-15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Line 345"/>
                        <p:cNvSpPr/>
                        <p:nvPr/>
                      </p:nvSpPr>
                      <p:spPr>
                        <a:xfrm flipV="1">
                          <a:off x="8404200" y="1609920"/>
                          <a:ext cx="6840" cy="21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05" name="Group 346"/>
                      <p:cNvGrpSpPr/>
                      <p:nvPr/>
                    </p:nvGrpSpPr>
                    <p:grpSpPr>
                      <a:xfrm>
                        <a:off x="7655400" y="1455840"/>
                        <a:ext cx="14040" cy="81720"/>
                        <a:chOff x="7655400" y="1455840"/>
                        <a:chExt cx="14040" cy="81720"/>
                      </a:xfrm>
                    </p:grpSpPr>
                    <p:sp>
                      <p:nvSpPr>
                        <p:cNvPr id="606" name="Line 347"/>
                        <p:cNvSpPr/>
                        <p:nvPr/>
                      </p:nvSpPr>
                      <p:spPr>
                        <a:xfrm flipH="1" flipV="1">
                          <a:off x="7655760" y="1455840"/>
                          <a:ext cx="6120" cy="802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7" name="Line 348"/>
                        <p:cNvSpPr/>
                        <p:nvPr/>
                      </p:nvSpPr>
                      <p:spPr>
                        <a:xfrm>
                          <a:off x="7655400" y="1456200"/>
                          <a:ext cx="13680" cy="813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560" bIns="34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8" name="Line 349"/>
                        <p:cNvSpPr/>
                        <p:nvPr/>
                      </p:nvSpPr>
                      <p:spPr>
                        <a:xfrm flipH="1" flipV="1">
                          <a:off x="7661880" y="1536120"/>
                          <a:ext cx="7560" cy="14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09" name="Group 350"/>
                      <p:cNvGrpSpPr/>
                      <p:nvPr/>
                    </p:nvGrpSpPr>
                    <p:grpSpPr>
                      <a:xfrm>
                        <a:off x="7560720" y="1614600"/>
                        <a:ext cx="85320" cy="7920"/>
                        <a:chOff x="7560720" y="1614600"/>
                        <a:chExt cx="85320" cy="7920"/>
                      </a:xfrm>
                    </p:grpSpPr>
                    <p:sp>
                      <p:nvSpPr>
                        <p:cNvPr id="610" name="Line 351"/>
                        <p:cNvSpPr/>
                        <p:nvPr/>
                      </p:nvSpPr>
                      <p:spPr>
                        <a:xfrm flipH="1" flipV="1">
                          <a:off x="7560720" y="1614600"/>
                          <a:ext cx="81720" cy="75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1" name="Line 352"/>
                        <p:cNvSpPr/>
                        <p:nvPr/>
                      </p:nvSpPr>
                      <p:spPr>
                        <a:xfrm>
                          <a:off x="7560720" y="1614600"/>
                          <a:ext cx="85320" cy="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080" bIns="-46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2" name="Line 353"/>
                        <p:cNvSpPr/>
                        <p:nvPr/>
                      </p:nvSpPr>
                      <p:spPr>
                        <a:xfrm flipH="1">
                          <a:off x="7642440" y="1615680"/>
                          <a:ext cx="3600" cy="6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13" name="Group 354"/>
                      <p:cNvGrpSpPr/>
                      <p:nvPr/>
                    </p:nvGrpSpPr>
                    <p:grpSpPr>
                      <a:xfrm>
                        <a:off x="7607520" y="1703880"/>
                        <a:ext cx="82080" cy="23760"/>
                        <a:chOff x="7607520" y="1703880"/>
                        <a:chExt cx="82080" cy="23760"/>
                      </a:xfrm>
                    </p:grpSpPr>
                    <p:sp>
                      <p:nvSpPr>
                        <p:cNvPr id="614" name="Line 355"/>
                        <p:cNvSpPr/>
                        <p:nvPr/>
                      </p:nvSpPr>
                      <p:spPr>
                        <a:xfrm flipH="1">
                          <a:off x="7607520" y="1711800"/>
                          <a:ext cx="80640" cy="15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5" name="Line 356"/>
                        <p:cNvSpPr/>
                        <p:nvPr/>
                      </p:nvSpPr>
                      <p:spPr>
                        <a:xfrm flipV="1">
                          <a:off x="7607520" y="1703880"/>
                          <a:ext cx="82080" cy="234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6" name="Line 357"/>
                        <p:cNvSpPr/>
                        <p:nvPr/>
                      </p:nvSpPr>
                      <p:spPr>
                        <a:xfrm flipH="1">
                          <a:off x="7688160" y="1704600"/>
                          <a:ext cx="1440" cy="75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17" name="Group 358"/>
                      <p:cNvGrpSpPr/>
                      <p:nvPr/>
                    </p:nvGrpSpPr>
                    <p:grpSpPr>
                      <a:xfrm>
                        <a:off x="7690680" y="1737720"/>
                        <a:ext cx="39960" cy="75240"/>
                        <a:chOff x="7690680" y="1737720"/>
                        <a:chExt cx="39960" cy="75240"/>
                      </a:xfrm>
                    </p:grpSpPr>
                    <p:sp>
                      <p:nvSpPr>
                        <p:cNvPr id="618" name="Line 359"/>
                        <p:cNvSpPr/>
                        <p:nvPr/>
                      </p:nvSpPr>
                      <p:spPr>
                        <a:xfrm flipH="1">
                          <a:off x="7690680" y="1743120"/>
                          <a:ext cx="39960" cy="69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9" name="Line 360"/>
                        <p:cNvSpPr/>
                        <p:nvPr/>
                      </p:nvSpPr>
                      <p:spPr>
                        <a:xfrm flipV="1">
                          <a:off x="7691040" y="1737720"/>
                          <a:ext cx="34200" cy="752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440" bIns="28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0" name="Line 361"/>
                        <p:cNvSpPr/>
                        <p:nvPr/>
                      </p:nvSpPr>
                      <p:spPr>
                        <a:xfrm>
                          <a:off x="7724880" y="1737720"/>
                          <a:ext cx="5760" cy="54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400" bIns="-41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21" name="Group 362"/>
                      <p:cNvGrpSpPr/>
                      <p:nvPr/>
                    </p:nvGrpSpPr>
                    <p:grpSpPr>
                      <a:xfrm>
                        <a:off x="7798320" y="1723680"/>
                        <a:ext cx="34560" cy="78480"/>
                        <a:chOff x="7798320" y="1723680"/>
                        <a:chExt cx="34560" cy="78480"/>
                      </a:xfrm>
                    </p:grpSpPr>
                    <p:sp>
                      <p:nvSpPr>
                        <p:cNvPr id="622" name="Line 363"/>
                        <p:cNvSpPr/>
                        <p:nvPr/>
                      </p:nvSpPr>
                      <p:spPr>
                        <a:xfrm>
                          <a:off x="7806240" y="1724040"/>
                          <a:ext cx="26640" cy="781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3" name="Line 364"/>
                        <p:cNvSpPr/>
                        <p:nvPr/>
                      </p:nvSpPr>
                      <p:spPr>
                        <a:xfrm flipH="1" flipV="1">
                          <a:off x="7798320" y="1723680"/>
                          <a:ext cx="34200" cy="781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4" name="Line 365"/>
                        <p:cNvSpPr/>
                        <p:nvPr/>
                      </p:nvSpPr>
                      <p:spPr>
                        <a:xfrm>
                          <a:off x="7798680" y="1723680"/>
                          <a:ext cx="7920" cy="3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25" name="Group 366"/>
                      <p:cNvGrpSpPr/>
                      <p:nvPr/>
                    </p:nvGrpSpPr>
                    <p:grpSpPr>
                      <a:xfrm>
                        <a:off x="7790040" y="1428480"/>
                        <a:ext cx="137880" cy="86400"/>
                        <a:chOff x="7790040" y="1428480"/>
                        <a:chExt cx="137880" cy="86400"/>
                      </a:xfrm>
                    </p:grpSpPr>
                    <p:sp>
                      <p:nvSpPr>
                        <p:cNvPr id="626" name="Line 367"/>
                        <p:cNvSpPr/>
                        <p:nvPr/>
                      </p:nvSpPr>
                      <p:spPr>
                        <a:xfrm flipH="1" flipV="1">
                          <a:off x="7790040" y="1428480"/>
                          <a:ext cx="124200" cy="860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240" bIns="39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7" name="Line 368"/>
                        <p:cNvSpPr/>
                        <p:nvPr/>
                      </p:nvSpPr>
                      <p:spPr>
                        <a:xfrm>
                          <a:off x="7790040" y="1428480"/>
                          <a:ext cx="137880" cy="82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000" bIns="36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8" name="Line 369"/>
                        <p:cNvSpPr/>
                        <p:nvPr/>
                      </p:nvSpPr>
                      <p:spPr>
                        <a:xfrm flipH="1">
                          <a:off x="7913880" y="1511640"/>
                          <a:ext cx="13320" cy="32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29" name="Group 370"/>
                      <p:cNvGrpSpPr/>
                      <p:nvPr/>
                    </p:nvGrpSpPr>
                    <p:grpSpPr>
                      <a:xfrm>
                        <a:off x="7852680" y="1806480"/>
                        <a:ext cx="122760" cy="92880"/>
                        <a:chOff x="7852680" y="1806480"/>
                        <a:chExt cx="122760" cy="92880"/>
                      </a:xfrm>
                    </p:grpSpPr>
                    <p:sp>
                      <p:nvSpPr>
                        <p:cNvPr id="630" name="Line 371"/>
                        <p:cNvSpPr/>
                        <p:nvPr/>
                      </p:nvSpPr>
                      <p:spPr>
                        <a:xfrm flipH="1">
                          <a:off x="7852680" y="1819800"/>
                          <a:ext cx="121680" cy="792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0" bIns="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1" name="Line 372"/>
                        <p:cNvSpPr/>
                        <p:nvPr/>
                      </p:nvSpPr>
                      <p:spPr>
                        <a:xfrm flipV="1">
                          <a:off x="7853040" y="1806480"/>
                          <a:ext cx="122400" cy="928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080" bIns="46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2" name="Line 373"/>
                        <p:cNvSpPr/>
                        <p:nvPr/>
                      </p:nvSpPr>
                      <p:spPr>
                        <a:xfrm flipH="1">
                          <a:off x="7974000" y="1806840"/>
                          <a:ext cx="1080" cy="13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3" name="Group 374"/>
                      <p:cNvGrpSpPr/>
                      <p:nvPr/>
                    </p:nvGrpSpPr>
                    <p:grpSpPr>
                      <a:xfrm>
                        <a:off x="7950240" y="1100880"/>
                        <a:ext cx="7560" cy="83160"/>
                        <a:chOff x="7950240" y="1100880"/>
                        <a:chExt cx="7560" cy="83160"/>
                      </a:xfrm>
                    </p:grpSpPr>
                    <p:sp>
                      <p:nvSpPr>
                        <p:cNvPr id="634" name="Line 375"/>
                        <p:cNvSpPr/>
                        <p:nvPr/>
                      </p:nvSpPr>
                      <p:spPr>
                        <a:xfrm flipV="1">
                          <a:off x="7950240" y="1100880"/>
                          <a:ext cx="7560" cy="802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5" name="Line 376"/>
                        <p:cNvSpPr/>
                        <p:nvPr/>
                      </p:nvSpPr>
                      <p:spPr>
                        <a:xfrm flipH="1">
                          <a:off x="7957080" y="1101240"/>
                          <a:ext cx="360" cy="82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000" bIns="36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6" name="Line 377"/>
                        <p:cNvSpPr/>
                        <p:nvPr/>
                      </p:nvSpPr>
                      <p:spPr>
                        <a:xfrm flipH="1" flipV="1">
                          <a:off x="7950240" y="1181160"/>
                          <a:ext cx="7200" cy="25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7" name="Group 378"/>
                      <p:cNvGrpSpPr/>
                      <p:nvPr/>
                    </p:nvGrpSpPr>
                    <p:grpSpPr>
                      <a:xfrm>
                        <a:off x="7817760" y="1154520"/>
                        <a:ext cx="63000" cy="61200"/>
                        <a:chOff x="7817760" y="1154520"/>
                        <a:chExt cx="63000" cy="61200"/>
                      </a:xfrm>
                    </p:grpSpPr>
                    <p:sp>
                      <p:nvSpPr>
                        <p:cNvPr id="638" name="Line 379"/>
                        <p:cNvSpPr/>
                        <p:nvPr/>
                      </p:nvSpPr>
                      <p:spPr>
                        <a:xfrm flipH="1" flipV="1">
                          <a:off x="7817760" y="1154520"/>
                          <a:ext cx="55440" cy="60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040" bIns="14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9" name="Line 380"/>
                        <p:cNvSpPr/>
                        <p:nvPr/>
                      </p:nvSpPr>
                      <p:spPr>
                        <a:xfrm>
                          <a:off x="7818120" y="1154880"/>
                          <a:ext cx="62640" cy="579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160" bIns="11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0" name="Line 381"/>
                        <p:cNvSpPr/>
                        <p:nvPr/>
                      </p:nvSpPr>
                      <p:spPr>
                        <a:xfrm flipH="1">
                          <a:off x="7873200" y="1212840"/>
                          <a:ext cx="7200" cy="28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41" name="Group 382"/>
                      <p:cNvGrpSpPr/>
                      <p:nvPr/>
                    </p:nvGrpSpPr>
                    <p:grpSpPr>
                      <a:xfrm>
                        <a:off x="7759080" y="1280880"/>
                        <a:ext cx="85680" cy="13320"/>
                        <a:chOff x="7759080" y="1280880"/>
                        <a:chExt cx="85680" cy="13320"/>
                      </a:xfrm>
                    </p:grpSpPr>
                    <p:sp>
                      <p:nvSpPr>
                        <p:cNvPr id="642" name="Line 383"/>
                        <p:cNvSpPr/>
                        <p:nvPr/>
                      </p:nvSpPr>
                      <p:spPr>
                        <a:xfrm flipH="1" flipV="1">
                          <a:off x="7759080" y="1280880"/>
                          <a:ext cx="81360" cy="129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3" name="Line 384"/>
                        <p:cNvSpPr/>
                        <p:nvPr/>
                      </p:nvSpPr>
                      <p:spPr>
                        <a:xfrm>
                          <a:off x="7759440" y="1280880"/>
                          <a:ext cx="85320" cy="61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4" name="Line 385"/>
                        <p:cNvSpPr/>
                        <p:nvPr/>
                      </p:nvSpPr>
                      <p:spPr>
                        <a:xfrm flipH="1">
                          <a:off x="7840440" y="1287720"/>
                          <a:ext cx="3960" cy="64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45" name="Group 386"/>
                      <p:cNvGrpSpPr/>
                      <p:nvPr/>
                    </p:nvGrpSpPr>
                    <p:grpSpPr>
                      <a:xfrm>
                        <a:off x="7924320" y="1256040"/>
                        <a:ext cx="63720" cy="60120"/>
                        <a:chOff x="7924320" y="1256040"/>
                        <a:chExt cx="63720" cy="60120"/>
                      </a:xfrm>
                    </p:grpSpPr>
                    <p:sp>
                      <p:nvSpPr>
                        <p:cNvPr id="646" name="Line 387"/>
                        <p:cNvSpPr/>
                        <p:nvPr/>
                      </p:nvSpPr>
                      <p:spPr>
                        <a:xfrm flipH="1" flipV="1">
                          <a:off x="7924320" y="1256040"/>
                          <a:ext cx="56160" cy="59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960" bIns="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7" name="Line 388"/>
                        <p:cNvSpPr/>
                        <p:nvPr/>
                      </p:nvSpPr>
                      <p:spPr>
                        <a:xfrm>
                          <a:off x="7924680" y="1256040"/>
                          <a:ext cx="63360" cy="572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8" name="Line 389"/>
                        <p:cNvSpPr/>
                        <p:nvPr/>
                      </p:nvSpPr>
                      <p:spPr>
                        <a:xfrm flipH="1">
                          <a:off x="7980480" y="1313280"/>
                          <a:ext cx="7200" cy="28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49" name="Group 390"/>
                      <p:cNvGrpSpPr/>
                      <p:nvPr/>
                    </p:nvGrpSpPr>
                    <p:grpSpPr>
                      <a:xfrm>
                        <a:off x="8587800" y="1335240"/>
                        <a:ext cx="79920" cy="23040"/>
                        <a:chOff x="8587800" y="1335240"/>
                        <a:chExt cx="79920" cy="23040"/>
                      </a:xfrm>
                    </p:grpSpPr>
                    <p:sp>
                      <p:nvSpPr>
                        <p:cNvPr id="650" name="Line 391"/>
                        <p:cNvSpPr/>
                        <p:nvPr/>
                      </p:nvSpPr>
                      <p:spPr>
                        <a:xfrm flipV="1">
                          <a:off x="8588520" y="1335240"/>
                          <a:ext cx="79200" cy="154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1" name="Line 392"/>
                        <p:cNvSpPr/>
                        <p:nvPr/>
                      </p:nvSpPr>
                      <p:spPr>
                        <a:xfrm flipH="1">
                          <a:off x="8587800" y="1335240"/>
                          <a:ext cx="79560" cy="226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2" name="Line 393"/>
                        <p:cNvSpPr/>
                        <p:nvPr/>
                      </p:nvSpPr>
                      <p:spPr>
                        <a:xfrm flipV="1">
                          <a:off x="8588160" y="1350720"/>
                          <a:ext cx="360" cy="75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53" name="Group 394"/>
                      <p:cNvGrpSpPr/>
                      <p:nvPr/>
                    </p:nvGrpSpPr>
                    <p:grpSpPr>
                      <a:xfrm>
                        <a:off x="8560440" y="1181880"/>
                        <a:ext cx="73080" cy="40680"/>
                        <a:chOff x="8560440" y="1181880"/>
                        <a:chExt cx="73080" cy="40680"/>
                      </a:xfrm>
                    </p:grpSpPr>
                    <p:sp>
                      <p:nvSpPr>
                        <p:cNvPr id="654" name="Line 395"/>
                        <p:cNvSpPr/>
                        <p:nvPr/>
                      </p:nvSpPr>
                      <p:spPr>
                        <a:xfrm flipV="1">
                          <a:off x="8560440" y="1181880"/>
                          <a:ext cx="73080" cy="331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680" bIns="-13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5" name="Line 396"/>
                        <p:cNvSpPr/>
                        <p:nvPr/>
                      </p:nvSpPr>
                      <p:spPr>
                        <a:xfrm flipH="1">
                          <a:off x="8561520" y="1181880"/>
                          <a:ext cx="72000" cy="406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120" bIns="-6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6" name="Line 397"/>
                        <p:cNvSpPr/>
                        <p:nvPr/>
                      </p:nvSpPr>
                      <p:spPr>
                        <a:xfrm flipH="1" flipV="1">
                          <a:off x="8560440" y="1215000"/>
                          <a:ext cx="1080" cy="75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57" name="Group 398"/>
                      <p:cNvGrpSpPr/>
                      <p:nvPr/>
                    </p:nvGrpSpPr>
                    <p:grpSpPr>
                      <a:xfrm>
                        <a:off x="8472960" y="1087560"/>
                        <a:ext cx="63720" cy="56160"/>
                        <a:chOff x="8472960" y="1087560"/>
                        <a:chExt cx="63720" cy="56160"/>
                      </a:xfrm>
                    </p:grpSpPr>
                    <p:sp>
                      <p:nvSpPr>
                        <p:cNvPr id="658" name="Line 399"/>
                        <p:cNvSpPr/>
                        <p:nvPr/>
                      </p:nvSpPr>
                      <p:spPr>
                        <a:xfrm flipV="1">
                          <a:off x="8472960" y="1087560"/>
                          <a:ext cx="63720" cy="49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9" name="Line 400"/>
                        <p:cNvSpPr/>
                        <p:nvPr/>
                      </p:nvSpPr>
                      <p:spPr>
                        <a:xfrm flipH="1">
                          <a:off x="8475840" y="1087560"/>
                          <a:ext cx="60480" cy="561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0" name="Line 401"/>
                        <p:cNvSpPr/>
                        <p:nvPr/>
                      </p:nvSpPr>
                      <p:spPr>
                        <a:xfrm flipH="1" flipV="1">
                          <a:off x="8472960" y="1136880"/>
                          <a:ext cx="3240" cy="6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61" name="Group 402"/>
                      <p:cNvGrpSpPr/>
                      <p:nvPr/>
                    </p:nvGrpSpPr>
                    <p:grpSpPr>
                      <a:xfrm>
                        <a:off x="8251560" y="1015560"/>
                        <a:ext cx="20880" cy="80280"/>
                        <a:chOff x="8251560" y="1015560"/>
                        <a:chExt cx="20880" cy="80280"/>
                      </a:xfrm>
                    </p:grpSpPr>
                    <p:sp>
                      <p:nvSpPr>
                        <p:cNvPr id="662" name="Line 403"/>
                        <p:cNvSpPr/>
                        <p:nvPr/>
                      </p:nvSpPr>
                      <p:spPr>
                        <a:xfrm flipH="1" flipV="1">
                          <a:off x="8251920" y="1015560"/>
                          <a:ext cx="12960" cy="792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0" bIns="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3" name="Line 404"/>
                        <p:cNvSpPr/>
                        <p:nvPr/>
                      </p:nvSpPr>
                      <p:spPr>
                        <a:xfrm>
                          <a:off x="8251560" y="1015560"/>
                          <a:ext cx="20520" cy="802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4" name="Line 405"/>
                        <p:cNvSpPr/>
                        <p:nvPr/>
                      </p:nvSpPr>
                      <p:spPr>
                        <a:xfrm flipH="1" flipV="1">
                          <a:off x="8264880" y="1094760"/>
                          <a:ext cx="7560" cy="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080" bIns="-46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65" name="AutoShape 406"/>
                    <p:cNvSpPr/>
                    <p:nvPr/>
                  </p:nvSpPr>
                  <p:spPr>
                    <a:xfrm rot="16599600">
                      <a:off x="8055720" y="1446480"/>
                      <a:ext cx="114840" cy="18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000" y="1866"/>
                            <a:pt x="10400" y="5080"/>
                            <a:pt x="10400" y="10800"/>
                          </a:cubicBezTo>
                          <a:cubicBezTo>
                            <a:pt x="10400" y="16520"/>
                            <a:pt x="16000" y="19734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6" name="Oval 407"/>
                  <p:cNvSpPr/>
                  <p:nvPr/>
                </p:nvSpPr>
                <p:spPr>
                  <a:xfrm>
                    <a:off x="8434080" y="682560"/>
                    <a:ext cx="108360" cy="108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0982"/>
                      </a:gs>
                      <a:gs pos="100000">
                        <a:srgbClr val="63043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Oval 408"/>
                  <p:cNvSpPr/>
                  <p:nvPr/>
                </p:nvSpPr>
                <p:spPr>
                  <a:xfrm>
                    <a:off x="8786520" y="877320"/>
                    <a:ext cx="122040" cy="114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0982"/>
                      </a:gs>
                      <a:gs pos="100000">
                        <a:srgbClr val="63043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68" name="Rectangle 409"/>
              <p:cNvSpPr/>
              <p:nvPr/>
            </p:nvSpPr>
            <p:spPr>
              <a:xfrm>
                <a:off x="7256160" y="440280"/>
                <a:ext cx="1417320" cy="946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9" name="Group 275"/>
          <p:cNvGrpSpPr/>
          <p:nvPr/>
        </p:nvGrpSpPr>
        <p:grpSpPr>
          <a:xfrm>
            <a:off x="2643120" y="2603880"/>
            <a:ext cx="3684600" cy="4254120"/>
            <a:chOff x="2643120" y="2603880"/>
            <a:chExt cx="3684600" cy="4254120"/>
          </a:xfrm>
        </p:grpSpPr>
        <p:grpSp>
          <p:nvGrpSpPr>
            <p:cNvPr id="670" name="Group 276"/>
            <p:cNvGrpSpPr/>
            <p:nvPr/>
          </p:nvGrpSpPr>
          <p:grpSpPr>
            <a:xfrm>
              <a:off x="3185640" y="2834280"/>
              <a:ext cx="2987640" cy="4023720"/>
              <a:chOff x="3185640" y="2834280"/>
              <a:chExt cx="2987640" cy="4023720"/>
            </a:xfrm>
          </p:grpSpPr>
          <p:sp>
            <p:nvSpPr>
              <p:cNvPr id="671" name="Rectangle 277"/>
              <p:cNvSpPr/>
              <p:nvPr/>
            </p:nvSpPr>
            <p:spPr>
              <a:xfrm>
                <a:off x="3517560" y="2834280"/>
                <a:ext cx="2331720" cy="3520800"/>
              </a:xfrm>
              <a:prstGeom prst="rect">
                <a:avLst/>
              </a:prstGeom>
              <a:gradFill rotWithShape="0">
                <a:gsLst>
                  <a:gs pos="0">
                    <a:srgbClr val="b66d00"/>
                  </a:gs>
                  <a:gs pos="50000">
                    <a:srgbClr val="ff9900"/>
                  </a:gs>
                  <a:gs pos="100000">
                    <a:srgbClr val="b66d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78"/>
              <p:cNvSpPr/>
              <p:nvPr/>
            </p:nvSpPr>
            <p:spPr>
              <a:xfrm>
                <a:off x="3660480" y="2993760"/>
                <a:ext cx="2045880" cy="321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AutoShape 279"/>
              <p:cNvSpPr/>
              <p:nvPr/>
            </p:nvSpPr>
            <p:spPr>
              <a:xfrm flipV="1">
                <a:off x="3663000" y="5852160"/>
                <a:ext cx="2040480" cy="359280"/>
              </a:xfrm>
              <a:custGeom>
                <a:avLst/>
                <a:gdLst>
                  <a:gd name="textAreaLeft" fmla="*/ 283320 w 2040480"/>
                  <a:gd name="textAreaRight" fmla="*/ 1757160 w 2040480"/>
                  <a:gd name="textAreaTop" fmla="*/ 49680 h 359280"/>
                  <a:gd name="textAreaBottom" fmla="*/ 309600 h 35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395" y="21600"/>
                    </a:lnTo>
                    <a:lnTo>
                      <a:pt x="19205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ffff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AutoShape 280"/>
              <p:cNvSpPr/>
              <p:nvPr/>
            </p:nvSpPr>
            <p:spPr>
              <a:xfrm flipV="1">
                <a:off x="3185640" y="6354360"/>
                <a:ext cx="2987640" cy="430920"/>
              </a:xfrm>
              <a:custGeom>
                <a:avLst/>
                <a:gdLst>
                  <a:gd name="textAreaLeft" fmla="*/ 414360 w 2987640"/>
                  <a:gd name="textAreaRight" fmla="*/ 2573280 w 2987640"/>
                  <a:gd name="textAreaTop" fmla="*/ 59760 h 430920"/>
                  <a:gd name="textAreaBottom" fmla="*/ 371160 h 43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395" y="21600"/>
                    </a:lnTo>
                    <a:lnTo>
                      <a:pt x="19205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6d00"/>
                  </a:gs>
                  <a:gs pos="50000">
                    <a:srgbClr val="ff9900"/>
                  </a:gs>
                  <a:gs pos="100000">
                    <a:srgbClr val="b66d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281"/>
              <p:cNvSpPr/>
              <p:nvPr/>
            </p:nvSpPr>
            <p:spPr>
              <a:xfrm>
                <a:off x="3185640" y="6786360"/>
                <a:ext cx="2987640" cy="71640"/>
              </a:xfrm>
              <a:prstGeom prst="rect">
                <a:avLst/>
              </a:prstGeom>
              <a:gradFill rotWithShape="0">
                <a:gsLst>
                  <a:gs pos="0">
                    <a:srgbClr val="b66d00"/>
                  </a:gs>
                  <a:gs pos="50000">
                    <a:srgbClr val="ff9900"/>
                  </a:gs>
                  <a:gs pos="100000">
                    <a:srgbClr val="b66d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282"/>
            <p:cNvGrpSpPr/>
            <p:nvPr/>
          </p:nvGrpSpPr>
          <p:grpSpPr>
            <a:xfrm>
              <a:off x="2643120" y="2603880"/>
              <a:ext cx="3684600" cy="3751200"/>
              <a:chOff x="2643120" y="2603880"/>
              <a:chExt cx="3684600" cy="3751200"/>
            </a:xfrm>
          </p:grpSpPr>
          <p:grpSp>
            <p:nvGrpSpPr>
              <p:cNvPr id="677" name="Group 283"/>
              <p:cNvGrpSpPr/>
              <p:nvPr/>
            </p:nvGrpSpPr>
            <p:grpSpPr>
              <a:xfrm>
                <a:off x="2643120" y="2603880"/>
                <a:ext cx="2705040" cy="3751200"/>
                <a:chOff x="2643120" y="2603880"/>
                <a:chExt cx="2705040" cy="3751200"/>
              </a:xfrm>
            </p:grpSpPr>
            <p:sp>
              <p:nvSpPr>
                <p:cNvPr id="678" name="Freeform 284"/>
                <p:cNvSpPr/>
                <p:nvPr/>
              </p:nvSpPr>
              <p:spPr>
                <a:xfrm>
                  <a:off x="3283560" y="2822400"/>
                  <a:ext cx="2064600" cy="3532680"/>
                </a:xfrm>
                <a:custGeom>
                  <a:avLst/>
                  <a:gdLst>
                    <a:gd name="textAreaLeft" fmla="*/ 0 w 2064600"/>
                    <a:gd name="textAreaRight" fmla="*/ 2064960 w 2064600"/>
                    <a:gd name="textAreaTop" fmla="*/ 0 h 3532680"/>
                    <a:gd name="textAreaBottom" fmla="*/ 3533040 h 3532680"/>
                  </a:gdLst>
                  <a:ahLst/>
                  <a:rect l="textAreaLeft" t="textAreaTop" r="textAreaRight" b="textAreaBottom"/>
                  <a:pathLst>
                    <a:path w="5100" h="8850">
                      <a:moveTo>
                        <a:pt x="4710" y="150"/>
                      </a:moveTo>
                      <a:cubicBezTo>
                        <a:pt x="4650" y="0"/>
                        <a:pt x="4620" y="1050"/>
                        <a:pt x="4530" y="1410"/>
                      </a:cubicBezTo>
                      <a:cubicBezTo>
                        <a:pt x="4440" y="1770"/>
                        <a:pt x="4500" y="1890"/>
                        <a:pt x="4170" y="2310"/>
                      </a:cubicBezTo>
                      <a:cubicBezTo>
                        <a:pt x="3840" y="2730"/>
                        <a:pt x="3180" y="3390"/>
                        <a:pt x="2550" y="3930"/>
                      </a:cubicBezTo>
                      <a:cubicBezTo>
                        <a:pt x="1920" y="4470"/>
                        <a:pt x="780" y="5160"/>
                        <a:pt x="390" y="5550"/>
                      </a:cubicBezTo>
                      <a:cubicBezTo>
                        <a:pt x="0" y="5940"/>
                        <a:pt x="180" y="6120"/>
                        <a:pt x="210" y="6270"/>
                      </a:cubicBezTo>
                      <a:cubicBezTo>
                        <a:pt x="240" y="6420"/>
                        <a:pt x="510" y="6330"/>
                        <a:pt x="570" y="6450"/>
                      </a:cubicBezTo>
                      <a:cubicBezTo>
                        <a:pt x="630" y="6570"/>
                        <a:pt x="510" y="6870"/>
                        <a:pt x="570" y="6990"/>
                      </a:cubicBezTo>
                      <a:cubicBezTo>
                        <a:pt x="630" y="7110"/>
                        <a:pt x="990" y="6990"/>
                        <a:pt x="930" y="7170"/>
                      </a:cubicBezTo>
                      <a:cubicBezTo>
                        <a:pt x="870" y="7350"/>
                        <a:pt x="240" y="7860"/>
                        <a:pt x="210" y="8070"/>
                      </a:cubicBezTo>
                      <a:cubicBezTo>
                        <a:pt x="180" y="8280"/>
                        <a:pt x="750" y="8340"/>
                        <a:pt x="750" y="8430"/>
                      </a:cubicBezTo>
                      <a:cubicBezTo>
                        <a:pt x="750" y="8520"/>
                        <a:pt x="210" y="8550"/>
                        <a:pt x="210" y="8610"/>
                      </a:cubicBezTo>
                      <a:cubicBezTo>
                        <a:pt x="210" y="8670"/>
                        <a:pt x="600" y="8850"/>
                        <a:pt x="750" y="8790"/>
                      </a:cubicBezTo>
                      <a:cubicBezTo>
                        <a:pt x="900" y="8730"/>
                        <a:pt x="810" y="8550"/>
                        <a:pt x="1110" y="8250"/>
                      </a:cubicBezTo>
                      <a:cubicBezTo>
                        <a:pt x="1410" y="7950"/>
                        <a:pt x="2160" y="7530"/>
                        <a:pt x="2550" y="6990"/>
                      </a:cubicBezTo>
                      <a:cubicBezTo>
                        <a:pt x="2940" y="6450"/>
                        <a:pt x="3060" y="5790"/>
                        <a:pt x="3450" y="5010"/>
                      </a:cubicBezTo>
                      <a:cubicBezTo>
                        <a:pt x="3840" y="4230"/>
                        <a:pt x="4680" y="3120"/>
                        <a:pt x="4890" y="2310"/>
                      </a:cubicBezTo>
                      <a:cubicBezTo>
                        <a:pt x="5100" y="1500"/>
                        <a:pt x="4770" y="300"/>
                        <a:pt x="4710" y="15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00ffff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285"/>
                <p:cNvSpPr/>
                <p:nvPr/>
              </p:nvSpPr>
              <p:spPr>
                <a:xfrm rot="501000">
                  <a:off x="3335760" y="2714760"/>
                  <a:ext cx="1748880" cy="3017520"/>
                </a:xfrm>
                <a:custGeom>
                  <a:avLst/>
                  <a:gdLst>
                    <a:gd name="textAreaLeft" fmla="*/ 0 w 1748880"/>
                    <a:gd name="textAreaRight" fmla="*/ 1749240 w 1748880"/>
                    <a:gd name="textAreaTop" fmla="*/ 0 h 3017520"/>
                    <a:gd name="textAreaBottom" fmla="*/ 3017880 h 3017520"/>
                  </a:gdLst>
                  <a:ahLst/>
                  <a:rect l="textAreaLeft" t="textAreaTop" r="textAreaRight" b="textAreaBottom"/>
                  <a:pathLst>
                    <a:path w="5100" h="8850">
                      <a:moveTo>
                        <a:pt x="4710" y="150"/>
                      </a:moveTo>
                      <a:cubicBezTo>
                        <a:pt x="4650" y="0"/>
                        <a:pt x="4620" y="1050"/>
                        <a:pt x="4530" y="1410"/>
                      </a:cubicBezTo>
                      <a:cubicBezTo>
                        <a:pt x="4440" y="1770"/>
                        <a:pt x="4500" y="1890"/>
                        <a:pt x="4170" y="2310"/>
                      </a:cubicBezTo>
                      <a:cubicBezTo>
                        <a:pt x="3840" y="2730"/>
                        <a:pt x="3180" y="3390"/>
                        <a:pt x="2550" y="3930"/>
                      </a:cubicBezTo>
                      <a:cubicBezTo>
                        <a:pt x="1920" y="4470"/>
                        <a:pt x="780" y="5160"/>
                        <a:pt x="390" y="5550"/>
                      </a:cubicBezTo>
                      <a:cubicBezTo>
                        <a:pt x="0" y="5940"/>
                        <a:pt x="180" y="6120"/>
                        <a:pt x="210" y="6270"/>
                      </a:cubicBezTo>
                      <a:cubicBezTo>
                        <a:pt x="240" y="6420"/>
                        <a:pt x="510" y="6330"/>
                        <a:pt x="570" y="6450"/>
                      </a:cubicBezTo>
                      <a:cubicBezTo>
                        <a:pt x="630" y="6570"/>
                        <a:pt x="510" y="6870"/>
                        <a:pt x="570" y="6990"/>
                      </a:cubicBezTo>
                      <a:cubicBezTo>
                        <a:pt x="630" y="7110"/>
                        <a:pt x="990" y="6990"/>
                        <a:pt x="930" y="7170"/>
                      </a:cubicBezTo>
                      <a:cubicBezTo>
                        <a:pt x="870" y="7350"/>
                        <a:pt x="240" y="7860"/>
                        <a:pt x="210" y="8070"/>
                      </a:cubicBezTo>
                      <a:cubicBezTo>
                        <a:pt x="180" y="8280"/>
                        <a:pt x="750" y="8340"/>
                        <a:pt x="750" y="8430"/>
                      </a:cubicBezTo>
                      <a:cubicBezTo>
                        <a:pt x="750" y="8520"/>
                        <a:pt x="210" y="8550"/>
                        <a:pt x="210" y="8610"/>
                      </a:cubicBezTo>
                      <a:cubicBezTo>
                        <a:pt x="210" y="8670"/>
                        <a:pt x="600" y="8850"/>
                        <a:pt x="750" y="8790"/>
                      </a:cubicBezTo>
                      <a:cubicBezTo>
                        <a:pt x="900" y="8730"/>
                        <a:pt x="810" y="8550"/>
                        <a:pt x="1110" y="8250"/>
                      </a:cubicBezTo>
                      <a:cubicBezTo>
                        <a:pt x="1410" y="7950"/>
                        <a:pt x="2160" y="7530"/>
                        <a:pt x="2550" y="6990"/>
                      </a:cubicBezTo>
                      <a:cubicBezTo>
                        <a:pt x="2940" y="6450"/>
                        <a:pt x="3060" y="5790"/>
                        <a:pt x="3450" y="5010"/>
                      </a:cubicBezTo>
                      <a:cubicBezTo>
                        <a:pt x="3840" y="4230"/>
                        <a:pt x="4680" y="3120"/>
                        <a:pt x="4890" y="2310"/>
                      </a:cubicBezTo>
                      <a:cubicBezTo>
                        <a:pt x="5100" y="1500"/>
                        <a:pt x="4770" y="300"/>
                        <a:pt x="4710" y="15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00ffff"/>
                    </a:gs>
                    <a:gs pos="100000">
                      <a:srgbClr val="ffffff"/>
                    </a:gs>
                  </a:gsLst>
                  <a:lin ang="2202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286"/>
                <p:cNvSpPr/>
                <p:nvPr/>
              </p:nvSpPr>
              <p:spPr>
                <a:xfrm>
                  <a:off x="2643120" y="2785680"/>
                  <a:ext cx="2496960" cy="2331000"/>
                </a:xfrm>
                <a:custGeom>
                  <a:avLst/>
                  <a:gdLst>
                    <a:gd name="textAreaLeft" fmla="*/ 0 w 2496960"/>
                    <a:gd name="textAreaRight" fmla="*/ 2497320 w 2496960"/>
                    <a:gd name="textAreaTop" fmla="*/ 0 h 2331000"/>
                    <a:gd name="textAreaBottom" fmla="*/ 2331360 h 2331000"/>
                  </a:gdLst>
                  <a:ahLst/>
                  <a:rect l="textAreaLeft" t="textAreaTop" r="textAreaRight" b="textAreaBottom"/>
                  <a:pathLst>
                    <a:path w="6168" h="5840">
                      <a:moveTo>
                        <a:pt x="6131" y="288"/>
                      </a:moveTo>
                      <a:cubicBezTo>
                        <a:pt x="6168" y="0"/>
                        <a:pt x="5924" y="280"/>
                        <a:pt x="5811" y="268"/>
                      </a:cubicBezTo>
                      <a:cubicBezTo>
                        <a:pt x="5698" y="256"/>
                        <a:pt x="5603" y="156"/>
                        <a:pt x="5455" y="218"/>
                      </a:cubicBezTo>
                      <a:cubicBezTo>
                        <a:pt x="5307" y="280"/>
                        <a:pt x="5441" y="433"/>
                        <a:pt x="4922" y="643"/>
                      </a:cubicBezTo>
                      <a:cubicBezTo>
                        <a:pt x="4404" y="853"/>
                        <a:pt x="2987" y="1034"/>
                        <a:pt x="2345" y="1480"/>
                      </a:cubicBezTo>
                      <a:cubicBezTo>
                        <a:pt x="1703" y="1927"/>
                        <a:pt x="1342" y="2930"/>
                        <a:pt x="1072" y="3326"/>
                      </a:cubicBezTo>
                      <a:cubicBezTo>
                        <a:pt x="802" y="3722"/>
                        <a:pt x="741" y="3726"/>
                        <a:pt x="722" y="3856"/>
                      </a:cubicBezTo>
                      <a:cubicBezTo>
                        <a:pt x="704" y="3984"/>
                        <a:pt x="945" y="3988"/>
                        <a:pt x="959" y="4102"/>
                      </a:cubicBezTo>
                      <a:cubicBezTo>
                        <a:pt x="972" y="4216"/>
                        <a:pt x="790" y="4424"/>
                        <a:pt x="805" y="4537"/>
                      </a:cubicBezTo>
                      <a:cubicBezTo>
                        <a:pt x="818" y="4651"/>
                        <a:pt x="1140" y="4656"/>
                        <a:pt x="1040" y="4784"/>
                      </a:cubicBezTo>
                      <a:cubicBezTo>
                        <a:pt x="940" y="4912"/>
                        <a:pt x="159" y="5266"/>
                        <a:pt x="208" y="5304"/>
                      </a:cubicBezTo>
                      <a:cubicBezTo>
                        <a:pt x="258" y="5343"/>
                        <a:pt x="1365" y="4940"/>
                        <a:pt x="1340" y="5012"/>
                      </a:cubicBezTo>
                      <a:cubicBezTo>
                        <a:pt x="1314" y="5085"/>
                        <a:pt x="108" y="5637"/>
                        <a:pt x="54" y="5739"/>
                      </a:cubicBezTo>
                      <a:cubicBezTo>
                        <a:pt x="0" y="5840"/>
                        <a:pt x="879" y="5627"/>
                        <a:pt x="1015" y="5621"/>
                      </a:cubicBezTo>
                      <a:cubicBezTo>
                        <a:pt x="1152" y="5615"/>
                        <a:pt x="647" y="5791"/>
                        <a:pt x="876" y="5703"/>
                      </a:cubicBezTo>
                      <a:cubicBezTo>
                        <a:pt x="1104" y="5616"/>
                        <a:pt x="1919" y="5422"/>
                        <a:pt x="2385" y="5098"/>
                      </a:cubicBezTo>
                      <a:cubicBezTo>
                        <a:pt x="2850" y="4774"/>
                        <a:pt x="3135" y="4277"/>
                        <a:pt x="3669" y="3760"/>
                      </a:cubicBezTo>
                      <a:cubicBezTo>
                        <a:pt x="4204" y="3242"/>
                        <a:pt x="5181" y="2573"/>
                        <a:pt x="5591" y="1994"/>
                      </a:cubicBezTo>
                      <a:cubicBezTo>
                        <a:pt x="6001" y="1415"/>
                        <a:pt x="6094" y="600"/>
                        <a:pt x="6131" y="28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00ffff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287"/>
                <p:cNvSpPr/>
                <p:nvPr/>
              </p:nvSpPr>
              <p:spPr>
                <a:xfrm>
                  <a:off x="3257280" y="2836080"/>
                  <a:ext cx="1666800" cy="884880"/>
                </a:xfrm>
                <a:custGeom>
                  <a:avLst/>
                  <a:gdLst>
                    <a:gd name="textAreaLeft" fmla="*/ 0 w 1666800"/>
                    <a:gd name="textAreaRight" fmla="*/ 1667160 w 1666800"/>
                    <a:gd name="textAreaTop" fmla="*/ 0 h 884880"/>
                    <a:gd name="textAreaBottom" fmla="*/ 885240 h 884880"/>
                  </a:gdLst>
                  <a:ahLst/>
                  <a:rect l="textAreaLeft" t="textAreaTop" r="textAreaRight" b="textAreaBottom"/>
                  <a:pathLst>
                    <a:path w="4117" h="2217">
                      <a:moveTo>
                        <a:pt x="4050" y="259"/>
                      </a:moveTo>
                      <a:cubicBezTo>
                        <a:pt x="4117" y="118"/>
                        <a:pt x="3941" y="220"/>
                        <a:pt x="3883" y="194"/>
                      </a:cubicBezTo>
                      <a:cubicBezTo>
                        <a:pt x="3825" y="169"/>
                        <a:pt x="3797" y="140"/>
                        <a:pt x="3702" y="108"/>
                      </a:cubicBezTo>
                      <a:cubicBezTo>
                        <a:pt x="3607" y="76"/>
                        <a:pt x="3602" y="0"/>
                        <a:pt x="3314" y="2"/>
                      </a:cubicBezTo>
                      <a:cubicBezTo>
                        <a:pt x="3026" y="4"/>
                        <a:pt x="2427" y="19"/>
                        <a:pt x="1974" y="122"/>
                      </a:cubicBezTo>
                      <a:cubicBezTo>
                        <a:pt x="1521" y="225"/>
                        <a:pt x="897" y="432"/>
                        <a:pt x="594" y="622"/>
                      </a:cubicBezTo>
                      <a:cubicBezTo>
                        <a:pt x="291" y="812"/>
                        <a:pt x="0" y="1129"/>
                        <a:pt x="154" y="1262"/>
                      </a:cubicBezTo>
                      <a:cubicBezTo>
                        <a:pt x="308" y="1395"/>
                        <a:pt x="1441" y="1346"/>
                        <a:pt x="1516" y="1419"/>
                      </a:cubicBezTo>
                      <a:cubicBezTo>
                        <a:pt x="1591" y="1492"/>
                        <a:pt x="598" y="1658"/>
                        <a:pt x="606" y="1703"/>
                      </a:cubicBezTo>
                      <a:cubicBezTo>
                        <a:pt x="612" y="1749"/>
                        <a:pt x="1538" y="1664"/>
                        <a:pt x="1558" y="1692"/>
                      </a:cubicBezTo>
                      <a:cubicBezTo>
                        <a:pt x="1579" y="1720"/>
                        <a:pt x="776" y="1805"/>
                        <a:pt x="727" y="1871"/>
                      </a:cubicBezTo>
                      <a:cubicBezTo>
                        <a:pt x="679" y="1938"/>
                        <a:pt x="1005" y="2217"/>
                        <a:pt x="1269" y="2094"/>
                      </a:cubicBezTo>
                      <a:cubicBezTo>
                        <a:pt x="1533" y="1969"/>
                        <a:pt x="1943" y="1304"/>
                        <a:pt x="2312" y="1129"/>
                      </a:cubicBezTo>
                      <a:cubicBezTo>
                        <a:pt x="2680" y="955"/>
                        <a:pt x="3193" y="1189"/>
                        <a:pt x="3483" y="1044"/>
                      </a:cubicBezTo>
                      <a:cubicBezTo>
                        <a:pt x="3773" y="898"/>
                        <a:pt x="3979" y="413"/>
                        <a:pt x="4050" y="25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00ffff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Group 288"/>
              <p:cNvGrpSpPr/>
              <p:nvPr/>
            </p:nvGrpSpPr>
            <p:grpSpPr>
              <a:xfrm>
                <a:off x="4020120" y="3194280"/>
                <a:ext cx="2307600" cy="2946600"/>
                <a:chOff x="4020120" y="3194280"/>
                <a:chExt cx="2307600" cy="2946600"/>
              </a:xfrm>
            </p:grpSpPr>
            <p:grpSp>
              <p:nvGrpSpPr>
                <p:cNvPr id="683" name="Group 289"/>
                <p:cNvGrpSpPr/>
                <p:nvPr/>
              </p:nvGrpSpPr>
              <p:grpSpPr>
                <a:xfrm>
                  <a:off x="4219560" y="5193720"/>
                  <a:ext cx="1298160" cy="947160"/>
                  <a:chOff x="4219560" y="5193720"/>
                  <a:chExt cx="1298160" cy="947160"/>
                </a:xfrm>
              </p:grpSpPr>
              <p:grpSp>
                <p:nvGrpSpPr>
                  <p:cNvPr id="684" name="Group 290"/>
                  <p:cNvGrpSpPr/>
                  <p:nvPr/>
                </p:nvGrpSpPr>
                <p:grpSpPr>
                  <a:xfrm>
                    <a:off x="4219560" y="5193720"/>
                    <a:ext cx="1298160" cy="947160"/>
                    <a:chOff x="4219560" y="5193720"/>
                    <a:chExt cx="1298160" cy="947160"/>
                  </a:xfrm>
                </p:grpSpPr>
                <p:grpSp>
                  <p:nvGrpSpPr>
                    <p:cNvPr id="685" name="Group 291"/>
                    <p:cNvGrpSpPr/>
                    <p:nvPr/>
                  </p:nvGrpSpPr>
                  <p:grpSpPr>
                    <a:xfrm>
                      <a:off x="4219560" y="5296680"/>
                      <a:ext cx="1297800" cy="844200"/>
                      <a:chOff x="4219560" y="5296680"/>
                      <a:chExt cx="1297800" cy="844200"/>
                    </a:xfrm>
                  </p:grpSpPr>
                  <p:sp>
                    <p:nvSpPr>
                      <p:cNvPr id="686" name="AutoShape 292"/>
                      <p:cNvSpPr/>
                      <p:nvPr/>
                    </p:nvSpPr>
                    <p:spPr>
                      <a:xfrm rot="5400000">
                        <a:off x="4447800" y="5068080"/>
                        <a:ext cx="840960" cy="1297800"/>
                      </a:xfrm>
                      <a:prstGeom prst="flowChartDelay">
                        <a:avLst/>
                      </a:prstGeom>
                      <a:gradFill rotWithShape="0">
                        <a:gsLst>
                          <a:gs pos="0">
                            <a:srgbClr val="762f00"/>
                          </a:gs>
                          <a:gs pos="50000">
                            <a:srgbClr val="ff6600"/>
                          </a:gs>
                          <a:gs pos="100000">
                            <a:srgbClr val="762f00"/>
                          </a:gs>
                        </a:gsLst>
                        <a:lin ang="135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7" name="AutoShape 293"/>
                      <p:cNvSpPr/>
                      <p:nvPr/>
                    </p:nvSpPr>
                    <p:spPr>
                      <a:xfrm rot="16200000">
                        <a:off x="4784040" y="5497200"/>
                        <a:ext cx="151200" cy="1135800"/>
                      </a:xfrm>
                      <a:prstGeom prst="flowChartOnlineStorage">
                        <a:avLst/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ff6600"/>
                          </a:gs>
                          <a:gs pos="100000">
                            <a:srgbClr val="000000"/>
                          </a:gs>
                        </a:gsLst>
                        <a:lin ang="27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88" name="Oval 294"/>
                    <p:cNvSpPr/>
                    <p:nvPr/>
                  </p:nvSpPr>
                  <p:spPr>
                    <a:xfrm>
                      <a:off x="4219920" y="5193720"/>
                      <a:ext cx="1297800" cy="231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6600"/>
                        </a:gs>
                        <a:gs pos="100000">
                          <a:srgbClr val="000000"/>
                        </a:gs>
                      </a:gsLst>
                      <a:lin ang="27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9" name="Oval 295"/>
                  <p:cNvSpPr/>
                  <p:nvPr/>
                </p:nvSpPr>
                <p:spPr>
                  <a:xfrm>
                    <a:off x="4300920" y="5277240"/>
                    <a:ext cx="1135800" cy="144720"/>
                  </a:xfrm>
                  <a:prstGeom prst="ellipse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Group 296"/>
                <p:cNvGrpSpPr/>
                <p:nvPr/>
              </p:nvGrpSpPr>
              <p:grpSpPr>
                <a:xfrm>
                  <a:off x="4020120" y="3194280"/>
                  <a:ext cx="2307600" cy="2223000"/>
                  <a:chOff x="4020120" y="3194280"/>
                  <a:chExt cx="2307600" cy="2223000"/>
                </a:xfrm>
              </p:grpSpPr>
              <p:sp>
                <p:nvSpPr>
                  <p:cNvPr id="691" name="Freeform 297"/>
                  <p:cNvSpPr/>
                  <p:nvPr/>
                </p:nvSpPr>
                <p:spPr>
                  <a:xfrm>
                    <a:off x="5606280" y="3589560"/>
                    <a:ext cx="501840" cy="181800"/>
                  </a:xfrm>
                  <a:custGeom>
                    <a:avLst/>
                    <a:gdLst>
                      <a:gd name="textAreaLeft" fmla="*/ 0 w 501840"/>
                      <a:gd name="textAreaRight" fmla="*/ 502200 w 501840"/>
                      <a:gd name="textAreaTop" fmla="*/ 0 h 181800"/>
                      <a:gd name="textAreaBottom" fmla="*/ 182160 h 181800"/>
                    </a:gdLst>
                    <a:ahLst/>
                    <a:rect l="textAreaLeft" t="textAreaTop" r="textAreaRight" b="textAreaBottom"/>
                    <a:pathLst>
                      <a:path w="1800" h="750">
                        <a:moveTo>
                          <a:pt x="0" y="750"/>
                        </a:moveTo>
                        <a:cubicBezTo>
                          <a:pt x="165" y="540"/>
                          <a:pt x="330" y="330"/>
                          <a:pt x="540" y="210"/>
                        </a:cubicBezTo>
                        <a:cubicBezTo>
                          <a:pt x="750" y="90"/>
                          <a:pt x="1050" y="60"/>
                          <a:pt x="1260" y="30"/>
                        </a:cubicBezTo>
                        <a:cubicBezTo>
                          <a:pt x="1470" y="0"/>
                          <a:pt x="1710" y="30"/>
                          <a:pt x="1800" y="30"/>
                        </a:cubicBezTo>
                      </a:path>
                    </a:pathLst>
                  </a:custGeom>
                  <a:noFill/>
                  <a:ln w="3816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Freeform 298"/>
                  <p:cNvSpPr/>
                  <p:nvPr/>
                </p:nvSpPr>
                <p:spPr>
                  <a:xfrm flipV="1" rot="14509200">
                    <a:off x="5361840" y="3427200"/>
                    <a:ext cx="436680" cy="250920"/>
                  </a:xfrm>
                  <a:custGeom>
                    <a:avLst/>
                    <a:gdLst>
                      <a:gd name="textAreaLeft" fmla="*/ 0 w 436680"/>
                      <a:gd name="textAreaRight" fmla="*/ 437040 w 436680"/>
                      <a:gd name="textAreaTop" fmla="*/ -360 h 250920"/>
                      <a:gd name="textAreaBottom" fmla="*/ 250920 h 250920"/>
                    </a:gdLst>
                    <a:ahLst/>
                    <a:rect l="textAreaLeft" t="textAreaTop" r="textAreaRight" b="textAreaBottom"/>
                    <a:pathLst>
                      <a:path w="1800" h="750">
                        <a:moveTo>
                          <a:pt x="0" y="750"/>
                        </a:moveTo>
                        <a:cubicBezTo>
                          <a:pt x="165" y="540"/>
                          <a:pt x="330" y="330"/>
                          <a:pt x="540" y="210"/>
                        </a:cubicBezTo>
                        <a:cubicBezTo>
                          <a:pt x="750" y="90"/>
                          <a:pt x="1050" y="60"/>
                          <a:pt x="1260" y="30"/>
                        </a:cubicBezTo>
                        <a:cubicBezTo>
                          <a:pt x="1470" y="0"/>
                          <a:pt x="1710" y="30"/>
                          <a:pt x="1800" y="30"/>
                        </a:cubicBezTo>
                      </a:path>
                    </a:pathLst>
                  </a:custGeom>
                  <a:noFill/>
                  <a:ln w="3816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3" name="Group 299"/>
                  <p:cNvGrpSpPr/>
                  <p:nvPr/>
                </p:nvGrpSpPr>
                <p:grpSpPr>
                  <a:xfrm>
                    <a:off x="4775040" y="3351600"/>
                    <a:ext cx="1552680" cy="1042920"/>
                    <a:chOff x="4775040" y="3351600"/>
                    <a:chExt cx="1552680" cy="1042920"/>
                  </a:xfrm>
                </p:grpSpPr>
                <p:sp>
                  <p:nvSpPr>
                    <p:cNvPr id="694" name="Freeform 300"/>
                    <p:cNvSpPr/>
                    <p:nvPr/>
                  </p:nvSpPr>
                  <p:spPr>
                    <a:xfrm flipV="1" rot="10696800">
                      <a:off x="4779720" y="3577320"/>
                      <a:ext cx="652680" cy="349200"/>
                    </a:xfrm>
                    <a:custGeom>
                      <a:avLst/>
                      <a:gdLst>
                        <a:gd name="textAreaLeft" fmla="*/ 0 w 652680"/>
                        <a:gd name="textAreaRight" fmla="*/ 653040 w 652680"/>
                        <a:gd name="textAreaTop" fmla="*/ 360 h 349200"/>
                        <a:gd name="textAreaBottom" fmla="*/ 349920 h 34920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14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Freeform 301"/>
                    <p:cNvSpPr/>
                    <p:nvPr/>
                  </p:nvSpPr>
                  <p:spPr>
                    <a:xfrm flipV="1" rot="12576600">
                      <a:off x="5030640" y="3489840"/>
                      <a:ext cx="652680" cy="349560"/>
                    </a:xfrm>
                    <a:custGeom>
                      <a:avLst/>
                      <a:gdLst>
                        <a:gd name="textAreaLeft" fmla="*/ 0 w 652680"/>
                        <a:gd name="textAreaRight" fmla="*/ 653040 w 652680"/>
                        <a:gd name="textAreaTop" fmla="*/ -360 h 349560"/>
                        <a:gd name="textAreaBottom" fmla="*/ 349560 h 34956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15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Freeform 302"/>
                    <p:cNvSpPr/>
                    <p:nvPr/>
                  </p:nvSpPr>
                  <p:spPr>
                    <a:xfrm rot="1273200">
                      <a:off x="5633640" y="3795840"/>
                      <a:ext cx="652680" cy="349200"/>
                    </a:xfrm>
                    <a:custGeom>
                      <a:avLst/>
                      <a:gdLst>
                        <a:gd name="textAreaLeft" fmla="*/ 0 w 652680"/>
                        <a:gd name="textAreaRight" fmla="*/ 653040 w 652680"/>
                        <a:gd name="textAreaTop" fmla="*/ 0 h 349200"/>
                        <a:gd name="textAreaBottom" fmla="*/ 349560 h 34920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16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Freeform 303"/>
                    <p:cNvSpPr/>
                    <p:nvPr/>
                  </p:nvSpPr>
                  <p:spPr>
                    <a:xfrm>
                      <a:off x="5533560" y="3708360"/>
                      <a:ext cx="501840" cy="232920"/>
                    </a:xfrm>
                    <a:custGeom>
                      <a:avLst/>
                      <a:gdLst>
                        <a:gd name="textAreaLeft" fmla="*/ 0 w 501840"/>
                        <a:gd name="textAreaRight" fmla="*/ 502200 w 501840"/>
                        <a:gd name="textAreaTop" fmla="*/ 0 h 232920"/>
                        <a:gd name="textAreaBottom" fmla="*/ 233280 h 23292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17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Freeform 304"/>
                    <p:cNvSpPr/>
                    <p:nvPr/>
                  </p:nvSpPr>
                  <p:spPr>
                    <a:xfrm rot="2715000">
                      <a:off x="5649480" y="4011120"/>
                      <a:ext cx="436680" cy="267480"/>
                    </a:xfrm>
                    <a:custGeom>
                      <a:avLst/>
                      <a:gdLst>
                        <a:gd name="textAreaLeft" fmla="*/ 0 w 436680"/>
                        <a:gd name="textAreaRight" fmla="*/ 437040 w 436680"/>
                        <a:gd name="textAreaTop" fmla="*/ 0 h 267480"/>
                        <a:gd name="textAreaBottom" fmla="*/ 267840 h 26748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18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9" name="Group 305"/>
                  <p:cNvGrpSpPr/>
                  <p:nvPr/>
                </p:nvGrpSpPr>
                <p:grpSpPr>
                  <a:xfrm>
                    <a:off x="4020120" y="3697560"/>
                    <a:ext cx="1820160" cy="1719720"/>
                    <a:chOff x="4020120" y="3697560"/>
                    <a:chExt cx="1820160" cy="1719720"/>
                  </a:xfrm>
                </p:grpSpPr>
                <p:grpSp>
                  <p:nvGrpSpPr>
                    <p:cNvPr id="700" name="Group 306"/>
                    <p:cNvGrpSpPr/>
                    <p:nvPr/>
                  </p:nvGrpSpPr>
                  <p:grpSpPr>
                    <a:xfrm>
                      <a:off x="4020120" y="3697560"/>
                      <a:ext cx="1820160" cy="1719720"/>
                      <a:chOff x="4020120" y="3697560"/>
                      <a:chExt cx="1820160" cy="1719720"/>
                    </a:xfrm>
                  </p:grpSpPr>
                  <p:sp>
                    <p:nvSpPr>
                      <p:cNvPr id="701" name="Freeform 307"/>
                      <p:cNvSpPr/>
                      <p:nvPr/>
                    </p:nvSpPr>
                    <p:spPr>
                      <a:xfrm>
                        <a:off x="4127760" y="4406760"/>
                        <a:ext cx="501840" cy="414720"/>
                      </a:xfrm>
                      <a:custGeom>
                        <a:avLst/>
                        <a:gdLst>
                          <a:gd name="textAreaLeft" fmla="*/ 0 w 501840"/>
                          <a:gd name="textAreaRight" fmla="*/ 502200 w 501840"/>
                          <a:gd name="textAreaTop" fmla="*/ 0 h 414720"/>
                          <a:gd name="textAreaBottom" fmla="*/ 415080 h 414720"/>
                        </a:gdLst>
                        <a:ahLst/>
                        <a:rect l="textAreaLeft" t="textAreaTop" r="textAreaRight" b="textAreaBottom"/>
                        <a:pathLst>
                          <a:path w="2310" h="2250">
                            <a:moveTo>
                              <a:pt x="1920" y="960"/>
                            </a:moveTo>
                            <a:cubicBezTo>
                              <a:pt x="1830" y="930"/>
                              <a:pt x="1650" y="900"/>
                              <a:pt x="1560" y="780"/>
                            </a:cubicBezTo>
                            <a:cubicBezTo>
                              <a:pt x="1470" y="660"/>
                              <a:pt x="1530" y="360"/>
                              <a:pt x="1380" y="240"/>
                            </a:cubicBezTo>
                            <a:cubicBezTo>
                              <a:pt x="1230" y="120"/>
                              <a:pt x="870" y="0"/>
                              <a:pt x="660" y="60"/>
                            </a:cubicBezTo>
                            <a:cubicBezTo>
                              <a:pt x="450" y="120"/>
                              <a:pt x="210" y="330"/>
                              <a:pt x="120" y="600"/>
                            </a:cubicBezTo>
                            <a:cubicBezTo>
                              <a:pt x="30" y="870"/>
                              <a:pt x="0" y="1410"/>
                              <a:pt x="120" y="1680"/>
                            </a:cubicBezTo>
                            <a:cubicBezTo>
                              <a:pt x="240" y="1950"/>
                              <a:pt x="510" y="2190"/>
                              <a:pt x="840" y="2220"/>
                            </a:cubicBezTo>
                            <a:cubicBezTo>
                              <a:pt x="1170" y="2250"/>
                              <a:pt x="1890" y="2070"/>
                              <a:pt x="2100" y="1860"/>
                            </a:cubicBezTo>
                            <a:cubicBezTo>
                              <a:pt x="2310" y="1650"/>
                              <a:pt x="2130" y="1110"/>
                              <a:pt x="2100" y="960"/>
                            </a:cubicBezTo>
                            <a:cubicBezTo>
                              <a:pt x="2070" y="810"/>
                              <a:pt x="2010" y="990"/>
                              <a:pt x="1920" y="96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ffcc"/>
                          </a:gs>
                          <a:gs pos="50000">
                            <a:srgbClr val="008000"/>
                          </a:gs>
                          <a:gs pos="100000">
                            <a:srgbClr val="ccffcc"/>
                          </a:gs>
                        </a:gsLst>
                        <a:lin ang="27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2" name="Freeform 308"/>
                      <p:cNvSpPr/>
                      <p:nvPr/>
                    </p:nvSpPr>
                    <p:spPr>
                      <a:xfrm>
                        <a:off x="4505040" y="3792600"/>
                        <a:ext cx="1335240" cy="1624680"/>
                      </a:xfrm>
                      <a:custGeom>
                        <a:avLst/>
                        <a:gdLst>
                          <a:gd name="textAreaLeft" fmla="*/ 0 w 1335240"/>
                          <a:gd name="textAreaRight" fmla="*/ 1335600 w 1335240"/>
                          <a:gd name="textAreaTop" fmla="*/ 0 h 1624680"/>
                          <a:gd name="textAreaBottom" fmla="*/ 1625040 h 1624680"/>
                        </a:gdLst>
                        <a:ahLst/>
                        <a:rect l="textAreaLeft" t="textAreaTop" r="textAreaRight" b="textAreaBottom"/>
                        <a:pathLst>
                          <a:path w="4787" h="6697">
                            <a:moveTo>
                              <a:pt x="207" y="4137"/>
                            </a:moveTo>
                            <a:cubicBezTo>
                              <a:pt x="0" y="3600"/>
                              <a:pt x="3" y="3575"/>
                              <a:pt x="7" y="3057"/>
                            </a:cubicBezTo>
                            <a:cubicBezTo>
                              <a:pt x="11" y="2539"/>
                              <a:pt x="274" y="1857"/>
                              <a:pt x="587" y="1397"/>
                            </a:cubicBezTo>
                            <a:cubicBezTo>
                              <a:pt x="900" y="937"/>
                              <a:pt x="1410" y="494"/>
                              <a:pt x="1887" y="297"/>
                            </a:cubicBezTo>
                            <a:cubicBezTo>
                              <a:pt x="2364" y="100"/>
                              <a:pt x="3007" y="0"/>
                              <a:pt x="3447" y="217"/>
                            </a:cubicBezTo>
                            <a:cubicBezTo>
                              <a:pt x="3737" y="374"/>
                              <a:pt x="4787" y="851"/>
                              <a:pt x="4527" y="1597"/>
                            </a:cubicBezTo>
                            <a:cubicBezTo>
                              <a:pt x="4544" y="2044"/>
                              <a:pt x="4370" y="2365"/>
                              <a:pt x="3947" y="2877"/>
                            </a:cubicBezTo>
                            <a:cubicBezTo>
                              <a:pt x="3700" y="3239"/>
                              <a:pt x="3143" y="3651"/>
                              <a:pt x="2827" y="3957"/>
                            </a:cubicBezTo>
                            <a:cubicBezTo>
                              <a:pt x="2537" y="4297"/>
                              <a:pt x="2360" y="4620"/>
                              <a:pt x="2207" y="4917"/>
                            </a:cubicBezTo>
                            <a:cubicBezTo>
                              <a:pt x="2054" y="5214"/>
                              <a:pt x="1977" y="5507"/>
                              <a:pt x="1907" y="5737"/>
                            </a:cubicBezTo>
                            <a:cubicBezTo>
                              <a:pt x="1837" y="5967"/>
                              <a:pt x="1877" y="6197"/>
                              <a:pt x="1787" y="6297"/>
                            </a:cubicBezTo>
                            <a:cubicBezTo>
                              <a:pt x="1697" y="6397"/>
                              <a:pt x="1630" y="6697"/>
                              <a:pt x="1367" y="6337"/>
                            </a:cubicBezTo>
                            <a:cubicBezTo>
                              <a:pt x="1104" y="5977"/>
                              <a:pt x="414" y="4674"/>
                              <a:pt x="207" y="4137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ffcc"/>
                          </a:gs>
                          <a:gs pos="50000">
                            <a:srgbClr val="008000"/>
                          </a:gs>
                          <a:gs pos="100000">
                            <a:srgbClr val="ccffcc"/>
                          </a:gs>
                        </a:gsLst>
                        <a:lin ang="27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Freeform 309"/>
                      <p:cNvSpPr/>
                      <p:nvPr/>
                    </p:nvSpPr>
                    <p:spPr>
                      <a:xfrm rot="2323800">
                        <a:off x="5098320" y="4372560"/>
                        <a:ext cx="401400" cy="523800"/>
                      </a:xfrm>
                      <a:custGeom>
                        <a:avLst/>
                        <a:gdLst>
                          <a:gd name="textAreaLeft" fmla="*/ 0 w 401400"/>
                          <a:gd name="textAreaRight" fmla="*/ 401760 w 401400"/>
                          <a:gd name="textAreaTop" fmla="*/ 0 h 523800"/>
                          <a:gd name="textAreaBottom" fmla="*/ 524160 h 523800"/>
                        </a:gdLst>
                        <a:ahLst/>
                        <a:rect l="textAreaLeft" t="textAreaTop" r="textAreaRight" b="textAreaBottom"/>
                        <a:pathLst>
                          <a:path w="1687" h="3090">
                            <a:moveTo>
                              <a:pt x="1642" y="235"/>
                            </a:moveTo>
                            <a:cubicBezTo>
                              <a:pt x="1639" y="66"/>
                              <a:pt x="1391" y="0"/>
                              <a:pt x="1231" y="0"/>
                            </a:cubicBezTo>
                            <a:cubicBezTo>
                              <a:pt x="1072" y="0"/>
                              <a:pt x="866" y="0"/>
                              <a:pt x="684" y="235"/>
                            </a:cubicBezTo>
                            <a:cubicBezTo>
                              <a:pt x="502" y="469"/>
                              <a:pt x="251" y="1095"/>
                              <a:pt x="137" y="1408"/>
                            </a:cubicBezTo>
                            <a:cubicBezTo>
                              <a:pt x="23" y="1721"/>
                              <a:pt x="0" y="1877"/>
                              <a:pt x="0" y="2112"/>
                            </a:cubicBezTo>
                            <a:cubicBezTo>
                              <a:pt x="0" y="2347"/>
                              <a:pt x="46" y="2660"/>
                              <a:pt x="137" y="2816"/>
                            </a:cubicBezTo>
                            <a:cubicBezTo>
                              <a:pt x="228" y="2973"/>
                              <a:pt x="388" y="3090"/>
                              <a:pt x="547" y="3051"/>
                            </a:cubicBezTo>
                            <a:cubicBezTo>
                              <a:pt x="707" y="3012"/>
                              <a:pt x="980" y="2816"/>
                              <a:pt x="1094" y="2582"/>
                            </a:cubicBezTo>
                            <a:cubicBezTo>
                              <a:pt x="1208" y="2347"/>
                              <a:pt x="1186" y="1917"/>
                              <a:pt x="1231" y="1643"/>
                            </a:cubicBezTo>
                            <a:cubicBezTo>
                              <a:pt x="1277" y="1369"/>
                              <a:pt x="1300" y="1134"/>
                              <a:pt x="1368" y="939"/>
                            </a:cubicBezTo>
                            <a:cubicBezTo>
                              <a:pt x="1436" y="743"/>
                              <a:pt x="1596" y="587"/>
                              <a:pt x="1642" y="469"/>
                            </a:cubicBezTo>
                            <a:cubicBezTo>
                              <a:pt x="1687" y="352"/>
                              <a:pt x="1645" y="404"/>
                              <a:pt x="1642" y="235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ffcc"/>
                          </a:gs>
                          <a:gs pos="50000">
                            <a:srgbClr val="008000"/>
                          </a:gs>
                          <a:gs pos="100000">
                            <a:srgbClr val="ccffcc"/>
                          </a:gs>
                        </a:gsLst>
                        <a:lin ang="378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04" name="Group 310"/>
                      <p:cNvGrpSpPr/>
                      <p:nvPr/>
                    </p:nvGrpSpPr>
                    <p:grpSpPr>
                      <a:xfrm>
                        <a:off x="4878360" y="3912120"/>
                        <a:ext cx="681480" cy="520200"/>
                        <a:chOff x="4878360" y="3912120"/>
                        <a:chExt cx="681480" cy="520200"/>
                      </a:xfrm>
                    </p:grpSpPr>
                    <p:sp>
                      <p:nvSpPr>
                        <p:cNvPr id="705" name="Freeform 311"/>
                        <p:cNvSpPr/>
                        <p:nvPr/>
                      </p:nvSpPr>
                      <p:spPr>
                        <a:xfrm rot="1973400">
                          <a:off x="4941000" y="3955680"/>
                          <a:ext cx="250920" cy="305640"/>
                        </a:xfrm>
                        <a:custGeom>
                          <a:avLst/>
                          <a:gdLst>
                            <a:gd name="textAreaLeft" fmla="*/ 0 w 250920"/>
                            <a:gd name="textAreaRight" fmla="*/ 251280 w 250920"/>
                            <a:gd name="textAreaTop" fmla="*/ 0 h 305640"/>
                            <a:gd name="textAreaBottom" fmla="*/ 306000 h 305640"/>
                          </a:gdLst>
                          <a:ahLst/>
                          <a:rect l="textAreaLeft" t="textAreaTop" r="textAreaRight" b="textAreaBottom"/>
                          <a:pathLst>
                            <a:path w="1490" h="2346">
                              <a:moveTo>
                                <a:pt x="1332" y="244"/>
                              </a:moveTo>
                              <a:cubicBezTo>
                                <a:pt x="1399" y="361"/>
                                <a:pt x="1425" y="561"/>
                                <a:pt x="1447" y="740"/>
                              </a:cubicBezTo>
                              <a:cubicBezTo>
                                <a:pt x="1469" y="919"/>
                                <a:pt x="1490" y="1133"/>
                                <a:pt x="1467" y="1320"/>
                              </a:cubicBezTo>
                              <a:cubicBezTo>
                                <a:pt x="1444" y="1507"/>
                                <a:pt x="1417" y="1690"/>
                                <a:pt x="1307" y="1860"/>
                              </a:cubicBezTo>
                              <a:cubicBezTo>
                                <a:pt x="1257" y="1993"/>
                                <a:pt x="1250" y="2040"/>
                                <a:pt x="1167" y="2120"/>
                              </a:cubicBezTo>
                              <a:cubicBezTo>
                                <a:pt x="1084" y="2200"/>
                                <a:pt x="930" y="2332"/>
                                <a:pt x="807" y="2339"/>
                              </a:cubicBezTo>
                              <a:cubicBezTo>
                                <a:pt x="684" y="2346"/>
                                <a:pt x="534" y="2260"/>
                                <a:pt x="427" y="2160"/>
                              </a:cubicBezTo>
                              <a:cubicBezTo>
                                <a:pt x="320" y="2060"/>
                                <a:pt x="234" y="1903"/>
                                <a:pt x="167" y="1740"/>
                              </a:cubicBezTo>
                              <a:cubicBezTo>
                                <a:pt x="100" y="1577"/>
                                <a:pt x="50" y="1360"/>
                                <a:pt x="27" y="1180"/>
                              </a:cubicBezTo>
                              <a:cubicBezTo>
                                <a:pt x="7" y="1017"/>
                                <a:pt x="0" y="810"/>
                                <a:pt x="27" y="660"/>
                              </a:cubicBezTo>
                              <a:cubicBezTo>
                                <a:pt x="54" y="510"/>
                                <a:pt x="104" y="383"/>
                                <a:pt x="187" y="280"/>
                              </a:cubicBezTo>
                              <a:cubicBezTo>
                                <a:pt x="270" y="177"/>
                                <a:pt x="384" y="80"/>
                                <a:pt x="527" y="40"/>
                              </a:cubicBezTo>
                              <a:cubicBezTo>
                                <a:pt x="670" y="0"/>
                                <a:pt x="913" y="6"/>
                                <a:pt x="1047" y="40"/>
                              </a:cubicBezTo>
                              <a:cubicBezTo>
                                <a:pt x="1181" y="74"/>
                                <a:pt x="1297" y="128"/>
                                <a:pt x="1332" y="244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6" name="Freeform 312"/>
                        <p:cNvSpPr/>
                        <p:nvPr/>
                      </p:nvSpPr>
                      <p:spPr>
                        <a:xfrm rot="21274200">
                          <a:off x="4955760" y="4079160"/>
                          <a:ext cx="252720" cy="162000"/>
                        </a:xfrm>
                        <a:custGeom>
                          <a:avLst/>
                          <a:gdLst>
                            <a:gd name="textAreaLeft" fmla="*/ 0 w 252720"/>
                            <a:gd name="textAreaRight" fmla="*/ 253080 w 252720"/>
                            <a:gd name="textAreaTop" fmla="*/ 0 h 162000"/>
                            <a:gd name="textAreaBottom" fmla="*/ 162360 h 162000"/>
                          </a:gdLst>
                          <a:ahLst/>
                          <a:rect l="textAreaLeft" t="textAreaTop" r="textAreaRight" b="textAreaBottom"/>
                          <a:pathLst>
                            <a:path w="906" h="669">
                              <a:moveTo>
                                <a:pt x="906" y="161"/>
                              </a:moveTo>
                              <a:cubicBezTo>
                                <a:pt x="905" y="122"/>
                                <a:pt x="803" y="50"/>
                                <a:pt x="732" y="27"/>
                              </a:cubicBezTo>
                              <a:cubicBezTo>
                                <a:pt x="660" y="3"/>
                                <a:pt x="553" y="0"/>
                                <a:pt x="477" y="17"/>
                              </a:cubicBezTo>
                              <a:cubicBezTo>
                                <a:pt x="389" y="22"/>
                                <a:pt x="332" y="88"/>
                                <a:pt x="278" y="133"/>
                              </a:cubicBezTo>
                              <a:cubicBezTo>
                                <a:pt x="227" y="186"/>
                                <a:pt x="150" y="273"/>
                                <a:pt x="125" y="327"/>
                              </a:cubicBezTo>
                              <a:cubicBezTo>
                                <a:pt x="89" y="379"/>
                                <a:pt x="65" y="391"/>
                                <a:pt x="64" y="443"/>
                              </a:cubicBezTo>
                              <a:cubicBezTo>
                                <a:pt x="0" y="504"/>
                                <a:pt x="101" y="600"/>
                                <a:pt x="111" y="641"/>
                              </a:cubicBezTo>
                              <a:cubicBezTo>
                                <a:pt x="178" y="669"/>
                                <a:pt x="352" y="659"/>
                                <a:pt x="464" y="611"/>
                              </a:cubicBezTo>
                              <a:cubicBezTo>
                                <a:pt x="576" y="563"/>
                                <a:pt x="710" y="426"/>
                                <a:pt x="784" y="351"/>
                              </a:cubicBezTo>
                              <a:cubicBezTo>
                                <a:pt x="858" y="276"/>
                                <a:pt x="881" y="201"/>
                                <a:pt x="906" y="161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333333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7" name="Freeform 313"/>
                        <p:cNvSpPr/>
                        <p:nvPr/>
                      </p:nvSpPr>
                      <p:spPr>
                        <a:xfrm rot="2050200">
                          <a:off x="5244480" y="4082400"/>
                          <a:ext cx="250920" cy="305640"/>
                        </a:xfrm>
                        <a:custGeom>
                          <a:avLst/>
                          <a:gdLst>
                            <a:gd name="textAreaLeft" fmla="*/ 0 w 250920"/>
                            <a:gd name="textAreaRight" fmla="*/ 251280 w 250920"/>
                            <a:gd name="textAreaTop" fmla="*/ 0 h 305640"/>
                            <a:gd name="textAreaBottom" fmla="*/ 306000 h 305640"/>
                          </a:gdLst>
                          <a:ahLst/>
                          <a:rect l="textAreaLeft" t="textAreaTop" r="textAreaRight" b="textAreaBottom"/>
                          <a:pathLst>
                            <a:path w="1490" h="2346">
                              <a:moveTo>
                                <a:pt x="1332" y="244"/>
                              </a:moveTo>
                              <a:cubicBezTo>
                                <a:pt x="1399" y="361"/>
                                <a:pt x="1425" y="561"/>
                                <a:pt x="1447" y="740"/>
                              </a:cubicBezTo>
                              <a:cubicBezTo>
                                <a:pt x="1469" y="919"/>
                                <a:pt x="1490" y="1133"/>
                                <a:pt x="1467" y="1320"/>
                              </a:cubicBezTo>
                              <a:cubicBezTo>
                                <a:pt x="1444" y="1507"/>
                                <a:pt x="1417" y="1690"/>
                                <a:pt x="1307" y="1860"/>
                              </a:cubicBezTo>
                              <a:cubicBezTo>
                                <a:pt x="1257" y="1993"/>
                                <a:pt x="1250" y="2040"/>
                                <a:pt x="1167" y="2120"/>
                              </a:cubicBezTo>
                              <a:cubicBezTo>
                                <a:pt x="1084" y="2200"/>
                                <a:pt x="930" y="2332"/>
                                <a:pt x="807" y="2339"/>
                              </a:cubicBezTo>
                              <a:cubicBezTo>
                                <a:pt x="684" y="2346"/>
                                <a:pt x="534" y="2260"/>
                                <a:pt x="427" y="2160"/>
                              </a:cubicBezTo>
                              <a:cubicBezTo>
                                <a:pt x="320" y="2060"/>
                                <a:pt x="234" y="1903"/>
                                <a:pt x="167" y="1740"/>
                              </a:cubicBezTo>
                              <a:cubicBezTo>
                                <a:pt x="100" y="1577"/>
                                <a:pt x="50" y="1360"/>
                                <a:pt x="27" y="1180"/>
                              </a:cubicBezTo>
                              <a:cubicBezTo>
                                <a:pt x="7" y="1017"/>
                                <a:pt x="0" y="810"/>
                                <a:pt x="27" y="660"/>
                              </a:cubicBezTo>
                              <a:cubicBezTo>
                                <a:pt x="54" y="510"/>
                                <a:pt x="104" y="383"/>
                                <a:pt x="187" y="280"/>
                              </a:cubicBezTo>
                              <a:cubicBezTo>
                                <a:pt x="270" y="177"/>
                                <a:pt x="384" y="80"/>
                                <a:pt x="527" y="40"/>
                              </a:cubicBezTo>
                              <a:cubicBezTo>
                                <a:pt x="670" y="0"/>
                                <a:pt x="913" y="6"/>
                                <a:pt x="1047" y="40"/>
                              </a:cubicBezTo>
                              <a:cubicBezTo>
                                <a:pt x="1181" y="74"/>
                                <a:pt x="1297" y="128"/>
                                <a:pt x="1332" y="244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8" name="Freeform 314"/>
                        <p:cNvSpPr/>
                        <p:nvPr/>
                      </p:nvSpPr>
                      <p:spPr>
                        <a:xfrm rot="21274200">
                          <a:off x="5260680" y="4206960"/>
                          <a:ext cx="252720" cy="162360"/>
                        </a:xfrm>
                        <a:custGeom>
                          <a:avLst/>
                          <a:gdLst>
                            <a:gd name="textAreaLeft" fmla="*/ 0 w 252720"/>
                            <a:gd name="textAreaRight" fmla="*/ 253080 w 252720"/>
                            <a:gd name="textAreaTop" fmla="*/ 0 h 162360"/>
                            <a:gd name="textAreaBottom" fmla="*/ 162720 h 162360"/>
                          </a:gdLst>
                          <a:ahLst/>
                          <a:rect l="textAreaLeft" t="textAreaTop" r="textAreaRight" b="textAreaBottom"/>
                          <a:pathLst>
                            <a:path w="906" h="669">
                              <a:moveTo>
                                <a:pt x="906" y="161"/>
                              </a:moveTo>
                              <a:cubicBezTo>
                                <a:pt x="905" y="122"/>
                                <a:pt x="803" y="50"/>
                                <a:pt x="732" y="27"/>
                              </a:cubicBezTo>
                              <a:cubicBezTo>
                                <a:pt x="660" y="3"/>
                                <a:pt x="553" y="0"/>
                                <a:pt x="477" y="17"/>
                              </a:cubicBezTo>
                              <a:cubicBezTo>
                                <a:pt x="389" y="22"/>
                                <a:pt x="332" y="88"/>
                                <a:pt x="278" y="133"/>
                              </a:cubicBezTo>
                              <a:cubicBezTo>
                                <a:pt x="227" y="186"/>
                                <a:pt x="150" y="273"/>
                                <a:pt x="125" y="327"/>
                              </a:cubicBezTo>
                              <a:cubicBezTo>
                                <a:pt x="89" y="379"/>
                                <a:pt x="65" y="391"/>
                                <a:pt x="64" y="443"/>
                              </a:cubicBezTo>
                              <a:cubicBezTo>
                                <a:pt x="0" y="504"/>
                                <a:pt x="101" y="600"/>
                                <a:pt x="111" y="641"/>
                              </a:cubicBezTo>
                              <a:cubicBezTo>
                                <a:pt x="178" y="669"/>
                                <a:pt x="352" y="659"/>
                                <a:pt x="464" y="611"/>
                              </a:cubicBezTo>
                              <a:cubicBezTo>
                                <a:pt x="576" y="563"/>
                                <a:pt x="710" y="426"/>
                                <a:pt x="784" y="351"/>
                              </a:cubicBezTo>
                              <a:cubicBezTo>
                                <a:pt x="858" y="276"/>
                                <a:pt x="881" y="201"/>
                                <a:pt x="906" y="161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333333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09" name="Freeform 315"/>
                      <p:cNvSpPr/>
                      <p:nvPr/>
                    </p:nvSpPr>
                    <p:spPr>
                      <a:xfrm rot="20497200">
                        <a:off x="4479120" y="3882240"/>
                        <a:ext cx="519120" cy="552600"/>
                      </a:xfrm>
                      <a:custGeom>
                        <a:avLst/>
                        <a:gdLst>
                          <a:gd name="textAreaLeft" fmla="*/ 0 w 519120"/>
                          <a:gd name="textAreaRight" fmla="*/ 519480 w 519120"/>
                          <a:gd name="textAreaTop" fmla="*/ 0 h 552600"/>
                          <a:gd name="textAreaBottom" fmla="*/ 552960 h 552600"/>
                        </a:gdLst>
                        <a:ahLst/>
                        <a:rect l="textAreaLeft" t="textAreaTop" r="textAreaRight" b="textAreaBottom"/>
                        <a:pathLst>
                          <a:path w="1278" h="1733">
                            <a:moveTo>
                              <a:pt x="831" y="1642"/>
                            </a:moveTo>
                            <a:cubicBezTo>
                              <a:pt x="872" y="1667"/>
                              <a:pt x="889" y="1733"/>
                              <a:pt x="955" y="1717"/>
                            </a:cubicBezTo>
                            <a:cubicBezTo>
                              <a:pt x="1020" y="1701"/>
                              <a:pt x="1178" y="1610"/>
                              <a:pt x="1228" y="1547"/>
                            </a:cubicBezTo>
                            <a:cubicBezTo>
                              <a:pt x="1278" y="1484"/>
                              <a:pt x="1265" y="1431"/>
                              <a:pt x="1256" y="1340"/>
                            </a:cubicBezTo>
                            <a:cubicBezTo>
                              <a:pt x="1247" y="1249"/>
                              <a:pt x="1183" y="1110"/>
                              <a:pt x="1176" y="1000"/>
                            </a:cubicBezTo>
                            <a:cubicBezTo>
                              <a:pt x="1169" y="890"/>
                              <a:pt x="1223" y="795"/>
                              <a:pt x="1216" y="680"/>
                            </a:cubicBezTo>
                            <a:cubicBezTo>
                              <a:pt x="1209" y="565"/>
                              <a:pt x="1230" y="421"/>
                              <a:pt x="1134" y="309"/>
                            </a:cubicBezTo>
                            <a:cubicBezTo>
                              <a:pt x="1038" y="197"/>
                              <a:pt x="812" y="0"/>
                              <a:pt x="638" y="7"/>
                            </a:cubicBezTo>
                            <a:cubicBezTo>
                              <a:pt x="464" y="13"/>
                              <a:pt x="180" y="185"/>
                              <a:pt x="90" y="347"/>
                            </a:cubicBezTo>
                            <a:cubicBezTo>
                              <a:pt x="0" y="509"/>
                              <a:pt x="55" y="815"/>
                              <a:pt x="96" y="980"/>
                            </a:cubicBezTo>
                            <a:cubicBezTo>
                              <a:pt x="137" y="1145"/>
                              <a:pt x="233" y="1243"/>
                              <a:pt x="335" y="1340"/>
                            </a:cubicBezTo>
                            <a:cubicBezTo>
                              <a:pt x="437" y="1437"/>
                              <a:pt x="624" y="1516"/>
                              <a:pt x="707" y="1566"/>
                            </a:cubicBezTo>
                            <a:cubicBezTo>
                              <a:pt x="789" y="1616"/>
                              <a:pt x="789" y="1616"/>
                              <a:pt x="831" y="1642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ffcc"/>
                          </a:gs>
                          <a:gs pos="50000">
                            <a:srgbClr val="008000"/>
                          </a:gs>
                          <a:gs pos="100000">
                            <a:srgbClr val="ccffcc"/>
                          </a:gs>
                        </a:gsLst>
                        <a:lin ang="3804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Freeform 316"/>
                      <p:cNvSpPr/>
                      <p:nvPr/>
                    </p:nvSpPr>
                    <p:spPr>
                      <a:xfrm rot="224400">
                        <a:off x="5483520" y="3969720"/>
                        <a:ext cx="125280" cy="181800"/>
                      </a:xfrm>
                      <a:custGeom>
                        <a:avLst/>
                        <a:gdLst>
                          <a:gd name="textAreaLeft" fmla="*/ 0 w 125280"/>
                          <a:gd name="textAreaRight" fmla="*/ 125640 w 125280"/>
                          <a:gd name="textAreaTop" fmla="*/ 0 h 181800"/>
                          <a:gd name="textAreaBottom" fmla="*/ 181800 h 181800"/>
                        </a:gdLst>
                        <a:ahLst/>
                        <a:rect l="textAreaLeft" t="textAreaTop" r="textAreaRight" b="textAreaBottom"/>
                        <a:pathLst>
                          <a:path w="840" h="1890">
                            <a:moveTo>
                              <a:pt x="810" y="1830"/>
                            </a:moveTo>
                            <a:cubicBezTo>
                              <a:pt x="780" y="1890"/>
                              <a:pt x="180" y="840"/>
                              <a:pt x="90" y="570"/>
                            </a:cubicBezTo>
                            <a:cubicBezTo>
                              <a:pt x="0" y="300"/>
                              <a:pt x="150" y="0"/>
                              <a:pt x="270" y="210"/>
                            </a:cubicBezTo>
                            <a:cubicBezTo>
                              <a:pt x="390" y="420"/>
                              <a:pt x="840" y="1770"/>
                              <a:pt x="810" y="1830"/>
                            </a:cubicBezTo>
                            <a:close/>
                          </a:path>
                        </a:pathLst>
                      </a:custGeom>
                      <a:solidFill>
                        <a:srgbClr val="333333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Freeform 317"/>
                      <p:cNvSpPr/>
                      <p:nvPr/>
                    </p:nvSpPr>
                    <p:spPr>
                      <a:xfrm rot="224400">
                        <a:off x="5182200" y="3838680"/>
                        <a:ext cx="125280" cy="181800"/>
                      </a:xfrm>
                      <a:custGeom>
                        <a:avLst/>
                        <a:gdLst>
                          <a:gd name="textAreaLeft" fmla="*/ 0 w 125280"/>
                          <a:gd name="textAreaRight" fmla="*/ 125640 w 125280"/>
                          <a:gd name="textAreaTop" fmla="*/ 0 h 181800"/>
                          <a:gd name="textAreaBottom" fmla="*/ 181800 h 181800"/>
                        </a:gdLst>
                        <a:ahLst/>
                        <a:rect l="textAreaLeft" t="textAreaTop" r="textAreaRight" b="textAreaBottom"/>
                        <a:pathLst>
                          <a:path w="840" h="1890">
                            <a:moveTo>
                              <a:pt x="810" y="1830"/>
                            </a:moveTo>
                            <a:cubicBezTo>
                              <a:pt x="780" y="1890"/>
                              <a:pt x="180" y="840"/>
                              <a:pt x="90" y="570"/>
                            </a:cubicBezTo>
                            <a:cubicBezTo>
                              <a:pt x="0" y="300"/>
                              <a:pt x="150" y="0"/>
                              <a:pt x="270" y="210"/>
                            </a:cubicBezTo>
                            <a:cubicBezTo>
                              <a:pt x="390" y="420"/>
                              <a:pt x="840" y="1770"/>
                              <a:pt x="810" y="1830"/>
                            </a:cubicBezTo>
                            <a:close/>
                          </a:path>
                        </a:pathLst>
                      </a:custGeom>
                      <a:solidFill>
                        <a:srgbClr val="333333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12" name="Group 318"/>
                      <p:cNvGrpSpPr/>
                      <p:nvPr/>
                    </p:nvGrpSpPr>
                    <p:grpSpPr>
                      <a:xfrm>
                        <a:off x="4971240" y="4758840"/>
                        <a:ext cx="108360" cy="61560"/>
                        <a:chOff x="4971240" y="4758840"/>
                        <a:chExt cx="108360" cy="61560"/>
                      </a:xfrm>
                    </p:grpSpPr>
                    <p:sp>
                      <p:nvSpPr>
                        <p:cNvPr id="713" name="Line 319"/>
                        <p:cNvSpPr/>
                        <p:nvPr/>
                      </p:nvSpPr>
                      <p:spPr>
                        <a:xfrm flipH="1">
                          <a:off x="4971240" y="4769640"/>
                          <a:ext cx="106200" cy="5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4" name="Line 320"/>
                        <p:cNvSpPr/>
                        <p:nvPr/>
                      </p:nvSpPr>
                      <p:spPr>
                        <a:xfrm flipV="1">
                          <a:off x="4971240" y="4758840"/>
                          <a:ext cx="108000" cy="615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760" bIns="14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5" name="Line 321"/>
                        <p:cNvSpPr/>
                        <p:nvPr/>
                      </p:nvSpPr>
                      <p:spPr>
                        <a:xfrm flipH="1">
                          <a:off x="5077440" y="4759200"/>
                          <a:ext cx="2160" cy="111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16" name="Group 322"/>
                      <p:cNvGrpSpPr/>
                      <p:nvPr/>
                    </p:nvGrpSpPr>
                    <p:grpSpPr>
                      <a:xfrm>
                        <a:off x="4936680" y="4620240"/>
                        <a:ext cx="116640" cy="80280"/>
                        <a:chOff x="4936680" y="4620240"/>
                        <a:chExt cx="116640" cy="80280"/>
                      </a:xfrm>
                    </p:grpSpPr>
                    <p:sp>
                      <p:nvSpPr>
                        <p:cNvPr id="717" name="Line 323"/>
                        <p:cNvSpPr/>
                        <p:nvPr/>
                      </p:nvSpPr>
                      <p:spPr>
                        <a:xfrm flipH="1" flipV="1">
                          <a:off x="4936680" y="4620240"/>
                          <a:ext cx="105480" cy="802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8" name="Line 324"/>
                        <p:cNvSpPr/>
                        <p:nvPr/>
                      </p:nvSpPr>
                      <p:spPr>
                        <a:xfrm>
                          <a:off x="4936680" y="4620240"/>
                          <a:ext cx="116640" cy="745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9" name="Line 325"/>
                        <p:cNvSpPr/>
                        <p:nvPr/>
                      </p:nvSpPr>
                      <p:spPr>
                        <a:xfrm flipH="1">
                          <a:off x="5041800" y="4694760"/>
                          <a:ext cx="11160" cy="5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20" name="Group 326"/>
                      <p:cNvGrpSpPr/>
                      <p:nvPr/>
                    </p:nvGrpSpPr>
                    <p:grpSpPr>
                      <a:xfrm>
                        <a:off x="5179680" y="4446720"/>
                        <a:ext cx="8640" cy="159480"/>
                        <a:chOff x="5179680" y="4446720"/>
                        <a:chExt cx="8640" cy="159480"/>
                      </a:xfrm>
                    </p:grpSpPr>
                    <p:sp>
                      <p:nvSpPr>
                        <p:cNvPr id="721" name="Line 327"/>
                        <p:cNvSpPr/>
                        <p:nvPr/>
                      </p:nvSpPr>
                      <p:spPr>
                        <a:xfrm flipV="1">
                          <a:off x="5180040" y="4446720"/>
                          <a:ext cx="7920" cy="1486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2" name="Line 328"/>
                        <p:cNvSpPr/>
                        <p:nvPr/>
                      </p:nvSpPr>
                      <p:spPr>
                        <a:xfrm>
                          <a:off x="5187600" y="4446720"/>
                          <a:ext cx="720" cy="1594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3" name="Line 329"/>
                        <p:cNvSpPr/>
                        <p:nvPr/>
                      </p:nvSpPr>
                      <p:spPr>
                        <a:xfrm flipH="1" flipV="1">
                          <a:off x="5179680" y="4595400"/>
                          <a:ext cx="8640" cy="104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24" name="Group 330"/>
                      <p:cNvGrpSpPr/>
                      <p:nvPr/>
                    </p:nvGrpSpPr>
                    <p:grpSpPr>
                      <a:xfrm>
                        <a:off x="5332680" y="4406400"/>
                        <a:ext cx="50400" cy="131040"/>
                        <a:chOff x="5332680" y="4406400"/>
                        <a:chExt cx="50400" cy="131040"/>
                      </a:xfrm>
                    </p:grpSpPr>
                    <p:sp>
                      <p:nvSpPr>
                        <p:cNvPr id="725" name="Line 331"/>
                        <p:cNvSpPr/>
                        <p:nvPr/>
                      </p:nvSpPr>
                      <p:spPr>
                        <a:xfrm flipV="1">
                          <a:off x="5333040" y="4406400"/>
                          <a:ext cx="50040" cy="1198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6" name="Line 332"/>
                        <p:cNvSpPr/>
                        <p:nvPr/>
                      </p:nvSpPr>
                      <p:spPr>
                        <a:xfrm flipH="1">
                          <a:off x="5338440" y="4406760"/>
                          <a:ext cx="44640" cy="1306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7" name="Line 333"/>
                        <p:cNvSpPr/>
                        <p:nvPr/>
                      </p:nvSpPr>
                      <p:spPr>
                        <a:xfrm flipH="1" flipV="1">
                          <a:off x="5332680" y="4526640"/>
                          <a:ext cx="5400" cy="10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0" bIns="-36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28" name="Group 334"/>
                      <p:cNvGrpSpPr/>
                      <p:nvPr/>
                    </p:nvGrpSpPr>
                    <p:grpSpPr>
                      <a:xfrm>
                        <a:off x="5182920" y="4757400"/>
                        <a:ext cx="43560" cy="116640"/>
                        <a:chOff x="5182920" y="4757400"/>
                        <a:chExt cx="43560" cy="116640"/>
                      </a:xfrm>
                    </p:grpSpPr>
                    <p:sp>
                      <p:nvSpPr>
                        <p:cNvPr id="729" name="Line 335"/>
                        <p:cNvSpPr/>
                        <p:nvPr/>
                      </p:nvSpPr>
                      <p:spPr>
                        <a:xfrm>
                          <a:off x="5193360" y="4761000"/>
                          <a:ext cx="33120" cy="1130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0" name="Line 336"/>
                        <p:cNvSpPr/>
                        <p:nvPr/>
                      </p:nvSpPr>
                      <p:spPr>
                        <a:xfrm flipH="1" flipV="1">
                          <a:off x="5182920" y="4757400"/>
                          <a:ext cx="43560" cy="1166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1" name="Line 337"/>
                        <p:cNvSpPr/>
                        <p:nvPr/>
                      </p:nvSpPr>
                      <p:spPr>
                        <a:xfrm>
                          <a:off x="5183640" y="4757400"/>
                          <a:ext cx="10440" cy="36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32" name="Group 338"/>
                      <p:cNvGrpSpPr/>
                      <p:nvPr/>
                    </p:nvGrpSpPr>
                    <p:grpSpPr>
                      <a:xfrm>
                        <a:off x="5303520" y="4638600"/>
                        <a:ext cx="88560" cy="107280"/>
                        <a:chOff x="5303520" y="4638600"/>
                        <a:chExt cx="88560" cy="107280"/>
                      </a:xfrm>
                    </p:grpSpPr>
                    <p:sp>
                      <p:nvSpPr>
                        <p:cNvPr id="733" name="Line 339"/>
                        <p:cNvSpPr/>
                        <p:nvPr/>
                      </p:nvSpPr>
                      <p:spPr>
                        <a:xfrm>
                          <a:off x="5315400" y="4641120"/>
                          <a:ext cx="76680" cy="104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4" name="Line 340"/>
                        <p:cNvSpPr/>
                        <p:nvPr/>
                      </p:nvSpPr>
                      <p:spPr>
                        <a:xfrm flipH="1" flipV="1">
                          <a:off x="5303520" y="4638960"/>
                          <a:ext cx="88560" cy="1069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5" name="Line 341"/>
                        <p:cNvSpPr/>
                        <p:nvPr/>
                      </p:nvSpPr>
                      <p:spPr>
                        <a:xfrm>
                          <a:off x="5303880" y="4638600"/>
                          <a:ext cx="11880" cy="25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36" name="Group 342"/>
                      <p:cNvGrpSpPr/>
                      <p:nvPr/>
                    </p:nvGrpSpPr>
                    <p:grpSpPr>
                      <a:xfrm>
                        <a:off x="5406840" y="4601880"/>
                        <a:ext cx="131040" cy="51840"/>
                        <a:chOff x="5406840" y="4601880"/>
                        <a:chExt cx="131040" cy="51840"/>
                      </a:xfrm>
                    </p:grpSpPr>
                    <p:sp>
                      <p:nvSpPr>
                        <p:cNvPr id="737" name="Line 343"/>
                        <p:cNvSpPr/>
                        <p:nvPr/>
                      </p:nvSpPr>
                      <p:spPr>
                        <a:xfrm>
                          <a:off x="5418360" y="4602240"/>
                          <a:ext cx="119520" cy="514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8" name="Line 344"/>
                        <p:cNvSpPr/>
                        <p:nvPr/>
                      </p:nvSpPr>
                      <p:spPr>
                        <a:xfrm flipH="1" flipV="1">
                          <a:off x="5406840" y="4606200"/>
                          <a:ext cx="130680" cy="475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9" name="Line 345"/>
                        <p:cNvSpPr/>
                        <p:nvPr/>
                      </p:nvSpPr>
                      <p:spPr>
                        <a:xfrm flipV="1">
                          <a:off x="5407200" y="4601880"/>
                          <a:ext cx="11160" cy="39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840" bIns="-42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40" name="Group 346"/>
                      <p:cNvGrpSpPr/>
                      <p:nvPr/>
                    </p:nvGrpSpPr>
                    <p:grpSpPr>
                      <a:xfrm>
                        <a:off x="4178160" y="4366800"/>
                        <a:ext cx="16560" cy="126720"/>
                        <a:chOff x="4178160" y="4366800"/>
                        <a:chExt cx="16560" cy="126720"/>
                      </a:xfrm>
                    </p:grpSpPr>
                    <p:sp>
                      <p:nvSpPr>
                        <p:cNvPr id="741" name="Line 347"/>
                        <p:cNvSpPr/>
                        <p:nvPr/>
                      </p:nvSpPr>
                      <p:spPr>
                        <a:xfrm flipH="1" flipV="1">
                          <a:off x="4178160" y="4366800"/>
                          <a:ext cx="4320" cy="1249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2" name="Line 348"/>
                        <p:cNvSpPr/>
                        <p:nvPr/>
                      </p:nvSpPr>
                      <p:spPr>
                        <a:xfrm>
                          <a:off x="4178160" y="4366800"/>
                          <a:ext cx="16560" cy="126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3" name="Line 349"/>
                        <p:cNvSpPr/>
                        <p:nvPr/>
                      </p:nvSpPr>
                      <p:spPr>
                        <a:xfrm flipH="1" flipV="1">
                          <a:off x="4182120" y="4491720"/>
                          <a:ext cx="11880" cy="1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44" name="Group 350"/>
                      <p:cNvGrpSpPr/>
                      <p:nvPr/>
                    </p:nvGrpSpPr>
                    <p:grpSpPr>
                      <a:xfrm>
                        <a:off x="4020120" y="4609080"/>
                        <a:ext cx="138240" cy="11160"/>
                        <a:chOff x="4020120" y="4609080"/>
                        <a:chExt cx="138240" cy="11160"/>
                      </a:xfrm>
                    </p:grpSpPr>
                    <p:sp>
                      <p:nvSpPr>
                        <p:cNvPr id="745" name="Line 351"/>
                        <p:cNvSpPr/>
                        <p:nvPr/>
                      </p:nvSpPr>
                      <p:spPr>
                        <a:xfrm flipH="1" flipV="1">
                          <a:off x="4020120" y="4611960"/>
                          <a:ext cx="132120" cy="79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6" name="Line 352"/>
                        <p:cNvSpPr/>
                        <p:nvPr/>
                      </p:nvSpPr>
                      <p:spPr>
                        <a:xfrm flipV="1">
                          <a:off x="4020120" y="4609080"/>
                          <a:ext cx="138240" cy="28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7" name="Line 353"/>
                        <p:cNvSpPr/>
                        <p:nvPr/>
                      </p:nvSpPr>
                      <p:spPr>
                        <a:xfrm flipH="1">
                          <a:off x="4151880" y="4609080"/>
                          <a:ext cx="6120" cy="111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48" name="Group 354"/>
                      <p:cNvGrpSpPr/>
                      <p:nvPr/>
                    </p:nvGrpSpPr>
                    <p:grpSpPr>
                      <a:xfrm>
                        <a:off x="4097520" y="4742640"/>
                        <a:ext cx="132120" cy="41760"/>
                        <a:chOff x="4097520" y="4742640"/>
                        <a:chExt cx="132120" cy="41760"/>
                      </a:xfrm>
                    </p:grpSpPr>
                    <p:sp>
                      <p:nvSpPr>
                        <p:cNvPr id="749" name="Line 355"/>
                        <p:cNvSpPr/>
                        <p:nvPr/>
                      </p:nvSpPr>
                      <p:spPr>
                        <a:xfrm flipH="1">
                          <a:off x="4097520" y="4755240"/>
                          <a:ext cx="129240" cy="291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640" bIns="-17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0" name="Line 356"/>
                        <p:cNvSpPr/>
                        <p:nvPr/>
                      </p:nvSpPr>
                      <p:spPr>
                        <a:xfrm flipV="1">
                          <a:off x="4097520" y="4742640"/>
                          <a:ext cx="132120" cy="41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040" bIns="-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1" name="Line 357"/>
                        <p:cNvSpPr/>
                        <p:nvPr/>
                      </p:nvSpPr>
                      <p:spPr>
                        <a:xfrm flipH="1">
                          <a:off x="4226400" y="4743000"/>
                          <a:ext cx="2880" cy="122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560" bIns="-34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52" name="Group 358"/>
                      <p:cNvGrpSpPr/>
                      <p:nvPr/>
                    </p:nvGrpSpPr>
                    <p:grpSpPr>
                      <a:xfrm>
                        <a:off x="4232160" y="4796280"/>
                        <a:ext cx="66960" cy="114120"/>
                        <a:chOff x="4232160" y="4796280"/>
                        <a:chExt cx="66960" cy="114120"/>
                      </a:xfrm>
                    </p:grpSpPr>
                    <p:sp>
                      <p:nvSpPr>
                        <p:cNvPr id="753" name="Line 359"/>
                        <p:cNvSpPr/>
                        <p:nvPr/>
                      </p:nvSpPr>
                      <p:spPr>
                        <a:xfrm flipH="1">
                          <a:off x="4232160" y="4804560"/>
                          <a:ext cx="66600" cy="105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4" name="Line 360"/>
                        <p:cNvSpPr/>
                        <p:nvPr/>
                      </p:nvSpPr>
                      <p:spPr>
                        <a:xfrm flipV="1">
                          <a:off x="4232160" y="4796280"/>
                          <a:ext cx="57600" cy="1141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5" name="Line 361"/>
                        <p:cNvSpPr/>
                        <p:nvPr/>
                      </p:nvSpPr>
                      <p:spPr>
                        <a:xfrm>
                          <a:off x="4290120" y="4796640"/>
                          <a:ext cx="9000" cy="82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56" name="Group 362"/>
                      <p:cNvGrpSpPr/>
                      <p:nvPr/>
                    </p:nvGrpSpPr>
                    <p:grpSpPr>
                      <a:xfrm>
                        <a:off x="4408200" y="4771800"/>
                        <a:ext cx="59400" cy="124920"/>
                        <a:chOff x="4408200" y="4771800"/>
                        <a:chExt cx="59400" cy="124920"/>
                      </a:xfrm>
                    </p:grpSpPr>
                    <p:sp>
                      <p:nvSpPr>
                        <p:cNvPr id="757" name="Line 363"/>
                        <p:cNvSpPr/>
                        <p:nvPr/>
                      </p:nvSpPr>
                      <p:spPr>
                        <a:xfrm>
                          <a:off x="4420440" y="4772880"/>
                          <a:ext cx="47160" cy="123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8" name="Line 364"/>
                        <p:cNvSpPr/>
                        <p:nvPr/>
                      </p:nvSpPr>
                      <p:spPr>
                        <a:xfrm flipH="1" flipV="1">
                          <a:off x="4408200" y="4771800"/>
                          <a:ext cx="59400" cy="1245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9" name="Line 365"/>
                        <p:cNvSpPr/>
                        <p:nvPr/>
                      </p:nvSpPr>
                      <p:spPr>
                        <a:xfrm>
                          <a:off x="4408200" y="4772160"/>
                          <a:ext cx="12600" cy="10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60" name="Group 366"/>
                      <p:cNvGrpSpPr/>
                      <p:nvPr/>
                    </p:nvGrpSpPr>
                    <p:grpSpPr>
                      <a:xfrm>
                        <a:off x="4394520" y="4325400"/>
                        <a:ext cx="228600" cy="134640"/>
                        <a:chOff x="4394520" y="4325400"/>
                        <a:chExt cx="228600" cy="134640"/>
                      </a:xfrm>
                    </p:grpSpPr>
                    <p:sp>
                      <p:nvSpPr>
                        <p:cNvPr id="761" name="Line 367"/>
                        <p:cNvSpPr/>
                        <p:nvPr/>
                      </p:nvSpPr>
                      <p:spPr>
                        <a:xfrm flipH="1" flipV="1">
                          <a:off x="4394520" y="4325400"/>
                          <a:ext cx="205920" cy="1346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2" name="Line 368"/>
                        <p:cNvSpPr/>
                        <p:nvPr/>
                      </p:nvSpPr>
                      <p:spPr>
                        <a:xfrm>
                          <a:off x="4394880" y="4326120"/>
                          <a:ext cx="228240" cy="1296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3" name="Line 369"/>
                        <p:cNvSpPr/>
                        <p:nvPr/>
                      </p:nvSpPr>
                      <p:spPr>
                        <a:xfrm flipH="1">
                          <a:off x="4600800" y="4455360"/>
                          <a:ext cx="22320" cy="46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64" name="Group 370"/>
                      <p:cNvGrpSpPr/>
                      <p:nvPr/>
                    </p:nvGrpSpPr>
                    <p:grpSpPr>
                      <a:xfrm>
                        <a:off x="4503600" y="4902840"/>
                        <a:ext cx="191880" cy="137160"/>
                        <a:chOff x="4503600" y="4902840"/>
                        <a:chExt cx="191880" cy="137160"/>
                      </a:xfrm>
                    </p:grpSpPr>
                    <p:sp>
                      <p:nvSpPr>
                        <p:cNvPr id="765" name="Line 371"/>
                        <p:cNvSpPr/>
                        <p:nvPr/>
                      </p:nvSpPr>
                      <p:spPr>
                        <a:xfrm flipH="1">
                          <a:off x="4503600" y="4924080"/>
                          <a:ext cx="191520" cy="1159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6" name="Line 372"/>
                        <p:cNvSpPr/>
                        <p:nvPr/>
                      </p:nvSpPr>
                      <p:spPr>
                        <a:xfrm flipV="1">
                          <a:off x="4503600" y="4902840"/>
                          <a:ext cx="191880" cy="1371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7" name="Line 373"/>
                        <p:cNvSpPr/>
                        <p:nvPr/>
                      </p:nvSpPr>
                      <p:spPr>
                        <a:xfrm>
                          <a:off x="4695480" y="4902840"/>
                          <a:ext cx="0" cy="212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68" name="Group 374"/>
                      <p:cNvGrpSpPr/>
                      <p:nvPr/>
                    </p:nvGrpSpPr>
                    <p:grpSpPr>
                      <a:xfrm>
                        <a:off x="4656960" y="3828240"/>
                        <a:ext cx="17280" cy="127800"/>
                        <a:chOff x="4656960" y="3828240"/>
                        <a:chExt cx="17280" cy="127800"/>
                      </a:xfrm>
                    </p:grpSpPr>
                    <p:sp>
                      <p:nvSpPr>
                        <p:cNvPr id="769" name="Line 375"/>
                        <p:cNvSpPr/>
                        <p:nvPr/>
                      </p:nvSpPr>
                      <p:spPr>
                        <a:xfrm flipV="1">
                          <a:off x="4657320" y="3828240"/>
                          <a:ext cx="16920" cy="1242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0" name="Line 376"/>
                        <p:cNvSpPr/>
                        <p:nvPr/>
                      </p:nvSpPr>
                      <p:spPr>
                        <a:xfrm flipH="1">
                          <a:off x="4669200" y="3828240"/>
                          <a:ext cx="5040" cy="127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1" name="Line 377"/>
                        <p:cNvSpPr/>
                        <p:nvPr/>
                      </p:nvSpPr>
                      <p:spPr>
                        <a:xfrm flipH="1" flipV="1">
                          <a:off x="4656960" y="3952080"/>
                          <a:ext cx="11520" cy="39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840" bIns="-42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72" name="Group 378"/>
                      <p:cNvGrpSpPr/>
                      <p:nvPr/>
                    </p:nvGrpSpPr>
                    <p:grpSpPr>
                      <a:xfrm>
                        <a:off x="4441320" y="3910680"/>
                        <a:ext cx="104400" cy="95040"/>
                        <a:chOff x="4441320" y="3910680"/>
                        <a:chExt cx="104400" cy="95040"/>
                      </a:xfrm>
                    </p:grpSpPr>
                    <p:sp>
                      <p:nvSpPr>
                        <p:cNvPr id="773" name="Line 379"/>
                        <p:cNvSpPr/>
                        <p:nvPr/>
                      </p:nvSpPr>
                      <p:spPr>
                        <a:xfrm flipH="1" flipV="1">
                          <a:off x="4441320" y="3910680"/>
                          <a:ext cx="92520" cy="950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4" name="Line 380"/>
                        <p:cNvSpPr/>
                        <p:nvPr/>
                      </p:nvSpPr>
                      <p:spPr>
                        <a:xfrm>
                          <a:off x="4441320" y="3910680"/>
                          <a:ext cx="104400" cy="910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280" bIns="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5" name="Line 381"/>
                        <p:cNvSpPr/>
                        <p:nvPr/>
                      </p:nvSpPr>
                      <p:spPr>
                        <a:xfrm flipH="1">
                          <a:off x="4533480" y="4001760"/>
                          <a:ext cx="11880" cy="39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840" bIns="-42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76" name="Group 382"/>
                      <p:cNvGrpSpPr/>
                      <p:nvPr/>
                    </p:nvGrpSpPr>
                    <p:grpSpPr>
                      <a:xfrm>
                        <a:off x="4346640" y="4105080"/>
                        <a:ext cx="138600" cy="16920"/>
                        <a:chOff x="4346640" y="4105080"/>
                        <a:chExt cx="138600" cy="16920"/>
                      </a:xfrm>
                    </p:grpSpPr>
                    <p:sp>
                      <p:nvSpPr>
                        <p:cNvPr id="777" name="Line 383"/>
                        <p:cNvSpPr/>
                        <p:nvPr/>
                      </p:nvSpPr>
                      <p:spPr>
                        <a:xfrm flipH="1" flipV="1">
                          <a:off x="4346640" y="4105080"/>
                          <a:ext cx="131760" cy="169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8" name="Line 384"/>
                        <p:cNvSpPr/>
                        <p:nvPr/>
                      </p:nvSpPr>
                      <p:spPr>
                        <a:xfrm>
                          <a:off x="4346640" y="4105080"/>
                          <a:ext cx="138600" cy="61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9" name="Line 385"/>
                        <p:cNvSpPr/>
                        <p:nvPr/>
                      </p:nvSpPr>
                      <p:spPr>
                        <a:xfrm flipH="1">
                          <a:off x="4478040" y="4111560"/>
                          <a:ext cx="6840" cy="104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80" name="Group 386"/>
                      <p:cNvGrpSpPr/>
                      <p:nvPr/>
                    </p:nvGrpSpPr>
                    <p:grpSpPr>
                      <a:xfrm>
                        <a:off x="4616280" y="4064040"/>
                        <a:ext cx="105840" cy="93600"/>
                        <a:chOff x="4616280" y="4064040"/>
                        <a:chExt cx="105840" cy="93600"/>
                      </a:xfrm>
                    </p:grpSpPr>
                    <p:sp>
                      <p:nvSpPr>
                        <p:cNvPr id="781" name="Line 387"/>
                        <p:cNvSpPr/>
                        <p:nvPr/>
                      </p:nvSpPr>
                      <p:spPr>
                        <a:xfrm flipH="1" flipV="1">
                          <a:off x="4616640" y="4064040"/>
                          <a:ext cx="93600" cy="936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2" name="Line 388"/>
                        <p:cNvSpPr/>
                        <p:nvPr/>
                      </p:nvSpPr>
                      <p:spPr>
                        <a:xfrm>
                          <a:off x="4616280" y="4064400"/>
                          <a:ext cx="105840" cy="892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480" bIns="42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3" name="Line 389"/>
                        <p:cNvSpPr/>
                        <p:nvPr/>
                      </p:nvSpPr>
                      <p:spPr>
                        <a:xfrm flipH="1">
                          <a:off x="4709880" y="4153320"/>
                          <a:ext cx="11880" cy="4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480" bIns="-42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84" name="Group 390"/>
                      <p:cNvGrpSpPr/>
                      <p:nvPr/>
                    </p:nvGrpSpPr>
                    <p:grpSpPr>
                      <a:xfrm>
                        <a:off x="5712480" y="4187520"/>
                        <a:ext cx="124200" cy="30960"/>
                        <a:chOff x="5712480" y="4187520"/>
                        <a:chExt cx="124200" cy="30960"/>
                      </a:xfrm>
                    </p:grpSpPr>
                    <p:sp>
                      <p:nvSpPr>
                        <p:cNvPr id="785" name="Line 391"/>
                        <p:cNvSpPr/>
                        <p:nvPr/>
                      </p:nvSpPr>
                      <p:spPr>
                        <a:xfrm flipV="1">
                          <a:off x="5712840" y="4187520"/>
                          <a:ext cx="123840" cy="18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6" name="Line 392"/>
                        <p:cNvSpPr/>
                        <p:nvPr/>
                      </p:nvSpPr>
                      <p:spPr>
                        <a:xfrm flipH="1">
                          <a:off x="5712480" y="4187520"/>
                          <a:ext cx="124200" cy="309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840" bIns="-15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7" name="Line 393"/>
                        <p:cNvSpPr/>
                        <p:nvPr/>
                      </p:nvSpPr>
                      <p:spPr>
                        <a:xfrm flipV="1">
                          <a:off x="5712480" y="4205880"/>
                          <a:ext cx="360" cy="118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88" name="Group 394"/>
                      <p:cNvGrpSpPr/>
                      <p:nvPr/>
                    </p:nvGrpSpPr>
                    <p:grpSpPr>
                      <a:xfrm>
                        <a:off x="5665680" y="3954600"/>
                        <a:ext cx="116280" cy="58680"/>
                        <a:chOff x="5665680" y="3954600"/>
                        <a:chExt cx="116280" cy="58680"/>
                      </a:xfrm>
                    </p:grpSpPr>
                    <p:sp>
                      <p:nvSpPr>
                        <p:cNvPr id="789" name="Line 395"/>
                        <p:cNvSpPr/>
                        <p:nvPr/>
                      </p:nvSpPr>
                      <p:spPr>
                        <a:xfrm flipV="1">
                          <a:off x="5665680" y="3954600"/>
                          <a:ext cx="116280" cy="46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0" bIns="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0" name="Line 396"/>
                        <p:cNvSpPr/>
                        <p:nvPr/>
                      </p:nvSpPr>
                      <p:spPr>
                        <a:xfrm flipH="1">
                          <a:off x="5668200" y="3954600"/>
                          <a:ext cx="113760" cy="586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1" name="Line 397"/>
                        <p:cNvSpPr/>
                        <p:nvPr/>
                      </p:nvSpPr>
                      <p:spPr>
                        <a:xfrm flipH="1" flipV="1">
                          <a:off x="5665680" y="4001040"/>
                          <a:ext cx="2520" cy="118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92" name="Group 398"/>
                      <p:cNvGrpSpPr/>
                      <p:nvPr/>
                    </p:nvGrpSpPr>
                    <p:grpSpPr>
                      <a:xfrm>
                        <a:off x="5521320" y="3810240"/>
                        <a:ext cx="102240" cy="83520"/>
                        <a:chOff x="5521320" y="3810240"/>
                        <a:chExt cx="102240" cy="83520"/>
                      </a:xfrm>
                    </p:grpSpPr>
                    <p:sp>
                      <p:nvSpPr>
                        <p:cNvPr id="793" name="Line 399"/>
                        <p:cNvSpPr/>
                        <p:nvPr/>
                      </p:nvSpPr>
                      <p:spPr>
                        <a:xfrm flipV="1">
                          <a:off x="5521320" y="3810240"/>
                          <a:ext cx="102240" cy="723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560" bIns="25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4" name="Line 400"/>
                        <p:cNvSpPr/>
                        <p:nvPr/>
                      </p:nvSpPr>
                      <p:spPr>
                        <a:xfrm flipH="1">
                          <a:off x="5526720" y="3810240"/>
                          <a:ext cx="96840" cy="835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720" bIns="36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5" name="Line 401"/>
                        <p:cNvSpPr/>
                        <p:nvPr/>
                      </p:nvSpPr>
                      <p:spPr>
                        <a:xfrm flipH="1" flipV="1">
                          <a:off x="5521320" y="3882240"/>
                          <a:ext cx="5040" cy="111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96" name="Group 402"/>
                      <p:cNvGrpSpPr/>
                      <p:nvPr/>
                    </p:nvGrpSpPr>
                    <p:grpSpPr>
                      <a:xfrm>
                        <a:off x="5159520" y="3697560"/>
                        <a:ext cx="27360" cy="125280"/>
                        <a:chOff x="5159520" y="3697560"/>
                        <a:chExt cx="27360" cy="125280"/>
                      </a:xfrm>
                    </p:grpSpPr>
                    <p:sp>
                      <p:nvSpPr>
                        <p:cNvPr id="797" name="Line 403"/>
                        <p:cNvSpPr/>
                        <p:nvPr/>
                      </p:nvSpPr>
                      <p:spPr>
                        <a:xfrm flipH="1" flipV="1">
                          <a:off x="5159520" y="3697560"/>
                          <a:ext cx="15120" cy="1245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8" name="Line 404"/>
                        <p:cNvSpPr/>
                        <p:nvPr/>
                      </p:nvSpPr>
                      <p:spPr>
                        <a:xfrm>
                          <a:off x="5159520" y="3697560"/>
                          <a:ext cx="27360" cy="1252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9" name="Line 405"/>
                        <p:cNvSpPr/>
                        <p:nvPr/>
                      </p:nvSpPr>
                      <p:spPr>
                        <a:xfrm flipH="1" flipV="1">
                          <a:off x="5174280" y="3822120"/>
                          <a:ext cx="11880" cy="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080" bIns="-46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800" name="AutoShape 406"/>
                    <p:cNvSpPr/>
                    <p:nvPr/>
                  </p:nvSpPr>
                  <p:spPr>
                    <a:xfrm rot="16599600">
                      <a:off x="4840920" y="4342680"/>
                      <a:ext cx="174600" cy="30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000" y="1866"/>
                            <a:pt x="10400" y="5080"/>
                            <a:pt x="10400" y="10800"/>
                          </a:cubicBezTo>
                          <a:cubicBezTo>
                            <a:pt x="10400" y="16520"/>
                            <a:pt x="16000" y="19734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1" name="Oval 407"/>
                  <p:cNvSpPr/>
                  <p:nvPr/>
                </p:nvSpPr>
                <p:spPr>
                  <a:xfrm>
                    <a:off x="5455440" y="3194280"/>
                    <a:ext cx="178200" cy="16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0982"/>
                      </a:gs>
                      <a:gs pos="100000">
                        <a:srgbClr val="63043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Oval 408"/>
                  <p:cNvSpPr/>
                  <p:nvPr/>
                </p:nvSpPr>
                <p:spPr>
                  <a:xfrm>
                    <a:off x="6035760" y="3490200"/>
                    <a:ext cx="200520" cy="174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0982"/>
                      </a:gs>
                      <a:gs pos="100000">
                        <a:srgbClr val="63043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03" name="Rectangle 409"/>
              <p:cNvSpPr/>
              <p:nvPr/>
            </p:nvSpPr>
            <p:spPr>
              <a:xfrm>
                <a:off x="3517560" y="2826360"/>
                <a:ext cx="2331720" cy="1436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4" name="Rectangle 408"/>
          <p:cNvSpPr/>
          <p:nvPr/>
        </p:nvSpPr>
        <p:spPr>
          <a:xfrm>
            <a:off x="2411280" y="11592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Масштабирование векторной 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39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6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Рисунок 2" descr="4379BD58B93D3.jpg"/>
          <p:cNvPicPr/>
          <p:nvPr/>
        </p:nvPicPr>
        <p:blipFill>
          <a:blip r:embed="rId1"/>
          <a:stretch/>
        </p:blipFill>
        <p:spPr>
          <a:xfrm>
            <a:off x="108000" y="191628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806" name="Рисунок 4" descr="i.jpg"/>
          <p:cNvPicPr/>
          <p:nvPr/>
        </p:nvPicPr>
        <p:blipFill>
          <a:blip r:embed="rId2"/>
          <a:stretch/>
        </p:blipFill>
        <p:spPr>
          <a:xfrm>
            <a:off x="428760" y="4214880"/>
            <a:ext cx="1857240" cy="228420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3"/>
          <p:cNvGrpSpPr/>
          <p:nvPr/>
        </p:nvGrpSpPr>
        <p:grpSpPr>
          <a:xfrm>
            <a:off x="6560280" y="4572000"/>
            <a:ext cx="2565360" cy="2071800"/>
            <a:chOff x="6560280" y="4572000"/>
            <a:chExt cx="2565360" cy="2071800"/>
          </a:xfrm>
        </p:grpSpPr>
        <p:sp>
          <p:nvSpPr>
            <p:cNvPr id="808" name="AutoShape 4"/>
            <p:cNvSpPr/>
            <p:nvPr/>
          </p:nvSpPr>
          <p:spPr>
            <a:xfrm rot="5400000">
              <a:off x="7167960" y="4061520"/>
              <a:ext cx="1282680" cy="2303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311" y="183"/>
                    <a:pt x="1021" y="5080"/>
                    <a:pt x="1021" y="10800"/>
                  </a:cubicBezTo>
                  <a:cubicBezTo>
                    <a:pt x="1021" y="16520"/>
                    <a:pt x="11311" y="21417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Group 5"/>
            <p:cNvGrpSpPr/>
            <p:nvPr/>
          </p:nvGrpSpPr>
          <p:grpSpPr>
            <a:xfrm>
              <a:off x="7230600" y="4887360"/>
              <a:ext cx="1288800" cy="1134720"/>
              <a:chOff x="7230600" y="4887360"/>
              <a:chExt cx="1288800" cy="1134720"/>
            </a:xfrm>
          </p:grpSpPr>
          <p:grpSp>
            <p:nvGrpSpPr>
              <p:cNvPr id="810" name="Group 6"/>
              <p:cNvGrpSpPr/>
              <p:nvPr/>
            </p:nvGrpSpPr>
            <p:grpSpPr>
              <a:xfrm>
                <a:off x="7230600" y="4887360"/>
                <a:ext cx="1288800" cy="1134720"/>
                <a:chOff x="7230600" y="4887360"/>
                <a:chExt cx="1288800" cy="1134720"/>
              </a:xfrm>
            </p:grpSpPr>
            <p:sp>
              <p:nvSpPr>
                <p:cNvPr id="811" name="Freeform 7"/>
                <p:cNvSpPr/>
                <p:nvPr/>
              </p:nvSpPr>
              <p:spPr>
                <a:xfrm rot="19803000">
                  <a:off x="7608600" y="4931640"/>
                  <a:ext cx="320760" cy="533880"/>
                </a:xfrm>
                <a:custGeom>
                  <a:avLst/>
                  <a:gdLst>
                    <a:gd name="textAreaLeft" fmla="*/ 0 w 320760"/>
                    <a:gd name="textAreaRight" fmla="*/ 321120 w 320760"/>
                    <a:gd name="textAreaTop" fmla="*/ 0 h 533880"/>
                    <a:gd name="textAreaBottom" fmla="*/ 534240 h 53388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8"/>
                <p:cNvSpPr/>
                <p:nvPr/>
              </p:nvSpPr>
              <p:spPr>
                <a:xfrm rot="17157000">
                  <a:off x="7445880" y="5034600"/>
                  <a:ext cx="290880" cy="588240"/>
                </a:xfrm>
                <a:custGeom>
                  <a:avLst/>
                  <a:gdLst>
                    <a:gd name="textAreaLeft" fmla="*/ 0 w 290880"/>
                    <a:gd name="textAreaRight" fmla="*/ 291240 w 290880"/>
                    <a:gd name="textAreaTop" fmla="*/ 0 h 588240"/>
                    <a:gd name="textAreaBottom" fmla="*/ 588600 h 58824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9"/>
                <p:cNvSpPr/>
                <p:nvPr/>
              </p:nvSpPr>
              <p:spPr>
                <a:xfrm rot="14949600">
                  <a:off x="7411320" y="5222520"/>
                  <a:ext cx="290880" cy="588240"/>
                </a:xfrm>
                <a:custGeom>
                  <a:avLst/>
                  <a:gdLst>
                    <a:gd name="textAreaLeft" fmla="*/ 0 w 290880"/>
                    <a:gd name="textAreaRight" fmla="*/ 291240 w 290880"/>
                    <a:gd name="textAreaTop" fmla="*/ 0 h 588240"/>
                    <a:gd name="textAreaBottom" fmla="*/ 588600 h 58824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10"/>
                <p:cNvSpPr/>
                <p:nvPr/>
              </p:nvSpPr>
              <p:spPr>
                <a:xfrm>
                  <a:off x="7816680" y="4900680"/>
                  <a:ext cx="320760" cy="533880"/>
                </a:xfrm>
                <a:custGeom>
                  <a:avLst/>
                  <a:gdLst>
                    <a:gd name="textAreaLeft" fmla="*/ 0 w 320760"/>
                    <a:gd name="textAreaRight" fmla="*/ 321120 w 320760"/>
                    <a:gd name="textAreaTop" fmla="*/ 0 h 533880"/>
                    <a:gd name="textAreaBottom" fmla="*/ 534240 h 53388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1"/>
                <p:cNvSpPr/>
                <p:nvPr/>
              </p:nvSpPr>
              <p:spPr>
                <a:xfrm rot="12541800">
                  <a:off x="7512480" y="5402160"/>
                  <a:ext cx="320760" cy="533880"/>
                </a:xfrm>
                <a:custGeom>
                  <a:avLst/>
                  <a:gdLst>
                    <a:gd name="textAreaLeft" fmla="*/ 0 w 320760"/>
                    <a:gd name="textAreaRight" fmla="*/ 321120 w 320760"/>
                    <a:gd name="textAreaTop" fmla="*/ 0 h 533880"/>
                    <a:gd name="textAreaBottom" fmla="*/ 534240 h 53388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6" name="Group 12"/>
                <p:cNvGrpSpPr/>
                <p:nvPr/>
              </p:nvGrpSpPr>
              <p:grpSpPr>
                <a:xfrm>
                  <a:off x="7666920" y="4949280"/>
                  <a:ext cx="852480" cy="1072800"/>
                  <a:chOff x="7666920" y="4949280"/>
                  <a:chExt cx="852480" cy="1072800"/>
                </a:xfrm>
              </p:grpSpPr>
              <p:sp>
                <p:nvSpPr>
                  <p:cNvPr id="817" name="Freeform 13"/>
                  <p:cNvSpPr/>
                  <p:nvPr/>
                </p:nvSpPr>
                <p:spPr>
                  <a:xfrm rot="9652800">
                    <a:off x="7745400" y="5450040"/>
                    <a:ext cx="320760" cy="533880"/>
                  </a:xfrm>
                  <a:custGeom>
                    <a:avLst/>
                    <a:gdLst>
                      <a:gd name="textAreaLeft" fmla="*/ 0 w 320760"/>
                      <a:gd name="textAreaRight" fmla="*/ 321120 w 320760"/>
                      <a:gd name="textAreaTop" fmla="*/ 0 h 533880"/>
                      <a:gd name="textAreaBottom" fmla="*/ 534240 h 53388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Freeform 14"/>
                  <p:cNvSpPr/>
                  <p:nvPr/>
                </p:nvSpPr>
                <p:spPr>
                  <a:xfrm rot="7855800">
                    <a:off x="7931880" y="5352480"/>
                    <a:ext cx="320760" cy="533880"/>
                  </a:xfrm>
                  <a:custGeom>
                    <a:avLst/>
                    <a:gdLst>
                      <a:gd name="textAreaLeft" fmla="*/ 0 w 320760"/>
                      <a:gd name="textAreaRight" fmla="*/ 321120 w 320760"/>
                      <a:gd name="textAreaTop" fmla="*/ 0 h 533880"/>
                      <a:gd name="textAreaBottom" fmla="*/ 534240 h 53388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Freeform 15"/>
                  <p:cNvSpPr/>
                  <p:nvPr/>
                </p:nvSpPr>
                <p:spPr>
                  <a:xfrm rot="5209800">
                    <a:off x="8071920" y="5144760"/>
                    <a:ext cx="291240" cy="588240"/>
                  </a:xfrm>
                  <a:custGeom>
                    <a:avLst/>
                    <a:gdLst>
                      <a:gd name="textAreaLeft" fmla="*/ 0 w 291240"/>
                      <a:gd name="textAreaRight" fmla="*/ 291600 w 291240"/>
                      <a:gd name="textAreaTop" fmla="*/ 0 h 588240"/>
                      <a:gd name="textAreaBottom" fmla="*/ 588600 h 58824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1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Freeform 16"/>
                  <p:cNvSpPr/>
                  <p:nvPr/>
                </p:nvSpPr>
                <p:spPr>
                  <a:xfrm rot="3002400">
                    <a:off x="8043120" y="4955400"/>
                    <a:ext cx="290880" cy="588240"/>
                  </a:xfrm>
                  <a:custGeom>
                    <a:avLst/>
                    <a:gdLst>
                      <a:gd name="textAreaLeft" fmla="*/ 0 w 290880"/>
                      <a:gd name="textAreaRight" fmla="*/ 291240 w 290880"/>
                      <a:gd name="textAreaTop" fmla="*/ 0 h 588240"/>
                      <a:gd name="textAreaBottom" fmla="*/ 588600 h 58824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21" name="Oval 17"/>
              <p:cNvSpPr/>
              <p:nvPr/>
            </p:nvSpPr>
            <p:spPr>
              <a:xfrm>
                <a:off x="7736040" y="5315760"/>
                <a:ext cx="276840" cy="250920"/>
              </a:xfrm>
              <a:prstGeom prst="ellipse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8"/>
            <p:cNvGrpSpPr/>
            <p:nvPr/>
          </p:nvGrpSpPr>
          <p:grpSpPr>
            <a:xfrm>
              <a:off x="8166600" y="5277600"/>
              <a:ext cx="757080" cy="637920"/>
              <a:chOff x="8166600" y="5277600"/>
              <a:chExt cx="757080" cy="637920"/>
            </a:xfrm>
          </p:grpSpPr>
          <p:grpSp>
            <p:nvGrpSpPr>
              <p:cNvPr id="823" name="Group 19"/>
              <p:cNvGrpSpPr/>
              <p:nvPr/>
            </p:nvGrpSpPr>
            <p:grpSpPr>
              <a:xfrm>
                <a:off x="8166600" y="5277600"/>
                <a:ext cx="757080" cy="637920"/>
                <a:chOff x="8166600" y="5277600"/>
                <a:chExt cx="757080" cy="637920"/>
              </a:xfrm>
            </p:grpSpPr>
            <p:sp>
              <p:nvSpPr>
                <p:cNvPr id="824" name="Freeform 20"/>
                <p:cNvSpPr/>
                <p:nvPr/>
              </p:nvSpPr>
              <p:spPr>
                <a:xfrm rot="19803000">
                  <a:off x="8387640" y="5304960"/>
                  <a:ext cx="188640" cy="29628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21"/>
                <p:cNvSpPr/>
                <p:nvPr/>
              </p:nvSpPr>
              <p:spPr>
                <a:xfrm rot="17157000">
                  <a:off x="8296560" y="5351760"/>
                  <a:ext cx="161640" cy="3459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345960"/>
                    <a:gd name="textAreaBottom" fmla="*/ 346320 h 34596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22"/>
                <p:cNvSpPr/>
                <p:nvPr/>
              </p:nvSpPr>
              <p:spPr>
                <a:xfrm rot="14949600">
                  <a:off x="8276040" y="5456160"/>
                  <a:ext cx="161640" cy="3459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345960"/>
                    <a:gd name="textAreaBottom" fmla="*/ 346320 h 34596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23"/>
                <p:cNvSpPr/>
                <p:nvPr/>
              </p:nvSpPr>
              <p:spPr>
                <a:xfrm>
                  <a:off x="8509680" y="5287680"/>
                  <a:ext cx="188640" cy="29628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24"/>
                <p:cNvSpPr/>
                <p:nvPr/>
              </p:nvSpPr>
              <p:spPr>
                <a:xfrm rot="12541800">
                  <a:off x="8331120" y="5565960"/>
                  <a:ext cx="188640" cy="29628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9" name="Group 25"/>
                <p:cNvGrpSpPr/>
                <p:nvPr/>
              </p:nvGrpSpPr>
              <p:grpSpPr>
                <a:xfrm>
                  <a:off x="8423280" y="5307120"/>
                  <a:ext cx="500400" cy="608400"/>
                  <a:chOff x="8423280" y="5307120"/>
                  <a:chExt cx="500400" cy="608400"/>
                </a:xfrm>
              </p:grpSpPr>
              <p:sp>
                <p:nvSpPr>
                  <p:cNvPr id="830" name="Freeform 26"/>
                  <p:cNvSpPr/>
                  <p:nvPr/>
                </p:nvSpPr>
                <p:spPr>
                  <a:xfrm rot="9652800">
                    <a:off x="8466480" y="5595840"/>
                    <a:ext cx="188640" cy="296640"/>
                  </a:xfrm>
                  <a:custGeom>
                    <a:avLst/>
                    <a:gdLst>
                      <a:gd name="textAreaLeft" fmla="*/ 0 w 188640"/>
                      <a:gd name="textAreaRight" fmla="*/ 189000 w 188640"/>
                      <a:gd name="textAreaTop" fmla="*/ 0 h 296640"/>
                      <a:gd name="textAreaBottom" fmla="*/ 297000 h 29664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8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Freeform 27"/>
                  <p:cNvSpPr/>
                  <p:nvPr/>
                </p:nvSpPr>
                <p:spPr>
                  <a:xfrm rot="7855800">
                    <a:off x="8576640" y="5539680"/>
                    <a:ext cx="188640" cy="296640"/>
                  </a:xfrm>
                  <a:custGeom>
                    <a:avLst/>
                    <a:gdLst>
                      <a:gd name="textAreaLeft" fmla="*/ 0 w 188640"/>
                      <a:gd name="textAreaRight" fmla="*/ 189000 w 188640"/>
                      <a:gd name="textAreaTop" fmla="*/ 0 h 296640"/>
                      <a:gd name="textAreaBottom" fmla="*/ 297000 h 29664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9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Freeform 28"/>
                  <p:cNvSpPr/>
                  <p:nvPr/>
                </p:nvSpPr>
                <p:spPr>
                  <a:xfrm rot="5209800">
                    <a:off x="8665560" y="5412960"/>
                    <a:ext cx="161640" cy="3459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345960"/>
                      <a:gd name="textAreaBottom" fmla="*/ 346320 h 34596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20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Freeform 29"/>
                  <p:cNvSpPr/>
                  <p:nvPr/>
                </p:nvSpPr>
                <p:spPr>
                  <a:xfrm rot="3002400">
                    <a:off x="8650080" y="5307120"/>
                    <a:ext cx="161640" cy="3459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345960"/>
                      <a:gd name="textAreaBottom" fmla="*/ 346320 h 34596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21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4" name="Oval 30"/>
              <p:cNvSpPr/>
              <p:nvPr/>
            </p:nvSpPr>
            <p:spPr>
              <a:xfrm>
                <a:off x="8462160" y="5518080"/>
                <a:ext cx="162720" cy="1393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Group 31"/>
            <p:cNvGrpSpPr/>
            <p:nvPr/>
          </p:nvGrpSpPr>
          <p:grpSpPr>
            <a:xfrm>
              <a:off x="7905240" y="5518080"/>
              <a:ext cx="491040" cy="403560"/>
              <a:chOff x="7905240" y="5518080"/>
              <a:chExt cx="491040" cy="403560"/>
            </a:xfrm>
          </p:grpSpPr>
          <p:sp>
            <p:nvSpPr>
              <p:cNvPr id="836" name="Freeform 32"/>
              <p:cNvSpPr/>
              <p:nvPr/>
            </p:nvSpPr>
            <p:spPr>
              <a:xfrm rot="19803000">
                <a:off x="8047800" y="5536080"/>
                <a:ext cx="122400" cy="18612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2571" h="4713">
                    <a:moveTo>
                      <a:pt x="893" y="4632"/>
                    </a:moveTo>
                    <a:cubicBezTo>
                      <a:pt x="500" y="4713"/>
                      <a:pt x="186" y="3002"/>
                      <a:pt x="93" y="2372"/>
                    </a:cubicBezTo>
                    <a:cubicBezTo>
                      <a:pt x="0" y="1742"/>
                      <a:pt x="83" y="1219"/>
                      <a:pt x="333" y="852"/>
                    </a:cubicBezTo>
                    <a:cubicBezTo>
                      <a:pt x="583" y="485"/>
                      <a:pt x="1240" y="0"/>
                      <a:pt x="1593" y="172"/>
                    </a:cubicBezTo>
                    <a:cubicBezTo>
                      <a:pt x="1946" y="344"/>
                      <a:pt x="2571" y="1143"/>
                      <a:pt x="2454" y="1886"/>
                    </a:cubicBezTo>
                    <a:cubicBezTo>
                      <a:pt x="2337" y="2629"/>
                      <a:pt x="1286" y="4551"/>
                      <a:pt x="893" y="4632"/>
                    </a:cubicBezTo>
                    <a:close/>
                  </a:path>
                </a:pathLst>
              </a:custGeom>
              <a:blipFill rotWithShape="0">
                <a:blip r:embed="rId2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33"/>
              <p:cNvSpPr/>
              <p:nvPr/>
            </p:nvSpPr>
            <p:spPr>
              <a:xfrm rot="17157000">
                <a:off x="7990200" y="5562360"/>
                <a:ext cx="101520" cy="2250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225000"/>
                  <a:gd name="textAreaBottom" fmla="*/ 225000 h 225000"/>
                </a:gdLst>
                <a:ahLst/>
                <a:rect l="textAreaLeft" t="textAreaTop" r="textAreaRight" b="textAreaBottom"/>
                <a:pathLst>
                  <a:path w="2571" h="4713">
                    <a:moveTo>
                      <a:pt x="893" y="4632"/>
                    </a:moveTo>
                    <a:cubicBezTo>
                      <a:pt x="500" y="4713"/>
                      <a:pt x="186" y="3002"/>
                      <a:pt x="93" y="2372"/>
                    </a:cubicBezTo>
                    <a:cubicBezTo>
                      <a:pt x="0" y="1742"/>
                      <a:pt x="83" y="1219"/>
                      <a:pt x="333" y="852"/>
                    </a:cubicBezTo>
                    <a:cubicBezTo>
                      <a:pt x="583" y="485"/>
                      <a:pt x="1240" y="0"/>
                      <a:pt x="1593" y="172"/>
                    </a:cubicBezTo>
                    <a:cubicBezTo>
                      <a:pt x="1946" y="344"/>
                      <a:pt x="2571" y="1143"/>
                      <a:pt x="2454" y="1886"/>
                    </a:cubicBezTo>
                    <a:cubicBezTo>
                      <a:pt x="2337" y="2629"/>
                      <a:pt x="1286" y="4551"/>
                      <a:pt x="893" y="4632"/>
                    </a:cubicBezTo>
                    <a:close/>
                  </a:path>
                </a:pathLst>
              </a:custGeom>
              <a:blipFill rotWithShape="0">
                <a:blip r:embed="rId2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34"/>
              <p:cNvSpPr/>
              <p:nvPr/>
            </p:nvSpPr>
            <p:spPr>
              <a:xfrm rot="14949600">
                <a:off x="7977240" y="5627880"/>
                <a:ext cx="101520" cy="2250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225000"/>
                  <a:gd name="textAreaBottom" fmla="*/ 225000 h 225000"/>
                </a:gdLst>
                <a:ahLst/>
                <a:rect l="textAreaLeft" t="textAreaTop" r="textAreaRight" b="textAreaBottom"/>
                <a:pathLst>
                  <a:path w="2571" h="4713">
                    <a:moveTo>
                      <a:pt x="893" y="4632"/>
                    </a:moveTo>
                    <a:cubicBezTo>
                      <a:pt x="500" y="4713"/>
                      <a:pt x="186" y="3002"/>
                      <a:pt x="93" y="2372"/>
                    </a:cubicBezTo>
                    <a:cubicBezTo>
                      <a:pt x="0" y="1742"/>
                      <a:pt x="83" y="1219"/>
                      <a:pt x="333" y="852"/>
                    </a:cubicBezTo>
                    <a:cubicBezTo>
                      <a:pt x="583" y="485"/>
                      <a:pt x="1240" y="0"/>
                      <a:pt x="1593" y="172"/>
                    </a:cubicBezTo>
                    <a:cubicBezTo>
                      <a:pt x="1946" y="344"/>
                      <a:pt x="2571" y="1143"/>
                      <a:pt x="2454" y="1886"/>
                    </a:cubicBezTo>
                    <a:cubicBezTo>
                      <a:pt x="2337" y="2629"/>
                      <a:pt x="1286" y="4551"/>
                      <a:pt x="893" y="4632"/>
                    </a:cubicBezTo>
                    <a:close/>
                  </a:path>
                </a:pathLst>
              </a:custGeom>
              <a:blipFill rotWithShape="0">
                <a:blip r:embed="rId2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35"/>
              <p:cNvSpPr/>
              <p:nvPr/>
            </p:nvSpPr>
            <p:spPr>
              <a:xfrm>
                <a:off x="8127360" y="5525640"/>
                <a:ext cx="122400" cy="18612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2571" h="4713">
                    <a:moveTo>
                      <a:pt x="893" y="4632"/>
                    </a:moveTo>
                    <a:cubicBezTo>
                      <a:pt x="500" y="4713"/>
                      <a:pt x="186" y="3002"/>
                      <a:pt x="93" y="2372"/>
                    </a:cubicBezTo>
                    <a:cubicBezTo>
                      <a:pt x="0" y="1742"/>
                      <a:pt x="83" y="1219"/>
                      <a:pt x="333" y="852"/>
                    </a:cubicBezTo>
                    <a:cubicBezTo>
                      <a:pt x="583" y="485"/>
                      <a:pt x="1240" y="0"/>
                      <a:pt x="1593" y="172"/>
                    </a:cubicBezTo>
                    <a:cubicBezTo>
                      <a:pt x="1946" y="344"/>
                      <a:pt x="2571" y="1143"/>
                      <a:pt x="2454" y="1886"/>
                    </a:cubicBezTo>
                    <a:cubicBezTo>
                      <a:pt x="2337" y="2629"/>
                      <a:pt x="1286" y="4551"/>
                      <a:pt x="893" y="4632"/>
                    </a:cubicBezTo>
                    <a:close/>
                  </a:path>
                </a:pathLst>
              </a:custGeom>
              <a:blipFill rotWithShape="0">
                <a:blip r:embed="rId2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36"/>
              <p:cNvSpPr/>
              <p:nvPr/>
            </p:nvSpPr>
            <p:spPr>
              <a:xfrm rot="12541800">
                <a:off x="8010720" y="5700240"/>
                <a:ext cx="122400" cy="18612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2571" h="4713">
                    <a:moveTo>
                      <a:pt x="893" y="4632"/>
                    </a:moveTo>
                    <a:cubicBezTo>
                      <a:pt x="500" y="4713"/>
                      <a:pt x="186" y="3002"/>
                      <a:pt x="93" y="2372"/>
                    </a:cubicBezTo>
                    <a:cubicBezTo>
                      <a:pt x="0" y="1742"/>
                      <a:pt x="83" y="1219"/>
                      <a:pt x="333" y="852"/>
                    </a:cubicBezTo>
                    <a:cubicBezTo>
                      <a:pt x="583" y="485"/>
                      <a:pt x="1240" y="0"/>
                      <a:pt x="1593" y="172"/>
                    </a:cubicBezTo>
                    <a:cubicBezTo>
                      <a:pt x="1946" y="344"/>
                      <a:pt x="2571" y="1143"/>
                      <a:pt x="2454" y="1886"/>
                    </a:cubicBezTo>
                    <a:cubicBezTo>
                      <a:pt x="2337" y="2629"/>
                      <a:pt x="1286" y="4551"/>
                      <a:pt x="893" y="4632"/>
                    </a:cubicBezTo>
                    <a:close/>
                  </a:path>
                </a:pathLst>
              </a:custGeom>
              <a:blipFill rotWithShape="0">
                <a:blip r:embed="rId2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1" name="Group 37"/>
              <p:cNvGrpSpPr/>
              <p:nvPr/>
            </p:nvGrpSpPr>
            <p:grpSpPr>
              <a:xfrm>
                <a:off x="8071560" y="5534280"/>
                <a:ext cx="324720" cy="387360"/>
                <a:chOff x="8071560" y="5534280"/>
                <a:chExt cx="324720" cy="387360"/>
              </a:xfrm>
            </p:grpSpPr>
            <p:sp>
              <p:nvSpPr>
                <p:cNvPr id="842" name="Freeform 38"/>
                <p:cNvSpPr/>
                <p:nvPr/>
              </p:nvSpPr>
              <p:spPr>
                <a:xfrm rot="9652800">
                  <a:off x="8098560" y="5720040"/>
                  <a:ext cx="122760" cy="186480"/>
                </a:xfrm>
                <a:custGeom>
                  <a:avLst/>
                  <a:gdLst>
                    <a:gd name="textAreaLeft" fmla="*/ 0 w 122760"/>
                    <a:gd name="textAreaRight" fmla="*/ 123120 w 122760"/>
                    <a:gd name="textAreaTop" fmla="*/ 0 h 186480"/>
                    <a:gd name="textAreaBottom" fmla="*/ 186840 h 18648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39"/>
                <p:cNvSpPr/>
                <p:nvPr/>
              </p:nvSpPr>
              <p:spPr>
                <a:xfrm rot="7855800">
                  <a:off x="8170560" y="5684040"/>
                  <a:ext cx="122760" cy="186480"/>
                </a:xfrm>
                <a:custGeom>
                  <a:avLst/>
                  <a:gdLst>
                    <a:gd name="textAreaLeft" fmla="*/ 0 w 122760"/>
                    <a:gd name="textAreaRight" fmla="*/ 123120 w 122760"/>
                    <a:gd name="textAreaTop" fmla="*/ 0 h 186480"/>
                    <a:gd name="textAreaBottom" fmla="*/ 186840 h 18648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40"/>
                <p:cNvSpPr/>
                <p:nvPr/>
              </p:nvSpPr>
              <p:spPr>
                <a:xfrm rot="5209800">
                  <a:off x="8229960" y="5599080"/>
                  <a:ext cx="101520" cy="22500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225000"/>
                    <a:gd name="textAreaBottom" fmla="*/ 225000 h 22500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41"/>
                <p:cNvSpPr/>
                <p:nvPr/>
              </p:nvSpPr>
              <p:spPr>
                <a:xfrm rot="3002400">
                  <a:off x="8220960" y="5532840"/>
                  <a:ext cx="101520" cy="22500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225000"/>
                    <a:gd name="textAreaBottom" fmla="*/ 225000 h 22500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3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6" name="Oval 42"/>
            <p:cNvSpPr/>
            <p:nvPr/>
          </p:nvSpPr>
          <p:spPr>
            <a:xfrm>
              <a:off x="8103600" y="5678280"/>
              <a:ext cx="105480" cy="8748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7" name="Group 43"/>
            <p:cNvGrpSpPr/>
            <p:nvPr/>
          </p:nvGrpSpPr>
          <p:grpSpPr>
            <a:xfrm>
              <a:off x="6746400" y="5153760"/>
              <a:ext cx="757080" cy="637920"/>
              <a:chOff x="6746400" y="5153760"/>
              <a:chExt cx="757080" cy="637920"/>
            </a:xfrm>
          </p:grpSpPr>
          <p:grpSp>
            <p:nvGrpSpPr>
              <p:cNvPr id="848" name="Group 44"/>
              <p:cNvGrpSpPr/>
              <p:nvPr/>
            </p:nvGrpSpPr>
            <p:grpSpPr>
              <a:xfrm>
                <a:off x="6746400" y="5153760"/>
                <a:ext cx="757080" cy="637920"/>
                <a:chOff x="6746400" y="5153760"/>
                <a:chExt cx="757080" cy="637920"/>
              </a:xfrm>
            </p:grpSpPr>
            <p:sp>
              <p:nvSpPr>
                <p:cNvPr id="849" name="Freeform 45"/>
                <p:cNvSpPr/>
                <p:nvPr/>
              </p:nvSpPr>
              <p:spPr>
                <a:xfrm rot="19803000">
                  <a:off x="6967440" y="5181120"/>
                  <a:ext cx="188640" cy="29628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3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46"/>
                <p:cNvSpPr/>
                <p:nvPr/>
              </p:nvSpPr>
              <p:spPr>
                <a:xfrm rot="17157000">
                  <a:off x="6876360" y="5227920"/>
                  <a:ext cx="161640" cy="3459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345960"/>
                    <a:gd name="textAreaBottom" fmla="*/ 346320 h 34596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47"/>
                <p:cNvSpPr/>
                <p:nvPr/>
              </p:nvSpPr>
              <p:spPr>
                <a:xfrm rot="14949600">
                  <a:off x="6855840" y="5332320"/>
                  <a:ext cx="161640" cy="3459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345960"/>
                    <a:gd name="textAreaBottom" fmla="*/ 346320 h 34596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3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48"/>
                <p:cNvSpPr/>
                <p:nvPr/>
              </p:nvSpPr>
              <p:spPr>
                <a:xfrm>
                  <a:off x="7089480" y="5163840"/>
                  <a:ext cx="188640" cy="29628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3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49"/>
                <p:cNvSpPr/>
                <p:nvPr/>
              </p:nvSpPr>
              <p:spPr>
                <a:xfrm rot="12541800">
                  <a:off x="6910920" y="5442120"/>
                  <a:ext cx="188640" cy="29628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3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4" name="Group 50"/>
                <p:cNvGrpSpPr/>
                <p:nvPr/>
              </p:nvGrpSpPr>
              <p:grpSpPr>
                <a:xfrm>
                  <a:off x="7003080" y="5183280"/>
                  <a:ext cx="500400" cy="608400"/>
                  <a:chOff x="7003080" y="5183280"/>
                  <a:chExt cx="500400" cy="608400"/>
                </a:xfrm>
              </p:grpSpPr>
              <p:sp>
                <p:nvSpPr>
                  <p:cNvPr id="855" name="Freeform 51"/>
                  <p:cNvSpPr/>
                  <p:nvPr/>
                </p:nvSpPr>
                <p:spPr>
                  <a:xfrm rot="9652800">
                    <a:off x="7046280" y="5472000"/>
                    <a:ext cx="188640" cy="296640"/>
                  </a:xfrm>
                  <a:custGeom>
                    <a:avLst/>
                    <a:gdLst>
                      <a:gd name="textAreaLeft" fmla="*/ 0 w 188640"/>
                      <a:gd name="textAreaRight" fmla="*/ 189000 w 188640"/>
                      <a:gd name="textAreaTop" fmla="*/ 0 h 296640"/>
                      <a:gd name="textAreaBottom" fmla="*/ 297000 h 29664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36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Freeform 52"/>
                  <p:cNvSpPr/>
                  <p:nvPr/>
                </p:nvSpPr>
                <p:spPr>
                  <a:xfrm rot="7855800">
                    <a:off x="7156440" y="5415840"/>
                    <a:ext cx="188640" cy="296640"/>
                  </a:xfrm>
                  <a:custGeom>
                    <a:avLst/>
                    <a:gdLst>
                      <a:gd name="textAreaLeft" fmla="*/ 0 w 188640"/>
                      <a:gd name="textAreaRight" fmla="*/ 189000 w 188640"/>
                      <a:gd name="textAreaTop" fmla="*/ 0 h 296640"/>
                      <a:gd name="textAreaBottom" fmla="*/ 297000 h 29664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37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Freeform 53"/>
                  <p:cNvSpPr/>
                  <p:nvPr/>
                </p:nvSpPr>
                <p:spPr>
                  <a:xfrm rot="5209800">
                    <a:off x="7245360" y="5289120"/>
                    <a:ext cx="161640" cy="3459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345960"/>
                      <a:gd name="textAreaBottom" fmla="*/ 346320 h 34596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38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Freeform 54"/>
                  <p:cNvSpPr/>
                  <p:nvPr/>
                </p:nvSpPr>
                <p:spPr>
                  <a:xfrm rot="3002400">
                    <a:off x="7229880" y="5183280"/>
                    <a:ext cx="161640" cy="3459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345960"/>
                      <a:gd name="textAreaBottom" fmla="*/ 346320 h 34596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39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9" name="Oval 55"/>
              <p:cNvSpPr/>
              <p:nvPr/>
            </p:nvSpPr>
            <p:spPr>
              <a:xfrm>
                <a:off x="7041960" y="5394240"/>
                <a:ext cx="162720" cy="1393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0" name="AutoShape 56"/>
            <p:cNvSpPr/>
            <p:nvPr/>
          </p:nvSpPr>
          <p:spPr>
            <a:xfrm rot="16200000">
              <a:off x="7375680" y="5028840"/>
              <a:ext cx="887760" cy="234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060" y="3322"/>
                    <a:pt x="18520" y="5080"/>
                    <a:pt x="18520" y="10800"/>
                  </a:cubicBezTo>
                  <a:cubicBezTo>
                    <a:pt x="18520" y="16520"/>
                    <a:pt x="20060" y="182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Group 57"/>
            <p:cNvGrpSpPr/>
            <p:nvPr/>
          </p:nvGrpSpPr>
          <p:grpSpPr>
            <a:xfrm>
              <a:off x="8634600" y="5550840"/>
              <a:ext cx="491040" cy="403560"/>
              <a:chOff x="8634600" y="5550840"/>
              <a:chExt cx="491040" cy="403560"/>
            </a:xfrm>
          </p:grpSpPr>
          <p:grpSp>
            <p:nvGrpSpPr>
              <p:cNvPr id="862" name="Group 58"/>
              <p:cNvGrpSpPr/>
              <p:nvPr/>
            </p:nvGrpSpPr>
            <p:grpSpPr>
              <a:xfrm>
                <a:off x="8634600" y="5550840"/>
                <a:ext cx="491040" cy="403560"/>
                <a:chOff x="8634600" y="5550840"/>
                <a:chExt cx="491040" cy="403560"/>
              </a:xfrm>
            </p:grpSpPr>
            <p:sp>
              <p:nvSpPr>
                <p:cNvPr id="863" name="Freeform 59"/>
                <p:cNvSpPr/>
                <p:nvPr/>
              </p:nvSpPr>
              <p:spPr>
                <a:xfrm rot="19803000">
                  <a:off x="8776800" y="5568840"/>
                  <a:ext cx="122400" cy="18648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186480"/>
                    <a:gd name="textAreaBottom" fmla="*/ 186840 h 18648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4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60"/>
                <p:cNvSpPr/>
                <p:nvPr/>
              </p:nvSpPr>
              <p:spPr>
                <a:xfrm rot="17157000">
                  <a:off x="8719560" y="5595120"/>
                  <a:ext cx="101520" cy="22500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225000"/>
                    <a:gd name="textAreaBottom" fmla="*/ 225000 h 22500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4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61"/>
                <p:cNvSpPr/>
                <p:nvPr/>
              </p:nvSpPr>
              <p:spPr>
                <a:xfrm rot="14949600">
                  <a:off x="8706600" y="5661000"/>
                  <a:ext cx="101520" cy="22500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225000"/>
                    <a:gd name="textAreaBottom" fmla="*/ 225000 h 22500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4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62"/>
                <p:cNvSpPr/>
                <p:nvPr/>
              </p:nvSpPr>
              <p:spPr>
                <a:xfrm>
                  <a:off x="8856720" y="5558400"/>
                  <a:ext cx="122400" cy="18648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186480"/>
                    <a:gd name="textAreaBottom" fmla="*/ 186840 h 18648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4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63"/>
                <p:cNvSpPr/>
                <p:nvPr/>
              </p:nvSpPr>
              <p:spPr>
                <a:xfrm rot="12541800">
                  <a:off x="8740080" y="5733720"/>
                  <a:ext cx="122400" cy="18648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186480"/>
                    <a:gd name="textAreaBottom" fmla="*/ 186840 h 18648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4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8" name="Group 64"/>
                <p:cNvGrpSpPr/>
                <p:nvPr/>
              </p:nvGrpSpPr>
              <p:grpSpPr>
                <a:xfrm>
                  <a:off x="8800920" y="5567040"/>
                  <a:ext cx="324720" cy="387360"/>
                  <a:chOff x="8800920" y="5567040"/>
                  <a:chExt cx="324720" cy="387360"/>
                </a:xfrm>
              </p:grpSpPr>
              <p:sp>
                <p:nvSpPr>
                  <p:cNvPr id="869" name="Freeform 65"/>
                  <p:cNvSpPr/>
                  <p:nvPr/>
                </p:nvSpPr>
                <p:spPr>
                  <a:xfrm rot="9652800">
                    <a:off x="8827920" y="5752800"/>
                    <a:ext cx="122760" cy="186480"/>
                  </a:xfrm>
                  <a:custGeom>
                    <a:avLst/>
                    <a:gdLst>
                      <a:gd name="textAreaLeft" fmla="*/ 0 w 122760"/>
                      <a:gd name="textAreaRight" fmla="*/ 123120 w 122760"/>
                      <a:gd name="textAreaTop" fmla="*/ 0 h 186480"/>
                      <a:gd name="textAreaBottom" fmla="*/ 186840 h 18648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46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Freeform 66"/>
                  <p:cNvSpPr/>
                  <p:nvPr/>
                </p:nvSpPr>
                <p:spPr>
                  <a:xfrm rot="7855800">
                    <a:off x="8899920" y="5716800"/>
                    <a:ext cx="122760" cy="186480"/>
                  </a:xfrm>
                  <a:custGeom>
                    <a:avLst/>
                    <a:gdLst>
                      <a:gd name="textAreaLeft" fmla="*/ 0 w 122760"/>
                      <a:gd name="textAreaRight" fmla="*/ 123120 w 122760"/>
                      <a:gd name="textAreaTop" fmla="*/ 0 h 186480"/>
                      <a:gd name="textAreaBottom" fmla="*/ 186840 h 18648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47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Freeform 67"/>
                  <p:cNvSpPr/>
                  <p:nvPr/>
                </p:nvSpPr>
                <p:spPr>
                  <a:xfrm rot="5209800">
                    <a:off x="8959320" y="5631840"/>
                    <a:ext cx="101520" cy="225000"/>
                  </a:xfrm>
                  <a:custGeom>
                    <a:avLst/>
                    <a:gdLst>
                      <a:gd name="textAreaLeft" fmla="*/ 0 w 101520"/>
                      <a:gd name="textAreaRight" fmla="*/ 101880 w 101520"/>
                      <a:gd name="textAreaTop" fmla="*/ 0 h 225000"/>
                      <a:gd name="textAreaBottom" fmla="*/ 225000 h 22500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48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Freeform 68"/>
                  <p:cNvSpPr/>
                  <p:nvPr/>
                </p:nvSpPr>
                <p:spPr>
                  <a:xfrm rot="3002400">
                    <a:off x="8950320" y="5565600"/>
                    <a:ext cx="101520" cy="225000"/>
                  </a:xfrm>
                  <a:custGeom>
                    <a:avLst/>
                    <a:gdLst>
                      <a:gd name="textAreaLeft" fmla="*/ 0 w 101520"/>
                      <a:gd name="textAreaRight" fmla="*/ 101880 w 101520"/>
                      <a:gd name="textAreaTop" fmla="*/ 0 h 225000"/>
                      <a:gd name="textAreaBottom" fmla="*/ 225000 h 22500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49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3" name="Oval 69"/>
              <p:cNvSpPr/>
              <p:nvPr/>
            </p:nvSpPr>
            <p:spPr>
              <a:xfrm>
                <a:off x="8825760" y="5703120"/>
                <a:ext cx="105480" cy="874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4" name="Group 70"/>
            <p:cNvGrpSpPr/>
            <p:nvPr/>
          </p:nvGrpSpPr>
          <p:grpSpPr>
            <a:xfrm>
              <a:off x="8330760" y="5991840"/>
              <a:ext cx="376560" cy="326880"/>
              <a:chOff x="8330760" y="5991840"/>
              <a:chExt cx="376560" cy="326880"/>
            </a:xfrm>
          </p:grpSpPr>
          <p:sp>
            <p:nvSpPr>
              <p:cNvPr id="875" name="Freeform 71"/>
              <p:cNvSpPr/>
              <p:nvPr/>
            </p:nvSpPr>
            <p:spPr>
              <a:xfrm rot="20575800">
                <a:off x="8352360" y="6023880"/>
                <a:ext cx="246600" cy="184320"/>
              </a:xfrm>
              <a:custGeom>
                <a:avLst/>
                <a:gdLst>
                  <a:gd name="textAreaLeft" fmla="*/ 0 w 246600"/>
                  <a:gd name="textAreaRight" fmla="*/ 246960 w 24660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5555" h="2844">
                    <a:moveTo>
                      <a:pt x="1386" y="418"/>
                    </a:moveTo>
                    <a:cubicBezTo>
                      <a:pt x="875" y="464"/>
                      <a:pt x="0" y="1889"/>
                      <a:pt x="209" y="2241"/>
                    </a:cubicBezTo>
                    <a:cubicBezTo>
                      <a:pt x="356" y="2520"/>
                      <a:pt x="1770" y="2844"/>
                      <a:pt x="2640" y="2532"/>
                    </a:cubicBezTo>
                    <a:cubicBezTo>
                      <a:pt x="3510" y="2220"/>
                      <a:pt x="5555" y="744"/>
                      <a:pt x="5427" y="372"/>
                    </a:cubicBezTo>
                    <a:cubicBezTo>
                      <a:pt x="5299" y="0"/>
                      <a:pt x="2547" y="294"/>
                      <a:pt x="1874" y="302"/>
                    </a:cubicBezTo>
                    <a:cubicBezTo>
                      <a:pt x="1201" y="310"/>
                      <a:pt x="1897" y="372"/>
                      <a:pt x="1386" y="4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8000"/>
                  </a:gs>
                  <a:gs pos="100000">
                    <a:srgbClr val="00ff00"/>
                  </a:gs>
                </a:gsLst>
                <a:lin ang="30000"/>
              </a:gradFill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72"/>
              <p:cNvSpPr/>
              <p:nvPr/>
            </p:nvSpPr>
            <p:spPr>
              <a:xfrm rot="17673600">
                <a:off x="8448840" y="6075720"/>
                <a:ext cx="246600" cy="184320"/>
              </a:xfrm>
              <a:custGeom>
                <a:avLst/>
                <a:gdLst>
                  <a:gd name="textAreaLeft" fmla="*/ 0 w 246600"/>
                  <a:gd name="textAreaRight" fmla="*/ 246960 w 24660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5555" h="2844">
                    <a:moveTo>
                      <a:pt x="1386" y="418"/>
                    </a:moveTo>
                    <a:cubicBezTo>
                      <a:pt x="875" y="464"/>
                      <a:pt x="0" y="1889"/>
                      <a:pt x="209" y="2241"/>
                    </a:cubicBezTo>
                    <a:cubicBezTo>
                      <a:pt x="356" y="2520"/>
                      <a:pt x="1770" y="2844"/>
                      <a:pt x="2640" y="2532"/>
                    </a:cubicBezTo>
                    <a:cubicBezTo>
                      <a:pt x="3510" y="2220"/>
                      <a:pt x="5555" y="744"/>
                      <a:pt x="5427" y="372"/>
                    </a:cubicBezTo>
                    <a:cubicBezTo>
                      <a:pt x="5299" y="0"/>
                      <a:pt x="2547" y="294"/>
                      <a:pt x="1874" y="302"/>
                    </a:cubicBezTo>
                    <a:cubicBezTo>
                      <a:pt x="1201" y="310"/>
                      <a:pt x="1897" y="372"/>
                      <a:pt x="1386" y="4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8000"/>
                  </a:gs>
                  <a:gs pos="100000">
                    <a:srgbClr val="00ff00"/>
                  </a:gs>
                </a:gsLst>
                <a:lin ang="2934000"/>
              </a:gradFill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Group 73"/>
            <p:cNvGrpSpPr/>
            <p:nvPr/>
          </p:nvGrpSpPr>
          <p:grpSpPr>
            <a:xfrm>
              <a:off x="8289000" y="5748480"/>
              <a:ext cx="491040" cy="403560"/>
              <a:chOff x="8289000" y="5748480"/>
              <a:chExt cx="491040" cy="403560"/>
            </a:xfrm>
          </p:grpSpPr>
          <p:grpSp>
            <p:nvGrpSpPr>
              <p:cNvPr id="878" name="Group 74"/>
              <p:cNvGrpSpPr/>
              <p:nvPr/>
            </p:nvGrpSpPr>
            <p:grpSpPr>
              <a:xfrm>
                <a:off x="8289000" y="5748480"/>
                <a:ext cx="491040" cy="403560"/>
                <a:chOff x="8289000" y="5748480"/>
                <a:chExt cx="491040" cy="403560"/>
              </a:xfrm>
            </p:grpSpPr>
            <p:sp>
              <p:nvSpPr>
                <p:cNvPr id="879" name="Freeform 75"/>
                <p:cNvSpPr/>
                <p:nvPr/>
              </p:nvSpPr>
              <p:spPr>
                <a:xfrm rot="19803000">
                  <a:off x="8431560" y="5766480"/>
                  <a:ext cx="122400" cy="18612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186120"/>
                    <a:gd name="textAreaBottom" fmla="*/ 186480 h 1861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5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76"/>
                <p:cNvSpPr/>
                <p:nvPr/>
              </p:nvSpPr>
              <p:spPr>
                <a:xfrm rot="17157000">
                  <a:off x="8373960" y="5792760"/>
                  <a:ext cx="101520" cy="22500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225000"/>
                    <a:gd name="textAreaBottom" fmla="*/ 225000 h 22500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5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77"/>
                <p:cNvSpPr/>
                <p:nvPr/>
              </p:nvSpPr>
              <p:spPr>
                <a:xfrm rot="14949600">
                  <a:off x="8361000" y="5858280"/>
                  <a:ext cx="101520" cy="22500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225000"/>
                    <a:gd name="textAreaBottom" fmla="*/ 225000 h 22500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5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78"/>
                <p:cNvSpPr/>
                <p:nvPr/>
              </p:nvSpPr>
              <p:spPr>
                <a:xfrm>
                  <a:off x="8511120" y="5756040"/>
                  <a:ext cx="122400" cy="18612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186120"/>
                    <a:gd name="textAreaBottom" fmla="*/ 186480 h 1861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5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79"/>
                <p:cNvSpPr/>
                <p:nvPr/>
              </p:nvSpPr>
              <p:spPr>
                <a:xfrm rot="12541800">
                  <a:off x="8394480" y="5930640"/>
                  <a:ext cx="122400" cy="18612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186120"/>
                    <a:gd name="textAreaBottom" fmla="*/ 186480 h 1861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5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4" name="Group 80"/>
                <p:cNvGrpSpPr/>
                <p:nvPr/>
              </p:nvGrpSpPr>
              <p:grpSpPr>
                <a:xfrm>
                  <a:off x="8455320" y="5764680"/>
                  <a:ext cx="324720" cy="387360"/>
                  <a:chOff x="8455320" y="5764680"/>
                  <a:chExt cx="324720" cy="387360"/>
                </a:xfrm>
              </p:grpSpPr>
              <p:sp>
                <p:nvSpPr>
                  <p:cNvPr id="885" name="Freeform 81"/>
                  <p:cNvSpPr/>
                  <p:nvPr/>
                </p:nvSpPr>
                <p:spPr>
                  <a:xfrm rot="9652800">
                    <a:off x="8482320" y="5950440"/>
                    <a:ext cx="122760" cy="186480"/>
                  </a:xfrm>
                  <a:custGeom>
                    <a:avLst/>
                    <a:gdLst>
                      <a:gd name="textAreaLeft" fmla="*/ 0 w 122760"/>
                      <a:gd name="textAreaRight" fmla="*/ 123120 w 122760"/>
                      <a:gd name="textAreaTop" fmla="*/ 0 h 186480"/>
                      <a:gd name="textAreaBottom" fmla="*/ 186840 h 18648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55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Freeform 82"/>
                  <p:cNvSpPr/>
                  <p:nvPr/>
                </p:nvSpPr>
                <p:spPr>
                  <a:xfrm rot="7855800">
                    <a:off x="8554320" y="5914440"/>
                    <a:ext cx="122760" cy="186480"/>
                  </a:xfrm>
                  <a:custGeom>
                    <a:avLst/>
                    <a:gdLst>
                      <a:gd name="textAreaLeft" fmla="*/ 0 w 122760"/>
                      <a:gd name="textAreaRight" fmla="*/ 123120 w 122760"/>
                      <a:gd name="textAreaTop" fmla="*/ 0 h 186480"/>
                      <a:gd name="textAreaBottom" fmla="*/ 186840 h 18648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56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Freeform 83"/>
                  <p:cNvSpPr/>
                  <p:nvPr/>
                </p:nvSpPr>
                <p:spPr>
                  <a:xfrm rot="5209800">
                    <a:off x="8613720" y="5829480"/>
                    <a:ext cx="101520" cy="225000"/>
                  </a:xfrm>
                  <a:custGeom>
                    <a:avLst/>
                    <a:gdLst>
                      <a:gd name="textAreaLeft" fmla="*/ 0 w 101520"/>
                      <a:gd name="textAreaRight" fmla="*/ 101880 w 101520"/>
                      <a:gd name="textAreaTop" fmla="*/ 0 h 225000"/>
                      <a:gd name="textAreaBottom" fmla="*/ 225000 h 22500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57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Freeform 84"/>
                  <p:cNvSpPr/>
                  <p:nvPr/>
                </p:nvSpPr>
                <p:spPr>
                  <a:xfrm rot="3002400">
                    <a:off x="8604720" y="5763240"/>
                    <a:ext cx="101520" cy="225000"/>
                  </a:xfrm>
                  <a:custGeom>
                    <a:avLst/>
                    <a:gdLst>
                      <a:gd name="textAreaLeft" fmla="*/ 0 w 101520"/>
                      <a:gd name="textAreaRight" fmla="*/ 101880 w 101520"/>
                      <a:gd name="textAreaTop" fmla="*/ 0 h 225000"/>
                      <a:gd name="textAreaBottom" fmla="*/ 225000 h 22500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58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89" name="Oval 85"/>
              <p:cNvSpPr/>
              <p:nvPr/>
            </p:nvSpPr>
            <p:spPr>
              <a:xfrm>
                <a:off x="8480160" y="5900760"/>
                <a:ext cx="105480" cy="87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Group 86"/>
            <p:cNvGrpSpPr/>
            <p:nvPr/>
          </p:nvGrpSpPr>
          <p:grpSpPr>
            <a:xfrm>
              <a:off x="8601840" y="5846040"/>
              <a:ext cx="337680" cy="232200"/>
              <a:chOff x="8601840" y="5846040"/>
              <a:chExt cx="337680" cy="232200"/>
            </a:xfrm>
          </p:grpSpPr>
          <p:grpSp>
            <p:nvGrpSpPr>
              <p:cNvPr id="891" name="Group 87"/>
              <p:cNvGrpSpPr/>
              <p:nvPr/>
            </p:nvGrpSpPr>
            <p:grpSpPr>
              <a:xfrm>
                <a:off x="8601840" y="5846040"/>
                <a:ext cx="337680" cy="232200"/>
                <a:chOff x="8601840" y="5846040"/>
                <a:chExt cx="337680" cy="232200"/>
              </a:xfrm>
            </p:grpSpPr>
            <p:sp>
              <p:nvSpPr>
                <p:cNvPr id="892" name="Freeform 88"/>
                <p:cNvSpPr/>
                <p:nvPr/>
              </p:nvSpPr>
              <p:spPr>
                <a:xfrm rot="19803000">
                  <a:off x="8697600" y="5860080"/>
                  <a:ext cx="84600" cy="1015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5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89"/>
                <p:cNvSpPr/>
                <p:nvPr/>
              </p:nvSpPr>
              <p:spPr>
                <a:xfrm rot="17157000">
                  <a:off x="8665200" y="5858280"/>
                  <a:ext cx="55440" cy="15552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6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90"/>
                <p:cNvSpPr/>
                <p:nvPr/>
              </p:nvSpPr>
              <p:spPr>
                <a:xfrm rot="14949600">
                  <a:off x="8656560" y="5894280"/>
                  <a:ext cx="55440" cy="15552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6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91"/>
                <p:cNvSpPr/>
                <p:nvPr/>
              </p:nvSpPr>
              <p:spPr>
                <a:xfrm>
                  <a:off x="8753040" y="5854680"/>
                  <a:ext cx="84600" cy="1015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6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92"/>
                <p:cNvSpPr/>
                <p:nvPr/>
              </p:nvSpPr>
              <p:spPr>
                <a:xfrm rot="12541800">
                  <a:off x="8672040" y="5950080"/>
                  <a:ext cx="84600" cy="1015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6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7" name="Group 93"/>
                <p:cNvGrpSpPr/>
                <p:nvPr/>
              </p:nvGrpSpPr>
              <p:grpSpPr>
                <a:xfrm>
                  <a:off x="8717040" y="5846040"/>
                  <a:ext cx="222480" cy="232200"/>
                  <a:chOff x="8717040" y="5846040"/>
                  <a:chExt cx="222480" cy="232200"/>
                </a:xfrm>
              </p:grpSpPr>
              <p:sp>
                <p:nvSpPr>
                  <p:cNvPr id="898" name="Freeform 94"/>
                  <p:cNvSpPr/>
                  <p:nvPr/>
                </p:nvSpPr>
                <p:spPr>
                  <a:xfrm rot="9652800">
                    <a:off x="8731080" y="5965560"/>
                    <a:ext cx="84960" cy="101520"/>
                  </a:xfrm>
                  <a:custGeom>
                    <a:avLst/>
                    <a:gdLst>
                      <a:gd name="textAreaLeft" fmla="*/ 0 w 84960"/>
                      <a:gd name="textAreaRight" fmla="*/ 85320 w 84960"/>
                      <a:gd name="textAreaTop" fmla="*/ 0 h 101520"/>
                      <a:gd name="textAreaBottom" fmla="*/ 101880 h 10152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64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95"/>
                  <p:cNvSpPr/>
                  <p:nvPr/>
                </p:nvSpPr>
                <p:spPr>
                  <a:xfrm rot="7855800">
                    <a:off x="8781120" y="5941800"/>
                    <a:ext cx="84960" cy="101520"/>
                  </a:xfrm>
                  <a:custGeom>
                    <a:avLst/>
                    <a:gdLst>
                      <a:gd name="textAreaLeft" fmla="*/ 0 w 84960"/>
                      <a:gd name="textAreaRight" fmla="*/ 85320 w 84960"/>
                      <a:gd name="textAreaTop" fmla="*/ 0 h 101520"/>
                      <a:gd name="textAreaBottom" fmla="*/ 101880 h 10152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65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Freeform 96"/>
                  <p:cNvSpPr/>
                  <p:nvPr/>
                </p:nvSpPr>
                <p:spPr>
                  <a:xfrm rot="5209800">
                    <a:off x="8832240" y="5875920"/>
                    <a:ext cx="55440" cy="15588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66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Freeform 97"/>
                  <p:cNvSpPr/>
                  <p:nvPr/>
                </p:nvSpPr>
                <p:spPr>
                  <a:xfrm rot="3002400">
                    <a:off x="8828640" y="5839200"/>
                    <a:ext cx="55440" cy="15588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67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02" name="Oval 98"/>
              <p:cNvSpPr/>
              <p:nvPr/>
            </p:nvSpPr>
            <p:spPr>
              <a:xfrm>
                <a:off x="8731440" y="5933880"/>
                <a:ext cx="73080" cy="478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3" name="Group 99"/>
            <p:cNvGrpSpPr/>
            <p:nvPr/>
          </p:nvGrpSpPr>
          <p:grpSpPr>
            <a:xfrm>
              <a:off x="7227360" y="5512680"/>
              <a:ext cx="678240" cy="508320"/>
              <a:chOff x="7227360" y="5512680"/>
              <a:chExt cx="678240" cy="508320"/>
            </a:xfrm>
          </p:grpSpPr>
          <p:grpSp>
            <p:nvGrpSpPr>
              <p:cNvPr id="904" name="Group 100"/>
              <p:cNvGrpSpPr/>
              <p:nvPr/>
            </p:nvGrpSpPr>
            <p:grpSpPr>
              <a:xfrm>
                <a:off x="7227360" y="5512680"/>
                <a:ext cx="678240" cy="508320"/>
                <a:chOff x="7227360" y="5512680"/>
                <a:chExt cx="678240" cy="508320"/>
              </a:xfrm>
            </p:grpSpPr>
            <p:sp>
              <p:nvSpPr>
                <p:cNvPr id="905" name="Freeform 101"/>
                <p:cNvSpPr/>
                <p:nvPr/>
              </p:nvSpPr>
              <p:spPr>
                <a:xfrm rot="19803000">
                  <a:off x="7422480" y="5539680"/>
                  <a:ext cx="169560" cy="22860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6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02"/>
                <p:cNvSpPr/>
                <p:nvPr/>
              </p:nvSpPr>
              <p:spPr>
                <a:xfrm rot="17157000">
                  <a:off x="7350480" y="5554080"/>
                  <a:ext cx="124560" cy="31140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0 h 311400"/>
                    <a:gd name="textAreaBottom" fmla="*/ 311760 h 31140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6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103"/>
                <p:cNvSpPr/>
                <p:nvPr/>
              </p:nvSpPr>
              <p:spPr>
                <a:xfrm rot="14949600">
                  <a:off x="7332480" y="5634000"/>
                  <a:ext cx="124560" cy="31140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0 h 311400"/>
                    <a:gd name="textAreaBottom" fmla="*/ 311760 h 31140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7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04"/>
                <p:cNvSpPr/>
                <p:nvPr/>
              </p:nvSpPr>
              <p:spPr>
                <a:xfrm>
                  <a:off x="7532280" y="5526360"/>
                  <a:ext cx="169560" cy="22860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7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105"/>
                <p:cNvSpPr/>
                <p:nvPr/>
              </p:nvSpPr>
              <p:spPr>
                <a:xfrm rot="12541800">
                  <a:off x="7371000" y="5740920"/>
                  <a:ext cx="169560" cy="22860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7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0" name="Group 106"/>
                <p:cNvGrpSpPr/>
                <p:nvPr/>
              </p:nvGrpSpPr>
              <p:grpSpPr>
                <a:xfrm>
                  <a:off x="7458480" y="5523120"/>
                  <a:ext cx="447120" cy="497880"/>
                  <a:chOff x="7458480" y="5523120"/>
                  <a:chExt cx="447120" cy="497880"/>
                </a:xfrm>
              </p:grpSpPr>
              <p:sp>
                <p:nvSpPr>
                  <p:cNvPr id="911" name="Freeform 107"/>
                  <p:cNvSpPr/>
                  <p:nvPr/>
                </p:nvSpPr>
                <p:spPr>
                  <a:xfrm rot="9652800">
                    <a:off x="7491240" y="5770440"/>
                    <a:ext cx="169920" cy="228600"/>
                  </a:xfrm>
                  <a:custGeom>
                    <a:avLst/>
                    <a:gdLst>
                      <a:gd name="textAreaLeft" fmla="*/ 0 w 169920"/>
                      <a:gd name="textAreaRight" fmla="*/ 170280 w 16992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73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Freeform 108"/>
                  <p:cNvSpPr/>
                  <p:nvPr/>
                </p:nvSpPr>
                <p:spPr>
                  <a:xfrm rot="7855800">
                    <a:off x="7590240" y="5721840"/>
                    <a:ext cx="169920" cy="228600"/>
                  </a:xfrm>
                  <a:custGeom>
                    <a:avLst/>
                    <a:gdLst>
                      <a:gd name="textAreaLeft" fmla="*/ 0 w 169920"/>
                      <a:gd name="textAreaRight" fmla="*/ 170280 w 16992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74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109"/>
                  <p:cNvSpPr/>
                  <p:nvPr/>
                </p:nvSpPr>
                <p:spPr>
                  <a:xfrm rot="5209800">
                    <a:off x="7684200" y="5596920"/>
                    <a:ext cx="124560" cy="311400"/>
                  </a:xfrm>
                  <a:custGeom>
                    <a:avLst/>
                    <a:gdLst>
                      <a:gd name="textAreaLeft" fmla="*/ 0 w 124560"/>
                      <a:gd name="textAreaRight" fmla="*/ 124920 w 124560"/>
                      <a:gd name="textAreaTop" fmla="*/ 0 h 311400"/>
                      <a:gd name="textAreaBottom" fmla="*/ 311760 h 31140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75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Freeform 110"/>
                  <p:cNvSpPr/>
                  <p:nvPr/>
                </p:nvSpPr>
                <p:spPr>
                  <a:xfrm rot="3002400">
                    <a:off x="7674480" y="5514840"/>
                    <a:ext cx="124560" cy="311400"/>
                  </a:xfrm>
                  <a:custGeom>
                    <a:avLst/>
                    <a:gdLst>
                      <a:gd name="textAreaLeft" fmla="*/ 0 w 124560"/>
                      <a:gd name="textAreaRight" fmla="*/ 124920 w 124560"/>
                      <a:gd name="textAreaTop" fmla="*/ 0 h 311400"/>
                      <a:gd name="textAreaBottom" fmla="*/ 311760 h 31140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76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5" name="Oval 111"/>
              <p:cNvSpPr/>
              <p:nvPr/>
            </p:nvSpPr>
            <p:spPr>
              <a:xfrm>
                <a:off x="7489440" y="5704200"/>
                <a:ext cx="146520" cy="10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00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6" name="Group 112"/>
            <p:cNvGrpSpPr/>
            <p:nvPr/>
          </p:nvGrpSpPr>
          <p:grpSpPr>
            <a:xfrm>
              <a:off x="8525160" y="6010560"/>
              <a:ext cx="337680" cy="232200"/>
              <a:chOff x="8525160" y="6010560"/>
              <a:chExt cx="337680" cy="232200"/>
            </a:xfrm>
          </p:grpSpPr>
          <p:grpSp>
            <p:nvGrpSpPr>
              <p:cNvPr id="917" name="Group 113"/>
              <p:cNvGrpSpPr/>
              <p:nvPr/>
            </p:nvGrpSpPr>
            <p:grpSpPr>
              <a:xfrm>
                <a:off x="8525160" y="6010560"/>
                <a:ext cx="337680" cy="232200"/>
                <a:chOff x="8525160" y="6010560"/>
                <a:chExt cx="337680" cy="232200"/>
              </a:xfrm>
            </p:grpSpPr>
            <p:sp>
              <p:nvSpPr>
                <p:cNvPr id="918" name="Freeform 114"/>
                <p:cNvSpPr/>
                <p:nvPr/>
              </p:nvSpPr>
              <p:spPr>
                <a:xfrm rot="19803000">
                  <a:off x="8620920" y="6024600"/>
                  <a:ext cx="84600" cy="1015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7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15"/>
                <p:cNvSpPr/>
                <p:nvPr/>
              </p:nvSpPr>
              <p:spPr>
                <a:xfrm rot="17157000">
                  <a:off x="8588520" y="6022800"/>
                  <a:ext cx="55440" cy="15552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7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116"/>
                <p:cNvSpPr/>
                <p:nvPr/>
              </p:nvSpPr>
              <p:spPr>
                <a:xfrm rot="14949600">
                  <a:off x="8579880" y="6058800"/>
                  <a:ext cx="55440" cy="15552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7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117"/>
                <p:cNvSpPr/>
                <p:nvPr/>
              </p:nvSpPr>
              <p:spPr>
                <a:xfrm>
                  <a:off x="8676360" y="6019200"/>
                  <a:ext cx="84600" cy="1015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8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18"/>
                <p:cNvSpPr/>
                <p:nvPr/>
              </p:nvSpPr>
              <p:spPr>
                <a:xfrm rot="12541800">
                  <a:off x="8595360" y="6114600"/>
                  <a:ext cx="84600" cy="1015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8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3" name="Group 119"/>
                <p:cNvGrpSpPr/>
                <p:nvPr/>
              </p:nvGrpSpPr>
              <p:grpSpPr>
                <a:xfrm>
                  <a:off x="8640360" y="6010560"/>
                  <a:ext cx="222480" cy="232200"/>
                  <a:chOff x="8640360" y="6010560"/>
                  <a:chExt cx="222480" cy="232200"/>
                </a:xfrm>
              </p:grpSpPr>
              <p:sp>
                <p:nvSpPr>
                  <p:cNvPr id="924" name="Freeform 120"/>
                  <p:cNvSpPr/>
                  <p:nvPr/>
                </p:nvSpPr>
                <p:spPr>
                  <a:xfrm rot="9652800">
                    <a:off x="8654400" y="6130080"/>
                    <a:ext cx="84960" cy="101520"/>
                  </a:xfrm>
                  <a:custGeom>
                    <a:avLst/>
                    <a:gdLst>
                      <a:gd name="textAreaLeft" fmla="*/ 0 w 84960"/>
                      <a:gd name="textAreaRight" fmla="*/ 85320 w 84960"/>
                      <a:gd name="textAreaTop" fmla="*/ 0 h 101520"/>
                      <a:gd name="textAreaBottom" fmla="*/ 101880 h 10152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82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Freeform 121"/>
                  <p:cNvSpPr/>
                  <p:nvPr/>
                </p:nvSpPr>
                <p:spPr>
                  <a:xfrm rot="7855800">
                    <a:off x="8704440" y="6106320"/>
                    <a:ext cx="84960" cy="101520"/>
                  </a:xfrm>
                  <a:custGeom>
                    <a:avLst/>
                    <a:gdLst>
                      <a:gd name="textAreaLeft" fmla="*/ 0 w 84960"/>
                      <a:gd name="textAreaRight" fmla="*/ 85320 w 84960"/>
                      <a:gd name="textAreaTop" fmla="*/ 0 h 101520"/>
                      <a:gd name="textAreaBottom" fmla="*/ 101880 h 10152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83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Freeform 122"/>
                  <p:cNvSpPr/>
                  <p:nvPr/>
                </p:nvSpPr>
                <p:spPr>
                  <a:xfrm rot="5209800">
                    <a:off x="8755560" y="6040440"/>
                    <a:ext cx="55440" cy="15588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84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Freeform 123"/>
                  <p:cNvSpPr/>
                  <p:nvPr/>
                </p:nvSpPr>
                <p:spPr>
                  <a:xfrm rot="3002400">
                    <a:off x="8751960" y="6003720"/>
                    <a:ext cx="55440" cy="15588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85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8" name="Oval 124"/>
              <p:cNvSpPr/>
              <p:nvPr/>
            </p:nvSpPr>
            <p:spPr>
              <a:xfrm>
                <a:off x="8654760" y="6098040"/>
                <a:ext cx="73080" cy="478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9" name="Group 125"/>
            <p:cNvGrpSpPr/>
            <p:nvPr/>
          </p:nvGrpSpPr>
          <p:grpSpPr>
            <a:xfrm>
              <a:off x="7679880" y="5743080"/>
              <a:ext cx="412920" cy="276120"/>
              <a:chOff x="7679880" y="5743080"/>
              <a:chExt cx="412920" cy="276120"/>
            </a:xfrm>
          </p:grpSpPr>
          <p:grpSp>
            <p:nvGrpSpPr>
              <p:cNvPr id="930" name="Group 126"/>
              <p:cNvGrpSpPr/>
              <p:nvPr/>
            </p:nvGrpSpPr>
            <p:grpSpPr>
              <a:xfrm>
                <a:off x="7679880" y="5743080"/>
                <a:ext cx="412920" cy="276120"/>
                <a:chOff x="7679880" y="5743080"/>
                <a:chExt cx="412920" cy="276120"/>
              </a:xfrm>
            </p:grpSpPr>
            <p:sp>
              <p:nvSpPr>
                <p:cNvPr id="931" name="Freeform 127"/>
                <p:cNvSpPr/>
                <p:nvPr/>
              </p:nvSpPr>
              <p:spPr>
                <a:xfrm rot="19803000">
                  <a:off x="7796880" y="5762880"/>
                  <a:ext cx="103680" cy="11844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8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28"/>
                <p:cNvSpPr/>
                <p:nvPr/>
              </p:nvSpPr>
              <p:spPr>
                <a:xfrm rot="17157000">
                  <a:off x="7759440" y="5755320"/>
                  <a:ext cx="64440" cy="19044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8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129"/>
                <p:cNvSpPr/>
                <p:nvPr/>
              </p:nvSpPr>
              <p:spPr>
                <a:xfrm rot="14949600">
                  <a:off x="7747920" y="5796720"/>
                  <a:ext cx="64440" cy="19044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8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130"/>
                <p:cNvSpPr/>
                <p:nvPr/>
              </p:nvSpPr>
              <p:spPr>
                <a:xfrm>
                  <a:off x="7864560" y="5756040"/>
                  <a:ext cx="103680" cy="11844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8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131"/>
                <p:cNvSpPr/>
                <p:nvPr/>
              </p:nvSpPr>
              <p:spPr>
                <a:xfrm rot="12541800">
                  <a:off x="7765560" y="5866920"/>
                  <a:ext cx="103680" cy="11844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9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6" name="Group 132"/>
                <p:cNvGrpSpPr/>
                <p:nvPr/>
              </p:nvGrpSpPr>
              <p:grpSpPr>
                <a:xfrm>
                  <a:off x="7821360" y="5743080"/>
                  <a:ext cx="271440" cy="276120"/>
                  <a:chOff x="7821360" y="5743080"/>
                  <a:chExt cx="271440" cy="276120"/>
                </a:xfrm>
              </p:grpSpPr>
              <p:sp>
                <p:nvSpPr>
                  <p:cNvPr id="937" name="Freeform 133"/>
                  <p:cNvSpPr/>
                  <p:nvPr/>
                </p:nvSpPr>
                <p:spPr>
                  <a:xfrm rot="9652800">
                    <a:off x="7837920" y="5887080"/>
                    <a:ext cx="103680" cy="118440"/>
                  </a:xfrm>
                  <a:custGeom>
                    <a:avLst/>
                    <a:gdLst>
                      <a:gd name="textAreaLeft" fmla="*/ 0 w 103680"/>
                      <a:gd name="textAreaRight" fmla="*/ 104040 w 103680"/>
                      <a:gd name="textAreaTop" fmla="*/ 0 h 118440"/>
                      <a:gd name="textAreaBottom" fmla="*/ 118800 h 11844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91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Freeform 134"/>
                  <p:cNvSpPr/>
                  <p:nvPr/>
                </p:nvSpPr>
                <p:spPr>
                  <a:xfrm rot="7855800">
                    <a:off x="7899120" y="5858640"/>
                    <a:ext cx="103680" cy="118440"/>
                  </a:xfrm>
                  <a:custGeom>
                    <a:avLst/>
                    <a:gdLst>
                      <a:gd name="textAreaLeft" fmla="*/ 0 w 103680"/>
                      <a:gd name="textAreaRight" fmla="*/ 104040 w 103680"/>
                      <a:gd name="textAreaTop" fmla="*/ 0 h 118440"/>
                      <a:gd name="textAreaBottom" fmla="*/ 118800 h 11844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92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Freeform 135"/>
                  <p:cNvSpPr/>
                  <p:nvPr/>
                </p:nvSpPr>
                <p:spPr>
                  <a:xfrm rot="5209800">
                    <a:off x="7963560" y="5776920"/>
                    <a:ext cx="64440" cy="190440"/>
                  </a:xfrm>
                  <a:custGeom>
                    <a:avLst/>
                    <a:gdLst>
                      <a:gd name="textAreaLeft" fmla="*/ 0 w 64440"/>
                      <a:gd name="textAreaRight" fmla="*/ 64800 w 64440"/>
                      <a:gd name="textAreaTop" fmla="*/ 0 h 190440"/>
                      <a:gd name="textAreaBottom" fmla="*/ 190800 h 19044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93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Freeform 136"/>
                  <p:cNvSpPr/>
                  <p:nvPr/>
                </p:nvSpPr>
                <p:spPr>
                  <a:xfrm rot="3002400">
                    <a:off x="7960680" y="5733360"/>
                    <a:ext cx="64440" cy="190440"/>
                  </a:xfrm>
                  <a:custGeom>
                    <a:avLst/>
                    <a:gdLst>
                      <a:gd name="textAreaLeft" fmla="*/ 0 w 64440"/>
                      <a:gd name="textAreaRight" fmla="*/ 64800 w 64440"/>
                      <a:gd name="textAreaTop" fmla="*/ 0 h 190440"/>
                      <a:gd name="textAreaBottom" fmla="*/ 190800 h 19044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94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1" name="Oval 137"/>
              <p:cNvSpPr/>
              <p:nvPr/>
            </p:nvSpPr>
            <p:spPr>
              <a:xfrm>
                <a:off x="7838280" y="5848200"/>
                <a:ext cx="89640" cy="558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138"/>
            <p:cNvGrpSpPr/>
            <p:nvPr/>
          </p:nvGrpSpPr>
          <p:grpSpPr>
            <a:xfrm>
              <a:off x="8069400" y="5771880"/>
              <a:ext cx="337680" cy="232200"/>
              <a:chOff x="8069400" y="5771880"/>
              <a:chExt cx="337680" cy="232200"/>
            </a:xfrm>
          </p:grpSpPr>
          <p:grpSp>
            <p:nvGrpSpPr>
              <p:cNvPr id="943" name="Group 139"/>
              <p:cNvGrpSpPr/>
              <p:nvPr/>
            </p:nvGrpSpPr>
            <p:grpSpPr>
              <a:xfrm>
                <a:off x="8069400" y="5771880"/>
                <a:ext cx="337680" cy="232200"/>
                <a:chOff x="8069400" y="5771880"/>
                <a:chExt cx="337680" cy="232200"/>
              </a:xfrm>
            </p:grpSpPr>
            <p:sp>
              <p:nvSpPr>
                <p:cNvPr id="944" name="Freeform 140"/>
                <p:cNvSpPr/>
                <p:nvPr/>
              </p:nvSpPr>
              <p:spPr>
                <a:xfrm rot="19803000">
                  <a:off x="8165160" y="5785920"/>
                  <a:ext cx="84600" cy="1015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9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141"/>
                <p:cNvSpPr/>
                <p:nvPr/>
              </p:nvSpPr>
              <p:spPr>
                <a:xfrm rot="17157000">
                  <a:off x="8132760" y="5784120"/>
                  <a:ext cx="55440" cy="15552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9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142"/>
                <p:cNvSpPr/>
                <p:nvPr/>
              </p:nvSpPr>
              <p:spPr>
                <a:xfrm rot="14949600">
                  <a:off x="8124120" y="5820120"/>
                  <a:ext cx="55440" cy="15552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9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143"/>
                <p:cNvSpPr/>
                <p:nvPr/>
              </p:nvSpPr>
              <p:spPr>
                <a:xfrm>
                  <a:off x="8220600" y="5780520"/>
                  <a:ext cx="84600" cy="1015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9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144"/>
                <p:cNvSpPr/>
                <p:nvPr/>
              </p:nvSpPr>
              <p:spPr>
                <a:xfrm rot="12541800">
                  <a:off x="8139600" y="5875920"/>
                  <a:ext cx="84600" cy="1015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9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9" name="Group 145"/>
                <p:cNvGrpSpPr/>
                <p:nvPr/>
              </p:nvGrpSpPr>
              <p:grpSpPr>
                <a:xfrm>
                  <a:off x="8184600" y="5771880"/>
                  <a:ext cx="222480" cy="232200"/>
                  <a:chOff x="8184600" y="5771880"/>
                  <a:chExt cx="222480" cy="232200"/>
                </a:xfrm>
              </p:grpSpPr>
              <p:sp>
                <p:nvSpPr>
                  <p:cNvPr id="950" name="Freeform 146"/>
                  <p:cNvSpPr/>
                  <p:nvPr/>
                </p:nvSpPr>
                <p:spPr>
                  <a:xfrm rot="9652800">
                    <a:off x="8198640" y="5891400"/>
                    <a:ext cx="84960" cy="101520"/>
                  </a:xfrm>
                  <a:custGeom>
                    <a:avLst/>
                    <a:gdLst>
                      <a:gd name="textAreaLeft" fmla="*/ 0 w 84960"/>
                      <a:gd name="textAreaRight" fmla="*/ 85320 w 84960"/>
                      <a:gd name="textAreaTop" fmla="*/ 0 h 101520"/>
                      <a:gd name="textAreaBottom" fmla="*/ 101880 h 10152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00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Freeform 147"/>
                  <p:cNvSpPr/>
                  <p:nvPr/>
                </p:nvSpPr>
                <p:spPr>
                  <a:xfrm rot="7855800">
                    <a:off x="8248680" y="5867640"/>
                    <a:ext cx="84960" cy="101520"/>
                  </a:xfrm>
                  <a:custGeom>
                    <a:avLst/>
                    <a:gdLst>
                      <a:gd name="textAreaLeft" fmla="*/ 0 w 84960"/>
                      <a:gd name="textAreaRight" fmla="*/ 85320 w 84960"/>
                      <a:gd name="textAreaTop" fmla="*/ 0 h 101520"/>
                      <a:gd name="textAreaBottom" fmla="*/ 101880 h 10152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01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Freeform 148"/>
                  <p:cNvSpPr/>
                  <p:nvPr/>
                </p:nvSpPr>
                <p:spPr>
                  <a:xfrm rot="5209800">
                    <a:off x="8299800" y="5801760"/>
                    <a:ext cx="55440" cy="15588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02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Freeform 149"/>
                  <p:cNvSpPr/>
                  <p:nvPr/>
                </p:nvSpPr>
                <p:spPr>
                  <a:xfrm rot="3002400">
                    <a:off x="8296200" y="5765040"/>
                    <a:ext cx="55440" cy="15588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03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54" name="Oval 150"/>
              <p:cNvSpPr/>
              <p:nvPr/>
            </p:nvSpPr>
            <p:spPr>
              <a:xfrm>
                <a:off x="8199000" y="5859720"/>
                <a:ext cx="73080" cy="478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51"/>
            <p:cNvGrpSpPr/>
            <p:nvPr/>
          </p:nvGrpSpPr>
          <p:grpSpPr>
            <a:xfrm>
              <a:off x="6823800" y="5827320"/>
              <a:ext cx="376560" cy="316440"/>
              <a:chOff x="6823800" y="5827320"/>
              <a:chExt cx="376560" cy="316440"/>
            </a:xfrm>
          </p:grpSpPr>
          <p:sp>
            <p:nvSpPr>
              <p:cNvPr id="956" name="Freeform 152"/>
              <p:cNvSpPr/>
              <p:nvPr/>
            </p:nvSpPr>
            <p:spPr>
              <a:xfrm rot="20003400">
                <a:off x="6851880" y="5872680"/>
                <a:ext cx="246600" cy="184320"/>
              </a:xfrm>
              <a:custGeom>
                <a:avLst/>
                <a:gdLst>
                  <a:gd name="textAreaLeft" fmla="*/ 0 w 246600"/>
                  <a:gd name="textAreaRight" fmla="*/ 246960 w 24660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5555" h="2844">
                    <a:moveTo>
                      <a:pt x="1386" y="418"/>
                    </a:moveTo>
                    <a:cubicBezTo>
                      <a:pt x="875" y="464"/>
                      <a:pt x="0" y="1889"/>
                      <a:pt x="209" y="2241"/>
                    </a:cubicBezTo>
                    <a:cubicBezTo>
                      <a:pt x="356" y="2520"/>
                      <a:pt x="1770" y="2844"/>
                      <a:pt x="2640" y="2532"/>
                    </a:cubicBezTo>
                    <a:cubicBezTo>
                      <a:pt x="3510" y="2220"/>
                      <a:pt x="5555" y="744"/>
                      <a:pt x="5427" y="372"/>
                    </a:cubicBezTo>
                    <a:cubicBezTo>
                      <a:pt x="5299" y="0"/>
                      <a:pt x="2547" y="294"/>
                      <a:pt x="1874" y="302"/>
                    </a:cubicBezTo>
                    <a:cubicBezTo>
                      <a:pt x="1201" y="310"/>
                      <a:pt x="1897" y="372"/>
                      <a:pt x="1386" y="4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8000"/>
                  </a:gs>
                  <a:gs pos="100000">
                    <a:srgbClr val="00ff00"/>
                  </a:gs>
                </a:gsLst>
                <a:lin ang="30000"/>
              </a:gradFill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153"/>
              <p:cNvSpPr/>
              <p:nvPr/>
            </p:nvSpPr>
            <p:spPr>
              <a:xfrm rot="17101200">
                <a:off x="6955920" y="5908320"/>
                <a:ext cx="246600" cy="184320"/>
              </a:xfrm>
              <a:custGeom>
                <a:avLst/>
                <a:gdLst>
                  <a:gd name="textAreaLeft" fmla="*/ 0 w 246600"/>
                  <a:gd name="textAreaRight" fmla="*/ 246960 w 24660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5555" h="2844">
                    <a:moveTo>
                      <a:pt x="1386" y="418"/>
                    </a:moveTo>
                    <a:cubicBezTo>
                      <a:pt x="875" y="464"/>
                      <a:pt x="0" y="1889"/>
                      <a:pt x="209" y="2241"/>
                    </a:cubicBezTo>
                    <a:cubicBezTo>
                      <a:pt x="356" y="2520"/>
                      <a:pt x="1770" y="2844"/>
                      <a:pt x="2640" y="2532"/>
                    </a:cubicBezTo>
                    <a:cubicBezTo>
                      <a:pt x="3510" y="2220"/>
                      <a:pt x="5555" y="744"/>
                      <a:pt x="5427" y="372"/>
                    </a:cubicBezTo>
                    <a:cubicBezTo>
                      <a:pt x="5299" y="0"/>
                      <a:pt x="2547" y="294"/>
                      <a:pt x="1874" y="302"/>
                    </a:cubicBezTo>
                    <a:cubicBezTo>
                      <a:pt x="1201" y="310"/>
                      <a:pt x="1897" y="372"/>
                      <a:pt x="1386" y="4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8000"/>
                  </a:gs>
                  <a:gs pos="100000">
                    <a:srgbClr val="00ff00"/>
                  </a:gs>
                </a:gsLst>
                <a:lin ang="2934000"/>
              </a:gradFill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8" name="Group 154"/>
            <p:cNvGrpSpPr/>
            <p:nvPr/>
          </p:nvGrpSpPr>
          <p:grpSpPr>
            <a:xfrm>
              <a:off x="6560280" y="5518080"/>
              <a:ext cx="529200" cy="438840"/>
              <a:chOff x="6560280" y="5518080"/>
              <a:chExt cx="529200" cy="438840"/>
            </a:xfrm>
          </p:grpSpPr>
          <p:grpSp>
            <p:nvGrpSpPr>
              <p:cNvPr id="959" name="Group 155"/>
              <p:cNvGrpSpPr/>
              <p:nvPr/>
            </p:nvGrpSpPr>
            <p:grpSpPr>
              <a:xfrm>
                <a:off x="6560280" y="5518080"/>
                <a:ext cx="529200" cy="438840"/>
                <a:chOff x="6560280" y="5518080"/>
                <a:chExt cx="529200" cy="438840"/>
              </a:xfrm>
            </p:grpSpPr>
            <p:sp>
              <p:nvSpPr>
                <p:cNvPr id="960" name="Freeform 156"/>
                <p:cNvSpPr/>
                <p:nvPr/>
              </p:nvSpPr>
              <p:spPr>
                <a:xfrm rot="19803000">
                  <a:off x="6714360" y="5537160"/>
                  <a:ext cx="132120" cy="2034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0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157"/>
                <p:cNvSpPr/>
                <p:nvPr/>
              </p:nvSpPr>
              <p:spPr>
                <a:xfrm rot="17157000">
                  <a:off x="6651720" y="5567760"/>
                  <a:ext cx="110880" cy="24192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241920"/>
                    <a:gd name="textAreaBottom" fmla="*/ 242280 h 2419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0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158"/>
                <p:cNvSpPr/>
                <p:nvPr/>
              </p:nvSpPr>
              <p:spPr>
                <a:xfrm rot="14949600">
                  <a:off x="6637680" y="5639040"/>
                  <a:ext cx="110880" cy="24192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241920"/>
                    <a:gd name="textAreaBottom" fmla="*/ 242280 h 2419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0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159"/>
                <p:cNvSpPr/>
                <p:nvPr/>
              </p:nvSpPr>
              <p:spPr>
                <a:xfrm>
                  <a:off x="6800040" y="5525640"/>
                  <a:ext cx="132120" cy="2034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0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160"/>
                <p:cNvSpPr/>
                <p:nvPr/>
              </p:nvSpPr>
              <p:spPr>
                <a:xfrm rot="12541800">
                  <a:off x="6674400" y="5716080"/>
                  <a:ext cx="132120" cy="2034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0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5" name="Group 161"/>
                <p:cNvGrpSpPr/>
                <p:nvPr/>
              </p:nvGrpSpPr>
              <p:grpSpPr>
                <a:xfrm>
                  <a:off x="6739920" y="5537160"/>
                  <a:ext cx="349560" cy="419760"/>
                  <a:chOff x="6739920" y="5537160"/>
                  <a:chExt cx="349560" cy="419760"/>
                </a:xfrm>
              </p:grpSpPr>
              <p:sp>
                <p:nvSpPr>
                  <p:cNvPr id="966" name="Freeform 162"/>
                  <p:cNvSpPr/>
                  <p:nvPr/>
                </p:nvSpPr>
                <p:spPr>
                  <a:xfrm rot="9652800">
                    <a:off x="6769440" y="5737320"/>
                    <a:ext cx="132120" cy="203400"/>
                  </a:xfrm>
                  <a:custGeom>
                    <a:avLst/>
                    <a:gdLst>
                      <a:gd name="textAreaLeft" fmla="*/ 0 w 132120"/>
                      <a:gd name="textAreaRight" fmla="*/ 132480 w 13212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09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Freeform 163"/>
                  <p:cNvSpPr/>
                  <p:nvPr/>
                </p:nvSpPr>
                <p:spPr>
                  <a:xfrm rot="7855800">
                    <a:off x="6846120" y="5698800"/>
                    <a:ext cx="132120" cy="203400"/>
                  </a:xfrm>
                  <a:custGeom>
                    <a:avLst/>
                    <a:gdLst>
                      <a:gd name="textAreaLeft" fmla="*/ 0 w 132120"/>
                      <a:gd name="textAreaRight" fmla="*/ 132480 w 13212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10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Freeform 164"/>
                  <p:cNvSpPr/>
                  <p:nvPr/>
                </p:nvSpPr>
                <p:spPr>
                  <a:xfrm rot="5209800">
                    <a:off x="6909840" y="5607720"/>
                    <a:ext cx="110880" cy="242280"/>
                  </a:xfrm>
                  <a:custGeom>
                    <a:avLst/>
                    <a:gdLst>
                      <a:gd name="textAreaLeft" fmla="*/ 0 w 110880"/>
                      <a:gd name="textAreaRight" fmla="*/ 111240 w 110880"/>
                      <a:gd name="textAreaTop" fmla="*/ 0 h 242280"/>
                      <a:gd name="textAreaBottom" fmla="*/ 242640 h 24228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11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Freeform 165"/>
                  <p:cNvSpPr/>
                  <p:nvPr/>
                </p:nvSpPr>
                <p:spPr>
                  <a:xfrm rot="3002400">
                    <a:off x="6899760" y="5536080"/>
                    <a:ext cx="110880" cy="242280"/>
                  </a:xfrm>
                  <a:custGeom>
                    <a:avLst/>
                    <a:gdLst>
                      <a:gd name="textAreaLeft" fmla="*/ 0 w 110880"/>
                      <a:gd name="textAreaRight" fmla="*/ 111240 w 110880"/>
                      <a:gd name="textAreaTop" fmla="*/ 0 h 242280"/>
                      <a:gd name="textAreaBottom" fmla="*/ 242640 h 24228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12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0" name="Oval 166"/>
              <p:cNvSpPr/>
              <p:nvPr/>
            </p:nvSpPr>
            <p:spPr>
              <a:xfrm>
                <a:off x="6766920" y="5683680"/>
                <a:ext cx="113760" cy="95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Group 167"/>
            <p:cNvGrpSpPr/>
            <p:nvPr/>
          </p:nvGrpSpPr>
          <p:grpSpPr>
            <a:xfrm>
              <a:off x="6946200" y="5617440"/>
              <a:ext cx="444600" cy="366840"/>
              <a:chOff x="6946200" y="5617440"/>
              <a:chExt cx="444600" cy="366840"/>
            </a:xfrm>
          </p:grpSpPr>
          <p:grpSp>
            <p:nvGrpSpPr>
              <p:cNvPr id="972" name="Group 168"/>
              <p:cNvGrpSpPr/>
              <p:nvPr/>
            </p:nvGrpSpPr>
            <p:grpSpPr>
              <a:xfrm>
                <a:off x="6946200" y="5617440"/>
                <a:ext cx="444600" cy="366840"/>
                <a:chOff x="6946200" y="5617440"/>
                <a:chExt cx="444600" cy="366840"/>
              </a:xfrm>
            </p:grpSpPr>
            <p:sp>
              <p:nvSpPr>
                <p:cNvPr id="973" name="Freeform 169"/>
                <p:cNvSpPr/>
                <p:nvPr/>
              </p:nvSpPr>
              <p:spPr>
                <a:xfrm rot="19803000">
                  <a:off x="7075440" y="5633640"/>
                  <a:ext cx="110880" cy="1695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169560"/>
                    <a:gd name="textAreaBottom" fmla="*/ 169920 h 16956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1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170"/>
                <p:cNvSpPr/>
                <p:nvPr/>
              </p:nvSpPr>
              <p:spPr>
                <a:xfrm rot="17157000">
                  <a:off x="7023240" y="5658120"/>
                  <a:ext cx="92520" cy="20340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1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171"/>
                <p:cNvSpPr/>
                <p:nvPr/>
              </p:nvSpPr>
              <p:spPr>
                <a:xfrm rot="14949600">
                  <a:off x="7011000" y="5717880"/>
                  <a:ext cx="92520" cy="20340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1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172"/>
                <p:cNvSpPr/>
                <p:nvPr/>
              </p:nvSpPr>
              <p:spPr>
                <a:xfrm>
                  <a:off x="7147440" y="5624280"/>
                  <a:ext cx="110880" cy="1695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169560"/>
                    <a:gd name="textAreaBottom" fmla="*/ 169920 h 16956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1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173"/>
                <p:cNvSpPr/>
                <p:nvPr/>
              </p:nvSpPr>
              <p:spPr>
                <a:xfrm rot="12541800">
                  <a:off x="7042320" y="5783400"/>
                  <a:ext cx="110880" cy="1695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169560"/>
                    <a:gd name="textAreaBottom" fmla="*/ 169920 h 16956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1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8" name="Group 174"/>
                <p:cNvGrpSpPr/>
                <p:nvPr/>
              </p:nvGrpSpPr>
              <p:grpSpPr>
                <a:xfrm>
                  <a:off x="7097040" y="5632920"/>
                  <a:ext cx="293760" cy="351360"/>
                  <a:chOff x="7097040" y="5632920"/>
                  <a:chExt cx="293760" cy="351360"/>
                </a:xfrm>
              </p:grpSpPr>
              <p:sp>
                <p:nvSpPr>
                  <p:cNvPr id="979" name="Freeform 175"/>
                  <p:cNvSpPr/>
                  <p:nvPr/>
                </p:nvSpPr>
                <p:spPr>
                  <a:xfrm rot="9652800">
                    <a:off x="7121880" y="5800680"/>
                    <a:ext cx="110880" cy="169920"/>
                  </a:xfrm>
                  <a:custGeom>
                    <a:avLst/>
                    <a:gdLst>
                      <a:gd name="textAreaLeft" fmla="*/ 0 w 110880"/>
                      <a:gd name="textAreaRight" fmla="*/ 111240 w 11088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18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Freeform 176"/>
                  <p:cNvSpPr/>
                  <p:nvPr/>
                </p:nvSpPr>
                <p:spPr>
                  <a:xfrm rot="7855800">
                    <a:off x="7186680" y="5767920"/>
                    <a:ext cx="110880" cy="169920"/>
                  </a:xfrm>
                  <a:custGeom>
                    <a:avLst/>
                    <a:gdLst>
                      <a:gd name="textAreaLeft" fmla="*/ 0 w 110880"/>
                      <a:gd name="textAreaRight" fmla="*/ 111240 w 11088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19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Freeform 177"/>
                  <p:cNvSpPr/>
                  <p:nvPr/>
                </p:nvSpPr>
                <p:spPr>
                  <a:xfrm rot="5209800">
                    <a:off x="7240320" y="5692320"/>
                    <a:ext cx="92520" cy="203400"/>
                  </a:xfrm>
                  <a:custGeom>
                    <a:avLst/>
                    <a:gdLst>
                      <a:gd name="textAreaLeft" fmla="*/ 0 w 92520"/>
                      <a:gd name="textAreaRight" fmla="*/ 92880 w 9252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20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Freeform 178"/>
                  <p:cNvSpPr/>
                  <p:nvPr/>
                </p:nvSpPr>
                <p:spPr>
                  <a:xfrm rot="3002400">
                    <a:off x="7232040" y="5631840"/>
                    <a:ext cx="92520" cy="203400"/>
                  </a:xfrm>
                  <a:custGeom>
                    <a:avLst/>
                    <a:gdLst>
                      <a:gd name="textAreaLeft" fmla="*/ 0 w 92520"/>
                      <a:gd name="textAreaRight" fmla="*/ 92880 w 9252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21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83" name="Oval 179"/>
              <p:cNvSpPr/>
              <p:nvPr/>
            </p:nvSpPr>
            <p:spPr>
              <a:xfrm>
                <a:off x="7119360" y="5756040"/>
                <a:ext cx="95400" cy="799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180"/>
            <p:cNvGrpSpPr/>
            <p:nvPr/>
          </p:nvGrpSpPr>
          <p:grpSpPr>
            <a:xfrm>
              <a:off x="6797520" y="5747400"/>
              <a:ext cx="337680" cy="232200"/>
              <a:chOff x="6797520" y="5747400"/>
              <a:chExt cx="337680" cy="232200"/>
            </a:xfrm>
          </p:grpSpPr>
          <p:grpSp>
            <p:nvGrpSpPr>
              <p:cNvPr id="985" name="Group 181"/>
              <p:cNvGrpSpPr/>
              <p:nvPr/>
            </p:nvGrpSpPr>
            <p:grpSpPr>
              <a:xfrm>
                <a:off x="6797520" y="5747400"/>
                <a:ext cx="337680" cy="232200"/>
                <a:chOff x="6797520" y="5747400"/>
                <a:chExt cx="337680" cy="232200"/>
              </a:xfrm>
            </p:grpSpPr>
            <p:sp>
              <p:nvSpPr>
                <p:cNvPr id="986" name="Freeform 182"/>
                <p:cNvSpPr/>
                <p:nvPr/>
              </p:nvSpPr>
              <p:spPr>
                <a:xfrm rot="19803000">
                  <a:off x="6893280" y="5761440"/>
                  <a:ext cx="84600" cy="1015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2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183"/>
                <p:cNvSpPr/>
                <p:nvPr/>
              </p:nvSpPr>
              <p:spPr>
                <a:xfrm rot="17157000">
                  <a:off x="6860880" y="5759640"/>
                  <a:ext cx="55440" cy="15552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2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184"/>
                <p:cNvSpPr/>
                <p:nvPr/>
              </p:nvSpPr>
              <p:spPr>
                <a:xfrm rot="14949600">
                  <a:off x="6852240" y="5795640"/>
                  <a:ext cx="55440" cy="15552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2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185"/>
                <p:cNvSpPr/>
                <p:nvPr/>
              </p:nvSpPr>
              <p:spPr>
                <a:xfrm>
                  <a:off x="6948720" y="5756040"/>
                  <a:ext cx="84600" cy="1015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2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186"/>
                <p:cNvSpPr/>
                <p:nvPr/>
              </p:nvSpPr>
              <p:spPr>
                <a:xfrm rot="12541800">
                  <a:off x="6867720" y="5851440"/>
                  <a:ext cx="84600" cy="1015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571" h="4713">
                      <a:moveTo>
                        <a:pt x="893" y="4632"/>
                      </a:moveTo>
                      <a:cubicBezTo>
                        <a:pt x="500" y="4713"/>
                        <a:pt x="186" y="3002"/>
                        <a:pt x="93" y="2372"/>
                      </a:cubicBezTo>
                      <a:cubicBezTo>
                        <a:pt x="0" y="1742"/>
                        <a:pt x="83" y="1219"/>
                        <a:pt x="333" y="852"/>
                      </a:cubicBezTo>
                      <a:cubicBezTo>
                        <a:pt x="583" y="485"/>
                        <a:pt x="1240" y="0"/>
                        <a:pt x="1593" y="172"/>
                      </a:cubicBezTo>
                      <a:cubicBezTo>
                        <a:pt x="1946" y="344"/>
                        <a:pt x="2571" y="1143"/>
                        <a:pt x="2454" y="1886"/>
                      </a:cubicBezTo>
                      <a:cubicBezTo>
                        <a:pt x="2337" y="2629"/>
                        <a:pt x="1286" y="4551"/>
                        <a:pt x="893" y="4632"/>
                      </a:cubicBezTo>
                      <a:close/>
                    </a:path>
                  </a:pathLst>
                </a:custGeom>
                <a:blipFill rotWithShape="0">
                  <a:blip r:embed="rId12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1" name="Group 187"/>
                <p:cNvGrpSpPr/>
                <p:nvPr/>
              </p:nvGrpSpPr>
              <p:grpSpPr>
                <a:xfrm>
                  <a:off x="6912720" y="5747400"/>
                  <a:ext cx="222480" cy="232200"/>
                  <a:chOff x="6912720" y="5747400"/>
                  <a:chExt cx="222480" cy="232200"/>
                </a:xfrm>
              </p:grpSpPr>
              <p:sp>
                <p:nvSpPr>
                  <p:cNvPr id="992" name="Freeform 188"/>
                  <p:cNvSpPr/>
                  <p:nvPr/>
                </p:nvSpPr>
                <p:spPr>
                  <a:xfrm rot="9652800">
                    <a:off x="6926760" y="5866920"/>
                    <a:ext cx="84960" cy="101520"/>
                  </a:xfrm>
                  <a:custGeom>
                    <a:avLst/>
                    <a:gdLst>
                      <a:gd name="textAreaLeft" fmla="*/ 0 w 84960"/>
                      <a:gd name="textAreaRight" fmla="*/ 85320 w 84960"/>
                      <a:gd name="textAreaTop" fmla="*/ 0 h 101520"/>
                      <a:gd name="textAreaBottom" fmla="*/ 101880 h 10152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27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Freeform 189"/>
                  <p:cNvSpPr/>
                  <p:nvPr/>
                </p:nvSpPr>
                <p:spPr>
                  <a:xfrm rot="7855800">
                    <a:off x="6976800" y="5843160"/>
                    <a:ext cx="84960" cy="101520"/>
                  </a:xfrm>
                  <a:custGeom>
                    <a:avLst/>
                    <a:gdLst>
                      <a:gd name="textAreaLeft" fmla="*/ 0 w 84960"/>
                      <a:gd name="textAreaRight" fmla="*/ 85320 w 84960"/>
                      <a:gd name="textAreaTop" fmla="*/ 0 h 101520"/>
                      <a:gd name="textAreaBottom" fmla="*/ 101880 h 10152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28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Freeform 190"/>
                  <p:cNvSpPr/>
                  <p:nvPr/>
                </p:nvSpPr>
                <p:spPr>
                  <a:xfrm rot="5209800">
                    <a:off x="7027920" y="5777280"/>
                    <a:ext cx="55440" cy="15588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29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Freeform 191"/>
                  <p:cNvSpPr/>
                  <p:nvPr/>
                </p:nvSpPr>
                <p:spPr>
                  <a:xfrm rot="3002400">
                    <a:off x="7024320" y="5740560"/>
                    <a:ext cx="55440" cy="15588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571" h="4713">
                        <a:moveTo>
                          <a:pt x="893" y="4632"/>
                        </a:moveTo>
                        <a:cubicBezTo>
                          <a:pt x="500" y="4713"/>
                          <a:pt x="186" y="3002"/>
                          <a:pt x="93" y="2372"/>
                        </a:cubicBezTo>
                        <a:cubicBezTo>
                          <a:pt x="0" y="1742"/>
                          <a:pt x="83" y="1219"/>
                          <a:pt x="333" y="852"/>
                        </a:cubicBezTo>
                        <a:cubicBezTo>
                          <a:pt x="583" y="485"/>
                          <a:pt x="1240" y="0"/>
                          <a:pt x="1593" y="172"/>
                        </a:cubicBezTo>
                        <a:cubicBezTo>
                          <a:pt x="1946" y="344"/>
                          <a:pt x="2571" y="1143"/>
                          <a:pt x="2454" y="1886"/>
                        </a:cubicBezTo>
                        <a:cubicBezTo>
                          <a:pt x="2337" y="2629"/>
                          <a:pt x="1286" y="4551"/>
                          <a:pt x="893" y="4632"/>
                        </a:cubicBezTo>
                        <a:close/>
                      </a:path>
                    </a:pathLst>
                  </a:custGeom>
                  <a:blipFill rotWithShape="0">
                    <a:blip r:embed="rId130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96" name="Oval 192"/>
              <p:cNvSpPr/>
              <p:nvPr/>
            </p:nvSpPr>
            <p:spPr>
              <a:xfrm>
                <a:off x="6927120" y="5834880"/>
                <a:ext cx="73080" cy="478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7" name="TextBox 195"/>
          <p:cNvSpPr/>
          <p:nvPr/>
        </p:nvSpPr>
        <p:spPr>
          <a:xfrm>
            <a:off x="357120" y="57168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стровая граф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196"/>
          <p:cNvSpPr/>
          <p:nvPr/>
        </p:nvSpPr>
        <p:spPr>
          <a:xfrm>
            <a:off x="5929200" y="50004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екторная граф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275"/>
          <p:cNvGrpSpPr/>
          <p:nvPr/>
        </p:nvGrpSpPr>
        <p:grpSpPr>
          <a:xfrm>
            <a:off x="6588000" y="1562040"/>
            <a:ext cx="2242800" cy="2795760"/>
            <a:chOff x="6588000" y="1562040"/>
            <a:chExt cx="2242800" cy="2795760"/>
          </a:xfrm>
        </p:grpSpPr>
        <p:grpSp>
          <p:nvGrpSpPr>
            <p:cNvPr id="1000" name="Group 276"/>
            <p:cNvGrpSpPr/>
            <p:nvPr/>
          </p:nvGrpSpPr>
          <p:grpSpPr>
            <a:xfrm>
              <a:off x="6917760" y="1707480"/>
              <a:ext cx="1816200" cy="2650320"/>
              <a:chOff x="6917760" y="1707480"/>
              <a:chExt cx="1816200" cy="2650320"/>
            </a:xfrm>
          </p:grpSpPr>
          <p:sp>
            <p:nvSpPr>
              <p:cNvPr id="1001" name="Rectangle 277"/>
              <p:cNvSpPr/>
              <p:nvPr/>
            </p:nvSpPr>
            <p:spPr>
              <a:xfrm>
                <a:off x="7119360" y="1707480"/>
                <a:ext cx="1417680" cy="2319120"/>
              </a:xfrm>
              <a:prstGeom prst="rect">
                <a:avLst/>
              </a:prstGeom>
              <a:gradFill rotWithShape="0">
                <a:gsLst>
                  <a:gs pos="0">
                    <a:srgbClr val="b66d00"/>
                  </a:gs>
                  <a:gs pos="50000">
                    <a:srgbClr val="ff9900"/>
                  </a:gs>
                  <a:gs pos="100000">
                    <a:srgbClr val="b66d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78"/>
              <p:cNvSpPr/>
              <p:nvPr/>
            </p:nvSpPr>
            <p:spPr>
              <a:xfrm>
                <a:off x="7206480" y="1812600"/>
                <a:ext cx="1243800" cy="2119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AutoShape 279"/>
              <p:cNvSpPr/>
              <p:nvPr/>
            </p:nvSpPr>
            <p:spPr>
              <a:xfrm flipV="1">
                <a:off x="7207920" y="3694680"/>
                <a:ext cx="1240200" cy="236520"/>
              </a:xfrm>
              <a:custGeom>
                <a:avLst/>
                <a:gdLst>
                  <a:gd name="textAreaLeft" fmla="*/ 172080 w 1240200"/>
                  <a:gd name="textAreaRight" fmla="*/ 1068120 w 1240200"/>
                  <a:gd name="textAreaTop" fmla="*/ 32760 h 236520"/>
                  <a:gd name="textAreaBottom" fmla="*/ 203760 h 23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395" y="21600"/>
                    </a:lnTo>
                    <a:lnTo>
                      <a:pt x="19205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ffff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AutoShape 280"/>
              <p:cNvSpPr/>
              <p:nvPr/>
            </p:nvSpPr>
            <p:spPr>
              <a:xfrm flipV="1">
                <a:off x="6917760" y="4026600"/>
                <a:ext cx="1816200" cy="283680"/>
              </a:xfrm>
              <a:custGeom>
                <a:avLst/>
                <a:gdLst>
                  <a:gd name="textAreaLeft" fmla="*/ 252000 w 1816200"/>
                  <a:gd name="textAreaRight" fmla="*/ 1564200 w 1816200"/>
                  <a:gd name="textAreaTop" fmla="*/ 39240 h 283680"/>
                  <a:gd name="textAreaBottom" fmla="*/ 244440 h 28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395" y="21600"/>
                    </a:lnTo>
                    <a:lnTo>
                      <a:pt x="19205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6d00"/>
                  </a:gs>
                  <a:gs pos="50000">
                    <a:srgbClr val="ff9900"/>
                  </a:gs>
                  <a:gs pos="100000">
                    <a:srgbClr val="b66d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Rectangle 281"/>
              <p:cNvSpPr/>
              <p:nvPr/>
            </p:nvSpPr>
            <p:spPr>
              <a:xfrm>
                <a:off x="6917760" y="4310640"/>
                <a:ext cx="1816200" cy="47160"/>
              </a:xfrm>
              <a:prstGeom prst="rect">
                <a:avLst/>
              </a:prstGeom>
              <a:gradFill rotWithShape="0">
                <a:gsLst>
                  <a:gs pos="0">
                    <a:srgbClr val="b66d00"/>
                  </a:gs>
                  <a:gs pos="50000">
                    <a:srgbClr val="ff9900"/>
                  </a:gs>
                  <a:gs pos="100000">
                    <a:srgbClr val="b66d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6" name="Group 282"/>
            <p:cNvGrpSpPr/>
            <p:nvPr/>
          </p:nvGrpSpPr>
          <p:grpSpPr>
            <a:xfrm>
              <a:off x="6588000" y="1562040"/>
              <a:ext cx="2242800" cy="2464560"/>
              <a:chOff x="6588000" y="1562040"/>
              <a:chExt cx="2242800" cy="2464560"/>
            </a:xfrm>
          </p:grpSpPr>
          <p:grpSp>
            <p:nvGrpSpPr>
              <p:cNvPr id="1007" name="Group 283"/>
              <p:cNvGrpSpPr/>
              <p:nvPr/>
            </p:nvGrpSpPr>
            <p:grpSpPr>
              <a:xfrm>
                <a:off x="6588000" y="1562040"/>
                <a:ext cx="1644480" cy="2464560"/>
                <a:chOff x="6588000" y="1562040"/>
                <a:chExt cx="1644480" cy="2464560"/>
              </a:xfrm>
            </p:grpSpPr>
            <p:sp>
              <p:nvSpPr>
                <p:cNvPr id="1008" name="Freeform 284"/>
                <p:cNvSpPr/>
                <p:nvPr/>
              </p:nvSpPr>
              <p:spPr>
                <a:xfrm>
                  <a:off x="6977160" y="1699560"/>
                  <a:ext cx="1255320" cy="2327040"/>
                </a:xfrm>
                <a:custGeom>
                  <a:avLst/>
                  <a:gdLst>
                    <a:gd name="textAreaLeft" fmla="*/ 0 w 1255320"/>
                    <a:gd name="textAreaRight" fmla="*/ 1255680 w 1255320"/>
                    <a:gd name="textAreaTop" fmla="*/ 0 h 2327040"/>
                    <a:gd name="textAreaBottom" fmla="*/ 2327400 h 2327040"/>
                  </a:gdLst>
                  <a:ahLst/>
                  <a:rect l="textAreaLeft" t="textAreaTop" r="textAreaRight" b="textAreaBottom"/>
                  <a:pathLst>
                    <a:path w="5100" h="8850">
                      <a:moveTo>
                        <a:pt x="4710" y="150"/>
                      </a:moveTo>
                      <a:cubicBezTo>
                        <a:pt x="4650" y="0"/>
                        <a:pt x="4620" y="1050"/>
                        <a:pt x="4530" y="1410"/>
                      </a:cubicBezTo>
                      <a:cubicBezTo>
                        <a:pt x="4440" y="1770"/>
                        <a:pt x="4500" y="1890"/>
                        <a:pt x="4170" y="2310"/>
                      </a:cubicBezTo>
                      <a:cubicBezTo>
                        <a:pt x="3840" y="2730"/>
                        <a:pt x="3180" y="3390"/>
                        <a:pt x="2550" y="3930"/>
                      </a:cubicBezTo>
                      <a:cubicBezTo>
                        <a:pt x="1920" y="4470"/>
                        <a:pt x="780" y="5160"/>
                        <a:pt x="390" y="5550"/>
                      </a:cubicBezTo>
                      <a:cubicBezTo>
                        <a:pt x="0" y="5940"/>
                        <a:pt x="180" y="6120"/>
                        <a:pt x="210" y="6270"/>
                      </a:cubicBezTo>
                      <a:cubicBezTo>
                        <a:pt x="240" y="6420"/>
                        <a:pt x="510" y="6330"/>
                        <a:pt x="570" y="6450"/>
                      </a:cubicBezTo>
                      <a:cubicBezTo>
                        <a:pt x="630" y="6570"/>
                        <a:pt x="510" y="6870"/>
                        <a:pt x="570" y="6990"/>
                      </a:cubicBezTo>
                      <a:cubicBezTo>
                        <a:pt x="630" y="7110"/>
                        <a:pt x="990" y="6990"/>
                        <a:pt x="930" y="7170"/>
                      </a:cubicBezTo>
                      <a:cubicBezTo>
                        <a:pt x="870" y="7350"/>
                        <a:pt x="240" y="7860"/>
                        <a:pt x="210" y="8070"/>
                      </a:cubicBezTo>
                      <a:cubicBezTo>
                        <a:pt x="180" y="8280"/>
                        <a:pt x="750" y="8340"/>
                        <a:pt x="750" y="8430"/>
                      </a:cubicBezTo>
                      <a:cubicBezTo>
                        <a:pt x="750" y="8520"/>
                        <a:pt x="210" y="8550"/>
                        <a:pt x="210" y="8610"/>
                      </a:cubicBezTo>
                      <a:cubicBezTo>
                        <a:pt x="210" y="8670"/>
                        <a:pt x="600" y="8850"/>
                        <a:pt x="750" y="8790"/>
                      </a:cubicBezTo>
                      <a:cubicBezTo>
                        <a:pt x="900" y="8730"/>
                        <a:pt x="810" y="8550"/>
                        <a:pt x="1110" y="8250"/>
                      </a:cubicBezTo>
                      <a:cubicBezTo>
                        <a:pt x="1410" y="7950"/>
                        <a:pt x="2160" y="7530"/>
                        <a:pt x="2550" y="6990"/>
                      </a:cubicBezTo>
                      <a:cubicBezTo>
                        <a:pt x="2940" y="6450"/>
                        <a:pt x="3060" y="5790"/>
                        <a:pt x="3450" y="5010"/>
                      </a:cubicBezTo>
                      <a:cubicBezTo>
                        <a:pt x="3840" y="4230"/>
                        <a:pt x="4680" y="3120"/>
                        <a:pt x="4890" y="2310"/>
                      </a:cubicBezTo>
                      <a:cubicBezTo>
                        <a:pt x="5100" y="1500"/>
                        <a:pt x="4770" y="300"/>
                        <a:pt x="4710" y="15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00ffff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285"/>
                <p:cNvSpPr/>
                <p:nvPr/>
              </p:nvSpPr>
              <p:spPr>
                <a:xfrm rot="501000">
                  <a:off x="7009200" y="1628640"/>
                  <a:ext cx="1063080" cy="1987920"/>
                </a:xfrm>
                <a:custGeom>
                  <a:avLst/>
                  <a:gdLst>
                    <a:gd name="textAreaLeft" fmla="*/ 0 w 1063080"/>
                    <a:gd name="textAreaRight" fmla="*/ 1063440 w 1063080"/>
                    <a:gd name="textAreaTop" fmla="*/ 0 h 1987920"/>
                    <a:gd name="textAreaBottom" fmla="*/ 1988280 h 1987920"/>
                  </a:gdLst>
                  <a:ahLst/>
                  <a:rect l="textAreaLeft" t="textAreaTop" r="textAreaRight" b="textAreaBottom"/>
                  <a:pathLst>
                    <a:path w="5100" h="8850">
                      <a:moveTo>
                        <a:pt x="4710" y="150"/>
                      </a:moveTo>
                      <a:cubicBezTo>
                        <a:pt x="4650" y="0"/>
                        <a:pt x="4620" y="1050"/>
                        <a:pt x="4530" y="1410"/>
                      </a:cubicBezTo>
                      <a:cubicBezTo>
                        <a:pt x="4440" y="1770"/>
                        <a:pt x="4500" y="1890"/>
                        <a:pt x="4170" y="2310"/>
                      </a:cubicBezTo>
                      <a:cubicBezTo>
                        <a:pt x="3840" y="2730"/>
                        <a:pt x="3180" y="3390"/>
                        <a:pt x="2550" y="3930"/>
                      </a:cubicBezTo>
                      <a:cubicBezTo>
                        <a:pt x="1920" y="4470"/>
                        <a:pt x="780" y="5160"/>
                        <a:pt x="390" y="5550"/>
                      </a:cubicBezTo>
                      <a:cubicBezTo>
                        <a:pt x="0" y="5940"/>
                        <a:pt x="180" y="6120"/>
                        <a:pt x="210" y="6270"/>
                      </a:cubicBezTo>
                      <a:cubicBezTo>
                        <a:pt x="240" y="6420"/>
                        <a:pt x="510" y="6330"/>
                        <a:pt x="570" y="6450"/>
                      </a:cubicBezTo>
                      <a:cubicBezTo>
                        <a:pt x="630" y="6570"/>
                        <a:pt x="510" y="6870"/>
                        <a:pt x="570" y="6990"/>
                      </a:cubicBezTo>
                      <a:cubicBezTo>
                        <a:pt x="630" y="7110"/>
                        <a:pt x="990" y="6990"/>
                        <a:pt x="930" y="7170"/>
                      </a:cubicBezTo>
                      <a:cubicBezTo>
                        <a:pt x="870" y="7350"/>
                        <a:pt x="240" y="7860"/>
                        <a:pt x="210" y="8070"/>
                      </a:cubicBezTo>
                      <a:cubicBezTo>
                        <a:pt x="180" y="8280"/>
                        <a:pt x="750" y="8340"/>
                        <a:pt x="750" y="8430"/>
                      </a:cubicBezTo>
                      <a:cubicBezTo>
                        <a:pt x="750" y="8520"/>
                        <a:pt x="210" y="8550"/>
                        <a:pt x="210" y="8610"/>
                      </a:cubicBezTo>
                      <a:cubicBezTo>
                        <a:pt x="210" y="8670"/>
                        <a:pt x="600" y="8850"/>
                        <a:pt x="750" y="8790"/>
                      </a:cubicBezTo>
                      <a:cubicBezTo>
                        <a:pt x="900" y="8730"/>
                        <a:pt x="810" y="8550"/>
                        <a:pt x="1110" y="8250"/>
                      </a:cubicBezTo>
                      <a:cubicBezTo>
                        <a:pt x="1410" y="7950"/>
                        <a:pt x="2160" y="7530"/>
                        <a:pt x="2550" y="6990"/>
                      </a:cubicBezTo>
                      <a:cubicBezTo>
                        <a:pt x="2940" y="6450"/>
                        <a:pt x="3060" y="5790"/>
                        <a:pt x="3450" y="5010"/>
                      </a:cubicBezTo>
                      <a:cubicBezTo>
                        <a:pt x="3840" y="4230"/>
                        <a:pt x="4680" y="3120"/>
                        <a:pt x="4890" y="2310"/>
                      </a:cubicBezTo>
                      <a:cubicBezTo>
                        <a:pt x="5100" y="1500"/>
                        <a:pt x="4770" y="300"/>
                        <a:pt x="4710" y="15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00ffff"/>
                    </a:gs>
                    <a:gs pos="100000">
                      <a:srgbClr val="ffffff"/>
                    </a:gs>
                  </a:gsLst>
                  <a:lin ang="2202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286"/>
                <p:cNvSpPr/>
                <p:nvPr/>
              </p:nvSpPr>
              <p:spPr>
                <a:xfrm>
                  <a:off x="6588000" y="1675440"/>
                  <a:ext cx="1518120" cy="1535400"/>
                </a:xfrm>
                <a:custGeom>
                  <a:avLst/>
                  <a:gdLst>
                    <a:gd name="textAreaLeft" fmla="*/ 0 w 1518120"/>
                    <a:gd name="textAreaRight" fmla="*/ 1518480 w 1518120"/>
                    <a:gd name="textAreaTop" fmla="*/ 0 h 1535400"/>
                    <a:gd name="textAreaBottom" fmla="*/ 1535760 h 1535400"/>
                  </a:gdLst>
                  <a:ahLst/>
                  <a:rect l="textAreaLeft" t="textAreaTop" r="textAreaRight" b="textAreaBottom"/>
                  <a:pathLst>
                    <a:path w="6168" h="5840">
                      <a:moveTo>
                        <a:pt x="6131" y="288"/>
                      </a:moveTo>
                      <a:cubicBezTo>
                        <a:pt x="6168" y="0"/>
                        <a:pt x="5924" y="280"/>
                        <a:pt x="5811" y="268"/>
                      </a:cubicBezTo>
                      <a:cubicBezTo>
                        <a:pt x="5698" y="256"/>
                        <a:pt x="5603" y="156"/>
                        <a:pt x="5455" y="218"/>
                      </a:cubicBezTo>
                      <a:cubicBezTo>
                        <a:pt x="5307" y="280"/>
                        <a:pt x="5441" y="433"/>
                        <a:pt x="4922" y="643"/>
                      </a:cubicBezTo>
                      <a:cubicBezTo>
                        <a:pt x="4404" y="853"/>
                        <a:pt x="2987" y="1034"/>
                        <a:pt x="2345" y="1480"/>
                      </a:cubicBezTo>
                      <a:cubicBezTo>
                        <a:pt x="1703" y="1927"/>
                        <a:pt x="1342" y="2930"/>
                        <a:pt x="1072" y="3326"/>
                      </a:cubicBezTo>
                      <a:cubicBezTo>
                        <a:pt x="802" y="3722"/>
                        <a:pt x="741" y="3726"/>
                        <a:pt x="722" y="3856"/>
                      </a:cubicBezTo>
                      <a:cubicBezTo>
                        <a:pt x="704" y="3984"/>
                        <a:pt x="945" y="3988"/>
                        <a:pt x="959" y="4102"/>
                      </a:cubicBezTo>
                      <a:cubicBezTo>
                        <a:pt x="972" y="4216"/>
                        <a:pt x="790" y="4424"/>
                        <a:pt x="805" y="4537"/>
                      </a:cubicBezTo>
                      <a:cubicBezTo>
                        <a:pt x="818" y="4651"/>
                        <a:pt x="1140" y="4656"/>
                        <a:pt x="1040" y="4784"/>
                      </a:cubicBezTo>
                      <a:cubicBezTo>
                        <a:pt x="940" y="4912"/>
                        <a:pt x="159" y="5266"/>
                        <a:pt x="208" y="5304"/>
                      </a:cubicBezTo>
                      <a:cubicBezTo>
                        <a:pt x="258" y="5343"/>
                        <a:pt x="1365" y="4940"/>
                        <a:pt x="1340" y="5012"/>
                      </a:cubicBezTo>
                      <a:cubicBezTo>
                        <a:pt x="1314" y="5085"/>
                        <a:pt x="108" y="5637"/>
                        <a:pt x="54" y="5739"/>
                      </a:cubicBezTo>
                      <a:cubicBezTo>
                        <a:pt x="0" y="5840"/>
                        <a:pt x="879" y="5627"/>
                        <a:pt x="1015" y="5621"/>
                      </a:cubicBezTo>
                      <a:cubicBezTo>
                        <a:pt x="1152" y="5615"/>
                        <a:pt x="647" y="5791"/>
                        <a:pt x="876" y="5703"/>
                      </a:cubicBezTo>
                      <a:cubicBezTo>
                        <a:pt x="1104" y="5616"/>
                        <a:pt x="1919" y="5422"/>
                        <a:pt x="2385" y="5098"/>
                      </a:cubicBezTo>
                      <a:cubicBezTo>
                        <a:pt x="2850" y="4774"/>
                        <a:pt x="3135" y="4277"/>
                        <a:pt x="3669" y="3760"/>
                      </a:cubicBezTo>
                      <a:cubicBezTo>
                        <a:pt x="4204" y="3242"/>
                        <a:pt x="5181" y="2573"/>
                        <a:pt x="5591" y="1994"/>
                      </a:cubicBezTo>
                      <a:cubicBezTo>
                        <a:pt x="6001" y="1415"/>
                        <a:pt x="6094" y="600"/>
                        <a:pt x="6131" y="28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00ffff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287"/>
                <p:cNvSpPr/>
                <p:nvPr/>
              </p:nvSpPr>
              <p:spPr>
                <a:xfrm>
                  <a:off x="6961320" y="1708560"/>
                  <a:ext cx="1013400" cy="582840"/>
                </a:xfrm>
                <a:custGeom>
                  <a:avLst/>
                  <a:gdLst>
                    <a:gd name="textAreaLeft" fmla="*/ 0 w 1013400"/>
                    <a:gd name="textAreaRight" fmla="*/ 1013760 w 1013400"/>
                    <a:gd name="textAreaTop" fmla="*/ 0 h 582840"/>
                    <a:gd name="textAreaBottom" fmla="*/ 583200 h 582840"/>
                  </a:gdLst>
                  <a:ahLst/>
                  <a:rect l="textAreaLeft" t="textAreaTop" r="textAreaRight" b="textAreaBottom"/>
                  <a:pathLst>
                    <a:path w="4117" h="2217">
                      <a:moveTo>
                        <a:pt x="4050" y="259"/>
                      </a:moveTo>
                      <a:cubicBezTo>
                        <a:pt x="4117" y="118"/>
                        <a:pt x="3941" y="220"/>
                        <a:pt x="3883" y="194"/>
                      </a:cubicBezTo>
                      <a:cubicBezTo>
                        <a:pt x="3825" y="169"/>
                        <a:pt x="3797" y="140"/>
                        <a:pt x="3702" y="108"/>
                      </a:cubicBezTo>
                      <a:cubicBezTo>
                        <a:pt x="3607" y="76"/>
                        <a:pt x="3602" y="0"/>
                        <a:pt x="3314" y="2"/>
                      </a:cubicBezTo>
                      <a:cubicBezTo>
                        <a:pt x="3026" y="4"/>
                        <a:pt x="2427" y="19"/>
                        <a:pt x="1974" y="122"/>
                      </a:cubicBezTo>
                      <a:cubicBezTo>
                        <a:pt x="1521" y="225"/>
                        <a:pt x="897" y="432"/>
                        <a:pt x="594" y="622"/>
                      </a:cubicBezTo>
                      <a:cubicBezTo>
                        <a:pt x="291" y="812"/>
                        <a:pt x="0" y="1129"/>
                        <a:pt x="154" y="1262"/>
                      </a:cubicBezTo>
                      <a:cubicBezTo>
                        <a:pt x="308" y="1395"/>
                        <a:pt x="1441" y="1346"/>
                        <a:pt x="1516" y="1419"/>
                      </a:cubicBezTo>
                      <a:cubicBezTo>
                        <a:pt x="1591" y="1492"/>
                        <a:pt x="598" y="1658"/>
                        <a:pt x="606" y="1703"/>
                      </a:cubicBezTo>
                      <a:cubicBezTo>
                        <a:pt x="612" y="1749"/>
                        <a:pt x="1538" y="1664"/>
                        <a:pt x="1558" y="1692"/>
                      </a:cubicBezTo>
                      <a:cubicBezTo>
                        <a:pt x="1579" y="1720"/>
                        <a:pt x="776" y="1805"/>
                        <a:pt x="727" y="1871"/>
                      </a:cubicBezTo>
                      <a:cubicBezTo>
                        <a:pt x="679" y="1938"/>
                        <a:pt x="1005" y="2217"/>
                        <a:pt x="1269" y="2094"/>
                      </a:cubicBezTo>
                      <a:cubicBezTo>
                        <a:pt x="1533" y="1969"/>
                        <a:pt x="1943" y="1304"/>
                        <a:pt x="2312" y="1129"/>
                      </a:cubicBezTo>
                      <a:cubicBezTo>
                        <a:pt x="2680" y="955"/>
                        <a:pt x="3193" y="1189"/>
                        <a:pt x="3483" y="1044"/>
                      </a:cubicBezTo>
                      <a:cubicBezTo>
                        <a:pt x="3773" y="898"/>
                        <a:pt x="3979" y="413"/>
                        <a:pt x="4050" y="25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00ffff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2" name="Group 288"/>
              <p:cNvGrpSpPr/>
              <p:nvPr/>
            </p:nvGrpSpPr>
            <p:grpSpPr>
              <a:xfrm>
                <a:off x="7423560" y="1944360"/>
                <a:ext cx="1407240" cy="1941120"/>
                <a:chOff x="7423560" y="1944360"/>
                <a:chExt cx="1407240" cy="1941120"/>
              </a:xfrm>
            </p:grpSpPr>
            <p:grpSp>
              <p:nvGrpSpPr>
                <p:cNvPr id="1013" name="Group 289"/>
                <p:cNvGrpSpPr/>
                <p:nvPr/>
              </p:nvGrpSpPr>
              <p:grpSpPr>
                <a:xfrm>
                  <a:off x="7546320" y="3261960"/>
                  <a:ext cx="789120" cy="623520"/>
                  <a:chOff x="7546320" y="3261960"/>
                  <a:chExt cx="789120" cy="623520"/>
                </a:xfrm>
              </p:grpSpPr>
              <p:grpSp>
                <p:nvGrpSpPr>
                  <p:cNvPr id="1014" name="Group 290"/>
                  <p:cNvGrpSpPr/>
                  <p:nvPr/>
                </p:nvGrpSpPr>
                <p:grpSpPr>
                  <a:xfrm>
                    <a:off x="7546320" y="3261960"/>
                    <a:ext cx="789120" cy="623520"/>
                    <a:chOff x="7546320" y="3261960"/>
                    <a:chExt cx="789120" cy="623520"/>
                  </a:xfrm>
                </p:grpSpPr>
                <p:grpSp>
                  <p:nvGrpSpPr>
                    <p:cNvPr id="1015" name="Group 291"/>
                    <p:cNvGrpSpPr/>
                    <p:nvPr/>
                  </p:nvGrpSpPr>
                  <p:grpSpPr>
                    <a:xfrm>
                      <a:off x="7546320" y="3329640"/>
                      <a:ext cx="789120" cy="555840"/>
                      <a:chOff x="7546320" y="3329640"/>
                      <a:chExt cx="789120" cy="555840"/>
                    </a:xfrm>
                  </p:grpSpPr>
                  <p:sp>
                    <p:nvSpPr>
                      <p:cNvPr id="1016" name="AutoShape 292"/>
                      <p:cNvSpPr/>
                      <p:nvPr/>
                    </p:nvSpPr>
                    <p:spPr>
                      <a:xfrm rot="5400000">
                        <a:off x="7663680" y="3212280"/>
                        <a:ext cx="554400" cy="789120"/>
                      </a:xfrm>
                      <a:prstGeom prst="flowChartDelay">
                        <a:avLst/>
                      </a:prstGeom>
                      <a:gradFill rotWithShape="0">
                        <a:gsLst>
                          <a:gs pos="0">
                            <a:srgbClr val="762f00"/>
                          </a:gs>
                          <a:gs pos="50000">
                            <a:srgbClr val="ff6600"/>
                          </a:gs>
                          <a:gs pos="100000">
                            <a:srgbClr val="762f00"/>
                          </a:gs>
                        </a:gsLst>
                        <a:lin ang="135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 vert="eaVert" rot="10800000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7" name="AutoShape 293"/>
                      <p:cNvSpPr/>
                      <p:nvPr/>
                    </p:nvSpPr>
                    <p:spPr>
                      <a:xfrm rot="16200000">
                        <a:off x="7885080" y="3490200"/>
                        <a:ext cx="99720" cy="690480"/>
                      </a:xfrm>
                      <a:prstGeom prst="flowChartOnlineStorage">
                        <a:avLst/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ff6600"/>
                          </a:gs>
                          <a:gs pos="100000">
                            <a:srgbClr val="000000"/>
                          </a:gs>
                        </a:gsLst>
                        <a:lin ang="27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 vert="eaVer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18" name="Oval 294"/>
                    <p:cNvSpPr/>
                    <p:nvPr/>
                  </p:nvSpPr>
                  <p:spPr>
                    <a:xfrm>
                      <a:off x="7546320" y="3261960"/>
                      <a:ext cx="789120" cy="152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6600"/>
                        </a:gs>
                        <a:gs pos="100000">
                          <a:srgbClr val="000000"/>
                        </a:gs>
                      </a:gsLst>
                      <a:lin ang="27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9" name="Oval 295"/>
                  <p:cNvSpPr/>
                  <p:nvPr/>
                </p:nvSpPr>
                <p:spPr>
                  <a:xfrm>
                    <a:off x="7595640" y="3317040"/>
                    <a:ext cx="690480" cy="95400"/>
                  </a:xfrm>
                  <a:prstGeom prst="ellipse">
                    <a:avLst/>
                  </a:prstGeom>
                  <a:blipFill rotWithShape="0">
                    <a:blip r:embed="rId1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0" name="Group 296"/>
                <p:cNvGrpSpPr/>
                <p:nvPr/>
              </p:nvGrpSpPr>
              <p:grpSpPr>
                <a:xfrm>
                  <a:off x="7423560" y="1944360"/>
                  <a:ext cx="1407240" cy="1464840"/>
                  <a:chOff x="7423560" y="1944360"/>
                  <a:chExt cx="1407240" cy="1464840"/>
                </a:xfrm>
              </p:grpSpPr>
              <p:sp>
                <p:nvSpPr>
                  <p:cNvPr id="1021" name="Freeform 297"/>
                  <p:cNvSpPr/>
                  <p:nvPr/>
                </p:nvSpPr>
                <p:spPr>
                  <a:xfrm>
                    <a:off x="8389080" y="2204640"/>
                    <a:ext cx="305280" cy="119880"/>
                  </a:xfrm>
                  <a:custGeom>
                    <a:avLst/>
                    <a:gdLst>
                      <a:gd name="textAreaLeft" fmla="*/ 0 w 305280"/>
                      <a:gd name="textAreaRight" fmla="*/ 305640 w 305280"/>
                      <a:gd name="textAreaTop" fmla="*/ 0 h 119880"/>
                      <a:gd name="textAreaBottom" fmla="*/ 120240 h 119880"/>
                    </a:gdLst>
                    <a:ahLst/>
                    <a:rect l="textAreaLeft" t="textAreaTop" r="textAreaRight" b="textAreaBottom"/>
                    <a:pathLst>
                      <a:path w="1800" h="750">
                        <a:moveTo>
                          <a:pt x="0" y="750"/>
                        </a:moveTo>
                        <a:cubicBezTo>
                          <a:pt x="165" y="540"/>
                          <a:pt x="330" y="330"/>
                          <a:pt x="540" y="210"/>
                        </a:cubicBezTo>
                        <a:cubicBezTo>
                          <a:pt x="750" y="90"/>
                          <a:pt x="1050" y="60"/>
                          <a:pt x="1260" y="30"/>
                        </a:cubicBezTo>
                        <a:cubicBezTo>
                          <a:pt x="1470" y="0"/>
                          <a:pt x="1710" y="30"/>
                          <a:pt x="1800" y="30"/>
                        </a:cubicBezTo>
                      </a:path>
                    </a:pathLst>
                  </a:custGeom>
                  <a:noFill/>
                  <a:ln w="3816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Freeform 298"/>
                  <p:cNvSpPr/>
                  <p:nvPr/>
                </p:nvSpPr>
                <p:spPr>
                  <a:xfrm flipV="1" rot="14509200">
                    <a:off x="8229600" y="2104200"/>
                    <a:ext cx="287640" cy="152640"/>
                  </a:xfrm>
                  <a:custGeom>
                    <a:avLst/>
                    <a:gdLst>
                      <a:gd name="textAreaLeft" fmla="*/ 0 w 287640"/>
                      <a:gd name="textAreaRight" fmla="*/ 288000 w 287640"/>
                      <a:gd name="textAreaTop" fmla="*/ 360 h 152640"/>
                      <a:gd name="textAreaBottom" fmla="*/ 153360 h 152640"/>
                    </a:gdLst>
                    <a:ahLst/>
                    <a:rect l="textAreaLeft" t="textAreaTop" r="textAreaRight" b="textAreaBottom"/>
                    <a:pathLst>
                      <a:path w="1800" h="750">
                        <a:moveTo>
                          <a:pt x="0" y="750"/>
                        </a:moveTo>
                        <a:cubicBezTo>
                          <a:pt x="165" y="540"/>
                          <a:pt x="330" y="330"/>
                          <a:pt x="540" y="210"/>
                        </a:cubicBezTo>
                        <a:cubicBezTo>
                          <a:pt x="750" y="90"/>
                          <a:pt x="1050" y="60"/>
                          <a:pt x="1260" y="30"/>
                        </a:cubicBezTo>
                        <a:cubicBezTo>
                          <a:pt x="1470" y="0"/>
                          <a:pt x="1710" y="30"/>
                          <a:pt x="1800" y="30"/>
                        </a:cubicBezTo>
                      </a:path>
                    </a:pathLst>
                  </a:custGeom>
                  <a:noFill/>
                  <a:ln w="3816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3" name="Group 299"/>
                  <p:cNvGrpSpPr/>
                  <p:nvPr/>
                </p:nvGrpSpPr>
                <p:grpSpPr>
                  <a:xfrm>
                    <a:off x="7883280" y="2055600"/>
                    <a:ext cx="947520" cy="674640"/>
                    <a:chOff x="7883280" y="2055600"/>
                    <a:chExt cx="947520" cy="674640"/>
                  </a:xfrm>
                </p:grpSpPr>
                <p:sp>
                  <p:nvSpPr>
                    <p:cNvPr id="1024" name="Freeform 300"/>
                    <p:cNvSpPr/>
                    <p:nvPr/>
                  </p:nvSpPr>
                  <p:spPr>
                    <a:xfrm flipV="1" rot="10696800">
                      <a:off x="7886520" y="2195640"/>
                      <a:ext cx="396720" cy="230040"/>
                    </a:xfrm>
                    <a:custGeom>
                      <a:avLst/>
                      <a:gdLst>
                        <a:gd name="textAreaLeft" fmla="*/ 0 w 396720"/>
                        <a:gd name="textAreaRight" fmla="*/ 397080 w 396720"/>
                        <a:gd name="textAreaTop" fmla="*/ -360 h 230040"/>
                        <a:gd name="textAreaBottom" fmla="*/ 230040 h 23004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132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5" name="Freeform 301"/>
                    <p:cNvSpPr/>
                    <p:nvPr/>
                  </p:nvSpPr>
                  <p:spPr>
                    <a:xfrm flipV="1" rot="12576600">
                      <a:off x="8039520" y="2138400"/>
                      <a:ext cx="396720" cy="230040"/>
                    </a:xfrm>
                    <a:custGeom>
                      <a:avLst/>
                      <a:gdLst>
                        <a:gd name="textAreaLeft" fmla="*/ 0 w 396720"/>
                        <a:gd name="textAreaRight" fmla="*/ 397080 w 396720"/>
                        <a:gd name="textAreaTop" fmla="*/ -360 h 230040"/>
                        <a:gd name="textAreaBottom" fmla="*/ 230040 h 23004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133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Freeform 302"/>
                    <p:cNvSpPr/>
                    <p:nvPr/>
                  </p:nvSpPr>
                  <p:spPr>
                    <a:xfrm rot="1273200">
                      <a:off x="8405640" y="2340000"/>
                      <a:ext cx="396720" cy="230040"/>
                    </a:xfrm>
                    <a:custGeom>
                      <a:avLst/>
                      <a:gdLst>
                        <a:gd name="textAreaLeft" fmla="*/ 0 w 396720"/>
                        <a:gd name="textAreaRight" fmla="*/ 397080 w 396720"/>
                        <a:gd name="textAreaTop" fmla="*/ 0 h 230040"/>
                        <a:gd name="textAreaBottom" fmla="*/ 230400 h 23004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134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Freeform 303"/>
                    <p:cNvSpPr/>
                    <p:nvPr/>
                  </p:nvSpPr>
                  <p:spPr>
                    <a:xfrm>
                      <a:off x="8344800" y="2282760"/>
                      <a:ext cx="305280" cy="153360"/>
                    </a:xfrm>
                    <a:custGeom>
                      <a:avLst/>
                      <a:gdLst>
                        <a:gd name="textAreaLeft" fmla="*/ 0 w 305280"/>
                        <a:gd name="textAreaRight" fmla="*/ 305640 w 305280"/>
                        <a:gd name="textAreaTop" fmla="*/ 0 h 153360"/>
                        <a:gd name="textAreaBottom" fmla="*/ 153720 h 15336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135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8" name="Freeform 304"/>
                    <p:cNvSpPr/>
                    <p:nvPr/>
                  </p:nvSpPr>
                  <p:spPr>
                    <a:xfrm rot="2715000">
                      <a:off x="8404560" y="2489040"/>
                      <a:ext cx="287640" cy="162720"/>
                    </a:xfrm>
                    <a:custGeom>
                      <a:avLst/>
                      <a:gdLst>
                        <a:gd name="textAreaLeft" fmla="*/ 0 w 287640"/>
                        <a:gd name="textAreaRight" fmla="*/ 288000 w 287640"/>
                        <a:gd name="textAreaTop" fmla="*/ 0 h 162720"/>
                        <a:gd name="textAreaBottom" fmla="*/ 163080 h 162720"/>
                      </a:gdLst>
                      <a:ahLst/>
                      <a:rect l="textAreaLeft" t="textAreaTop" r="textAreaRight" b="textAreaBottom"/>
                      <a:pathLst>
                        <a:path w="2100" h="960">
                          <a:moveTo>
                            <a:pt x="0" y="780"/>
                          </a:moveTo>
                          <a:cubicBezTo>
                            <a:pt x="0" y="690"/>
                            <a:pt x="60" y="540"/>
                            <a:pt x="180" y="420"/>
                          </a:cubicBezTo>
                          <a:cubicBezTo>
                            <a:pt x="300" y="300"/>
                            <a:pt x="420" y="120"/>
                            <a:pt x="720" y="60"/>
                          </a:cubicBezTo>
                          <a:cubicBezTo>
                            <a:pt x="1020" y="0"/>
                            <a:pt x="1860" y="0"/>
                            <a:pt x="1980" y="60"/>
                          </a:cubicBezTo>
                          <a:cubicBezTo>
                            <a:pt x="2100" y="120"/>
                            <a:pt x="1620" y="300"/>
                            <a:pt x="1440" y="420"/>
                          </a:cubicBezTo>
                          <a:cubicBezTo>
                            <a:pt x="1260" y="540"/>
                            <a:pt x="1110" y="690"/>
                            <a:pt x="900" y="780"/>
                          </a:cubicBezTo>
                          <a:cubicBezTo>
                            <a:pt x="690" y="870"/>
                            <a:pt x="330" y="960"/>
                            <a:pt x="180" y="960"/>
                          </a:cubicBezTo>
                          <a:cubicBezTo>
                            <a:pt x="30" y="960"/>
                            <a:pt x="0" y="870"/>
                            <a:pt x="0" y="780"/>
                          </a:cubicBezTo>
                          <a:close/>
                        </a:path>
                      </a:pathLst>
                    </a:custGeom>
                    <a:blipFill rotWithShape="0">
                      <a:blip r:embed="rId136"/>
                      <a:srcRect/>
                      <a:stretch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9" name="Group 305"/>
                  <p:cNvGrpSpPr/>
                  <p:nvPr/>
                </p:nvGrpSpPr>
                <p:grpSpPr>
                  <a:xfrm>
                    <a:off x="7423560" y="2277720"/>
                    <a:ext cx="1107720" cy="1131480"/>
                    <a:chOff x="7423560" y="2277720"/>
                    <a:chExt cx="1107720" cy="1131480"/>
                  </a:xfrm>
                </p:grpSpPr>
                <p:grpSp>
                  <p:nvGrpSpPr>
                    <p:cNvPr id="1030" name="Group 306"/>
                    <p:cNvGrpSpPr/>
                    <p:nvPr/>
                  </p:nvGrpSpPr>
                  <p:grpSpPr>
                    <a:xfrm>
                      <a:off x="7423560" y="2277720"/>
                      <a:ext cx="1107720" cy="1131480"/>
                      <a:chOff x="7423560" y="2277720"/>
                      <a:chExt cx="1107720" cy="1131480"/>
                    </a:xfrm>
                  </p:grpSpPr>
                  <p:sp>
                    <p:nvSpPr>
                      <p:cNvPr id="1031" name="Freeform 307"/>
                      <p:cNvSpPr/>
                      <p:nvPr/>
                    </p:nvSpPr>
                    <p:spPr>
                      <a:xfrm>
                        <a:off x="7489800" y="2743200"/>
                        <a:ext cx="305280" cy="273240"/>
                      </a:xfrm>
                      <a:custGeom>
                        <a:avLst/>
                        <a:gdLst>
                          <a:gd name="textAreaLeft" fmla="*/ 0 w 305280"/>
                          <a:gd name="textAreaRight" fmla="*/ 305640 w 305280"/>
                          <a:gd name="textAreaTop" fmla="*/ 0 h 273240"/>
                          <a:gd name="textAreaBottom" fmla="*/ 273600 h 273240"/>
                        </a:gdLst>
                        <a:ahLst/>
                        <a:rect l="textAreaLeft" t="textAreaTop" r="textAreaRight" b="textAreaBottom"/>
                        <a:pathLst>
                          <a:path w="2310" h="2250">
                            <a:moveTo>
                              <a:pt x="1920" y="960"/>
                            </a:moveTo>
                            <a:cubicBezTo>
                              <a:pt x="1830" y="930"/>
                              <a:pt x="1650" y="900"/>
                              <a:pt x="1560" y="780"/>
                            </a:cubicBezTo>
                            <a:cubicBezTo>
                              <a:pt x="1470" y="660"/>
                              <a:pt x="1530" y="360"/>
                              <a:pt x="1380" y="240"/>
                            </a:cubicBezTo>
                            <a:cubicBezTo>
                              <a:pt x="1230" y="120"/>
                              <a:pt x="870" y="0"/>
                              <a:pt x="660" y="60"/>
                            </a:cubicBezTo>
                            <a:cubicBezTo>
                              <a:pt x="450" y="120"/>
                              <a:pt x="210" y="330"/>
                              <a:pt x="120" y="600"/>
                            </a:cubicBezTo>
                            <a:cubicBezTo>
                              <a:pt x="30" y="870"/>
                              <a:pt x="0" y="1410"/>
                              <a:pt x="120" y="1680"/>
                            </a:cubicBezTo>
                            <a:cubicBezTo>
                              <a:pt x="240" y="1950"/>
                              <a:pt x="510" y="2190"/>
                              <a:pt x="840" y="2220"/>
                            </a:cubicBezTo>
                            <a:cubicBezTo>
                              <a:pt x="1170" y="2250"/>
                              <a:pt x="1890" y="2070"/>
                              <a:pt x="2100" y="1860"/>
                            </a:cubicBezTo>
                            <a:cubicBezTo>
                              <a:pt x="2310" y="1650"/>
                              <a:pt x="2130" y="1110"/>
                              <a:pt x="2100" y="960"/>
                            </a:cubicBezTo>
                            <a:cubicBezTo>
                              <a:pt x="2070" y="810"/>
                              <a:pt x="2010" y="990"/>
                              <a:pt x="1920" y="96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ffcc"/>
                          </a:gs>
                          <a:gs pos="50000">
                            <a:srgbClr val="008000"/>
                          </a:gs>
                          <a:gs pos="100000">
                            <a:srgbClr val="ccffcc"/>
                          </a:gs>
                        </a:gsLst>
                        <a:lin ang="27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2" name="Freeform 308"/>
                      <p:cNvSpPr/>
                      <p:nvPr/>
                    </p:nvSpPr>
                    <p:spPr>
                      <a:xfrm>
                        <a:off x="7719120" y="2338920"/>
                        <a:ext cx="812160" cy="1070280"/>
                      </a:xfrm>
                      <a:custGeom>
                        <a:avLst/>
                        <a:gdLst>
                          <a:gd name="textAreaLeft" fmla="*/ 0 w 812160"/>
                          <a:gd name="textAreaRight" fmla="*/ 812520 w 812160"/>
                          <a:gd name="textAreaTop" fmla="*/ 0 h 1070280"/>
                          <a:gd name="textAreaBottom" fmla="*/ 1070640 h 1070280"/>
                        </a:gdLst>
                        <a:ahLst/>
                        <a:rect l="textAreaLeft" t="textAreaTop" r="textAreaRight" b="textAreaBottom"/>
                        <a:pathLst>
                          <a:path w="4787" h="6697">
                            <a:moveTo>
                              <a:pt x="207" y="4137"/>
                            </a:moveTo>
                            <a:cubicBezTo>
                              <a:pt x="0" y="3600"/>
                              <a:pt x="3" y="3575"/>
                              <a:pt x="7" y="3057"/>
                            </a:cubicBezTo>
                            <a:cubicBezTo>
                              <a:pt x="11" y="2539"/>
                              <a:pt x="274" y="1857"/>
                              <a:pt x="587" y="1397"/>
                            </a:cubicBezTo>
                            <a:cubicBezTo>
                              <a:pt x="900" y="937"/>
                              <a:pt x="1410" y="494"/>
                              <a:pt x="1887" y="297"/>
                            </a:cubicBezTo>
                            <a:cubicBezTo>
                              <a:pt x="2364" y="100"/>
                              <a:pt x="3007" y="0"/>
                              <a:pt x="3447" y="217"/>
                            </a:cubicBezTo>
                            <a:cubicBezTo>
                              <a:pt x="3737" y="374"/>
                              <a:pt x="4787" y="851"/>
                              <a:pt x="4527" y="1597"/>
                            </a:cubicBezTo>
                            <a:cubicBezTo>
                              <a:pt x="4544" y="2044"/>
                              <a:pt x="4370" y="2365"/>
                              <a:pt x="3947" y="2877"/>
                            </a:cubicBezTo>
                            <a:cubicBezTo>
                              <a:pt x="3700" y="3239"/>
                              <a:pt x="3143" y="3651"/>
                              <a:pt x="2827" y="3957"/>
                            </a:cubicBezTo>
                            <a:cubicBezTo>
                              <a:pt x="2537" y="4297"/>
                              <a:pt x="2360" y="4620"/>
                              <a:pt x="2207" y="4917"/>
                            </a:cubicBezTo>
                            <a:cubicBezTo>
                              <a:pt x="2054" y="5214"/>
                              <a:pt x="1977" y="5507"/>
                              <a:pt x="1907" y="5737"/>
                            </a:cubicBezTo>
                            <a:cubicBezTo>
                              <a:pt x="1837" y="5967"/>
                              <a:pt x="1877" y="6197"/>
                              <a:pt x="1787" y="6297"/>
                            </a:cubicBezTo>
                            <a:cubicBezTo>
                              <a:pt x="1697" y="6397"/>
                              <a:pt x="1630" y="6697"/>
                              <a:pt x="1367" y="6337"/>
                            </a:cubicBezTo>
                            <a:cubicBezTo>
                              <a:pt x="1104" y="5977"/>
                              <a:pt x="414" y="4674"/>
                              <a:pt x="207" y="4137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ffcc"/>
                          </a:gs>
                          <a:gs pos="50000">
                            <a:srgbClr val="008000"/>
                          </a:gs>
                          <a:gs pos="100000">
                            <a:srgbClr val="ccffcc"/>
                          </a:gs>
                        </a:gsLst>
                        <a:lin ang="27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3" name="Freeform 309"/>
                      <p:cNvSpPr/>
                      <p:nvPr/>
                    </p:nvSpPr>
                    <p:spPr>
                      <a:xfrm rot="2323800">
                        <a:off x="8079840" y="2720520"/>
                        <a:ext cx="244080" cy="345240"/>
                      </a:xfrm>
                      <a:custGeom>
                        <a:avLst/>
                        <a:gdLst>
                          <a:gd name="textAreaLeft" fmla="*/ 0 w 244080"/>
                          <a:gd name="textAreaRight" fmla="*/ 244440 w 244080"/>
                          <a:gd name="textAreaTop" fmla="*/ 0 h 345240"/>
                          <a:gd name="textAreaBottom" fmla="*/ 345240 h 345240"/>
                        </a:gdLst>
                        <a:ahLst/>
                        <a:rect l="textAreaLeft" t="textAreaTop" r="textAreaRight" b="textAreaBottom"/>
                        <a:pathLst>
                          <a:path w="1687" h="3090">
                            <a:moveTo>
                              <a:pt x="1642" y="235"/>
                            </a:moveTo>
                            <a:cubicBezTo>
                              <a:pt x="1639" y="66"/>
                              <a:pt x="1391" y="0"/>
                              <a:pt x="1231" y="0"/>
                            </a:cubicBezTo>
                            <a:cubicBezTo>
                              <a:pt x="1072" y="0"/>
                              <a:pt x="866" y="0"/>
                              <a:pt x="684" y="235"/>
                            </a:cubicBezTo>
                            <a:cubicBezTo>
                              <a:pt x="502" y="469"/>
                              <a:pt x="251" y="1095"/>
                              <a:pt x="137" y="1408"/>
                            </a:cubicBezTo>
                            <a:cubicBezTo>
                              <a:pt x="23" y="1721"/>
                              <a:pt x="0" y="1877"/>
                              <a:pt x="0" y="2112"/>
                            </a:cubicBezTo>
                            <a:cubicBezTo>
                              <a:pt x="0" y="2347"/>
                              <a:pt x="46" y="2660"/>
                              <a:pt x="137" y="2816"/>
                            </a:cubicBezTo>
                            <a:cubicBezTo>
                              <a:pt x="228" y="2973"/>
                              <a:pt x="388" y="3090"/>
                              <a:pt x="547" y="3051"/>
                            </a:cubicBezTo>
                            <a:cubicBezTo>
                              <a:pt x="707" y="3012"/>
                              <a:pt x="980" y="2816"/>
                              <a:pt x="1094" y="2582"/>
                            </a:cubicBezTo>
                            <a:cubicBezTo>
                              <a:pt x="1208" y="2347"/>
                              <a:pt x="1186" y="1917"/>
                              <a:pt x="1231" y="1643"/>
                            </a:cubicBezTo>
                            <a:cubicBezTo>
                              <a:pt x="1277" y="1369"/>
                              <a:pt x="1300" y="1134"/>
                              <a:pt x="1368" y="939"/>
                            </a:cubicBezTo>
                            <a:cubicBezTo>
                              <a:pt x="1436" y="743"/>
                              <a:pt x="1596" y="587"/>
                              <a:pt x="1642" y="469"/>
                            </a:cubicBezTo>
                            <a:cubicBezTo>
                              <a:pt x="1687" y="352"/>
                              <a:pt x="1645" y="404"/>
                              <a:pt x="1642" y="235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ffcc"/>
                          </a:gs>
                          <a:gs pos="50000">
                            <a:srgbClr val="008000"/>
                          </a:gs>
                          <a:gs pos="100000">
                            <a:srgbClr val="ccffcc"/>
                          </a:gs>
                        </a:gsLst>
                        <a:lin ang="378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34" name="Group 310"/>
                      <p:cNvGrpSpPr/>
                      <p:nvPr/>
                    </p:nvGrpSpPr>
                    <p:grpSpPr>
                      <a:xfrm>
                        <a:off x="7941960" y="2420280"/>
                        <a:ext cx="423360" cy="336960"/>
                        <a:chOff x="7941960" y="2420280"/>
                        <a:chExt cx="423360" cy="336960"/>
                      </a:xfrm>
                    </p:grpSpPr>
                    <p:sp>
                      <p:nvSpPr>
                        <p:cNvPr id="1035" name="Freeform 311"/>
                        <p:cNvSpPr/>
                        <p:nvPr/>
                      </p:nvSpPr>
                      <p:spPr>
                        <a:xfrm rot="1973400">
                          <a:off x="7984440" y="2445480"/>
                          <a:ext cx="152640" cy="201240"/>
                        </a:xfrm>
                        <a:custGeom>
                          <a:avLst/>
                          <a:gdLst>
                            <a:gd name="textAreaLeft" fmla="*/ 0 w 152640"/>
                            <a:gd name="textAreaRight" fmla="*/ 152640 w 152640"/>
                            <a:gd name="textAreaTop" fmla="*/ 0 h 201240"/>
                            <a:gd name="textAreaBottom" fmla="*/ 201600 h 201240"/>
                          </a:gdLst>
                          <a:ahLst/>
                          <a:rect l="textAreaLeft" t="textAreaTop" r="textAreaRight" b="textAreaBottom"/>
                          <a:pathLst>
                            <a:path w="1490" h="2346">
                              <a:moveTo>
                                <a:pt x="1332" y="244"/>
                              </a:moveTo>
                              <a:cubicBezTo>
                                <a:pt x="1399" y="361"/>
                                <a:pt x="1425" y="561"/>
                                <a:pt x="1447" y="740"/>
                              </a:cubicBezTo>
                              <a:cubicBezTo>
                                <a:pt x="1469" y="919"/>
                                <a:pt x="1490" y="1133"/>
                                <a:pt x="1467" y="1320"/>
                              </a:cubicBezTo>
                              <a:cubicBezTo>
                                <a:pt x="1444" y="1507"/>
                                <a:pt x="1417" y="1690"/>
                                <a:pt x="1307" y="1860"/>
                              </a:cubicBezTo>
                              <a:cubicBezTo>
                                <a:pt x="1257" y="1993"/>
                                <a:pt x="1250" y="2040"/>
                                <a:pt x="1167" y="2120"/>
                              </a:cubicBezTo>
                              <a:cubicBezTo>
                                <a:pt x="1084" y="2200"/>
                                <a:pt x="930" y="2332"/>
                                <a:pt x="807" y="2339"/>
                              </a:cubicBezTo>
                              <a:cubicBezTo>
                                <a:pt x="684" y="2346"/>
                                <a:pt x="534" y="2260"/>
                                <a:pt x="427" y="2160"/>
                              </a:cubicBezTo>
                              <a:cubicBezTo>
                                <a:pt x="320" y="2060"/>
                                <a:pt x="234" y="1903"/>
                                <a:pt x="167" y="1740"/>
                              </a:cubicBezTo>
                              <a:cubicBezTo>
                                <a:pt x="100" y="1577"/>
                                <a:pt x="50" y="1360"/>
                                <a:pt x="27" y="1180"/>
                              </a:cubicBezTo>
                              <a:cubicBezTo>
                                <a:pt x="7" y="1017"/>
                                <a:pt x="0" y="810"/>
                                <a:pt x="27" y="660"/>
                              </a:cubicBezTo>
                              <a:cubicBezTo>
                                <a:pt x="54" y="510"/>
                                <a:pt x="104" y="383"/>
                                <a:pt x="187" y="280"/>
                              </a:cubicBezTo>
                              <a:cubicBezTo>
                                <a:pt x="270" y="177"/>
                                <a:pt x="384" y="80"/>
                                <a:pt x="527" y="40"/>
                              </a:cubicBezTo>
                              <a:cubicBezTo>
                                <a:pt x="670" y="0"/>
                                <a:pt x="913" y="6"/>
                                <a:pt x="1047" y="40"/>
                              </a:cubicBezTo>
                              <a:cubicBezTo>
                                <a:pt x="1181" y="74"/>
                                <a:pt x="1297" y="128"/>
                                <a:pt x="1332" y="244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6" name="Freeform 312"/>
                        <p:cNvSpPr/>
                        <p:nvPr/>
                      </p:nvSpPr>
                      <p:spPr>
                        <a:xfrm rot="21274200">
                          <a:off x="7993440" y="2526840"/>
                          <a:ext cx="153720" cy="106920"/>
                        </a:xfrm>
                        <a:custGeom>
                          <a:avLst/>
                          <a:gdLst>
                            <a:gd name="textAreaLeft" fmla="*/ 0 w 153720"/>
                            <a:gd name="textAreaRight" fmla="*/ 154080 w 153720"/>
                            <a:gd name="textAreaTop" fmla="*/ 0 h 106920"/>
                            <a:gd name="textAreaBottom" fmla="*/ 107280 h 106920"/>
                          </a:gdLst>
                          <a:ahLst/>
                          <a:rect l="textAreaLeft" t="textAreaTop" r="textAreaRight" b="textAreaBottom"/>
                          <a:pathLst>
                            <a:path w="906" h="669">
                              <a:moveTo>
                                <a:pt x="906" y="161"/>
                              </a:moveTo>
                              <a:cubicBezTo>
                                <a:pt x="905" y="122"/>
                                <a:pt x="803" y="50"/>
                                <a:pt x="732" y="27"/>
                              </a:cubicBezTo>
                              <a:cubicBezTo>
                                <a:pt x="660" y="3"/>
                                <a:pt x="553" y="0"/>
                                <a:pt x="477" y="17"/>
                              </a:cubicBezTo>
                              <a:cubicBezTo>
                                <a:pt x="389" y="22"/>
                                <a:pt x="332" y="88"/>
                                <a:pt x="278" y="133"/>
                              </a:cubicBezTo>
                              <a:cubicBezTo>
                                <a:pt x="227" y="186"/>
                                <a:pt x="150" y="273"/>
                                <a:pt x="125" y="327"/>
                              </a:cubicBezTo>
                              <a:cubicBezTo>
                                <a:pt x="89" y="379"/>
                                <a:pt x="65" y="391"/>
                                <a:pt x="64" y="443"/>
                              </a:cubicBezTo>
                              <a:cubicBezTo>
                                <a:pt x="0" y="504"/>
                                <a:pt x="101" y="600"/>
                                <a:pt x="111" y="641"/>
                              </a:cubicBezTo>
                              <a:cubicBezTo>
                                <a:pt x="178" y="669"/>
                                <a:pt x="352" y="659"/>
                                <a:pt x="464" y="611"/>
                              </a:cubicBezTo>
                              <a:cubicBezTo>
                                <a:pt x="576" y="563"/>
                                <a:pt x="710" y="426"/>
                                <a:pt x="784" y="351"/>
                              </a:cubicBezTo>
                              <a:cubicBezTo>
                                <a:pt x="858" y="276"/>
                                <a:pt x="881" y="201"/>
                                <a:pt x="906" y="161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333333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7" name="Freeform 313"/>
                        <p:cNvSpPr/>
                        <p:nvPr/>
                      </p:nvSpPr>
                      <p:spPr>
                        <a:xfrm rot="2050200">
                          <a:off x="8169120" y="2530080"/>
                          <a:ext cx="152640" cy="201240"/>
                        </a:xfrm>
                        <a:custGeom>
                          <a:avLst/>
                          <a:gdLst>
                            <a:gd name="textAreaLeft" fmla="*/ 0 w 152640"/>
                            <a:gd name="textAreaRight" fmla="*/ 152640 w 152640"/>
                            <a:gd name="textAreaTop" fmla="*/ 0 h 201240"/>
                            <a:gd name="textAreaBottom" fmla="*/ 201600 h 201240"/>
                          </a:gdLst>
                          <a:ahLst/>
                          <a:rect l="textAreaLeft" t="textAreaTop" r="textAreaRight" b="textAreaBottom"/>
                          <a:pathLst>
                            <a:path w="1490" h="2346">
                              <a:moveTo>
                                <a:pt x="1332" y="244"/>
                              </a:moveTo>
                              <a:cubicBezTo>
                                <a:pt x="1399" y="361"/>
                                <a:pt x="1425" y="561"/>
                                <a:pt x="1447" y="740"/>
                              </a:cubicBezTo>
                              <a:cubicBezTo>
                                <a:pt x="1469" y="919"/>
                                <a:pt x="1490" y="1133"/>
                                <a:pt x="1467" y="1320"/>
                              </a:cubicBezTo>
                              <a:cubicBezTo>
                                <a:pt x="1444" y="1507"/>
                                <a:pt x="1417" y="1690"/>
                                <a:pt x="1307" y="1860"/>
                              </a:cubicBezTo>
                              <a:cubicBezTo>
                                <a:pt x="1257" y="1993"/>
                                <a:pt x="1250" y="2040"/>
                                <a:pt x="1167" y="2120"/>
                              </a:cubicBezTo>
                              <a:cubicBezTo>
                                <a:pt x="1084" y="2200"/>
                                <a:pt x="930" y="2332"/>
                                <a:pt x="807" y="2339"/>
                              </a:cubicBezTo>
                              <a:cubicBezTo>
                                <a:pt x="684" y="2346"/>
                                <a:pt x="534" y="2260"/>
                                <a:pt x="427" y="2160"/>
                              </a:cubicBezTo>
                              <a:cubicBezTo>
                                <a:pt x="320" y="2060"/>
                                <a:pt x="234" y="1903"/>
                                <a:pt x="167" y="1740"/>
                              </a:cubicBezTo>
                              <a:cubicBezTo>
                                <a:pt x="100" y="1577"/>
                                <a:pt x="50" y="1360"/>
                                <a:pt x="27" y="1180"/>
                              </a:cubicBezTo>
                              <a:cubicBezTo>
                                <a:pt x="7" y="1017"/>
                                <a:pt x="0" y="810"/>
                                <a:pt x="27" y="660"/>
                              </a:cubicBezTo>
                              <a:cubicBezTo>
                                <a:pt x="54" y="510"/>
                                <a:pt x="104" y="383"/>
                                <a:pt x="187" y="280"/>
                              </a:cubicBezTo>
                              <a:cubicBezTo>
                                <a:pt x="270" y="177"/>
                                <a:pt x="384" y="80"/>
                                <a:pt x="527" y="40"/>
                              </a:cubicBezTo>
                              <a:cubicBezTo>
                                <a:pt x="670" y="0"/>
                                <a:pt x="913" y="6"/>
                                <a:pt x="1047" y="40"/>
                              </a:cubicBezTo>
                              <a:cubicBezTo>
                                <a:pt x="1181" y="74"/>
                                <a:pt x="1297" y="128"/>
                                <a:pt x="1332" y="244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8" name="Freeform 314"/>
                        <p:cNvSpPr/>
                        <p:nvPr/>
                      </p:nvSpPr>
                      <p:spPr>
                        <a:xfrm rot="21274200">
                          <a:off x="8179560" y="2612880"/>
                          <a:ext cx="153360" cy="106920"/>
                        </a:xfrm>
                        <a:custGeom>
                          <a:avLst/>
                          <a:gdLst>
                            <a:gd name="textAreaLeft" fmla="*/ 0 w 153360"/>
                            <a:gd name="textAreaRight" fmla="*/ 153720 w 153360"/>
                            <a:gd name="textAreaTop" fmla="*/ 0 h 106920"/>
                            <a:gd name="textAreaBottom" fmla="*/ 107280 h 106920"/>
                          </a:gdLst>
                          <a:ahLst/>
                          <a:rect l="textAreaLeft" t="textAreaTop" r="textAreaRight" b="textAreaBottom"/>
                          <a:pathLst>
                            <a:path w="906" h="669">
                              <a:moveTo>
                                <a:pt x="906" y="161"/>
                              </a:moveTo>
                              <a:cubicBezTo>
                                <a:pt x="905" y="122"/>
                                <a:pt x="803" y="50"/>
                                <a:pt x="732" y="27"/>
                              </a:cubicBezTo>
                              <a:cubicBezTo>
                                <a:pt x="660" y="3"/>
                                <a:pt x="553" y="0"/>
                                <a:pt x="477" y="17"/>
                              </a:cubicBezTo>
                              <a:cubicBezTo>
                                <a:pt x="389" y="22"/>
                                <a:pt x="332" y="88"/>
                                <a:pt x="278" y="133"/>
                              </a:cubicBezTo>
                              <a:cubicBezTo>
                                <a:pt x="227" y="186"/>
                                <a:pt x="150" y="273"/>
                                <a:pt x="125" y="327"/>
                              </a:cubicBezTo>
                              <a:cubicBezTo>
                                <a:pt x="89" y="379"/>
                                <a:pt x="65" y="391"/>
                                <a:pt x="64" y="443"/>
                              </a:cubicBezTo>
                              <a:cubicBezTo>
                                <a:pt x="0" y="504"/>
                                <a:pt x="101" y="600"/>
                                <a:pt x="111" y="641"/>
                              </a:cubicBezTo>
                              <a:cubicBezTo>
                                <a:pt x="178" y="669"/>
                                <a:pt x="352" y="659"/>
                                <a:pt x="464" y="611"/>
                              </a:cubicBezTo>
                              <a:cubicBezTo>
                                <a:pt x="576" y="563"/>
                                <a:pt x="710" y="426"/>
                                <a:pt x="784" y="351"/>
                              </a:cubicBezTo>
                              <a:cubicBezTo>
                                <a:pt x="858" y="276"/>
                                <a:pt x="881" y="201"/>
                                <a:pt x="906" y="161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333333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39" name="Freeform 315"/>
                      <p:cNvSpPr/>
                      <p:nvPr/>
                    </p:nvSpPr>
                    <p:spPr>
                      <a:xfrm rot="20497200">
                        <a:off x="7703640" y="2397960"/>
                        <a:ext cx="315360" cy="364320"/>
                      </a:xfrm>
                      <a:custGeom>
                        <a:avLst/>
                        <a:gdLst>
                          <a:gd name="textAreaLeft" fmla="*/ 0 w 315360"/>
                          <a:gd name="textAreaRight" fmla="*/ 315720 w 315360"/>
                          <a:gd name="textAreaTop" fmla="*/ 0 h 364320"/>
                          <a:gd name="textAreaBottom" fmla="*/ 364680 h 364320"/>
                        </a:gdLst>
                        <a:ahLst/>
                        <a:rect l="textAreaLeft" t="textAreaTop" r="textAreaRight" b="textAreaBottom"/>
                        <a:pathLst>
                          <a:path w="1278" h="1733">
                            <a:moveTo>
                              <a:pt x="831" y="1642"/>
                            </a:moveTo>
                            <a:cubicBezTo>
                              <a:pt x="872" y="1667"/>
                              <a:pt x="889" y="1733"/>
                              <a:pt x="955" y="1717"/>
                            </a:cubicBezTo>
                            <a:cubicBezTo>
                              <a:pt x="1020" y="1701"/>
                              <a:pt x="1178" y="1610"/>
                              <a:pt x="1228" y="1547"/>
                            </a:cubicBezTo>
                            <a:cubicBezTo>
                              <a:pt x="1278" y="1484"/>
                              <a:pt x="1265" y="1431"/>
                              <a:pt x="1256" y="1340"/>
                            </a:cubicBezTo>
                            <a:cubicBezTo>
                              <a:pt x="1247" y="1249"/>
                              <a:pt x="1183" y="1110"/>
                              <a:pt x="1176" y="1000"/>
                            </a:cubicBezTo>
                            <a:cubicBezTo>
                              <a:pt x="1169" y="890"/>
                              <a:pt x="1223" y="795"/>
                              <a:pt x="1216" y="680"/>
                            </a:cubicBezTo>
                            <a:cubicBezTo>
                              <a:pt x="1209" y="565"/>
                              <a:pt x="1230" y="421"/>
                              <a:pt x="1134" y="309"/>
                            </a:cubicBezTo>
                            <a:cubicBezTo>
                              <a:pt x="1038" y="197"/>
                              <a:pt x="812" y="0"/>
                              <a:pt x="638" y="7"/>
                            </a:cubicBezTo>
                            <a:cubicBezTo>
                              <a:pt x="464" y="13"/>
                              <a:pt x="180" y="185"/>
                              <a:pt x="90" y="347"/>
                            </a:cubicBezTo>
                            <a:cubicBezTo>
                              <a:pt x="0" y="509"/>
                              <a:pt x="55" y="815"/>
                              <a:pt x="96" y="980"/>
                            </a:cubicBezTo>
                            <a:cubicBezTo>
                              <a:pt x="137" y="1145"/>
                              <a:pt x="233" y="1243"/>
                              <a:pt x="335" y="1340"/>
                            </a:cubicBezTo>
                            <a:cubicBezTo>
                              <a:pt x="437" y="1437"/>
                              <a:pt x="624" y="1516"/>
                              <a:pt x="707" y="1566"/>
                            </a:cubicBezTo>
                            <a:cubicBezTo>
                              <a:pt x="789" y="1616"/>
                              <a:pt x="789" y="1616"/>
                              <a:pt x="831" y="1642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ffcc"/>
                          </a:gs>
                          <a:gs pos="50000">
                            <a:srgbClr val="008000"/>
                          </a:gs>
                          <a:gs pos="100000">
                            <a:srgbClr val="ccffcc"/>
                          </a:gs>
                        </a:gsLst>
                        <a:lin ang="3804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0" name="Freeform 316"/>
                      <p:cNvSpPr/>
                      <p:nvPr/>
                    </p:nvSpPr>
                    <p:spPr>
                      <a:xfrm rot="224400">
                        <a:off x="8314200" y="2455200"/>
                        <a:ext cx="76320" cy="119880"/>
                      </a:xfrm>
                      <a:custGeom>
                        <a:avLst/>
                        <a:gdLst>
                          <a:gd name="textAreaLeft" fmla="*/ 0 w 76320"/>
                          <a:gd name="textAreaRight" fmla="*/ 76680 w 76320"/>
                          <a:gd name="textAreaTop" fmla="*/ 0 h 119880"/>
                          <a:gd name="textAreaBottom" fmla="*/ 120240 h 119880"/>
                        </a:gdLst>
                        <a:ahLst/>
                        <a:rect l="textAreaLeft" t="textAreaTop" r="textAreaRight" b="textAreaBottom"/>
                        <a:pathLst>
                          <a:path w="840" h="1890">
                            <a:moveTo>
                              <a:pt x="810" y="1830"/>
                            </a:moveTo>
                            <a:cubicBezTo>
                              <a:pt x="780" y="1890"/>
                              <a:pt x="180" y="840"/>
                              <a:pt x="90" y="570"/>
                            </a:cubicBezTo>
                            <a:cubicBezTo>
                              <a:pt x="0" y="300"/>
                              <a:pt x="150" y="0"/>
                              <a:pt x="270" y="210"/>
                            </a:cubicBezTo>
                            <a:cubicBezTo>
                              <a:pt x="390" y="420"/>
                              <a:pt x="840" y="1770"/>
                              <a:pt x="810" y="1830"/>
                            </a:cubicBezTo>
                            <a:close/>
                          </a:path>
                        </a:pathLst>
                      </a:custGeom>
                      <a:solidFill>
                        <a:srgbClr val="333333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1" name="Freeform 317"/>
                      <p:cNvSpPr/>
                      <p:nvPr/>
                    </p:nvSpPr>
                    <p:spPr>
                      <a:xfrm rot="224400">
                        <a:off x="8130960" y="2368800"/>
                        <a:ext cx="76320" cy="119880"/>
                      </a:xfrm>
                      <a:custGeom>
                        <a:avLst/>
                        <a:gdLst>
                          <a:gd name="textAreaLeft" fmla="*/ 0 w 76320"/>
                          <a:gd name="textAreaRight" fmla="*/ 76680 w 76320"/>
                          <a:gd name="textAreaTop" fmla="*/ 0 h 119880"/>
                          <a:gd name="textAreaBottom" fmla="*/ 120240 h 119880"/>
                        </a:gdLst>
                        <a:ahLst/>
                        <a:rect l="textAreaLeft" t="textAreaTop" r="textAreaRight" b="textAreaBottom"/>
                        <a:pathLst>
                          <a:path w="840" h="1890">
                            <a:moveTo>
                              <a:pt x="810" y="1830"/>
                            </a:moveTo>
                            <a:cubicBezTo>
                              <a:pt x="780" y="1890"/>
                              <a:pt x="180" y="840"/>
                              <a:pt x="90" y="570"/>
                            </a:cubicBezTo>
                            <a:cubicBezTo>
                              <a:pt x="0" y="300"/>
                              <a:pt x="150" y="0"/>
                              <a:pt x="270" y="210"/>
                            </a:cubicBezTo>
                            <a:cubicBezTo>
                              <a:pt x="390" y="420"/>
                              <a:pt x="840" y="1770"/>
                              <a:pt x="810" y="1830"/>
                            </a:cubicBezTo>
                            <a:close/>
                          </a:path>
                        </a:pathLst>
                      </a:custGeom>
                      <a:solidFill>
                        <a:srgbClr val="333333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42" name="Group 318"/>
                      <p:cNvGrpSpPr/>
                      <p:nvPr/>
                    </p:nvGrpSpPr>
                    <p:grpSpPr>
                      <a:xfrm>
                        <a:off x="8001000" y="2975040"/>
                        <a:ext cx="69840" cy="42120"/>
                        <a:chOff x="8001000" y="2975040"/>
                        <a:chExt cx="69840" cy="42120"/>
                      </a:xfrm>
                    </p:grpSpPr>
                    <p:sp>
                      <p:nvSpPr>
                        <p:cNvPr id="1043" name="Line 319"/>
                        <p:cNvSpPr/>
                        <p:nvPr/>
                      </p:nvSpPr>
                      <p:spPr>
                        <a:xfrm flipH="1">
                          <a:off x="8001000" y="2981520"/>
                          <a:ext cx="68400" cy="352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4" name="Line 320"/>
                        <p:cNvSpPr/>
                        <p:nvPr/>
                      </p:nvSpPr>
                      <p:spPr>
                        <a:xfrm flipV="1">
                          <a:off x="8001360" y="2975040"/>
                          <a:ext cx="69480" cy="421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" bIns="-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5" name="Line 321"/>
                        <p:cNvSpPr/>
                        <p:nvPr/>
                      </p:nvSpPr>
                      <p:spPr>
                        <a:xfrm flipH="1">
                          <a:off x="8069400" y="2975400"/>
                          <a:ext cx="1080" cy="64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46" name="Group 322"/>
                      <p:cNvGrpSpPr/>
                      <p:nvPr/>
                    </p:nvGrpSpPr>
                    <p:grpSpPr>
                      <a:xfrm>
                        <a:off x="7981560" y="2883960"/>
                        <a:ext cx="70920" cy="52200"/>
                        <a:chOff x="7981560" y="2883960"/>
                        <a:chExt cx="70920" cy="52200"/>
                      </a:xfrm>
                    </p:grpSpPr>
                    <p:sp>
                      <p:nvSpPr>
                        <p:cNvPr id="1047" name="Line 323"/>
                        <p:cNvSpPr/>
                        <p:nvPr/>
                      </p:nvSpPr>
                      <p:spPr>
                        <a:xfrm flipH="1" flipV="1">
                          <a:off x="7981560" y="2883960"/>
                          <a:ext cx="63720" cy="51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8" name="Line 324"/>
                        <p:cNvSpPr/>
                        <p:nvPr/>
                      </p:nvSpPr>
                      <p:spPr>
                        <a:xfrm>
                          <a:off x="7981920" y="2883960"/>
                          <a:ext cx="70560" cy="482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40" bIns="1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9" name="Line 325"/>
                        <p:cNvSpPr/>
                        <p:nvPr/>
                      </p:nvSpPr>
                      <p:spPr>
                        <a:xfrm flipH="1">
                          <a:off x="8045280" y="2932560"/>
                          <a:ext cx="6840" cy="36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50" name="Group 326"/>
                      <p:cNvGrpSpPr/>
                      <p:nvPr/>
                    </p:nvGrpSpPr>
                    <p:grpSpPr>
                      <a:xfrm>
                        <a:off x="8130240" y="2769840"/>
                        <a:ext cx="5400" cy="104760"/>
                        <a:chOff x="8130240" y="2769840"/>
                        <a:chExt cx="5400" cy="104760"/>
                      </a:xfrm>
                    </p:grpSpPr>
                    <p:sp>
                      <p:nvSpPr>
                        <p:cNvPr id="1051" name="Line 327"/>
                        <p:cNvSpPr/>
                        <p:nvPr/>
                      </p:nvSpPr>
                      <p:spPr>
                        <a:xfrm flipV="1">
                          <a:off x="8130600" y="2769840"/>
                          <a:ext cx="2520" cy="972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2" name="Line 328"/>
                        <p:cNvSpPr/>
                        <p:nvPr/>
                      </p:nvSpPr>
                      <p:spPr>
                        <a:xfrm>
                          <a:off x="8133120" y="2770200"/>
                          <a:ext cx="2520" cy="1044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3" name="Line 329"/>
                        <p:cNvSpPr/>
                        <p:nvPr/>
                      </p:nvSpPr>
                      <p:spPr>
                        <a:xfrm flipH="1" flipV="1">
                          <a:off x="8130240" y="2867040"/>
                          <a:ext cx="5400" cy="72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0" bIns="-39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54" name="Group 330"/>
                      <p:cNvGrpSpPr/>
                      <p:nvPr/>
                    </p:nvGrpSpPr>
                    <p:grpSpPr>
                      <a:xfrm>
                        <a:off x="8222400" y="2742840"/>
                        <a:ext cx="30600" cy="86400"/>
                        <a:chOff x="8222400" y="2742840"/>
                        <a:chExt cx="30600" cy="86400"/>
                      </a:xfrm>
                    </p:grpSpPr>
                    <p:sp>
                      <p:nvSpPr>
                        <p:cNvPr id="1055" name="Line 331"/>
                        <p:cNvSpPr/>
                        <p:nvPr/>
                      </p:nvSpPr>
                      <p:spPr>
                        <a:xfrm flipV="1">
                          <a:off x="8222760" y="2742840"/>
                          <a:ext cx="30240" cy="78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040" bIns="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6" name="Line 332"/>
                        <p:cNvSpPr/>
                        <p:nvPr/>
                      </p:nvSpPr>
                      <p:spPr>
                        <a:xfrm flipH="1">
                          <a:off x="8225640" y="2743200"/>
                          <a:ext cx="27000" cy="860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240" bIns="39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7" name="Line 333"/>
                        <p:cNvSpPr/>
                        <p:nvPr/>
                      </p:nvSpPr>
                      <p:spPr>
                        <a:xfrm flipH="1" flipV="1">
                          <a:off x="8222400" y="2822040"/>
                          <a:ext cx="3240" cy="72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0" bIns="-39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58" name="Group 334"/>
                      <p:cNvGrpSpPr/>
                      <p:nvPr/>
                    </p:nvGrpSpPr>
                    <p:grpSpPr>
                      <a:xfrm>
                        <a:off x="8130240" y="2974680"/>
                        <a:ext cx="30240" cy="75600"/>
                        <a:chOff x="8130240" y="2974680"/>
                        <a:chExt cx="30240" cy="75600"/>
                      </a:xfrm>
                    </p:grpSpPr>
                    <p:sp>
                      <p:nvSpPr>
                        <p:cNvPr id="1059" name="Line 335"/>
                        <p:cNvSpPr/>
                        <p:nvPr/>
                      </p:nvSpPr>
                      <p:spPr>
                        <a:xfrm>
                          <a:off x="8136360" y="2977560"/>
                          <a:ext cx="24120" cy="72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0" name="Line 336"/>
                        <p:cNvSpPr/>
                        <p:nvPr/>
                      </p:nvSpPr>
                      <p:spPr>
                        <a:xfrm flipH="1" flipV="1">
                          <a:off x="8130240" y="2974680"/>
                          <a:ext cx="30240" cy="756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0" bIns="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1" name="Line 337"/>
                        <p:cNvSpPr/>
                        <p:nvPr/>
                      </p:nvSpPr>
                      <p:spPr>
                        <a:xfrm>
                          <a:off x="8130240" y="2975040"/>
                          <a:ext cx="6480" cy="25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62" name="Group 338"/>
                      <p:cNvGrpSpPr/>
                      <p:nvPr/>
                    </p:nvGrpSpPr>
                    <p:grpSpPr>
                      <a:xfrm>
                        <a:off x="8205480" y="2897640"/>
                        <a:ext cx="53280" cy="67320"/>
                        <a:chOff x="8205480" y="2897640"/>
                        <a:chExt cx="53280" cy="67320"/>
                      </a:xfrm>
                    </p:grpSpPr>
                    <p:sp>
                      <p:nvSpPr>
                        <p:cNvPr id="1063" name="Line 339"/>
                        <p:cNvSpPr/>
                        <p:nvPr/>
                      </p:nvSpPr>
                      <p:spPr>
                        <a:xfrm>
                          <a:off x="8212320" y="2899080"/>
                          <a:ext cx="46080" cy="658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9080" bIns="19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4" name="Line 340"/>
                        <p:cNvSpPr/>
                        <p:nvPr/>
                      </p:nvSpPr>
                      <p:spPr>
                        <a:xfrm flipH="1" flipV="1">
                          <a:off x="8205840" y="2897640"/>
                          <a:ext cx="52920" cy="669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5" name="Line 341"/>
                        <p:cNvSpPr/>
                        <p:nvPr/>
                      </p:nvSpPr>
                      <p:spPr>
                        <a:xfrm>
                          <a:off x="8205480" y="2898000"/>
                          <a:ext cx="6840" cy="10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66" name="Group 342"/>
                      <p:cNvGrpSpPr/>
                      <p:nvPr/>
                    </p:nvGrpSpPr>
                    <p:grpSpPr>
                      <a:xfrm>
                        <a:off x="8267760" y="2872440"/>
                        <a:ext cx="79560" cy="33480"/>
                        <a:chOff x="8267760" y="2872440"/>
                        <a:chExt cx="79560" cy="33480"/>
                      </a:xfrm>
                    </p:grpSpPr>
                    <p:sp>
                      <p:nvSpPr>
                        <p:cNvPr id="1067" name="Line 343"/>
                        <p:cNvSpPr/>
                        <p:nvPr/>
                      </p:nvSpPr>
                      <p:spPr>
                        <a:xfrm>
                          <a:off x="8274600" y="2872440"/>
                          <a:ext cx="72720" cy="334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8" name="Line 344"/>
                        <p:cNvSpPr/>
                        <p:nvPr/>
                      </p:nvSpPr>
                      <p:spPr>
                        <a:xfrm flipH="1" flipV="1">
                          <a:off x="8267760" y="2874240"/>
                          <a:ext cx="79560" cy="31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480" bIns="-15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9" name="Line 345"/>
                        <p:cNvSpPr/>
                        <p:nvPr/>
                      </p:nvSpPr>
                      <p:spPr>
                        <a:xfrm flipV="1">
                          <a:off x="8267760" y="2872440"/>
                          <a:ext cx="6840" cy="21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70" name="Group 346"/>
                      <p:cNvGrpSpPr/>
                      <p:nvPr/>
                    </p:nvGrpSpPr>
                    <p:grpSpPr>
                      <a:xfrm>
                        <a:off x="7518240" y="2718360"/>
                        <a:ext cx="14040" cy="81720"/>
                        <a:chOff x="7518240" y="2718360"/>
                        <a:chExt cx="14040" cy="81720"/>
                      </a:xfrm>
                    </p:grpSpPr>
                    <p:sp>
                      <p:nvSpPr>
                        <p:cNvPr id="1071" name="Line 347"/>
                        <p:cNvSpPr/>
                        <p:nvPr/>
                      </p:nvSpPr>
                      <p:spPr>
                        <a:xfrm flipH="1" flipV="1">
                          <a:off x="7518600" y="2718360"/>
                          <a:ext cx="6120" cy="802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2" name="Line 348"/>
                        <p:cNvSpPr/>
                        <p:nvPr/>
                      </p:nvSpPr>
                      <p:spPr>
                        <a:xfrm>
                          <a:off x="7518240" y="2718720"/>
                          <a:ext cx="13680" cy="813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560" bIns="34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3" name="Line 349"/>
                        <p:cNvSpPr/>
                        <p:nvPr/>
                      </p:nvSpPr>
                      <p:spPr>
                        <a:xfrm flipH="1" flipV="1">
                          <a:off x="7524720" y="2798640"/>
                          <a:ext cx="7560" cy="14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74" name="Group 350"/>
                      <p:cNvGrpSpPr/>
                      <p:nvPr/>
                    </p:nvGrpSpPr>
                    <p:grpSpPr>
                      <a:xfrm>
                        <a:off x="7423560" y="2877120"/>
                        <a:ext cx="85320" cy="7920"/>
                        <a:chOff x="7423560" y="2877120"/>
                        <a:chExt cx="85320" cy="7920"/>
                      </a:xfrm>
                    </p:grpSpPr>
                    <p:sp>
                      <p:nvSpPr>
                        <p:cNvPr id="1075" name="Line 351"/>
                        <p:cNvSpPr/>
                        <p:nvPr/>
                      </p:nvSpPr>
                      <p:spPr>
                        <a:xfrm flipH="1" flipV="1">
                          <a:off x="7423560" y="2877120"/>
                          <a:ext cx="81720" cy="75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6" name="Line 352"/>
                        <p:cNvSpPr/>
                        <p:nvPr/>
                      </p:nvSpPr>
                      <p:spPr>
                        <a:xfrm>
                          <a:off x="7423560" y="2877120"/>
                          <a:ext cx="85320" cy="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080" bIns="-46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7" name="Line 353"/>
                        <p:cNvSpPr/>
                        <p:nvPr/>
                      </p:nvSpPr>
                      <p:spPr>
                        <a:xfrm flipH="1">
                          <a:off x="7505280" y="2878200"/>
                          <a:ext cx="3600" cy="6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78" name="Group 354"/>
                      <p:cNvGrpSpPr/>
                      <p:nvPr/>
                    </p:nvGrpSpPr>
                    <p:grpSpPr>
                      <a:xfrm>
                        <a:off x="7470360" y="2966400"/>
                        <a:ext cx="82080" cy="23760"/>
                        <a:chOff x="7470360" y="2966400"/>
                        <a:chExt cx="82080" cy="23760"/>
                      </a:xfrm>
                    </p:grpSpPr>
                    <p:sp>
                      <p:nvSpPr>
                        <p:cNvPr id="1079" name="Line 355"/>
                        <p:cNvSpPr/>
                        <p:nvPr/>
                      </p:nvSpPr>
                      <p:spPr>
                        <a:xfrm flipH="1">
                          <a:off x="7470360" y="2974320"/>
                          <a:ext cx="80640" cy="15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0" name="Line 356"/>
                        <p:cNvSpPr/>
                        <p:nvPr/>
                      </p:nvSpPr>
                      <p:spPr>
                        <a:xfrm flipV="1">
                          <a:off x="7470360" y="2966400"/>
                          <a:ext cx="82080" cy="234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1" name="Line 357"/>
                        <p:cNvSpPr/>
                        <p:nvPr/>
                      </p:nvSpPr>
                      <p:spPr>
                        <a:xfrm flipH="1">
                          <a:off x="7551000" y="2967120"/>
                          <a:ext cx="1440" cy="75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82" name="Group 358"/>
                      <p:cNvGrpSpPr/>
                      <p:nvPr/>
                    </p:nvGrpSpPr>
                    <p:grpSpPr>
                      <a:xfrm>
                        <a:off x="7553520" y="3000240"/>
                        <a:ext cx="39960" cy="75240"/>
                        <a:chOff x="7553520" y="3000240"/>
                        <a:chExt cx="39960" cy="75240"/>
                      </a:xfrm>
                    </p:grpSpPr>
                    <p:sp>
                      <p:nvSpPr>
                        <p:cNvPr id="1083" name="Line 359"/>
                        <p:cNvSpPr/>
                        <p:nvPr/>
                      </p:nvSpPr>
                      <p:spPr>
                        <a:xfrm flipH="1">
                          <a:off x="7553520" y="3005640"/>
                          <a:ext cx="39960" cy="69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4" name="Line 360"/>
                        <p:cNvSpPr/>
                        <p:nvPr/>
                      </p:nvSpPr>
                      <p:spPr>
                        <a:xfrm flipV="1">
                          <a:off x="7553880" y="3000240"/>
                          <a:ext cx="34200" cy="752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440" bIns="28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5" name="Line 361"/>
                        <p:cNvSpPr/>
                        <p:nvPr/>
                      </p:nvSpPr>
                      <p:spPr>
                        <a:xfrm>
                          <a:off x="7587720" y="3000240"/>
                          <a:ext cx="5760" cy="54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400" bIns="-41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86" name="Group 362"/>
                      <p:cNvGrpSpPr/>
                      <p:nvPr/>
                    </p:nvGrpSpPr>
                    <p:grpSpPr>
                      <a:xfrm>
                        <a:off x="7661520" y="2986200"/>
                        <a:ext cx="34560" cy="78480"/>
                        <a:chOff x="7661520" y="2986200"/>
                        <a:chExt cx="34560" cy="78480"/>
                      </a:xfrm>
                    </p:grpSpPr>
                    <p:sp>
                      <p:nvSpPr>
                        <p:cNvPr id="1087" name="Line 363"/>
                        <p:cNvSpPr/>
                        <p:nvPr/>
                      </p:nvSpPr>
                      <p:spPr>
                        <a:xfrm>
                          <a:off x="7669440" y="2986560"/>
                          <a:ext cx="26640" cy="781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8" name="Line 364"/>
                        <p:cNvSpPr/>
                        <p:nvPr/>
                      </p:nvSpPr>
                      <p:spPr>
                        <a:xfrm flipH="1" flipV="1">
                          <a:off x="7661520" y="2986200"/>
                          <a:ext cx="34200" cy="781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9" name="Line 365"/>
                        <p:cNvSpPr/>
                        <p:nvPr/>
                      </p:nvSpPr>
                      <p:spPr>
                        <a:xfrm>
                          <a:off x="7661880" y="2986200"/>
                          <a:ext cx="7920" cy="3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90" name="Group 366"/>
                      <p:cNvGrpSpPr/>
                      <p:nvPr/>
                    </p:nvGrpSpPr>
                    <p:grpSpPr>
                      <a:xfrm>
                        <a:off x="7652520" y="2690640"/>
                        <a:ext cx="138600" cy="86400"/>
                        <a:chOff x="7652520" y="2690640"/>
                        <a:chExt cx="138600" cy="86400"/>
                      </a:xfrm>
                    </p:grpSpPr>
                    <p:sp>
                      <p:nvSpPr>
                        <p:cNvPr id="1091" name="Line 367"/>
                        <p:cNvSpPr/>
                        <p:nvPr/>
                      </p:nvSpPr>
                      <p:spPr>
                        <a:xfrm flipH="1" flipV="1">
                          <a:off x="7652520" y="2690640"/>
                          <a:ext cx="124560" cy="860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240" bIns="39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2" name="Line 368"/>
                        <p:cNvSpPr/>
                        <p:nvPr/>
                      </p:nvSpPr>
                      <p:spPr>
                        <a:xfrm>
                          <a:off x="7652880" y="2690640"/>
                          <a:ext cx="138240" cy="82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000" bIns="36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3" name="Line 369"/>
                        <p:cNvSpPr/>
                        <p:nvPr/>
                      </p:nvSpPr>
                      <p:spPr>
                        <a:xfrm flipH="1">
                          <a:off x="7777080" y="2773800"/>
                          <a:ext cx="13320" cy="32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94" name="Group 370"/>
                      <p:cNvGrpSpPr/>
                      <p:nvPr/>
                    </p:nvGrpSpPr>
                    <p:grpSpPr>
                      <a:xfrm>
                        <a:off x="7715520" y="3069000"/>
                        <a:ext cx="122760" cy="92880"/>
                        <a:chOff x="7715520" y="3069000"/>
                        <a:chExt cx="122760" cy="92880"/>
                      </a:xfrm>
                    </p:grpSpPr>
                    <p:sp>
                      <p:nvSpPr>
                        <p:cNvPr id="1095" name="Line 371"/>
                        <p:cNvSpPr/>
                        <p:nvPr/>
                      </p:nvSpPr>
                      <p:spPr>
                        <a:xfrm flipH="1">
                          <a:off x="7715520" y="3082320"/>
                          <a:ext cx="121680" cy="792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0" bIns="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6" name="Line 372"/>
                        <p:cNvSpPr/>
                        <p:nvPr/>
                      </p:nvSpPr>
                      <p:spPr>
                        <a:xfrm flipV="1">
                          <a:off x="7715880" y="3069000"/>
                          <a:ext cx="122400" cy="928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080" bIns="46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7" name="Line 373"/>
                        <p:cNvSpPr/>
                        <p:nvPr/>
                      </p:nvSpPr>
                      <p:spPr>
                        <a:xfrm flipH="1">
                          <a:off x="7836840" y="3069360"/>
                          <a:ext cx="1080" cy="13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98" name="Group 374"/>
                      <p:cNvGrpSpPr/>
                      <p:nvPr/>
                    </p:nvGrpSpPr>
                    <p:grpSpPr>
                      <a:xfrm>
                        <a:off x="7813080" y="2363040"/>
                        <a:ext cx="7560" cy="83160"/>
                        <a:chOff x="7813080" y="2363040"/>
                        <a:chExt cx="7560" cy="83160"/>
                      </a:xfrm>
                    </p:grpSpPr>
                    <p:sp>
                      <p:nvSpPr>
                        <p:cNvPr id="1099" name="Line 375"/>
                        <p:cNvSpPr/>
                        <p:nvPr/>
                      </p:nvSpPr>
                      <p:spPr>
                        <a:xfrm flipV="1">
                          <a:off x="7813080" y="2363040"/>
                          <a:ext cx="7560" cy="802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0" name="Line 376"/>
                        <p:cNvSpPr/>
                        <p:nvPr/>
                      </p:nvSpPr>
                      <p:spPr>
                        <a:xfrm flipH="1">
                          <a:off x="7819920" y="2363400"/>
                          <a:ext cx="360" cy="82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000" bIns="36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1" name="Line 377"/>
                        <p:cNvSpPr/>
                        <p:nvPr/>
                      </p:nvSpPr>
                      <p:spPr>
                        <a:xfrm flipH="1" flipV="1">
                          <a:off x="7813080" y="2443320"/>
                          <a:ext cx="7200" cy="25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02" name="Group 378"/>
                      <p:cNvGrpSpPr/>
                      <p:nvPr/>
                    </p:nvGrpSpPr>
                    <p:grpSpPr>
                      <a:xfrm>
                        <a:off x="7680960" y="2416680"/>
                        <a:ext cx="63000" cy="61200"/>
                        <a:chOff x="7680960" y="2416680"/>
                        <a:chExt cx="63000" cy="61200"/>
                      </a:xfrm>
                    </p:grpSpPr>
                    <p:sp>
                      <p:nvSpPr>
                        <p:cNvPr id="1103" name="Line 379"/>
                        <p:cNvSpPr/>
                        <p:nvPr/>
                      </p:nvSpPr>
                      <p:spPr>
                        <a:xfrm flipH="1" flipV="1">
                          <a:off x="7680960" y="2416680"/>
                          <a:ext cx="55440" cy="60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040" bIns="14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4" name="Line 380"/>
                        <p:cNvSpPr/>
                        <p:nvPr/>
                      </p:nvSpPr>
                      <p:spPr>
                        <a:xfrm>
                          <a:off x="7681320" y="2417040"/>
                          <a:ext cx="62640" cy="579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160" bIns="11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5" name="Line 381"/>
                        <p:cNvSpPr/>
                        <p:nvPr/>
                      </p:nvSpPr>
                      <p:spPr>
                        <a:xfrm flipH="1">
                          <a:off x="7736400" y="2475000"/>
                          <a:ext cx="7200" cy="28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06" name="Group 382"/>
                      <p:cNvGrpSpPr/>
                      <p:nvPr/>
                    </p:nvGrpSpPr>
                    <p:grpSpPr>
                      <a:xfrm>
                        <a:off x="7621920" y="2543400"/>
                        <a:ext cx="85680" cy="13320"/>
                        <a:chOff x="7621920" y="2543400"/>
                        <a:chExt cx="85680" cy="13320"/>
                      </a:xfrm>
                    </p:grpSpPr>
                    <p:sp>
                      <p:nvSpPr>
                        <p:cNvPr id="1107" name="Line 383"/>
                        <p:cNvSpPr/>
                        <p:nvPr/>
                      </p:nvSpPr>
                      <p:spPr>
                        <a:xfrm flipH="1" flipV="1">
                          <a:off x="7621920" y="2543400"/>
                          <a:ext cx="81360" cy="129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8" name="Line 384"/>
                        <p:cNvSpPr/>
                        <p:nvPr/>
                      </p:nvSpPr>
                      <p:spPr>
                        <a:xfrm>
                          <a:off x="7622280" y="2543400"/>
                          <a:ext cx="85320" cy="61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9" name="Line 385"/>
                        <p:cNvSpPr/>
                        <p:nvPr/>
                      </p:nvSpPr>
                      <p:spPr>
                        <a:xfrm flipH="1">
                          <a:off x="7703280" y="2550240"/>
                          <a:ext cx="3960" cy="64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10" name="Group 386"/>
                      <p:cNvGrpSpPr/>
                      <p:nvPr/>
                    </p:nvGrpSpPr>
                    <p:grpSpPr>
                      <a:xfrm>
                        <a:off x="7787160" y="2518200"/>
                        <a:ext cx="63720" cy="60120"/>
                        <a:chOff x="7787160" y="2518200"/>
                        <a:chExt cx="63720" cy="60120"/>
                      </a:xfrm>
                    </p:grpSpPr>
                    <p:sp>
                      <p:nvSpPr>
                        <p:cNvPr id="1111" name="Line 387"/>
                        <p:cNvSpPr/>
                        <p:nvPr/>
                      </p:nvSpPr>
                      <p:spPr>
                        <a:xfrm flipH="1" flipV="1">
                          <a:off x="7787160" y="2518200"/>
                          <a:ext cx="56160" cy="59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960" bIns="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2" name="Line 388"/>
                        <p:cNvSpPr/>
                        <p:nvPr/>
                      </p:nvSpPr>
                      <p:spPr>
                        <a:xfrm>
                          <a:off x="7787520" y="2518200"/>
                          <a:ext cx="63360" cy="572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3" name="Line 389"/>
                        <p:cNvSpPr/>
                        <p:nvPr/>
                      </p:nvSpPr>
                      <p:spPr>
                        <a:xfrm flipH="1">
                          <a:off x="7843320" y="2575440"/>
                          <a:ext cx="7200" cy="28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14" name="Group 390"/>
                      <p:cNvGrpSpPr/>
                      <p:nvPr/>
                    </p:nvGrpSpPr>
                    <p:grpSpPr>
                      <a:xfrm>
                        <a:off x="8451360" y="2597400"/>
                        <a:ext cx="79920" cy="23040"/>
                        <a:chOff x="8451360" y="2597400"/>
                        <a:chExt cx="79920" cy="23040"/>
                      </a:xfrm>
                    </p:grpSpPr>
                    <p:sp>
                      <p:nvSpPr>
                        <p:cNvPr id="1115" name="Line 391"/>
                        <p:cNvSpPr/>
                        <p:nvPr/>
                      </p:nvSpPr>
                      <p:spPr>
                        <a:xfrm flipV="1">
                          <a:off x="8452080" y="2597400"/>
                          <a:ext cx="79200" cy="154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6" name="Line 392"/>
                        <p:cNvSpPr/>
                        <p:nvPr/>
                      </p:nvSpPr>
                      <p:spPr>
                        <a:xfrm flipH="1">
                          <a:off x="8451360" y="2597400"/>
                          <a:ext cx="79560" cy="226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7" name="Line 393"/>
                        <p:cNvSpPr/>
                        <p:nvPr/>
                      </p:nvSpPr>
                      <p:spPr>
                        <a:xfrm flipV="1">
                          <a:off x="8451720" y="2612880"/>
                          <a:ext cx="360" cy="75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18" name="Group 394"/>
                      <p:cNvGrpSpPr/>
                      <p:nvPr/>
                    </p:nvGrpSpPr>
                    <p:grpSpPr>
                      <a:xfrm>
                        <a:off x="8424000" y="2444400"/>
                        <a:ext cx="73080" cy="40680"/>
                        <a:chOff x="8424000" y="2444400"/>
                        <a:chExt cx="73080" cy="40680"/>
                      </a:xfrm>
                    </p:grpSpPr>
                    <p:sp>
                      <p:nvSpPr>
                        <p:cNvPr id="1119" name="Line 395"/>
                        <p:cNvSpPr/>
                        <p:nvPr/>
                      </p:nvSpPr>
                      <p:spPr>
                        <a:xfrm flipV="1">
                          <a:off x="8424000" y="2444400"/>
                          <a:ext cx="73080" cy="331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680" bIns="-13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0" name="Line 396"/>
                        <p:cNvSpPr/>
                        <p:nvPr/>
                      </p:nvSpPr>
                      <p:spPr>
                        <a:xfrm flipH="1">
                          <a:off x="8425080" y="2444400"/>
                          <a:ext cx="72000" cy="406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120" bIns="-6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1" name="Line 397"/>
                        <p:cNvSpPr/>
                        <p:nvPr/>
                      </p:nvSpPr>
                      <p:spPr>
                        <a:xfrm flipH="1" flipV="1">
                          <a:off x="8424000" y="2477520"/>
                          <a:ext cx="1080" cy="75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22" name="Group 398"/>
                      <p:cNvGrpSpPr/>
                      <p:nvPr/>
                    </p:nvGrpSpPr>
                    <p:grpSpPr>
                      <a:xfrm>
                        <a:off x="8336520" y="2349720"/>
                        <a:ext cx="63720" cy="56160"/>
                        <a:chOff x="8336520" y="2349720"/>
                        <a:chExt cx="63720" cy="56160"/>
                      </a:xfrm>
                    </p:grpSpPr>
                    <p:sp>
                      <p:nvSpPr>
                        <p:cNvPr id="1123" name="Line 399"/>
                        <p:cNvSpPr/>
                        <p:nvPr/>
                      </p:nvSpPr>
                      <p:spPr>
                        <a:xfrm flipV="1">
                          <a:off x="8336520" y="2349720"/>
                          <a:ext cx="63720" cy="49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4" name="Line 400"/>
                        <p:cNvSpPr/>
                        <p:nvPr/>
                      </p:nvSpPr>
                      <p:spPr>
                        <a:xfrm flipH="1">
                          <a:off x="8339400" y="2349720"/>
                          <a:ext cx="60480" cy="561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5" name="Line 401"/>
                        <p:cNvSpPr/>
                        <p:nvPr/>
                      </p:nvSpPr>
                      <p:spPr>
                        <a:xfrm flipH="1" flipV="1">
                          <a:off x="8336520" y="2399040"/>
                          <a:ext cx="3240" cy="68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26" name="Group 402"/>
                      <p:cNvGrpSpPr/>
                      <p:nvPr/>
                    </p:nvGrpSpPr>
                    <p:grpSpPr>
                      <a:xfrm>
                        <a:off x="8115120" y="2277720"/>
                        <a:ext cx="20880" cy="80280"/>
                        <a:chOff x="8115120" y="2277720"/>
                        <a:chExt cx="20880" cy="80280"/>
                      </a:xfrm>
                    </p:grpSpPr>
                    <p:sp>
                      <p:nvSpPr>
                        <p:cNvPr id="1127" name="Line 403"/>
                        <p:cNvSpPr/>
                        <p:nvPr/>
                      </p:nvSpPr>
                      <p:spPr>
                        <a:xfrm flipH="1" flipV="1">
                          <a:off x="8115480" y="2277720"/>
                          <a:ext cx="12960" cy="792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0" bIns="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8" name="Line 404"/>
                        <p:cNvSpPr/>
                        <p:nvPr/>
                      </p:nvSpPr>
                      <p:spPr>
                        <a:xfrm>
                          <a:off x="8115120" y="2277720"/>
                          <a:ext cx="20520" cy="802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9" name="Line 405"/>
                        <p:cNvSpPr/>
                        <p:nvPr/>
                      </p:nvSpPr>
                      <p:spPr>
                        <a:xfrm flipH="1" flipV="1">
                          <a:off x="8128440" y="2356920"/>
                          <a:ext cx="7560" cy="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333333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080" bIns="-46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130" name="AutoShape 406"/>
                    <p:cNvSpPr/>
                    <p:nvPr/>
                  </p:nvSpPr>
                  <p:spPr>
                    <a:xfrm rot="16599600">
                      <a:off x="7918920" y="2708280"/>
                      <a:ext cx="114840" cy="18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000" y="1866"/>
                            <a:pt x="10400" y="5080"/>
                            <a:pt x="10400" y="10800"/>
                          </a:cubicBezTo>
                          <a:cubicBezTo>
                            <a:pt x="10400" y="16520"/>
                            <a:pt x="16000" y="19734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1" name="Oval 407"/>
                  <p:cNvSpPr/>
                  <p:nvPr/>
                </p:nvSpPr>
                <p:spPr>
                  <a:xfrm>
                    <a:off x="8297280" y="1944360"/>
                    <a:ext cx="108360" cy="108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0982"/>
                      </a:gs>
                      <a:gs pos="100000">
                        <a:srgbClr val="63043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Oval 408"/>
                  <p:cNvSpPr/>
                  <p:nvPr/>
                </p:nvSpPr>
                <p:spPr>
                  <a:xfrm>
                    <a:off x="8650080" y="2139120"/>
                    <a:ext cx="122040" cy="114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0982"/>
                      </a:gs>
                      <a:gs pos="100000">
                        <a:srgbClr val="63043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3" name="Rectangle 409"/>
              <p:cNvSpPr/>
              <p:nvPr/>
            </p:nvSpPr>
            <p:spPr>
              <a:xfrm>
                <a:off x="7119360" y="1702080"/>
                <a:ext cx="1417680" cy="946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Заголовок 1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217760" cy="4389480"/>
          </a:xfrm>
          <a:prstGeom prst="rect">
            <a:avLst/>
          </a:prstGeom>
          <a:ln w="0">
            <a:noFill/>
          </a:ln>
        </p:spPr>
      </p:pic>
      <p:sp>
        <p:nvSpPr>
          <p:cNvPr id="1135" name="PlaceHolder 1"/>
          <p:cNvSpPr>
            <a:spLocks noGrp="1"/>
          </p:cNvSpPr>
          <p:nvPr>
            <p:ph type="subTitle"/>
          </p:nvPr>
        </p:nvSpPr>
        <p:spPr>
          <a:xfrm>
            <a:off x="428400" y="571680"/>
            <a:ext cx="8458200" cy="9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3329"/>
                </a:solidFill>
                <a:latin typeface="Monotype Corsiva"/>
              </a:rPr>
              <a:t>Где применяется каждый из видов графики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136" name="Picture 4" descr=""/>
          <p:cNvPicPr/>
          <p:nvPr/>
        </p:nvPicPr>
        <p:blipFill>
          <a:blip r:embed="rId2"/>
          <a:stretch/>
        </p:blipFill>
        <p:spPr>
          <a:xfrm>
            <a:off x="4286160" y="2143080"/>
            <a:ext cx="2286000" cy="15210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5" descr=""/>
          <p:cNvPicPr/>
          <p:nvPr/>
        </p:nvPicPr>
        <p:blipFill>
          <a:blip r:embed="rId3"/>
          <a:stretch/>
        </p:blipFill>
        <p:spPr>
          <a:xfrm>
            <a:off x="6500880" y="2786040"/>
            <a:ext cx="2428920" cy="1606680"/>
          </a:xfrm>
          <a:prstGeom prst="rect">
            <a:avLst/>
          </a:prstGeom>
          <a:ln w="0">
            <a:noFill/>
          </a:ln>
        </p:spPr>
      </p:pic>
      <p:pic>
        <p:nvPicPr>
          <p:cNvPr id="1138" name="Рисунок 5" descr="2.gif"/>
          <p:cNvPicPr/>
          <p:nvPr/>
        </p:nvPicPr>
        <p:blipFill>
          <a:blip r:embed="rId4"/>
          <a:stretch/>
        </p:blipFill>
        <p:spPr>
          <a:xfrm>
            <a:off x="4356000" y="4581360"/>
            <a:ext cx="1214640" cy="1793880"/>
          </a:xfrm>
          <a:prstGeom prst="rect">
            <a:avLst/>
          </a:prstGeom>
          <a:ln w="0">
            <a:noFill/>
          </a:ln>
        </p:spPr>
      </p:pic>
      <p:pic>
        <p:nvPicPr>
          <p:cNvPr id="1139" name="Рисунок 6" descr="vsesouz-11-2-1.gif"/>
          <p:cNvPicPr/>
          <p:nvPr/>
        </p:nvPicPr>
        <p:blipFill>
          <a:blip r:embed="rId5"/>
          <a:stretch/>
        </p:blipFill>
        <p:spPr>
          <a:xfrm>
            <a:off x="6357960" y="4786200"/>
            <a:ext cx="167796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0" name=""/>
          <p:cNvGraphicFramePr/>
          <p:nvPr/>
        </p:nvGraphicFramePr>
        <p:xfrm>
          <a:off x="228600" y="76320"/>
          <a:ext cx="8686800" cy="3557520"/>
        </p:xfrm>
        <a:graphic>
          <a:graphicData uri="http://schemas.openxmlformats.org/drawingml/2006/table">
            <a:tbl>
              <a:tblPr/>
              <a:tblGrid>
                <a:gridCol w="2209680"/>
                <a:gridCol w="3505320"/>
                <a:gridCol w="2971800"/>
              </a:tblGrid>
              <a:tr h="457200">
                <a:tc>
                  <a:txBody>
                    <a:bodyPr lIns="18000" rIns="18000" tIns="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180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ров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180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торн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180000" rIns="36000" tIns="0" bIns="180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тс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жение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72000" rIns="36000" tIns="0" bIns="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изменяетс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цесс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штабирования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36000" rIns="36000" tIns="0" bIns="180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ци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шивания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1" name="Rectangle 33"/>
          <p:cNvSpPr/>
          <p:nvPr/>
        </p:nvSpPr>
        <p:spPr>
          <a:xfrm>
            <a:off x="2514600" y="533520"/>
            <a:ext cx="3352680" cy="990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 точек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иксел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личного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39"/>
          <p:cNvSpPr/>
          <p:nvPr/>
        </p:nvSpPr>
        <p:spPr>
          <a:xfrm>
            <a:off x="2500200" y="1571760"/>
            <a:ext cx="3353040" cy="1143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 уменьшении тер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ткость мелких дета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 увеличении поя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упенчатый эффект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40"/>
          <p:cNvSpPr/>
          <p:nvPr/>
        </p:nvSpPr>
        <p:spPr>
          <a:xfrm>
            <a:off x="2500200" y="2786040"/>
            <a:ext cx="3429000" cy="838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крашивается кажд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икс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44"/>
          <p:cNvSpPr/>
          <p:nvPr/>
        </p:nvSpPr>
        <p:spPr>
          <a:xfrm>
            <a:off x="5943600" y="533520"/>
            <a:ext cx="2895480" cy="990360"/>
          </a:xfrm>
          <a:prstGeom prst="rect">
            <a:avLst/>
          </a:prstGeom>
          <a:solidFill>
            <a:srgbClr val="a5644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ъек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точ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линия, окруж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прямоугольник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55"/>
          <p:cNvSpPr/>
          <p:nvPr/>
        </p:nvSpPr>
        <p:spPr>
          <a:xfrm>
            <a:off x="6000840" y="1571760"/>
            <a:ext cx="2895480" cy="1143000"/>
          </a:xfrm>
          <a:prstGeom prst="rect">
            <a:avLst/>
          </a:prstGeom>
          <a:solidFill>
            <a:srgbClr val="a5644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 теряет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56"/>
          <p:cNvSpPr/>
          <p:nvPr/>
        </p:nvSpPr>
        <p:spPr>
          <a:xfrm>
            <a:off x="6000840" y="2786040"/>
            <a:ext cx="2895480" cy="838080"/>
          </a:xfrm>
          <a:prstGeom prst="rect">
            <a:avLst/>
          </a:prstGeom>
          <a:solidFill>
            <a:srgbClr val="a5644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крашивается в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игура цел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Содержимое 2"/>
          <p:cNvSpPr/>
          <p:nvPr/>
        </p:nvSpPr>
        <p:spPr>
          <a:xfrm>
            <a:off x="304920" y="5157720"/>
            <a:ext cx="8686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Franklin Gothic Book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8:12:41Z</dcterms:created>
  <dc:creator>User</dc:creator>
  <dc:description/>
  <dc:language>en-US</dc:language>
  <cp:lastModifiedBy>denis</cp:lastModifiedBy>
  <dcterms:modified xsi:type="dcterms:W3CDTF">2012-01-07T09:58:43Z</dcterms:modified>
  <cp:revision>60</cp:revision>
  <dc:subject/>
  <dc:title>Слайд 1</dc:title>
</cp:coreProperties>
</file>