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4.gif" ContentType="image/gif"/>
  <Override PartName="/ppt/media/image2.png" ContentType="image/png"/>
  <Override PartName="/ppt/media/image9.jpeg" ContentType="image/jpeg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5.gif" ContentType="image/gif"/>
  <Override PartName="/ppt/media/image6.gif" ContentType="image/gif"/>
  <Override PartName="/ppt/media/image8.jpeg" ContentType="image/jpeg"/>
  <Override PartName="/ppt/media/image13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401480" y="888840"/>
            <a:ext cx="405108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401840" y="888840"/>
            <a:ext cx="4054320" cy="318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-5013720"/>
            <a:ext cx="7804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040" y="1184760"/>
            <a:ext cx="7804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-5013720"/>
            <a:ext cx="3808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-5013720"/>
            <a:ext cx="3808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1184760"/>
            <a:ext cx="3808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1184760"/>
            <a:ext cx="3808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-5013720"/>
            <a:ext cx="251280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9840" y="-5013720"/>
            <a:ext cx="251280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8640" y="-5013720"/>
            <a:ext cx="251280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1040" y="1184760"/>
            <a:ext cx="251280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9840" y="1184760"/>
            <a:ext cx="251280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8640" y="1184760"/>
            <a:ext cx="251280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1040" y="-5013720"/>
            <a:ext cx="7804440" cy="118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1040" y="-5013720"/>
            <a:ext cx="7804440" cy="1186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040" y="-5013720"/>
            <a:ext cx="3808440" cy="1186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-5013720"/>
            <a:ext cx="3808440" cy="1186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44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-5013720"/>
            <a:ext cx="3808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-5013720"/>
            <a:ext cx="3808440" cy="1186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1040" y="1184760"/>
            <a:ext cx="3808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-5013720"/>
            <a:ext cx="3808440" cy="1186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-5013720"/>
            <a:ext cx="3808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1184760"/>
            <a:ext cx="3808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-5013720"/>
            <a:ext cx="3808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-5013720"/>
            <a:ext cx="3808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040" y="1184760"/>
            <a:ext cx="7804440" cy="56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1040" y="-5013720"/>
            <a:ext cx="7804440" cy="1186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The 23 </a:t>
            </a: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rd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 o</a:t>
            </a: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f Apri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71200" y="2518920"/>
            <a:ext cx="776772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WAYS OF             COMMUNI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60360" y="2270160"/>
            <a:ext cx="270036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1182600" y="2060640"/>
            <a:ext cx="77724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403280" y="39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f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124000" y="2133720"/>
            <a:ext cx="216000" cy="3886200"/>
          </a:xfrm>
          <a:custGeom>
            <a:avLst/>
            <a:gdLst>
              <a:gd name="textAreaLeft" fmla="*/ 63360 w 216000"/>
              <a:gd name="textAreaRight" fmla="*/ 216360 w 216000"/>
              <a:gd name="textAreaTop" fmla="*/ 161640 h 3886200"/>
              <a:gd name="textAreaBottom" fmla="*/ 37245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484360" y="2708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ph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411280" y="4869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gh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564000" y="2205000"/>
            <a:ext cx="504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graph, elephant, telephon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tographer, photo, physic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rase, physical, dolph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564000" y="4724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ough, laugh, laughter, t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9528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a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di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oke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d sound of dr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tele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ex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st- to-coas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o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d s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st-to-coast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145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r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95280" y="2017800"/>
            <a:ext cx="47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ny years ago people sent messages over a long distanc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They used the light of fires, the smoke of fires and the loud sound of drums to send a messag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The Russian scientist P.L.Shilling invented the electric telegraph in 1832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A. Bell invented the telephon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In 1915 the first coast-to-coast line was opened from New York to San Francisco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In 1882 the first telephone exchange was opened in Moscow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64000" y="1989000"/>
          <a:ext cx="2554560" cy="4114800"/>
        </p:xfrm>
        <a:graphic>
          <a:graphicData uri="http://schemas.openxmlformats.org/drawingml/2006/table">
            <a:tbl>
              <a:tblPr/>
              <a:tblGrid>
                <a:gridCol w="2554560"/>
              </a:tblGrid>
              <a:tr h="411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nd a messag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long distanc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light of fir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moke of fir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electric telegraph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elephone exchang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oast- to-coast line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0120" indent="-600120">
              <a:spcBef>
                <a:spcPts val="700"/>
              </a:spcBef>
              <a:buClr>
                <a:srgbClr val="3333cc"/>
              </a:buClr>
              <a:buFont typeface="Tahoma"/>
              <a:buAutoNum type="arabicPeriod"/>
              <a:tabLst>
                <a:tab algn="l" pos="6001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9134640"/>
                <a:tab algn="l" pos="95835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years ago people could __ over a long dist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0120" indent="-600120">
              <a:spcBef>
                <a:spcPts val="700"/>
              </a:spcBef>
              <a:buClr>
                <a:srgbClr val="3333cc"/>
              </a:buClr>
              <a:buFont typeface="Tahoma"/>
              <a:buAutoNum type="arabicPeriod"/>
              <a:tabLst>
                <a:tab algn="l" pos="6001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9134640"/>
                <a:tab algn="l" pos="95835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used ____ , _____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ud sound of drums to send a mess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0120" indent="-600120">
              <a:spcBef>
                <a:spcPts val="700"/>
              </a:spcBef>
              <a:buClr>
                <a:srgbClr val="3333cc"/>
              </a:buClr>
              <a:buFont typeface="Tahoma"/>
              <a:buAutoNum type="arabicPeriod"/>
              <a:tabLst>
                <a:tab algn="l" pos="6001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9134640"/>
                <a:tab algn="l" pos="95835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____ was invented by the Russian scientist P.L. Shill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0120" indent="-600120">
              <a:spcBef>
                <a:spcPts val="700"/>
              </a:spcBef>
              <a:buClr>
                <a:srgbClr val="3333cc"/>
              </a:buClr>
              <a:buFont typeface="Tahoma"/>
              <a:buAutoNum type="arabicPeriod"/>
              <a:tabLst>
                <a:tab algn="l" pos="6001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9134640"/>
                <a:tab algn="l" pos="958356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1915 the first ____ was opened from New York to San Francis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0120" indent="-600120">
              <a:spcBef>
                <a:spcPts val="700"/>
              </a:spcBef>
              <a:tabLst>
                <a:tab algn="l" pos="0"/>
                <a:tab algn="l" pos="6001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9134640"/>
                <a:tab algn="l" pos="95835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395280" y="2017800"/>
            <a:ext cx="4597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ny years ago people _____ over a ________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They used ____, ______ and the loud sound of drums to send a messag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The Russian scientist P.L.Shilling invented ________ in 1832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A. Bell invented _________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In 1915 the first _________ was opened from New York to San Francisco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In 1882 the first __________ was opened in Moscow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64000" y="1989000"/>
          <a:ext cx="2554560" cy="4114800"/>
        </p:xfrm>
        <a:graphic>
          <a:graphicData uri="http://schemas.openxmlformats.org/drawingml/2006/table">
            <a:tbl>
              <a:tblPr/>
              <a:tblGrid>
                <a:gridCol w="2554560"/>
              </a:tblGrid>
              <a:tr h="4114800">
                <a:tc>
                  <a:txBody>
                    <a:bodyPr lIns="90000" rIns="90000" tIns="1296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nd a message</a:t>
                      </a:r>
                      <a:br>
                        <a:rPr sz="2600"/>
                      </a:b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lephon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long distanc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light of fir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moke of fir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electric telegraph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coast- to-coast 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change</a:t>
                      </a:r>
                      <a:br>
                        <a:rPr sz="2600"/>
                      </a:b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4120" y="360000"/>
            <a:ext cx="78055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ow Can We Communicate with Each Oth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774072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84000"/>
          </a:bodyPr>
          <a:p>
            <a:pPr marL="574560" indent="-573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The machine which is used for sending or receiving copies of printed material, letters, pictures, etc along a telephon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3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An internetional netowork of computers. It has electronic mail and provides a large amount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3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An electronic machine that can store (хранить) and recall information, do many processes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3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A method of using computer for composing, storing, and receiving messages over electronic communic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3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A system for sending or receiving speech over long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49000"/>
            <a:ext cx="780588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How Can We Communicate with Each O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739620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82000"/>
          </a:bodyPr>
          <a:p>
            <a:pPr marL="560880" indent="-5598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As for me..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-5598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To my min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-5598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I think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-5598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I suppos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-5598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I agree.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-5598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I disagree.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-5598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I share this opinion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880" indent="-5598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In addition I can say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me task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. 4 p. 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500040" y="521496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Thank you very much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Good luc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4857840" y="2571840"/>
            <a:ext cx="33829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36040"/>
            <a:ext cx="780912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WAYS OF             COMMUNI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1979280"/>
            <a:ext cx="684072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This net is neat.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This is a neat ne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187280" y="979560"/>
            <a:ext cx="777240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2240" y="476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871640" y="2903400"/>
            <a:ext cx="1368360" cy="123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7707240" y="5262480"/>
            <a:ext cx="93348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7380360" y="2519280"/>
            <a:ext cx="144756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5"/>
          <a:stretch/>
        </p:blipFill>
        <p:spPr>
          <a:xfrm>
            <a:off x="3602160" y="3959280"/>
            <a:ext cx="898560" cy="197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6"/>
          <a:stretch/>
        </p:blipFill>
        <p:spPr>
          <a:xfrm>
            <a:off x="4846680" y="2865600"/>
            <a:ext cx="1272960" cy="1274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395280" y="587700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95280" y="59500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eans of commun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7"/>
          <a:stretch/>
        </p:blipFill>
        <p:spPr>
          <a:xfrm>
            <a:off x="5759280" y="4471920"/>
            <a:ext cx="144000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8"/>
          <a:stretch/>
        </p:blipFill>
        <p:spPr>
          <a:xfrm>
            <a:off x="179280" y="2216160"/>
            <a:ext cx="1440000" cy="15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145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a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di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oke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d sound of dr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tele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ex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st- to-coas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04292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ght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moke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118620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145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a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di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oke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d sound of dr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tele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ex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st- to-coas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04292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buClr>
                <a:srgbClr val="3333cc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ud sound of dr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295272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buClr>
                <a:srgbClr val="3333cc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ectric tele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145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a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di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oke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d sound of dr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tele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ex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st- to-coas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28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04360"/>
            <a:ext cx="78073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ow Can We Communicate with Each 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0360" y="2519280"/>
            <a:ext cx="34401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6825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F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o send 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416880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buClr>
                <a:srgbClr val="3333cc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lephone ex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145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a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di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oke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d sound of dr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tele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ex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st- to-coas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979640" y="2770200"/>
            <a:ext cx="1800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We Communicate with Each 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d a mess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145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a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di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oke of f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d sound of dr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tele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ex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st- to-coas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505320" y="3130560"/>
            <a:ext cx="1355760" cy="20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1800360" cy="164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0:20:50Z</dcterms:created>
  <dc:creator>1</dc:creator>
  <dc:description/>
  <dc:language>en-US</dc:language>
  <cp:lastModifiedBy>Ильшат</cp:lastModifiedBy>
  <dcterms:modified xsi:type="dcterms:W3CDTF">2012-02-25T16:45:50Z</dcterms:modified>
  <cp:revision>26</cp:revision>
  <dc:subject/>
  <dc:title>Слайд 1</dc:title>
</cp:coreProperties>
</file>