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5B5-E4ED-4E49-8EBF-87B46F43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68D-1682-4208-8C09-051B13C5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C6D-EC0D-41FF-AE78-52013D8B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4A6-F841-429C-9865-425FEC22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26F-7C7E-4490-94C9-7C71C6B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4DD-57CF-4990-9FEE-E15400D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271-6B83-47F1-9F9F-D4A7BF17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316-E93E-4406-8394-8717203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30B-4FCC-4718-8F52-5B819E64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02-244D-474B-8264-1F4264E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A17-28A4-4E60-8BCC-B7C99CF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41F-1978-445E-BE25-A075A416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715B-C4EF-4590-A696-01035E9BA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008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838080"/>
            <a:ext cx="880272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Научно-практическая конференция "Эврика"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523880" y="3352680"/>
            <a:ext cx="623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Роль семьи в истории стран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52480" y="5334120"/>
            <a:ext cx="5915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Халафьян Эмилия Вадимов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45" name="музыка к конференции.wav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oc23-001"/>
          <p:cNvPicPr/>
          <p:nvPr/>
        </p:nvPicPr>
        <p:blipFill>
          <a:blip r:embed="rId1"/>
          <a:stretch/>
        </p:blipFill>
        <p:spPr>
          <a:xfrm>
            <a:off x="2514600" y="304920"/>
            <a:ext cx="40734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11"/>
          <p:cNvSpPr txBox="1"/>
          <p:nvPr/>
        </p:nvSpPr>
        <p:spPr>
          <a:xfrm>
            <a:off x="3809880" y="58672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МАТЬ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ссия всегда славилась своими героями и людьми. О подвигах многих знают. Но есть в России не только люди, но и целые семьи неразрывно связанные с историей России, однако об их подвигах знают далеко не все. Я хочу рассказать именно о такой семье, а конкретно о матери, которая отдала всё, что у нее было, а точнее  своих девятерых сыновей, на защиту сильной, гордой, непоколебимой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гиб спелым летом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ашу привели к атаману в Роговскую избитого, атаман сам стал избивать Сашу. И вместе с ним его избивали прислужники атамана – белые казаки. Выкрутили ему руки, выбили глаза и зубы, затем расстреляли и бросили в яму, где было много казнённых…» (Из письма бывшему коммунару «Всемирной дружбы» Ф.А.Палкину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му было семнадца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тографии его не сохранилось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352680" y="457200"/>
            <a:ext cx="23529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Александр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5715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аш сын, Степанов Фёдор Михайлович, - подлинный герой РККА. В боях за неприкосновенность нашей могучей социалистической Родины проявил себя честным, мужественным патриотом, беззаветно преданным Родине, делу комму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глубокой скорбью сообщаю Вам, что он погиб 20 августа 1939 года как герой». (Из похоронки, присланной Епистимии Фёдоровне)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590920" y="457200"/>
            <a:ext cx="1457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Фёдор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54" name="Picture 5" descr="oc23-002"/>
          <p:cNvPicPr/>
          <p:nvPr/>
        </p:nvPicPr>
        <p:blipFill>
          <a:blip r:embed="rId1"/>
          <a:stretch/>
        </p:blipFill>
        <p:spPr>
          <a:xfrm>
            <a:off x="304920" y="380880"/>
            <a:ext cx="1828800" cy="151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oc23-003"/>
          <p:cNvPicPr/>
          <p:nvPr/>
        </p:nvPicPr>
        <p:blipFill>
          <a:blip r:embed="rId2"/>
          <a:stretch/>
        </p:blipFill>
        <p:spPr>
          <a:xfrm>
            <a:off x="6858000" y="2666880"/>
            <a:ext cx="177624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5943600" y="16765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Павел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4267080" y="457200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первые дни войны пропал без вести. Удалось лишь узнать: командовал взводом 141-го гаубичного артполка 55-й стрелковой дивизии, огнём встретил фашистов на границе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е Ивановне – жене, прислала письмо бывшая партизанка Мария Федотовна Руд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 партизанском отряде, во взводе разведки он был одним из лучших бойцов, аккуратно выполнял боевые задания – писала она. – В начале ноября его взяли каратели держали в Покровской тюрьме. 7-го забрали и меня. Мне пришлось сидеть в одной камере с ним. В том, что сделал, не раскаивался, на допросах не предавал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вого декабря его увезли на расстрел. Василий Михайлович не зачернил, умирая, своего имени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380880" y="2057400"/>
            <a:ext cx="1752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Васили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60" name="Picture 6" descr="oc23-004"/>
          <p:cNvPicPr/>
          <p:nvPr/>
        </p:nvPicPr>
        <p:blipFill>
          <a:blip r:embed="rId1"/>
          <a:stretch/>
        </p:blipFill>
        <p:spPr>
          <a:xfrm>
            <a:off x="380880" y="228600"/>
            <a:ext cx="1731960" cy="14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c23-005"/>
          <p:cNvPicPr/>
          <p:nvPr/>
        </p:nvPicPr>
        <p:blipFill>
          <a:blip r:embed="rId2"/>
          <a:stretch/>
        </p:blipFill>
        <p:spPr>
          <a:xfrm>
            <a:off x="6781680" y="5029200"/>
            <a:ext cx="186084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5867280" y="3962520"/>
            <a:ext cx="10954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Иль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838080" y="411480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 был кадровым военным, окончил 1-е Саратовское автобронетанковое училище, но дом всегда оставался для него отрадой душ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мандир роты 70-й отдельной танковой бригады, капитан, коммунист Илья Степанов погиб 14 июля 1943 года в бою на Курской дуге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81080" y="2282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армеец 699-го армейского полка Ф.М.Степанов в апреле сорок третьего попал в плен, умер 10 февраля в лагере 326 «Форелькруз» под Падерборн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oc23-006"/>
          <p:cNvPicPr/>
          <p:nvPr/>
        </p:nvPicPr>
        <p:blipFill>
          <a:blip r:embed="rId1"/>
          <a:stretch/>
        </p:blipFill>
        <p:spPr>
          <a:xfrm>
            <a:off x="380880" y="152280"/>
            <a:ext cx="1884600" cy="152424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457200" y="2057400"/>
            <a:ext cx="169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Филипп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67" name="Picture 4" descr="oc23-007"/>
          <p:cNvPicPr/>
          <p:nvPr/>
        </p:nvPicPr>
        <p:blipFill>
          <a:blip r:embed="rId2"/>
          <a:stretch/>
        </p:blipFill>
        <p:spPr>
          <a:xfrm>
            <a:off x="6735600" y="2819520"/>
            <a:ext cx="2014560" cy="167616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5105520" y="3124080"/>
            <a:ext cx="1143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Иван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838080" y="4267080"/>
            <a:ext cx="548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..Командир пулемётного взвода 310-го стрелкового полка младший лейтенант И.М.Степанов пропал без вести в 1941 году. Позже было установлено в братской могиле в деревне Драчково Смоленского района Минской области, похоронен партизан Степанов Иван Михайлович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Патроны кончились. Товарищ Степанов продолжает в упор расстреливать наседающего врага из личного оружия, уже свыше 15 солдат и офицеров убиты, враг наседает. Тогда Степанов погибает от взрыва собственной гранаты, вместе с ним гибнет группа фашистских мерзавцев». (Из наградного лис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вадцатилетнему коммунисту, старшему лейтенанту Александру Степанову посмертно присвоено звание Героя Советского Союз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c23-008"/>
          <p:cNvPicPr/>
          <p:nvPr/>
        </p:nvPicPr>
        <p:blipFill>
          <a:blip r:embed="rId1"/>
          <a:stretch/>
        </p:blipFill>
        <p:spPr>
          <a:xfrm>
            <a:off x="152280" y="304920"/>
            <a:ext cx="166536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981080" y="228600"/>
            <a:ext cx="23529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Александр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3276720" y="3962520"/>
            <a:ext cx="5333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..Командир пулемётного взвода 310-го стрелкового полка младший лейтенант И.М.Степанов пропал без вести в 1941 году. Позже было установлено в братской могиле в деревне Драчково Смоленского района Минской области, похоронен партизан Степанов Иван Михайлович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4" descr="oc23-009"/>
          <p:cNvPicPr/>
          <p:nvPr/>
        </p:nvPicPr>
        <p:blipFill>
          <a:blip r:embed="rId2"/>
          <a:stretch/>
        </p:blipFill>
        <p:spPr>
          <a:xfrm>
            <a:off x="152280" y="3352680"/>
            <a:ext cx="17431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1219320" y="5029200"/>
            <a:ext cx="1904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Никола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просто история семьи, история женщины, которая жила в каждом из своих сыновей, и которые жили в ней. Но теперь уже никто не сможет не назвать их героями. Мать, которая отдала детей России, дети, которые любили Россию как мать…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истимия Фёдоровна умерла в феврале 1969 года. Хоронили её с воинскими почестями на той самой площади, где её видели. Около величественно-скорбного обелиска с именами сыновей. Под плакучими ивами. У огня вечной сл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oc23-010"/>
          <p:cNvPicPr/>
          <p:nvPr/>
        </p:nvPicPr>
        <p:blipFill>
          <a:blip r:embed="rId1"/>
          <a:stretch/>
        </p:blipFill>
        <p:spPr>
          <a:xfrm>
            <a:off x="1523880" y="3581280"/>
            <a:ext cx="541044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5T16:34:5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