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81E7-64FE-4910-8D31-16025E1EEE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4D78-6294-400D-B036-416A5DDC22C2}" type="slidenum">
              <a:rPr b="0" lang="ru-RU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425-E8EA-4304-A503-870AB7BF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5EB0-E0D8-44DD-A21D-703B377B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D3F-BDE4-4424-B231-6C8EAF57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96AF-36F7-45BD-AE57-9BC7951C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1590-B2D3-4111-8F34-3DA00ADF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24E4-3615-484F-88F5-E154A83F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266C-D1F8-44B0-8BCA-EC1CF09F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4514-156E-455C-8158-693CD646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FD0F-4A3F-4FA7-B92E-1B458362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EB8B-15FD-4663-9902-9792C98F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47D5-EDCB-4DE9-921B-436FE4BB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1E9-B9F8-404A-B740-351A22DC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5BBF-0261-4A70-8C16-A6DE3B57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74D8-409C-4515-89CF-8D379217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C7CA-3EBF-4DC4-9707-67EF8A42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C4F1-009B-41E5-814B-01D9C567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B9D8-BA51-4F87-949B-E228105B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7DA9-760E-4EBC-9A2C-20261D19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12F-6939-468C-B955-D80009D2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800A-79CE-4DBE-9041-5D40AFEA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CA19-543E-4241-AECD-83EFEF81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9067-FE98-40BF-89BF-D94E3BB8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7BF4-A5CB-4324-A3B0-442C5918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018-2C93-46D2-A8D0-03513C51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18BF-F213-4369-A2D4-6546A76612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AD0F-A485-4D31-AD18-5923B8FC6403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214960" y="4214880"/>
            <a:ext cx="32148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Tahoma"/>
              </a:rPr>
              <a:t>Автор проекта: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ccecff"/>
                </a:solidFill>
                <a:latin typeface="Tahoma"/>
              </a:rPr>
              <a:t>Давыдова Полина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Tahoma"/>
              </a:rPr>
              <a:t>учащаяся МОУ СОШ №1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Tahoma"/>
              </a:rPr>
              <a:t>г. Юрьев-Польский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Tahoma"/>
              </a:rPr>
              <a:t>2011г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1560600" y="2401920"/>
            <a:ext cx="6943680" cy="120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Администратор\Рабочий стол\Добро)\2504206.jpg"/>
          <p:cNvPicPr/>
          <p:nvPr/>
        </p:nvPicPr>
        <p:blipFill>
          <a:blip r:embed="rId2"/>
          <a:stretch/>
        </p:blipFill>
        <p:spPr>
          <a:xfrm>
            <a:off x="1500120" y="571680"/>
            <a:ext cx="2049480" cy="164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28920" y="12139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00040" y="29289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питание в подрастающем поколении потребности и готовности к конструктивному взаимодействию с социумом на основе развития социальной активности и гражданской позиции в соответствии с общечеловеческими нравственными ценностями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7" name="Picture 5" descr="C:\Documents and Settings\Admin\Рабочий стол\baby01.gif"/>
          <p:cNvPicPr/>
          <p:nvPr/>
        </p:nvPicPr>
        <p:blipFill>
          <a:blip r:embed="rId1"/>
          <a:stretch/>
        </p:blipFill>
        <p:spPr>
          <a:xfrm>
            <a:off x="152280" y="79200"/>
            <a:ext cx="28530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76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.Развитие способности к толерантному общению,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к конструктивному взаимодействию с представителями социума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независимо от их принадлежности и мировоззрения. 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.Развитие мотивации к социально-активной деятельности;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формирование уважения и признания к себе и к людям, к миру. 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.Содействие утверждению в жизни современного общества идей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добра и красоты, духовного и физического совершенствования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детей и подростков; 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4.Создание условий для самореализации участников проекта. 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5. Формирование высокого уровня социальной ответственности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участников проекта за свои поступки сейчас и в будущем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6.Формирование социально-коммуникативных, творческих и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организаторских навыков у участников проекта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4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ahoma"/>
              </a:rPr>
              <a:t>Миссия проект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ктуализация лучших моральных качеств участников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оекта – доброты, сочувствия, деятельной помощи и 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ддержки тех, кто сегодня отторгнут своими родными 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близкими, оказался в трудной жизненной ситуации и, 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озможно, потерял веру в общество.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2" name="Picture 4" descr="C:\Documents and Settings\Администратор\Рабочий стол\Добро)\6950.jpeg"/>
          <p:cNvPicPr/>
          <p:nvPr/>
        </p:nvPicPr>
        <p:blipFill>
          <a:blip r:embed="rId1"/>
          <a:stretch/>
        </p:blipFill>
        <p:spPr>
          <a:xfrm>
            <a:off x="6072120" y="3714840"/>
            <a:ext cx="2500560" cy="2679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Участники проект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42960" y="2142720"/>
            <a:ext cx="82296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волонтерская группа 9-11 классы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члены школьных кружков: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Хозяюшка»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Историческое моделирование»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C:\Documents and Settings\Администратор\Рабочий стол\Добро)\квынш.jpeg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10485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9720" y="45684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Этапы работы </a:t>
            </a:r>
            <a:br>
              <a:rPr sz="4000"/>
            </a:b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над проектом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00120" y="2349360"/>
            <a:ext cx="7158240" cy="37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Проектировочный этап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Этап социальной пробы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Социальная проба 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Подведение итогов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Смета проект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28760" y="1643040"/>
          <a:ext cx="8215200" cy="4572000"/>
        </p:xfrm>
        <a:graphic>
          <a:graphicData uri="http://schemas.openxmlformats.org/drawingml/2006/table">
            <a:tbl>
              <a:tblPr/>
              <a:tblGrid>
                <a:gridCol w="755640"/>
                <a:gridCol w="3351240"/>
                <a:gridCol w="2054160"/>
                <a:gridCol w="2054160"/>
              </a:tblGrid>
              <a:tr h="1020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59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.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Ткань «Ситец»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3 м х 80 руб.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240 руб.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2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2.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Утеплитель «Синтепон»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м х 80 руб.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400 руб.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2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3.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Клубок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 шт.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0 руб.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4.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Бусинки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 пак.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30 руб.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2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.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Бросовый материал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2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           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того: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20 руб.</a:t>
                      </a:r>
                      <a:endParaRPr b="0" lang="en-US" sz="2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ahoma"/>
              </a:rPr>
              <a:t>Этапы изготовления кукол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1" name="Содержимое 3" descr=" Мастер-класс Шитьё: Радужные пупсы Капрон, Тесьма. Фото 6"/>
          <p:cNvPicPr/>
          <p:nvPr/>
        </p:nvPicPr>
        <p:blipFill>
          <a:blip r:embed="rId1"/>
          <a:stretch/>
        </p:blipFill>
        <p:spPr>
          <a:xfrm>
            <a:off x="244440" y="1262160"/>
            <a:ext cx="2084400" cy="24447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 Мастер-класс Шитьё: Радужные пупсы Капрон, Тесьма. Фото 12"/>
          <p:cNvPicPr/>
          <p:nvPr/>
        </p:nvPicPr>
        <p:blipFill>
          <a:blip r:embed="rId2"/>
          <a:stretch/>
        </p:blipFill>
        <p:spPr>
          <a:xfrm>
            <a:off x="3170160" y="1262160"/>
            <a:ext cx="2005200" cy="24811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5" descr=" Мастер-класс Шитьё: Радужные пупсы Капрон, Тесьма. Фото 18"/>
          <p:cNvPicPr/>
          <p:nvPr/>
        </p:nvPicPr>
        <p:blipFill>
          <a:blip r:embed="rId3"/>
          <a:stretch/>
        </p:blipFill>
        <p:spPr>
          <a:xfrm>
            <a:off x="6168960" y="1262160"/>
            <a:ext cx="2232000" cy="25844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6" descr=" Мастер-класс Шитьё: Радужные пупсы Капрон, Тесьма. Фото 22"/>
          <p:cNvPicPr/>
          <p:nvPr/>
        </p:nvPicPr>
        <p:blipFill>
          <a:blip r:embed="rId4"/>
          <a:stretch/>
        </p:blipFill>
        <p:spPr>
          <a:xfrm>
            <a:off x="231840" y="3975120"/>
            <a:ext cx="2120760" cy="23763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7" descr=" Мастер-класс Шитьё: Радужные пупсы Капрон, Тесьма. Фото 29"/>
          <p:cNvPicPr/>
          <p:nvPr/>
        </p:nvPicPr>
        <p:blipFill>
          <a:blip r:embed="rId5"/>
          <a:stretch/>
        </p:blipFill>
        <p:spPr>
          <a:xfrm>
            <a:off x="3316320" y="3902040"/>
            <a:ext cx="2157480" cy="2590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8" descr=" Мастер-класс Шитьё: Радужные пупсы Капрон, Тесьма. Фото 55"/>
          <p:cNvPicPr/>
          <p:nvPr/>
        </p:nvPicPr>
        <p:blipFill>
          <a:blip r:embed="rId6"/>
          <a:stretch/>
        </p:blipFill>
        <p:spPr>
          <a:xfrm>
            <a:off x="6242040" y="3902040"/>
            <a:ext cx="2158920" cy="2517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00320" y="928800"/>
            <a:ext cx="478620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Ожидаемые </a:t>
            </a:r>
            <a:br>
              <a:rPr sz="4400"/>
            </a:b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результаты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371484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  обретение участниками опыта социально активной деятельности;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  обретение опыта нравственного поведения и общения;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  овладение навыками и умениями социальной деятельности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9" name="Рисунок 3" descr=" Мастер-класс Шитьё: Радужные пупсы Капрон, Тесьма. Фото 1"/>
          <p:cNvPicPr/>
          <p:nvPr/>
        </p:nvPicPr>
        <p:blipFill>
          <a:blip r:embed="rId1"/>
          <a:stretch/>
        </p:blipFill>
        <p:spPr>
          <a:xfrm>
            <a:off x="384120" y="262080"/>
            <a:ext cx="3773520" cy="3371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22:08:22Z</dcterms:created>
  <dc:creator>а</dc:creator>
  <dc:description/>
  <dc:language>en-US</dc:language>
  <cp:lastModifiedBy>а</cp:lastModifiedBy>
  <dcterms:modified xsi:type="dcterms:W3CDTF">2003-11-14T03:12:31Z</dcterms:modified>
  <cp:revision>25</cp:revision>
  <dc:subject/>
  <dc:title>Слайд 1</dc:title>
</cp:coreProperties>
</file>