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6C45-88F7-4DC0-9B51-416F51365F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3046-FFDA-4FBB-AE5E-9641852453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3781-A92C-4D4F-A089-B2559DDC2B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988A-C7CE-4843-A276-BC33553FB2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D81E-3032-4EEB-A181-CEA6820E3B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3AD1-9AFE-4443-90CC-81F802AA42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9247-999E-4AFB-8AA6-A866B4984D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F3EA-DE35-4A67-9142-BED9720AB5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2E04-2129-4DBA-AF5B-8517C5C9A5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B874-F44D-45D1-B578-3E850D6CB7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7E1-012A-44B3-8E7A-DD3591FA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5C6-CA24-4122-A3B4-704DAEA1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13C-F170-4EDD-911B-7F151A42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AF26-BA17-48BA-AC53-2D34B790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99E-DA41-4DEF-BF17-A412B57A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ADE-CF75-4051-87A8-5CF68B36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74F5-B61C-43CF-8539-443924C9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53A7-A618-408D-A166-A7BFDA3A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74F8-57AF-44C3-B604-3BC83CF0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FE39-ADE5-4E03-97E6-E8001942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51E-5E99-4844-90EC-132FC45E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32A-5ECF-427D-9014-86746D0C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2362320" cy="6858000"/>
          </a:xfrm>
          <a:prstGeom prst="rect">
            <a:avLst/>
          </a:prstGeom>
          <a:solidFill>
            <a:srgbClr val="de9b2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2362320" y="0"/>
            <a:ext cx="6248160" cy="1752480"/>
          </a:xfrm>
          <a:prstGeom prst="rect">
            <a:avLst/>
          </a:prstGeom>
          <a:solidFill>
            <a:srgbClr val="c3881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-36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00"/>
                </a:solidFill>
                <a:latin typeface="Times New Roman"/>
              </a:rPr>
              <a:t>МЦИО, Алексеева Е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25F1-D539-4A7E-AE2A-3E28D9C642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680" y="4876920"/>
            <a:ext cx="655344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362320" y="304920"/>
            <a:ext cx="624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а индивидуального развит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ериод его обучения в начальной шко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 rot="16200000">
            <a:off x="728640" y="-74520"/>
            <a:ext cx="4888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852080" y="4941720"/>
            <a:ext cx="397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екрет успешного воспитания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 уважении к воспитываемому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. Эмерс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770280" y="6108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2" descr="3А 26 января 021"/>
          <p:cNvPicPr/>
          <p:nvPr/>
        </p:nvPicPr>
        <p:blipFill>
          <a:blip r:embed="rId1"/>
          <a:stretch/>
        </p:blipFill>
        <p:spPr>
          <a:xfrm>
            <a:off x="1835280" y="155736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2"/>
          <p:cNvSpPr/>
          <p:nvPr/>
        </p:nvSpPr>
        <p:spPr>
          <a:xfrm>
            <a:off x="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8229600" y="1752480"/>
            <a:ext cx="380880" cy="5105520"/>
          </a:xfrm>
          <a:prstGeom prst="rect">
            <a:avLst/>
          </a:prstGeom>
          <a:solidFill>
            <a:srgbClr val="c3a169"/>
          </a:solidFill>
          <a:ln w="9360">
            <a:solidFill>
              <a:srgbClr val="a680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362320" y="4572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Выработка силы во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4500720" y="152280"/>
            <a:ext cx="44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Направления работы по развитию ребенк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038480" y="990720"/>
            <a:ext cx="441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ля – способность совершать поступки согласно выбор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. Гумиле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438280" y="2590920"/>
            <a:ext cx="61722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1700280"/>
          <a:ext cx="8135640" cy="5051520"/>
        </p:xfrm>
        <a:graphic>
          <a:graphicData uri="http://schemas.openxmlformats.org/drawingml/2006/table">
            <a:tbl>
              <a:tblPr/>
              <a:tblGrid>
                <a:gridCol w="431640"/>
                <a:gridCol w="2232000"/>
                <a:gridCol w="2160720"/>
                <a:gridCol w="2376360"/>
                <a:gridCol w="934920"/>
              </a:tblGrid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рабо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ивное участие в работе детского ансамбля «Капельки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улярно посещает занят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улярно посещает занят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 педагогических ситуаций, направленных на преодоление себ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ичие постоянного поручения в класс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вляется физоргом, регулярно проводит утреннюю гимнастик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вляется физоргом,  регулярно проводит утреннюю гимнастику, игры во время подвижной переме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дение дневника «Самопреодолени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ел дневник, где отмечает список дел которые должен сделать и уже сдела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ятие в спортивной сек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исался в секцию полиатл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2"/>
          <p:cNvSpPr/>
          <p:nvPr/>
        </p:nvSpPr>
        <p:spPr>
          <a:xfrm>
            <a:off x="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8229600" y="1752480"/>
            <a:ext cx="380880" cy="5105520"/>
          </a:xfrm>
          <a:prstGeom prst="rect">
            <a:avLst/>
          </a:prstGeom>
          <a:solidFill>
            <a:srgbClr val="c3a169"/>
          </a:solidFill>
          <a:ln w="9360">
            <a:solidFill>
              <a:srgbClr val="a680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763640" y="457200"/>
            <a:ext cx="68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Научить говорить «нет» в ситуации выб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500720" y="152280"/>
            <a:ext cx="44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Направления работы по развитию ребенк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564000" y="990720"/>
            <a:ext cx="48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лько там, где существует возможность зла, может быть свободный и сознательный выбор доб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. Телушкин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2438280" y="2590920"/>
            <a:ext cx="61722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24000" y="1700280"/>
          <a:ext cx="8135640" cy="4437000"/>
        </p:xfrm>
        <a:graphic>
          <a:graphicData uri="http://schemas.openxmlformats.org/drawingml/2006/table">
            <a:tbl>
              <a:tblPr/>
              <a:tblGrid>
                <a:gridCol w="431640"/>
                <a:gridCol w="2232000"/>
                <a:gridCol w="2160720"/>
                <a:gridCol w="2376360"/>
                <a:gridCol w="934920"/>
              </a:tblGrid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рабо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ие классных часов по данной тематик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Как вести себя с незнакомыми людьм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Опасная дружб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Как не стать жертвой преступле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Невидимые враги человека, которые мешают ему жить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»Что значит быть ответственным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ие психологических тренинг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Ты остаешься дома один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Ты играешь во двор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Ты идешь по улице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Ты возвращаешься из школы и заходишь в подъезд дом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Тебя зовут покататься на машин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Тебе предлагают закурить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ижний колонтитул 5"/>
          <p:cNvSpPr/>
          <p:nvPr/>
        </p:nvSpPr>
        <p:spPr>
          <a:xfrm>
            <a:off x="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гнозируемые результат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2060640"/>
            <a:ext cx="6166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ффективность реализации программы развития оценивается по следующим критерия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вышение мотивации к уч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казател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тойчивый интерес к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оянно активно узнает что-то новое в разных областях науки и куль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работка силы во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казател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гда хорошо и в назначенные сроки выполняет любое порученное ему де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большинстве случаев правильно распределяет и в срок выполняет свою рабо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 правило, старается выполнить намеченное, даже если при этом встречаются труд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мение говорить «нет» в ситуации выб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казател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амостоятельно, без колебаний принимает ответственное реш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меет отказаться от «заманчивых предложений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ижний колонтитул 2"/>
          <p:cNvSpPr/>
          <p:nvPr/>
        </p:nvSpPr>
        <p:spPr>
          <a:xfrm>
            <a:off x="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2508120" y="1989000"/>
            <a:ext cx="66358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450720">
              <a:buClr>
                <a:srgbClr val="000000"/>
              </a:buClr>
              <a:buFont typeface="Times New Roman"/>
              <a:buAutoNum type="arabicPeriod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рсланьян В.П. Диагностика соотношения вербального и невербального компонентов в умственном развитии младшего школьника. // Автореферат на соискание ученой степени кандидата психологических наук. - М.: МГУ, 1996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450720">
              <a:buClr>
                <a:srgbClr val="000000"/>
              </a:buClr>
              <a:buFont typeface="Times New Roman"/>
              <a:buAutoNum type="arabicPeriod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реклеева Н.И. Родительские собрания. 1-4 классы. М.: «ВАКО», 2004, 252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450720">
              <a:buClr>
                <a:srgbClr val="000000"/>
              </a:buClr>
              <a:buFont typeface="Times New Roman"/>
              <a:buAutoNum type="arabicPeriod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реклеева Н.И. Справочник классного руководителя (1-4 классы) – М.: ВАКО, 2005, 272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450720">
              <a:buClr>
                <a:srgbClr val="000000"/>
              </a:buClr>
              <a:buFont typeface="Times New Roman"/>
              <a:buAutoNum type="arabicPeriod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линина Н.В. Лукьянова М.И. Психолого-педагогические показатели результативности образовательного процесса – Ульяновск: ИПК ПРО, 2002. 32 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450720">
              <a:buClr>
                <a:srgbClr val="000000"/>
              </a:buClr>
              <a:buFont typeface="Times New Roman"/>
              <a:buAutoNum type="arabicPeriod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тодическое руководство "Тест умственного развития младшего школьника 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438280" y="5335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28600" y="53352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когда не поздно поумнеть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.Деф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3581280" y="4419720"/>
            <a:ext cx="3353040" cy="0"/>
          </a:xfrm>
          <a:prstGeom prst="line">
            <a:avLst/>
          </a:prstGeom>
          <a:ln w="28440">
            <a:solidFill>
              <a:srgbClr val="a771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едения о ребен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411280" y="2792880"/>
            <a:ext cx="54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та и место рожд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340360" y="20595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.И.О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2411280" y="4280400"/>
            <a:ext cx="49672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е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т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2411280" y="5474520"/>
            <a:ext cx="22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тегория семь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029"/>
          <p:cNvSpPr/>
          <p:nvPr/>
        </p:nvSpPr>
        <p:spPr>
          <a:xfrm>
            <a:off x="3132000" y="476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то я тако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031"/>
          <p:cNvSpPr/>
          <p:nvPr/>
        </p:nvSpPr>
        <p:spPr>
          <a:xfrm>
            <a:off x="5148360" y="836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й 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034"/>
          <p:cNvSpPr/>
          <p:nvPr/>
        </p:nvSpPr>
        <p:spPr>
          <a:xfrm>
            <a:off x="5105520" y="1523880"/>
            <a:ext cx="4572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8c2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35"/>
          <p:cNvSpPr/>
          <p:nvPr/>
        </p:nvSpPr>
        <p:spPr>
          <a:xfrm>
            <a:off x="6378480" y="2060640"/>
            <a:ext cx="256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99"/>
                </a:solidFill>
                <a:latin typeface="Arial"/>
              </a:rPr>
              <a:t>Каким я бы хотел ст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036"/>
          <p:cNvSpPr/>
          <p:nvPr/>
        </p:nvSpPr>
        <p:spPr>
          <a:xfrm>
            <a:off x="4424040" y="2600280"/>
            <a:ext cx="21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99"/>
                </a:solidFill>
                <a:latin typeface="Arial"/>
              </a:rPr>
              <a:t>Не нравятся в себ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037"/>
          <p:cNvSpPr/>
          <p:nvPr/>
        </p:nvSpPr>
        <p:spPr>
          <a:xfrm>
            <a:off x="2442960" y="1990800"/>
            <a:ext cx="22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99"/>
                </a:solidFill>
                <a:latin typeface="Arial"/>
              </a:rPr>
              <a:t>Мои хорошие чер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038"/>
          <p:cNvSpPr/>
          <p:nvPr/>
        </p:nvSpPr>
        <p:spPr>
          <a:xfrm>
            <a:off x="3048120" y="4419720"/>
            <a:ext cx="487656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39"/>
          <p:cNvSpPr/>
          <p:nvPr/>
        </p:nvSpPr>
        <p:spPr>
          <a:xfrm>
            <a:off x="3048120" y="5029200"/>
            <a:ext cx="350496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2484360" y="2492280"/>
            <a:ext cx="1727280" cy="2160720"/>
          </a:xfrm>
          <a:prstGeom prst="rect">
            <a:avLst/>
          </a:prstGeom>
          <a:solidFill>
            <a:srgbClr val="efd8a9"/>
          </a:solidFill>
          <a:ln w="9360">
            <a:solidFill>
              <a:srgbClr val="ebd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бр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любл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ать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роший дру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спорю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4500720" y="3141720"/>
            <a:ext cx="1869840" cy="2160360"/>
          </a:xfrm>
          <a:prstGeom prst="rect">
            <a:avLst/>
          </a:prstGeom>
          <a:solidFill>
            <a:srgbClr val="efd8a9"/>
          </a:solidFill>
          <a:ln w="9360">
            <a:solidFill>
              <a:srgbClr val="ebd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терпелив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идчив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ксив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различ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т силы во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1"/>
          <p:cNvSpPr/>
          <p:nvPr/>
        </p:nvSpPr>
        <p:spPr>
          <a:xfrm>
            <a:off x="6659640" y="2492280"/>
            <a:ext cx="2233440" cy="2160720"/>
          </a:xfrm>
          <a:prstGeom prst="rect">
            <a:avLst/>
          </a:prstGeom>
          <a:solidFill>
            <a:srgbClr val="efd8a9"/>
          </a:solidFill>
          <a:ln w="9360">
            <a:solidFill>
              <a:srgbClr val="ebd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рошо учить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жить со все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ть помощник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м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ушаться старш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ть добр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2"/>
          <p:cNvSpPr/>
          <p:nvPr/>
        </p:nvSpPr>
        <p:spPr>
          <a:xfrm>
            <a:off x="-181080" y="2492280"/>
            <a:ext cx="2521080" cy="3987720"/>
          </a:xfrm>
          <a:prstGeom prst="rect">
            <a:avLst/>
          </a:prstGeom>
          <a:solidFill>
            <a:srgbClr val="b2b2b2"/>
          </a:solidFill>
          <a:ln w="9360">
            <a:solidFill>
              <a:srgbClr val="ebd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ужасно не люблю сидеть один дома, мне нужен круг общ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не могу долго занимать одним делом, доводить начатое дело до конц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е трудно сделать выбор, могу идти за любым независимо кто меня позов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 меня отсутствует сила воли, самоорганизаци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ижний колонтитул 2"/>
          <p:cNvSpPr/>
          <p:nvPr/>
        </p:nvSpPr>
        <p:spPr>
          <a:xfrm>
            <a:off x="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324000" y="2781360"/>
            <a:ext cx="2590560" cy="2303280"/>
          </a:xfrm>
          <a:prstGeom prst="rect">
            <a:avLst/>
          </a:prstGeom>
          <a:solidFill>
            <a:srgbClr val="d9c3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щитель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мение договаривать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брожелатель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ность помоч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мение слуш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181480" y="1522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Ребенок глазами семь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564000" y="620640"/>
            <a:ext cx="2743200" cy="1143000"/>
          </a:xfrm>
          <a:prstGeom prst="rect">
            <a:avLst/>
          </a:prstGeom>
          <a:solidFill>
            <a:srgbClr val="d9c3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79280" y="1916280"/>
            <a:ext cx="3311640" cy="761760"/>
          </a:xfrm>
          <a:prstGeom prst="rect">
            <a:avLst/>
          </a:prstGeom>
          <a:solidFill>
            <a:srgbClr val="c3a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 положительных чер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арактера, присущих ребенку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2"/>
          <p:cNvSpPr/>
          <p:nvPr/>
        </p:nvSpPr>
        <p:spPr>
          <a:xfrm flipH="1">
            <a:off x="3492000" y="1844640"/>
            <a:ext cx="1295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4932360" y="184464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5076720" y="184464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6804000" y="2924280"/>
            <a:ext cx="2160720" cy="2160360"/>
          </a:xfrm>
          <a:prstGeom prst="rect">
            <a:avLst/>
          </a:prstGeom>
          <a:solidFill>
            <a:srgbClr val="d9c3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остоятель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шитель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мение противостоят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гативным влияни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е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мощник по хозяй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мение отвечат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 свои поступ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7"/>
          <p:cNvSpPr/>
          <p:nvPr/>
        </p:nvSpPr>
        <p:spPr>
          <a:xfrm>
            <a:off x="3564000" y="3716280"/>
            <a:ext cx="2952720" cy="1441440"/>
          </a:xfrm>
          <a:prstGeom prst="rect">
            <a:avLst/>
          </a:prstGeom>
          <a:solidFill>
            <a:srgbClr val="d9c3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серьез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ерхност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сутствие силы во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собран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отказность во вс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3203640" y="2852640"/>
            <a:ext cx="3384360" cy="762120"/>
          </a:xfrm>
          <a:prstGeom prst="rect">
            <a:avLst/>
          </a:prstGeom>
          <a:solidFill>
            <a:srgbClr val="c3a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 черт характер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торые не нравятся в ребенк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6443640" y="1989000"/>
            <a:ext cx="2521080" cy="762120"/>
          </a:xfrm>
          <a:prstGeom prst="rect">
            <a:avLst/>
          </a:prstGeom>
          <a:solidFill>
            <a:srgbClr val="c3a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 черт характер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торые хотели б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работать в ребенк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2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3500"/>
                            </p:stCondLst>
                            <p:childTnLst>
                              <p:par>
                                <p:cTn id="20" nodeType="afterEffect" fill="hold" presetClass="entr" presetID="17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1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4000"/>
                            </p:stCondLst>
                            <p:childTnLst>
                              <p:par>
                                <p:cTn id="35" nodeType="afterEffect" fill="hold" presetClass="entr" presetID="17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2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ижний колонтитул 4"/>
          <p:cNvSpPr/>
          <p:nvPr/>
        </p:nvSpPr>
        <p:spPr>
          <a:xfrm>
            <a:off x="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077320" cy="6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940360" y="5084640"/>
            <a:ext cx="2343240" cy="5684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дко доводи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 конца задуман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5940360" y="1916280"/>
            <a:ext cx="2452680" cy="568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 умеет распределя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ою работу во времен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5940360" y="4221000"/>
            <a:ext cx="2519280" cy="64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ольшей част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тупает необдуманн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940360" y="3429000"/>
            <a:ext cx="2730600" cy="5684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 проявляет активно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общественной жиз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203640" y="1916280"/>
            <a:ext cx="2016000" cy="568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ится хорош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з особых усил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987640" y="2637000"/>
            <a:ext cx="2232000" cy="566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кренне сочувству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руги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771640" y="3429000"/>
            <a:ext cx="2448000" cy="566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гда охотно вступа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контакт с людь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484360" y="5877000"/>
            <a:ext cx="2705040" cy="568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классе ребята относя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 нему с симпати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2771640" y="4221000"/>
            <a:ext cx="2448000" cy="5684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лонен проявлят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боту об окружающ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5940360" y="2708280"/>
            <a:ext cx="2305080" cy="5684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лохо соизмеря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ои сил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2700360" y="5013360"/>
            <a:ext cx="2521080" cy="566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являет должно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важение к другим люд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1476360" y="1052640"/>
            <a:ext cx="6120000" cy="459720"/>
          </a:xfrm>
          <a:prstGeom prst="rect">
            <a:avLst/>
          </a:prstGeom>
          <a:solidFill>
            <a:srgbClr val="efd8a9"/>
          </a:solidFill>
          <a:ln w="9360">
            <a:solidFill>
              <a:srgbClr val="efd8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ткая характеристика уче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8"/>
          <p:cNvSpPr/>
          <p:nvPr/>
        </p:nvSpPr>
        <p:spPr>
          <a:xfrm rot="16200000">
            <a:off x="-1391400" y="38473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Ученик  глазами учите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5940360" y="5950080"/>
            <a:ext cx="2705040" cy="568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дко охотн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рётся за работ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ижний колонтитул 4"/>
          <p:cNvSpPr/>
          <p:nvPr/>
        </p:nvSpPr>
        <p:spPr>
          <a:xfrm>
            <a:off x="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ючевые проблемы, определяющие дальнейшее развитие ……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361960" y="2590560"/>
            <a:ext cx="6095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Отсутствие мотивации к уче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Отсутствие силы во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Не умение сказать «нет» в ситуации выб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2053"/>
          <p:cNvSpPr/>
          <p:nvPr/>
        </p:nvSpPr>
        <p:spPr>
          <a:xfrm>
            <a:off x="7164360" y="4221000"/>
            <a:ext cx="228600" cy="228600"/>
          </a:xfrm>
          <a:prstGeom prst="ellipse">
            <a:avLst/>
          </a:prstGeom>
          <a:solidFill>
            <a:srgbClr val="d39a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324000" y="2276640"/>
            <a:ext cx="1873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аши проблемы не исчезнут оттого, что мы закроем глаза и перестанем на них смотреть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У. Черчил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ижний колонтитул 5"/>
          <p:cNvSpPr/>
          <p:nvPr/>
        </p:nvSpPr>
        <p:spPr>
          <a:xfrm>
            <a:off x="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851280" y="228600"/>
            <a:ext cx="50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 программы развит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514600" y="68580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крепление эмоционально-волевой сферы учен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428920" y="2500200"/>
            <a:ext cx="563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мотивацию к уче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работка силы во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ение говорить «нет» в ситуации выб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8229600" y="1752480"/>
            <a:ext cx="380880" cy="5105520"/>
          </a:xfrm>
          <a:prstGeom prst="rect">
            <a:avLst/>
          </a:prstGeom>
          <a:solidFill>
            <a:srgbClr val="c3a169"/>
          </a:solidFill>
          <a:ln w="9360">
            <a:solidFill>
              <a:srgbClr val="a680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50920" y="1125360"/>
            <a:ext cx="19796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Цели надо ставить перед собой так, чтобы не забывать о пределах своих возможностей, и правильно поставленные цели должны быть достаточно гибкими, чтобы изменяться на протяжении всей жизн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Д. Джур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ижний колонтитул 2"/>
          <p:cNvSpPr/>
          <p:nvPr/>
        </p:nvSpPr>
        <p:spPr>
          <a:xfrm>
            <a:off x="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7"/>
          <p:cNvSpPr/>
          <p:nvPr/>
        </p:nvSpPr>
        <p:spPr>
          <a:xfrm>
            <a:off x="324000" y="4797360"/>
            <a:ext cx="3960720" cy="955800"/>
          </a:xfrm>
          <a:prstGeom prst="rect">
            <a:avLst/>
          </a:prstGeom>
          <a:solidFill>
            <a:srgbClr val="c3a169"/>
          </a:solidFill>
          <a:ln w="9360">
            <a:solidFill>
              <a:srgbClr val="a680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тическ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 период обучения в 1 класс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2438280" y="685800"/>
            <a:ext cx="541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ы реализации программы развития ребен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2556000" y="3429000"/>
            <a:ext cx="3960720" cy="955800"/>
          </a:xfrm>
          <a:prstGeom prst="rect">
            <a:avLst/>
          </a:prstGeom>
          <a:solidFill>
            <a:srgbClr val="c3a169"/>
          </a:solidFill>
          <a:ln w="9360">
            <a:solidFill>
              <a:srgbClr val="a680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ктической реализ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ериод обучения в 2-4 классах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4643280" y="2133720"/>
            <a:ext cx="3961080" cy="955440"/>
          </a:xfrm>
          <a:prstGeom prst="rect">
            <a:avLst/>
          </a:prstGeom>
          <a:solidFill>
            <a:srgbClr val="c3a169"/>
          </a:solidFill>
          <a:ln w="9360">
            <a:solidFill>
              <a:srgbClr val="a680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тико-рефлексив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конец обучения в 4 класс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2"/>
          <p:cNvSpPr/>
          <p:nvPr/>
        </p:nvSpPr>
        <p:spPr>
          <a:xfrm>
            <a:off x="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8229600" y="1752480"/>
            <a:ext cx="380880" cy="5105520"/>
          </a:xfrm>
          <a:prstGeom prst="rect">
            <a:avLst/>
          </a:prstGeom>
          <a:solidFill>
            <a:srgbClr val="c3a169"/>
          </a:solidFill>
          <a:ln w="9360">
            <a:solidFill>
              <a:srgbClr val="a680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362320" y="4572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овышение мотивации к уче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500720" y="152280"/>
            <a:ext cx="44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Направления работы по развитию ребенк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038480" y="990720"/>
            <a:ext cx="441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того, чтобы совершенствовать ум, надо больше размышлять, чем заучива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.Декар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2438280" y="2590920"/>
            <a:ext cx="61722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24000" y="1700280"/>
          <a:ext cx="8135640" cy="4635360"/>
        </p:xfrm>
        <a:graphic>
          <a:graphicData uri="http://schemas.openxmlformats.org/drawingml/2006/table">
            <a:tbl>
              <a:tblPr/>
              <a:tblGrid>
                <a:gridCol w="431640"/>
                <a:gridCol w="2087640"/>
                <a:gridCol w="2305080"/>
                <a:gridCol w="2376360"/>
                <a:gridCol w="934920"/>
              </a:tblGrid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рабо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ещение предметного кружка «Интеллектуальные игры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улярно посещает кружок. Результат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есто на школьной олимпиаде по математик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улярно посещает круж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есто на районной олимпиаде по литератур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ие в интеллектуальных играх «Русский медвежонок», «Кенгуру», «Инфознайк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л участие в интеллектуальных играх «Русский медвежонок», «Кенгуру», «Инфознай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л участие в интеллектуальной игре «Русский медвежонок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ые задания, связанные с поиском информации в различных источника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ил 2 выступления по природоведению. по теме «Насекомые», «Бытовая техника» и 2 выступления по литератур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ил 3 выступления по литературе к урокам и по природоведению по теме «Бронхи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учить проведение викторины по предмет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ил викторину по литературе «Наши любимые сказки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06:46:19Z</dcterms:created>
  <dc:creator>alekseevaev</dc:creator>
  <dc:description/>
  <dc:language>en-US</dc:language>
  <cp:lastModifiedBy>Наталья</cp:lastModifiedBy>
  <dcterms:modified xsi:type="dcterms:W3CDTF">2009-11-27T17:25:21Z</dcterms:modified>
  <cp:revision>115</cp:revision>
  <dc:subject/>
  <dc:title>Урок – это зеркало общей и педагогической культуры учителя, мерило его интеллектуального богатства, показатель его кругозора и эрудиции.  В.Сухомлинский  </dc:title>
</cp:coreProperties>
</file>