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05E-CC5C-43F4-AE75-4DB6DCC1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236-E510-4C87-A31B-E48EE7E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919-9066-4E37-8DB3-599297BC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7FC-5B8D-4B60-A986-B4B4438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753-EE03-404F-9342-FE0A32F7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D93-E893-46A1-908A-9A5B12E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4254-3448-4A41-BA69-5E27637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1B3-63D5-4E16-A6D9-F419445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C40-944F-4CE9-A1E7-F93DEAE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B6F-E35F-470F-A40A-284CF76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5EB4-E899-488A-B622-F88514D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BD5-7664-49B2-BA9B-757288D7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A6CC-280D-4347-B54D-A6C67B9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321-DA6F-4177-BF68-6C13CD7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ABBD-E4D1-44A9-ADAC-C8B6DB44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A9F5-05A4-4C50-9F55-6E15AE4F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C02-1C9F-4E14-A2D1-261C91D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A632-F8E7-4A76-8142-CE302184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3099-C5FE-4CE7-B448-9D97799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AF5E-C55A-46E0-AFA6-B8C6726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8232-8B4C-4BB0-AA94-385111B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B3B1-19D2-4486-8D38-22945B8B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551-18ED-4C6D-8BBF-402439F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52E9-78BD-4C5F-8D89-ED30FF9B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0CE3-6D08-47E3-8E46-A3ECB46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ECBD-8010-47D6-A119-A3B8C9D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071C-3ECA-4691-BD85-0A922047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61E8-5CAB-446A-A08A-570D3FD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9174-3817-4DF9-8878-2CB9B743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88DE-60E3-4608-9CF1-681EB696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D3DF-F084-43E2-B726-C32F5D9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E673-0D4F-4C0A-A9D3-0BA4228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4DED-6A5F-44BA-929A-7E6C0F3D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81E-FD76-40A1-B99E-374B342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CB57-6798-448E-A5B1-092B9282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8102-EEDC-4C67-A21E-BE95B2AA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365D-9681-4819-A0EB-3D999AA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9A7A-C27D-4673-95B4-E683855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8FA9-844F-46CD-A7CF-963EE70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C6BE-D63F-4EEB-A444-AD7C1C1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BEA8-D677-4DEA-85D2-5C507B0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C892-D73E-47FB-9F4B-1D2D48F0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9308-C583-4CD6-A439-8A1A6410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02E8-9792-4DE3-8591-00B13BD5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5A7-8199-4515-8A8C-523F757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029D-9C5F-4428-9AA5-3D959E4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554B-B5E8-4487-B7A7-FEEB713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CD56-B003-4F32-9C9C-B0905B9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A23D-26D3-41CE-83F5-6770115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19E1-B378-4996-BEF4-85C1F52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00B2-9256-4DE3-93FB-338B320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52C5-8BB8-4968-A3F9-C014734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AB23-B927-46EE-89C1-8E37E69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0BC0-C609-443C-B65C-6DF46BC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23C4-A64A-43E8-9347-E6DE3391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47C-32DC-44A6-88F3-84A6706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88DA-AEC9-40D7-B15F-D1D11677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A4A0-631C-4305-9A26-A4206E4A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F6E47-3B86-4562-B917-E351923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7C89-D867-43B5-8B39-C71E244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DE10-0FB7-4737-81DA-8F8B274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C685-661C-407B-ACBE-6DB6C7E5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9FC62-FB9E-4B60-B1BC-6D3FA27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940A-D7D0-4BAF-A38C-6FC187F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BF08-2B7B-472E-B9C1-66A560AD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AB8F-224B-4AB7-9468-E6B0573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1E7-421C-4F36-846A-75B18AD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6099-69D5-4D0E-BA3F-49D9F5A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666F-6381-4324-97A8-4FB7438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B97F-5408-4F97-834A-C83B08A4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94DE-7C43-46F4-A55A-A741E0D3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B410-86B6-4EC3-9EAD-59059F7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02727-37D5-41BC-B348-AFCCC50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6DA2-9436-4DBB-A4FA-25525C9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ABD6-7A57-4CF1-936A-E04417A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6A23-26C9-4EC4-BB88-5D12B5A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C878-4636-4A65-934B-CB3A9B7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0AA-6512-46CB-A372-4420AE5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C0BA8-014B-4BFA-BDDB-9FB682C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0CB0-F92F-471E-BBFA-60FFAC6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E4D4A-B2F2-41D8-9DD5-BA7093E3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0523-B5AB-407C-AD97-7FBEFBFF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BB44-E981-42D5-B6FF-0A741DA5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46C-CF98-4F50-9D29-625DE30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548-BB07-4712-A4D7-B0C18B1FCCE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B121-AD46-4D44-9A91-798A1C06E87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E9B-4FDB-49E1-ADFB-2F1E91CA922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C191-92D2-48FA-A2AE-CF8009B746E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6D9-5E66-439A-B14D-C6EFC283B72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836-9622-4C67-A8DC-A4A1BCA06936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124A-351D-4D2C-8188-6641C4E5C52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Современная модель музыкального воспитания детей-дошкольников делает акцент на развитие творческих и индивидуальных способностей, формирование эмоционально-волевой и двигательной сфер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4" descr="IMG_0989.JPG"/>
          <p:cNvPicPr/>
          <p:nvPr/>
        </p:nvPicPr>
        <p:blipFill>
          <a:blip r:embed="rId1"/>
          <a:stretch/>
        </p:blipFill>
        <p:spPr>
          <a:xfrm>
            <a:off x="1979640" y="1844640"/>
            <a:ext cx="6400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работе с детьми мы широко используем музыкальные инструменты  для проявления и реализации музыкальных, творческих и личностных возможностей дошкольников: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1640" y="1341000"/>
            <a:ext cx="749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держиваем у детей устойчивый интерес к музы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рививаем навыки игры на музыкальных инструментах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знакомим с произведениями детской классической музыки  на практи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8" descr="IMG_0991.JPG"/>
          <p:cNvPicPr/>
          <p:nvPr/>
        </p:nvPicPr>
        <p:blipFill>
          <a:blip r:embed="rId1"/>
          <a:stretch/>
        </p:blipFill>
        <p:spPr>
          <a:xfrm>
            <a:off x="3419640" y="2924280"/>
            <a:ext cx="498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 ярко проявляют себя музыкальные дети – те, которые имеют явную склонность к музыке, и кроме того, являются хорошими организатор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579640" y="475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я каким-либо опытом, умея исполнять то, что хотят, дети чувствуют себя непринужденно, их самостоятельные действия становятся активными, творческими, изобразительны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9" descr="IMG_0990.JPG"/>
          <p:cNvPicPr/>
          <p:nvPr/>
        </p:nvPicPr>
        <p:blipFill>
          <a:blip r:embed="rId1"/>
          <a:stretch/>
        </p:blipFill>
        <p:spPr>
          <a:xfrm>
            <a:off x="1476360" y="306864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музицирования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600" y="1052280"/>
            <a:ext cx="35686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ая форма - сюжетно-ролевая иг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76720" y="907920"/>
            <a:ext cx="3873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бирают тему под влиянием различных музыкальных впечатлений, распределяют роли и сюжет получает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гра  в оркестр, концерт, музыкальное занятие, известные  музыкальные телепередач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Объект 4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076720" y="404280"/>
            <a:ext cx="3857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ая форма  - игровые упражн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дидактического характера, во время которых ребенок тренируется, осваивая приемы игры на детских музыкальных инструментах или разучивая танцевальные движ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Объект 1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76880" y="475920"/>
            <a:ext cx="3657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аличие в группе специально оборудованного уголка, материалы которого позволяют пользоваться необходимыми инструментами, пособиями, дидактическими игр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9" descr="IMG_0986.JPG"/>
          <p:cNvPicPr/>
          <p:nvPr/>
        </p:nvPicPr>
        <p:blipFill>
          <a:blip r:embed="rId1"/>
          <a:stretch/>
        </p:blipFill>
        <p:spPr>
          <a:xfrm>
            <a:off x="1547640" y="765000"/>
            <a:ext cx="3657600" cy="30956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1547640" y="4221000"/>
            <a:ext cx="333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центр самостоятельной музык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40464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Обучение на занятиях, где дети овладевают способами самостоятельных действий; яркие впечатления от художественных зрелищ в детском саду, семье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85892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праздники, театральные спектакли, музыка в семь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Объект 9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402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115560"/>
            <a:ext cx="8001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обия, которыми ребенок может пользоваться самостоятельно: 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трументы (металлофоны, трещотки, треугольники, маракасы, музыкальные молоточки, ложки, погремушки, колокольчики и др.).      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астольные музыкально-дидактические игры.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- Комплекты и атрибуты кукольного и других видов театра, элементы костюмов, художественные игрушки.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6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6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в формировании самостоятельной музыкальной деятельности дошкольников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328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условие (фактор) развития музицирования 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свенное влияние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о подразумевает некоторые методические приемы, а именно,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и создание условий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х эту деятельность и определенный характер действий самого педагог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должны быть не инструкцией (как надо действовать), а побуждением – «Поиграем в праздник?... А хотите, мы вместе покажем сказку?... Интересно послушать наши любимые песенки… и т.п.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9:06:46Z</dcterms:created>
  <dc:creator>валерий</dc:creator>
  <dc:description/>
  <dc:language>en-US</dc:language>
  <cp:lastModifiedBy>1</cp:lastModifiedBy>
  <dcterms:modified xsi:type="dcterms:W3CDTF">2012-02-25T16:30:08Z</dcterms:modified>
  <cp:revision>55</cp:revision>
  <dc:subject/>
  <dc:title>Развитие творческих способностей и личностного потенциала ребенка в процессе самостоятельной музыкальной деятельности (музицирования).</dc:title>
</cp:coreProperties>
</file>