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F84B-511C-4BB1-8E65-0098BC39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0581-950B-4406-9A26-9A5596B0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F13-39A5-411C-B7E1-AACAC31E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E1AC-F7B0-4A84-882A-5A66F7B5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7A82-6C1F-4DBA-8538-F440CE53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74AD-C8D7-4E8A-A019-FEA5E5A6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3AF-98D3-413A-9467-7A7C65D3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65A-DB3A-49CF-9218-7EF13E7C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427-2013-48DF-BB6F-716442AC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D804-B157-4C8A-8E9F-3BB9C0C8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3D4-D1A0-4E9C-9426-930C91BB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069-BF08-4EDB-9409-6477D24B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D122-94E7-463A-9FF0-31D0E6B36B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982440" y="1844640"/>
            <a:ext cx="713160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С </a:t>
            </a: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2009 г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в 19 регионах РФ начался эксперимен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по изучению в школах духовно-нравственных дисципл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В сентябре 2010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Президентом Российской Федер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подписано письмо о вступление в процесс апробации Республики Марий Э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Изучение курса начинается с третьей четверти 4 клас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и продолжается в первой четверти 5-го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Родители смогут добровольно выбрать один из моду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четырех традиционных религий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из  мировых религиозных культу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либо основы светской э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4211640" y="404640"/>
            <a:ext cx="46814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"Основы религиозных культ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и светской этик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200960" y="5230080"/>
            <a:ext cx="673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cc"/>
                </a:solidFill>
                <a:latin typeface="Arial"/>
              </a:rPr>
              <a:t>Комплексный курс является светским и не предусматрив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cc"/>
                </a:solidFill>
                <a:latin typeface="Arial"/>
              </a:rPr>
              <a:t>обучение рели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cc"/>
                </a:solidFill>
                <a:latin typeface="Arial"/>
              </a:rPr>
              <a:t>Основная линия курса – культурологическ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osnovi-relig-cult"/>
          <p:cNvPicPr/>
          <p:nvPr/>
        </p:nvPicPr>
        <p:blipFill>
          <a:blip r:embed="rId1"/>
          <a:stretch/>
        </p:blipFill>
        <p:spPr>
          <a:xfrm>
            <a:off x="250920" y="260280"/>
            <a:ext cx="3809880" cy="1714680"/>
          </a:xfrm>
          <a:prstGeom prst="rect">
            <a:avLst/>
          </a:prstGeom>
          <a:ln w="0">
            <a:noFill/>
          </a:ln>
        </p:spPr>
      </p:pic>
      <p:sp>
        <p:nvSpPr>
          <p:cNvPr id="45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067280" y="1052640"/>
            <a:ext cx="4752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Модуль 4. Основы ислам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. «Россия-наша Родин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2. «Колыбель ислам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3. "Пророк Мухаммад - основатель ислама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4. «Начало пророчеств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5. «Чудесное путешествие проро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6. «Хидж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7. «Коран и Сунн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8. «Вера в Аллах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9. «Божественные Писания. Посланники бог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0. «Вера в Судный день и судьб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1. «Обязанности мусульман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2. «Поклонение Аллах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3. «Пост в месяц Рамадан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4. «Пожертвование во имя Всевышнег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5. «Паломничество в Мекк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6-17. «Творческие работы учащихс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Emblema_osnovy_islamskoi_kul'tury"/>
          <p:cNvPicPr/>
          <p:nvPr/>
        </p:nvPicPr>
        <p:blipFill>
          <a:blip r:embed="rId1"/>
          <a:stretch/>
        </p:blipFill>
        <p:spPr>
          <a:xfrm>
            <a:off x="684360" y="907920"/>
            <a:ext cx="28573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Emblema_osnovy_iudeyskoy_kul'tury"/>
          <p:cNvPicPr/>
          <p:nvPr/>
        </p:nvPicPr>
        <p:blipFill>
          <a:blip r:embed="rId1"/>
          <a:stretch/>
        </p:blipFill>
        <p:spPr>
          <a:xfrm>
            <a:off x="700200" y="620640"/>
            <a:ext cx="2701800" cy="30243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3924360" y="404640"/>
            <a:ext cx="4572000" cy="56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Модуль 6. Основы иудейской </a:t>
            </a: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. «Россия - наша Родин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2. «Введение в иудейскую духовную традицию. Культура и религ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3. «Тора-главная книга иудаизма. Сущность Торы. «Золотое правило Гиллел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4. «Письменная и Устная Тора. Классические тексты иудаизма»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6. «Евреи в Египте: от Йосефа до Мош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7.  «Исход из Египт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8. «Дарование Торы на горе Сина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9-10. «Пророки и праведники в иудейской культур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1. «Храм в жизни иудее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2. «Назначение синагоги и ее устройств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3. «Суббота (Шабат) в иудейской традиции. Субботний ритуал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4. «Молитвы и благословения в иудаизм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5. «Добро и зл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6-17. «Творческие работы учащихс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4211640" y="1413000"/>
            <a:ext cx="4572000" cy="45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Модуль 5. Основы буддий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. «Россия-наша Родин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2. «Культура и религия. Введение в буддийскую духовную традицию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3-4. «Будда и его учен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5-6. «Буддийский священный кано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«Трипитака»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7-8.  «Буддийская картина ми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9. «Добро и зл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0. «Принцип ненасил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1. «Любовь к человеку и ценность жизн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2. «Сострадание и милосерд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3. «Отношение к природ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4. «Буддийские учител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5. «Семья в буддийской культуре и ее ценно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6-17. «Творческие работы учащихс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Emblema_osnovy_buddiyskoi_kul'tury"/>
          <p:cNvPicPr/>
          <p:nvPr/>
        </p:nvPicPr>
        <p:blipFill>
          <a:blip r:embed="rId1"/>
          <a:stretch/>
        </p:blipFill>
        <p:spPr>
          <a:xfrm>
            <a:off x="826920" y="1197000"/>
            <a:ext cx="25686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530280" y="1341360"/>
            <a:ext cx="31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Emblema_osnovy_svetskoi_yetiki.jpg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30640" y="1700280"/>
            <a:ext cx="335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Emblema_osnovy_pravoslsvnoi_kul't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532080" y="2133720"/>
            <a:ext cx="30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Emblema_osnovy_islamskoi_kul't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603000" y="2565360"/>
            <a:ext cx="320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Emblema_osnovy_buddiyskoi_kul't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602640" y="3068640"/>
            <a:ext cx="31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Emblema_osnovy_iudeyskoy_kul't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532800" y="35002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newsru.com/religy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527400" y="3933720"/>
            <a:ext cx="377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cnlnews.tv/2010/02/26/exper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529200" y="671400"/>
            <a:ext cx="401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ru.wikipedia.org/wiki/Заглавная_стра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604440" y="1052640"/>
            <a:ext cx="23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rian.ru/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3206160" y="26028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Интернет-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596160" y="4437000"/>
            <a:ext cx="40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apkpro.ru/content/blogsection/49/62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3062160" y="5516640"/>
            <a:ext cx="4894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Материалы подготов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заместитель директора по УВР 1 ступени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ГОУ РМЭ «Лицей Бауманск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Т.И.Кадьк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20.04.2011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686160" y="4992840"/>
            <a:ext cx="160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йт АПКиПП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2124000" y="171360"/>
            <a:ext cx="633564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Arial"/>
                <a:ea typeface="Calibri"/>
              </a:rPr>
              <a:t>Министр образования и науки РФ А.А. Фурсенко так  прокомментировал цели и характер  нового учебного курс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Arial"/>
                <a:ea typeface="Calibri"/>
              </a:rPr>
              <a:t>«Это абсолютно </a:t>
            </a:r>
            <a:r>
              <a:rPr b="1" i="1" lang="ru-RU" sz="1400" spc="-1" strike="noStrike">
                <a:solidFill>
                  <a:srgbClr val="c00000"/>
                </a:solidFill>
                <a:latin typeface="Arial"/>
                <a:ea typeface="Calibri"/>
              </a:rPr>
              <a:t>светский курс</a:t>
            </a:r>
            <a:r>
              <a:rPr b="1" i="1" lang="ru-RU" sz="1400" spc="-1" strike="noStrike">
                <a:solidFill>
                  <a:srgbClr val="0033cc"/>
                </a:solidFill>
                <a:latin typeface="Arial"/>
                <a:ea typeface="Calibri"/>
              </a:rPr>
              <a:t>, который будут вести </a:t>
            </a:r>
            <a:r>
              <a:rPr b="1" i="1" lang="ru-RU" sz="1400" spc="-1" strike="noStrike">
                <a:solidFill>
                  <a:srgbClr val="c00000"/>
                </a:solidFill>
                <a:latin typeface="Arial"/>
                <a:ea typeface="Calibri"/>
              </a:rPr>
              <a:t>обычные учител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Arial"/>
                <a:ea typeface="Calibri"/>
              </a:rPr>
              <a:t>Ребята  смогут узнать об </a:t>
            </a:r>
            <a:r>
              <a:rPr b="1" i="1" lang="ru-RU" sz="1400" spc="-1" strike="noStrike">
                <a:solidFill>
                  <a:srgbClr val="c00000"/>
                </a:solidFill>
                <a:latin typeface="Arial"/>
                <a:ea typeface="Calibri"/>
              </a:rPr>
              <a:t>истории и культуре  </a:t>
            </a:r>
            <a:r>
              <a:rPr b="1" i="1" lang="ru-RU" sz="1400" spc="-1" strike="noStrike">
                <a:solidFill>
                  <a:srgbClr val="0033cc"/>
                </a:solidFill>
                <a:latin typeface="Arial"/>
                <a:ea typeface="Calibri"/>
              </a:rPr>
              <a:t>основных религий, ценностях светской эти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Arial"/>
                <a:ea typeface="Calibri"/>
              </a:rPr>
              <a:t>Задача, которая  стоит перед данным курсом, заключается в формировании общества, основанного на </a:t>
            </a:r>
            <a:r>
              <a:rPr b="1" i="1" lang="ru-RU" sz="1400" spc="-1" strike="noStrike">
                <a:solidFill>
                  <a:srgbClr val="c00000"/>
                </a:solidFill>
                <a:latin typeface="Arial"/>
                <a:ea typeface="Calibri"/>
              </a:rPr>
              <a:t>согласии и понимании</a:t>
            </a:r>
            <a:r>
              <a:rPr b="1" i="1" lang="ru-RU" sz="1400" spc="-1" strike="noStrike">
                <a:solidFill>
                  <a:srgbClr val="0033cc"/>
                </a:solidFill>
                <a:latin typeface="Arial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Arial"/>
                <a:ea typeface="Calibri"/>
              </a:rPr>
              <a:t> </a:t>
            </a:r>
            <a:r>
              <a:rPr b="1" i="1" lang="ru-RU" sz="1400" spc="-1" strike="noStrike">
                <a:solidFill>
                  <a:srgbClr val="0033cc"/>
                </a:solidFill>
                <a:latin typeface="Arial"/>
                <a:ea typeface="Calibri"/>
              </a:rPr>
              <a:t>Все мы </a:t>
            </a:r>
            <a:r>
              <a:rPr b="1" i="1" lang="ru-RU" sz="1400" spc="-1" strike="noStrike">
                <a:solidFill>
                  <a:srgbClr val="c00000"/>
                </a:solidFill>
                <a:latin typeface="Arial"/>
                <a:ea typeface="Calibri"/>
              </a:rPr>
              <a:t>разные,</a:t>
            </a:r>
            <a:r>
              <a:rPr b="1" i="1" lang="ru-RU" sz="1400" spc="-1" strike="noStrike">
                <a:solidFill>
                  <a:srgbClr val="0033cc"/>
                </a:solidFill>
                <a:latin typeface="Arial"/>
                <a:ea typeface="Calibri"/>
              </a:rPr>
              <a:t> но мы живем в  одной стране и должны учиться </a:t>
            </a:r>
            <a:r>
              <a:rPr b="1" i="1" lang="ru-RU" sz="1400" spc="-1" strike="noStrike">
                <a:solidFill>
                  <a:srgbClr val="c00000"/>
                </a:solidFill>
                <a:latin typeface="Arial"/>
                <a:ea typeface="Calibri"/>
              </a:rPr>
              <a:t>уважать </a:t>
            </a:r>
            <a:r>
              <a:rPr b="1" i="1" lang="ru-RU" sz="1400" spc="-1" strike="noStrike">
                <a:solidFill>
                  <a:srgbClr val="0033cc"/>
                </a:solidFill>
                <a:latin typeface="Arial"/>
                <a:ea typeface="Calibri"/>
              </a:rPr>
              <a:t>ценности представителей всех культур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Documents and Settings\t.kadkalo\Рабочий стол\9652cdbbd617.jpg"/>
          <p:cNvPicPr/>
          <p:nvPr/>
        </p:nvPicPr>
        <p:blipFill>
          <a:blip r:embed="rId1"/>
          <a:stretch/>
        </p:blipFill>
        <p:spPr>
          <a:xfrm>
            <a:off x="250920" y="189000"/>
            <a:ext cx="1385640" cy="1384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Documents and Settings\t.kadkalo\Рабочий стол\1291644815.049167_18.jpg"/>
          <p:cNvPicPr/>
          <p:nvPr/>
        </p:nvPicPr>
        <p:blipFill>
          <a:blip r:embed="rId2"/>
          <a:stretch/>
        </p:blipFill>
        <p:spPr>
          <a:xfrm>
            <a:off x="1763640" y="4221000"/>
            <a:ext cx="2860920" cy="16560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49" name="Picture 7" descr="C:\Documents and Settings\t.kadkalo\Рабочий стол\m_415661.jpg"/>
          <p:cNvPicPr/>
          <p:nvPr/>
        </p:nvPicPr>
        <p:blipFill>
          <a:blip r:embed="rId3"/>
          <a:stretch/>
        </p:blipFill>
        <p:spPr>
          <a:xfrm>
            <a:off x="4427640" y="4724280"/>
            <a:ext cx="2448000" cy="16002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50" name="Rectangle 13"/>
          <p:cNvSpPr/>
          <p:nvPr/>
        </p:nvSpPr>
        <p:spPr>
          <a:xfrm>
            <a:off x="970200" y="3363120"/>
            <a:ext cx="720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Arial"/>
                <a:ea typeface="Calibri"/>
              </a:rPr>
              <a:t>«Для нас всех важно, чтобы с самого начала было предусмотрено главное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Arial"/>
                <a:ea typeface="Calibri"/>
              </a:rPr>
              <a:t>  </a:t>
            </a:r>
            <a:r>
              <a:rPr b="1" i="1" lang="ru-RU" sz="1400" spc="-1" strike="noStrike">
                <a:solidFill>
                  <a:srgbClr val="c00000"/>
                </a:solidFill>
                <a:latin typeface="Arial"/>
                <a:ea typeface="Calibri"/>
              </a:rPr>
              <a:t>свобода выбора </a:t>
            </a:r>
            <a:r>
              <a:rPr b="1" i="1" lang="ru-RU" sz="1400" spc="-1" strike="noStrike">
                <a:solidFill>
                  <a:srgbClr val="0033cc"/>
                </a:solidFill>
                <a:latin typeface="Arial"/>
                <a:ea typeface="Calibri"/>
              </a:rPr>
              <a:t>дается именно родителям и ученик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Arial"/>
                <a:ea typeface="Calibri"/>
              </a:rPr>
              <a:t> </a:t>
            </a:r>
            <a:r>
              <a:rPr b="1" i="1" lang="ru-RU" sz="1400" spc="-1" strike="noStrike">
                <a:solidFill>
                  <a:srgbClr val="0033cc"/>
                </a:solidFill>
                <a:latin typeface="Arial"/>
                <a:ea typeface="Calibri"/>
              </a:rPr>
              <a:t>главным заказчикам образовательного процесс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332000" y="572760"/>
            <a:ext cx="7488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33cc"/>
                </a:solidFill>
                <a:uFillTx/>
                <a:latin typeface="Times New Roman"/>
                <a:ea typeface="Calibri"/>
              </a:rPr>
              <a:t>Апробация </a:t>
            </a: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Calibri"/>
              </a:rPr>
              <a:t>комплексного учебного курса предполага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Calibri"/>
              </a:rPr>
              <a:t>разработку  </a:t>
            </a:r>
            <a:r>
              <a:rPr b="1" lang="ru-RU" sz="1400" spc="-1" strike="noStrike" u="sng">
                <a:solidFill>
                  <a:srgbClr val="a50021"/>
                </a:solidFill>
                <a:uFillTx/>
                <a:latin typeface="Times New Roman"/>
                <a:ea typeface="Calibri"/>
              </a:rPr>
              <a:t>учебно-методического обеспече</a:t>
            </a:r>
            <a:r>
              <a:rPr b="1" lang="ru-RU" sz="1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ния </a:t>
            </a: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Calibri"/>
              </a:rPr>
              <a:t>комплексного учебного курса для общеобразовательных учреждений (рабочие программы, учебные пособия, методические рекомендации, книга для учителя, мультимедийные учебные пособия и др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a5002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a50021"/>
                </a:solidFill>
                <a:uFillTx/>
                <a:latin typeface="Times New Roman"/>
                <a:ea typeface="Calibri"/>
              </a:rPr>
              <a:t>тиражирование</a:t>
            </a:r>
            <a:r>
              <a:rPr b="1" lang="ru-RU" sz="1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 </a:t>
            </a: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Calibri"/>
              </a:rPr>
              <a:t>учебно-методических материалов в необходимом количеств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Calibri"/>
              </a:rPr>
              <a:t>организацию </a:t>
            </a:r>
            <a:r>
              <a:rPr b="1" lang="ru-RU" sz="1400" spc="-1" strike="noStrike" u="sng">
                <a:solidFill>
                  <a:srgbClr val="a50021"/>
                </a:solidFill>
                <a:uFillTx/>
                <a:latin typeface="Times New Roman"/>
                <a:ea typeface="Calibri"/>
              </a:rPr>
              <a:t>повышения квалификации </a:t>
            </a: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Calibri"/>
              </a:rPr>
              <a:t>работников образов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Calibri"/>
              </a:rPr>
              <a:t>проведение </a:t>
            </a:r>
            <a:r>
              <a:rPr b="1" lang="ru-RU" sz="1400" spc="-1" strike="noStrike" u="sng">
                <a:solidFill>
                  <a:srgbClr val="a50021"/>
                </a:solidFill>
                <a:uFillTx/>
                <a:latin typeface="Times New Roman"/>
                <a:ea typeface="Calibri"/>
              </a:rPr>
              <a:t>социологических исследований </a:t>
            </a: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Calibri"/>
              </a:rPr>
              <a:t>эффективности апробации комплексного учебного курса в субъектах Российской Федер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Calibri"/>
              </a:rPr>
              <a:t>- подготовку ежегодного </a:t>
            </a:r>
            <a:r>
              <a:rPr b="1" lang="ru-RU" sz="1400" spc="-1" strike="noStrike" u="sng">
                <a:solidFill>
                  <a:srgbClr val="a50021"/>
                </a:solidFill>
                <a:uFillTx/>
                <a:latin typeface="Times New Roman"/>
                <a:ea typeface="Calibri"/>
              </a:rPr>
              <a:t>доклада </a:t>
            </a:r>
            <a:r>
              <a:rPr b="1" lang="ru-RU" sz="1400" spc="-1" strike="noStrike">
                <a:solidFill>
                  <a:srgbClr val="a50021"/>
                </a:solidFill>
                <a:latin typeface="Times New Roman"/>
                <a:ea typeface="Calibri"/>
              </a:rPr>
              <a:t>в Правительство Российской Федерации </a:t>
            </a: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Calibri"/>
              </a:rPr>
              <a:t>по результатам </a:t>
            </a:r>
            <a:r>
              <a:rPr b="1" lang="ru-RU" sz="1400" spc="-1" strike="noStrike" u="sng">
                <a:solidFill>
                  <a:srgbClr val="a50021"/>
                </a:solidFill>
                <a:uFillTx/>
                <a:latin typeface="Times New Roman"/>
                <a:ea typeface="Calibri"/>
              </a:rPr>
              <a:t>мониторинга</a:t>
            </a: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Calibri"/>
              </a:rPr>
              <a:t> исследований  хода апробации комплексного учебного курса в субъектах Российской Федер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Calibri"/>
              </a:rPr>
              <a:t>- проведение </a:t>
            </a:r>
            <a:r>
              <a:rPr b="1" lang="ru-RU" sz="1400" spc="-1" strike="noStrike" u="sng">
                <a:solidFill>
                  <a:srgbClr val="a50021"/>
                </a:solidFill>
                <a:uFillTx/>
                <a:latin typeface="Times New Roman"/>
                <a:ea typeface="Calibri"/>
              </a:rPr>
              <a:t>конференций</a:t>
            </a:r>
            <a:r>
              <a:rPr b="1" lang="ru-RU" sz="1400" spc="-1" strike="noStrike">
                <a:solidFill>
                  <a:srgbClr val="a50021"/>
                </a:solidFill>
                <a:latin typeface="Times New Roman"/>
                <a:ea typeface="Calibri"/>
              </a:rPr>
              <a:t> </a:t>
            </a: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Calibri"/>
              </a:rPr>
              <a:t>в субъектах Российской Федераций -  участниках апробации комплексного учебного курса по обсуждению и распространению опыта в другие субъекты Российской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Calibri"/>
              </a:rPr>
              <a:t>- подготовку </a:t>
            </a:r>
            <a:r>
              <a:rPr b="1" lang="ru-RU" sz="1400" spc="-1" strike="noStrike" u="sng">
                <a:solidFill>
                  <a:srgbClr val="a50021"/>
                </a:solidFill>
                <a:uFillTx/>
                <a:latin typeface="Times New Roman"/>
                <a:ea typeface="Calibri"/>
              </a:rPr>
              <a:t>итогового доклада </a:t>
            </a: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Calibri"/>
              </a:rPr>
              <a:t>в Правительство Российской Федерации о результатах апробации комплексного учебного курса в субъектах Российской Федерации</a:t>
            </a:r>
            <a:r>
              <a:rPr b="1" i="1" lang="ru-RU" sz="1400" spc="-1" strike="noStrike">
                <a:solidFill>
                  <a:srgbClr val="0070c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971640" y="5445000"/>
            <a:ext cx="626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При получении положительных результатов апробации комплексного  учебного курса, начиная с 2012 года, преподавание комплексного  учебного курса может  осуществляться на постоянной основе во всех субъектах Российской Федерации</a:t>
            </a:r>
            <a:r>
              <a:rPr b="0" lang="ru-RU" sz="1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Documents and Settings\t.kadkalo\Рабочий стол\mi3.jpg"/>
          <p:cNvPicPr/>
          <p:nvPr/>
        </p:nvPicPr>
        <p:blipFill>
          <a:blip r:embed="rId1"/>
          <a:stretch/>
        </p:blipFill>
        <p:spPr>
          <a:xfrm>
            <a:off x="7020000" y="5373720"/>
            <a:ext cx="1531800" cy="1147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C:\Documents and Settings\t.kadkalo\Рабочий стол\information_items_166.jpg"/>
          <p:cNvPicPr/>
          <p:nvPr/>
        </p:nvPicPr>
        <p:blipFill>
          <a:blip r:embed="rId2"/>
          <a:stretch/>
        </p:blipFill>
        <p:spPr>
          <a:xfrm>
            <a:off x="131760" y="115920"/>
            <a:ext cx="148752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Нормативно-правовая и методическая</a:t>
            </a:r>
            <a:br>
              <a:rPr sz="1800"/>
            </a:b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докум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Концепция и структура комплексного учебного кур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Нормативно-правовое обеспеч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Протокол заседания Межведомственного координационного совета по апроб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Протокол заседания Межведомственного координационного совета от 15.03.10 г. №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Культуроведческий подход в преподавании кур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Поручение Президента РФ от 02.08.09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Распоряжение Правительства РФ от 29.10.09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Нормативно-правовые ак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Концепция и структура кур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C:\Documents and Settings\t.kadkalo\Рабочий стол\_004.jpg"/>
          <p:cNvPicPr/>
          <p:nvPr/>
        </p:nvPicPr>
        <p:blipFill>
          <a:blip r:embed="rId1"/>
          <a:stretch/>
        </p:blipFill>
        <p:spPr>
          <a:xfrm>
            <a:off x="1763640" y="4149720"/>
            <a:ext cx="1263600" cy="194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Documents and Settings\t.kadkalo\Рабочий стол\762997.jpg"/>
          <p:cNvPicPr/>
          <p:nvPr/>
        </p:nvPicPr>
        <p:blipFill>
          <a:blip r:embed="rId2"/>
          <a:stretch/>
        </p:blipFill>
        <p:spPr>
          <a:xfrm>
            <a:off x="3492360" y="4149720"/>
            <a:ext cx="1224000" cy="1903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C:\Documents and Settings\t.kadkalo\Рабочий стол\1001987459.jpg"/>
          <p:cNvPicPr/>
          <p:nvPr/>
        </p:nvPicPr>
        <p:blipFill>
          <a:blip r:embed="rId3"/>
          <a:stretch/>
        </p:blipFill>
        <p:spPr>
          <a:xfrm>
            <a:off x="4716360" y="4149720"/>
            <a:ext cx="1944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403280" y="11592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здательство "Просвещение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Учебн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"Основы религиозной куль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 светской этики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249969_20100219143802"/>
          <p:cNvPicPr/>
          <p:nvPr/>
        </p:nvPicPr>
        <p:blipFill>
          <a:blip r:embed="rId1"/>
          <a:stretch/>
        </p:blipFill>
        <p:spPr>
          <a:xfrm>
            <a:off x="250920" y="189000"/>
            <a:ext cx="1536480" cy="1152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971640" y="2060640"/>
            <a:ext cx="75610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Беглов А. Л., Саплина Е. В., Токарева Е. С., Ярлыкапов А. А. Основы мировых религиозных культур. 4-5 классы; учебное пособие для общеобразовательных учрежд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Основы религиозных культур и светской этики. 4-5 классы; учебное пособие для общеобразовательных учрежд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Кураев А. В. Основы православной культуры. 4-5 классы; учебное пособие для общеобразовательных учрежд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Также издано Электроное приложение к учебному пособию «Основы православной культуры, 4–5 классы» (C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Латышина Д. И., Муртазин М. Ф. Основы исламской культуры. 4-5 классы: учебное пособие для общеобразовательных учрежде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Чимитдоржиев В. Л. Основы религиозных культур и светской этики. Основы буддийской культуры. 4-5 классы: учебное пособие для общеобразовательных учрежде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Членов М. А., Миндрина Г. А., Глоцер А. В. Основы иудейской культуры. 4-5 классы: учебное пособие для общеобразовательных учрежде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C:\Documents and Settings\t.kadkalo\Рабочий стол\DSC03799.JPG"/>
          <p:cNvPicPr/>
          <p:nvPr/>
        </p:nvPicPr>
        <p:blipFill>
          <a:blip r:embed="rId2"/>
          <a:stretch/>
        </p:blipFill>
        <p:spPr>
          <a:xfrm>
            <a:off x="1763640" y="549360"/>
            <a:ext cx="202896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3995640" y="1197000"/>
            <a:ext cx="4572000" cy="43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Модуль 1. Основы мировых религиозных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. «Россия-наша Родин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2-3. "Культура и религия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4. « Возникновение религ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5. «Возникновение религий. Религии мира и их основател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6-7. "Священные книги религий мира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8. Хранители преданий в религиях ми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9-10.  «Добро и зло. Понятие греха, раскаяния и воздаяния»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1. «Человек в религиозных традициях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2-13 «Священные сооружения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4-15. «Искусство в религиозной культур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6-17. «Творческие работы учащихся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079960" y="47628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4 класс - 17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C:\Documents and Settings\t.kadkalo\Рабочий стол\1001937701.jpg"/>
          <p:cNvPicPr/>
          <p:nvPr/>
        </p:nvPicPr>
        <p:blipFill>
          <a:blip r:embed="rId1"/>
          <a:stretch/>
        </p:blipFill>
        <p:spPr>
          <a:xfrm>
            <a:off x="900000" y="620640"/>
            <a:ext cx="23907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276720" y="836640"/>
            <a:ext cx="525600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Модуль 2. Основы светской э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. "Россия - наша Родина"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2. "Что такое светская этика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3. «Культура и мораль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4. «Особенности морал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5-6. "Добро и зло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7-8. "Добродетель и порок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9. "Свобода и моральный выбор человека "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0. «Свобода и ответственнос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1. «Моральный долг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2. «Справедливос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3. «Альтруизм и эгоиз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4. «Дружб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5. «Что значит быть моральны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6-17. «Подводим итог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Emblema_osnovy_svetskoi_yetiki"/>
          <p:cNvPicPr/>
          <p:nvPr/>
        </p:nvPicPr>
        <p:blipFill>
          <a:blip r:embed="rId1"/>
          <a:stretch/>
        </p:blipFill>
        <p:spPr>
          <a:xfrm>
            <a:off x="395280" y="476280"/>
            <a:ext cx="2813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395280" y="692280"/>
            <a:ext cx="424980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cc"/>
                </a:solidFill>
                <a:latin typeface="Arial"/>
              </a:rPr>
              <a:t>О значении и содержании курса светской этики</a:t>
            </a:r>
            <a:r>
              <a:rPr b="1" i="1" lang="ru-RU" sz="1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Arial"/>
              </a:rPr>
              <a:t>в интервью РИА «Новости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Arial"/>
              </a:rPr>
              <a:t>рассказ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Arial"/>
              </a:rPr>
              <a:t>заведующий лабораторией нравственного образ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Arial"/>
              </a:rPr>
              <a:t>Института содержания и методов обуч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Arial"/>
              </a:rPr>
              <a:t>Российской академии образ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Arial"/>
              </a:rPr>
              <a:t>Эраст Коз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924360" y="2565360"/>
            <a:ext cx="4572000" cy="28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А что такое светская этика</a:t>
            </a: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? И какие вы предлагаете приемы ее преподавания в школ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- Синонимы понятия светская этика – нравственность, мораль, понимаемые как система норм и правил, выработанных обществом и им охраняемых. Детей следует учить этим правилам. Главное из них – не делай другим того, чего не хочешь, чтобы делали тебе. В наших учебниках это иллюстрируется примерами из мировой и русской классической литер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C:\Documents and Settings\t.kadkalo\Рабочий стол\БЛОГУН_57_1.gif"/>
          <p:cNvPicPr/>
          <p:nvPr/>
        </p:nvPicPr>
        <p:blipFill>
          <a:blip r:embed="rId1"/>
          <a:stretch/>
        </p:blipFill>
        <p:spPr>
          <a:xfrm>
            <a:off x="1835280" y="5300640"/>
            <a:ext cx="144144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t.kadkalo\Рабочий стол\1264014695_etika.jpg"/>
          <p:cNvPicPr/>
          <p:nvPr/>
        </p:nvPicPr>
        <p:blipFill>
          <a:blip r:embed="rId2"/>
          <a:stretch/>
        </p:blipFill>
        <p:spPr>
          <a:xfrm>
            <a:off x="1476360" y="3141720"/>
            <a:ext cx="18763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611280" y="620640"/>
            <a:ext cx="424800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Модуль 3. Основы православн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. «Россия-наша Родин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2. «Культура и религ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3. «Человек и Бог в православи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4. «Православная молитв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5. «Библия и Евангел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6. «Проповедь Христ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7. «Христос и Его крес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8. «Пасх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9. «Православное учение о человек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0. «Совесть и раскаян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1. «Заповед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2. «Милосердие и сострадан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3. «Золотое правило этик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4. «Хра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5. «Икон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6. «Творческие работы учащихс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к 17. «Подведение итог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Emblema_osnovy_pravoslsvnoi_kul'tury"/>
          <p:cNvPicPr/>
          <p:nvPr/>
        </p:nvPicPr>
        <p:blipFill>
          <a:blip r:embed="rId1"/>
          <a:stretch/>
        </p:blipFill>
        <p:spPr>
          <a:xfrm>
            <a:off x="5292720" y="549360"/>
            <a:ext cx="3139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5:04:41Z</dcterms:created>
  <dc:creator>t.kadkalo</dc:creator>
  <dc:description/>
  <dc:language>en-US</dc:language>
  <cp:lastModifiedBy>Owner</cp:lastModifiedBy>
  <dcterms:modified xsi:type="dcterms:W3CDTF">2011-06-03T18:46:30Z</dcterms:modified>
  <cp:revision>23</cp:revision>
  <dc:subject/>
  <dc:title>Слайд 1</dc:title>
</cp:coreProperties>
</file>