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84C6-E61A-4416-B9A6-7AAE0C67F0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FB01-6725-48F1-86B8-4A6ED0D4B9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1CB-2F8A-4A78-AF9C-70E1BE45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688D-228E-4A29-AA0F-F7859167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ED7C-633C-4F97-B815-5C46C72E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CDE8-7D3D-47B3-AD92-15EDC423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F90A-654F-4F05-9548-C115DBCD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0FBA-DE05-4802-A16E-35A91579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BE52-EC49-4A1B-AE87-C827F881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3C40-C1C9-4EB5-A603-8171BA3D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1B2E-40CA-4DAF-86C8-4E3C4F23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8E68-9975-47DB-ADE5-489CAACF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45F5-81D3-4B9F-8364-DEA6155E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9B0-F1CF-4B47-B5B4-537CC977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15C7-0B08-4997-B60A-037745ED4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1" descr=""/>
          <p:cNvPicPr/>
          <p:nvPr/>
        </p:nvPicPr>
        <p:blipFill>
          <a:blip r:embed="rId1"/>
          <a:stretch/>
        </p:blipFill>
        <p:spPr>
          <a:xfrm>
            <a:off x="-6480" y="573120"/>
            <a:ext cx="9156960" cy="2919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Сергей\Мои документы\Мои рисунки\Рисунок8.jpg"/>
          <p:cNvPicPr/>
          <p:nvPr/>
        </p:nvPicPr>
        <p:blipFill>
          <a:blip r:embed="rId2"/>
          <a:stretch/>
        </p:blipFill>
        <p:spPr>
          <a:xfrm>
            <a:off x="3124080" y="3581280"/>
            <a:ext cx="266724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298440" y="907920"/>
            <a:ext cx="902808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255600"/>
            <a:ext cx="9399600" cy="15796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390240" y="2133720"/>
            <a:ext cx="35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ланирова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0" y="28954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240" indent="-544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ивлечение к деятельности классного    руководителя психологической служб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152280" y="4114800"/>
            <a:ext cx="861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ответствие программы деятельности классного руководителя специфике школ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-106560" y="1301400"/>
            <a:ext cx="7869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«пользовател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ринцип «принятия другого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Прямоугольник 2" descr=""/>
          <p:cNvPicPr/>
          <p:nvPr/>
        </p:nvPicPr>
        <p:blipFill>
          <a:blip r:embed="rId1"/>
          <a:stretch/>
        </p:blipFill>
        <p:spPr>
          <a:xfrm>
            <a:off x="1914480" y="-182520"/>
            <a:ext cx="5797440" cy="12063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3"/>
          <p:cNvSpPr/>
          <p:nvPr/>
        </p:nvSpPr>
        <p:spPr>
          <a:xfrm>
            <a:off x="380880" y="3124080"/>
            <a:ext cx="845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нцип «проектирования и  реализаци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инцип «самосознающей позици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инцип «сотрудничества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1" descr=""/>
          <p:cNvPicPr/>
          <p:nvPr/>
        </p:nvPicPr>
        <p:blipFill>
          <a:blip r:embed="rId1"/>
          <a:stretch/>
        </p:blipFill>
        <p:spPr>
          <a:xfrm>
            <a:off x="291960" y="85680"/>
            <a:ext cx="8455320" cy="1719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0" y="2003400"/>
            <a:ext cx="8991720" cy="45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ть все ответы и реакции детей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 Обеспечивать независимость выбора и принятия  решений учащимися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 Восхищаться каждой идеей ученика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Использовать ошибку как возможность нового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 Поддерживать каждого ребен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 Исключить всякую критику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 Использовать повседневный опыт де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0" y="787320"/>
            <a:ext cx="9144000" cy="53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рные занятия для развития творческого потенциала подростков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лшебные звук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Symbol"/>
              </a:rPr>
              <a:t>2.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овая жизн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«Мой жизненный пут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  <a:ea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1" descr="gallery_2_391_5325"/>
          <p:cNvPicPr/>
          <p:nvPr/>
        </p:nvPicPr>
        <p:blipFill>
          <a:blip r:embed="rId1"/>
          <a:stretch/>
        </p:blipFill>
        <p:spPr>
          <a:xfrm>
            <a:off x="6629400" y="3473280"/>
            <a:ext cx="2305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Прямоугольник 1" descr=""/>
          <p:cNvPicPr/>
          <p:nvPr/>
        </p:nvPicPr>
        <p:blipFill>
          <a:blip r:embed="rId2"/>
          <a:stretch/>
        </p:blipFill>
        <p:spPr>
          <a:xfrm>
            <a:off x="-285840" y="457200"/>
            <a:ext cx="99536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1-04-04T12:42:13Z</dcterms:modified>
  <cp:revision>13</cp:revision>
  <dc:subject/>
  <dc:title>Слайд 1</dc:title>
</cp:coreProperties>
</file>