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6CD3-6365-4B35-AE2B-E670972B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B278-AE28-4EB8-8CB7-5DC6D768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5F74-16B4-4040-AA06-A8E5740E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AC0D-7356-43E8-8740-0B3AC580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D83F-8E5E-4F47-9852-3F3A28B2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8DE4-5140-44C8-AF13-C9F33302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9CA4-5719-4AE4-A30A-92DCA31C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7E99-227D-4A57-8465-1EED1943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221F-071D-4C87-8D3B-C7A8EE9D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94A8-5BDF-48E9-95E6-E413B34A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0C0A-380F-4EAC-9750-6EEB4D43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50B2-CBE9-4DFF-82C5-5C5FFEA5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0E0F-9FC2-4666-B919-0CD9D86FF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achalka.com/test_shablon" TargetMode="External"/><Relationship Id="rId2" Type="http://schemas.openxmlformats.org/officeDocument/2006/relationships/hyperlink" Target="http://www.nachalka.com/test_shablon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15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Шаблон тренаж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939960"/>
            <a:ext cx="8572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Как использовать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89898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Два первых слайда – основные, у них можно менять дизайн, но </a:t>
            </a:r>
            <a:r>
              <a:rPr b="1" lang="ru-RU" sz="1000" spc="-1" strike="noStrike">
                <a:solidFill>
                  <a:srgbClr val="ff0000"/>
                </a:solidFill>
                <a:latin typeface="Arial"/>
                <a:ea typeface="Arial"/>
              </a:rPr>
              <a:t>нельзя удалять</a:t>
            </a: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:</a:t>
            </a:r>
            <a:br>
              <a:rPr sz="1000"/>
            </a:b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а) кнопку на 1 слайде «Начать тест» (можно удалить кнопки 3 уровней, если они не нужны)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;</a:t>
            </a:r>
            <a:br>
              <a:rPr sz="1000"/>
            </a:b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б) заголовок, </a:t>
            </a:r>
            <a:r>
              <a:rPr b="0" i="1" lang="ru-RU" sz="1000" spc="-1" strike="noStrike">
                <a:solidFill>
                  <a:srgbClr val="ff0000"/>
                </a:solidFill>
                <a:latin typeface="Arial"/>
                <a:ea typeface="Arial"/>
              </a:rPr>
              <a:t>все блоки текста </a:t>
            </a: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 кнопку на 2 слайде («ещё»)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;</a:t>
            </a:r>
            <a:br>
              <a:rPr sz="1000"/>
            </a:b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в) сами 1-й и 2-й слайды (а также вставлять слайды между ними)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;</a:t>
            </a:r>
            <a:br>
              <a:rPr sz="1000"/>
            </a:b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г) в варианте с несколькими правильными ответами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 (</a:t>
            </a: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слайд 4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)</a:t>
            </a: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 нельзя удалять кнопку «ответ готов!». Кнопку «исправить» удалять можно (будет невозможен повтор в решении задания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89898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Задания тренажера начинаются с 3-го(!) слайда. Также рекомендуется сразу добавить к шаблону необходимое количество слайдов и придерживаться его (т.к. при беспорядочном удалении и вставке слайдов может нарушиться их нумерация, что важно для правильной работы тренажера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89898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Работа по составлению тренажера не требует ни одной строчки программирования. Все, что Вам нужно сделать – это </a:t>
            </a:r>
            <a:r>
              <a:rPr b="0" lang="ru-RU" sz="1000" spc="-1" strike="noStrike">
                <a:solidFill>
                  <a:srgbClr val="ff0000"/>
                </a:solidFill>
                <a:latin typeface="Arial"/>
                <a:ea typeface="Arial"/>
              </a:rPr>
              <a:t>применить к правильным объектам макрос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DA</a:t>
            </a:r>
            <a:r>
              <a:rPr b="0" lang="ru-RU" sz="1000" spc="-1" strike="noStrike">
                <a:solidFill>
                  <a:srgbClr val="ff0000"/>
                </a:solidFill>
                <a:latin typeface="Arial"/>
                <a:ea typeface="Arial"/>
              </a:rPr>
              <a:t>, а к неправильным – макрос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NET </a:t>
            </a: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в задании с одним правильным ответом (Вариант 1) или </a:t>
            </a:r>
            <a:r>
              <a:rPr b="0" lang="ru-RU" sz="1000" spc="-1" strike="noStrike">
                <a:solidFill>
                  <a:srgbClr val="ff0000"/>
                </a:solidFill>
                <a:latin typeface="Arial"/>
                <a:ea typeface="Arial"/>
              </a:rPr>
              <a:t>макрос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DA</a:t>
            </a:r>
            <a:r>
              <a:rPr b="0" lang="ru-RU" sz="1000" spc="-1" strike="noStrike">
                <a:solidFill>
                  <a:srgbClr val="ff0000"/>
                </a:solidFill>
                <a:latin typeface="Arial"/>
                <a:ea typeface="Arial"/>
              </a:rPr>
              <a:t>_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MN </a:t>
            </a:r>
            <a:r>
              <a:rPr b="0" lang="ru-RU" sz="1000" spc="-1" strike="noStrike">
                <a:solidFill>
                  <a:srgbClr val="ff0000"/>
                </a:solidFill>
                <a:latin typeface="Arial"/>
                <a:ea typeface="Arial"/>
              </a:rPr>
              <a:t>и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NET</a:t>
            </a:r>
            <a:r>
              <a:rPr b="0" lang="ru-RU" sz="1000" spc="-1" strike="noStrike">
                <a:solidFill>
                  <a:srgbClr val="ff0000"/>
                </a:solidFill>
                <a:latin typeface="Arial"/>
                <a:ea typeface="Arial"/>
              </a:rPr>
              <a:t>_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MN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 </a:t>
            </a: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в задании с несколькими правильными ответами (при Варианте 2 задание будет считаться выполненным, если выбраны ВСЕ правильные ответы на слайде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89898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Переход между слайдами осуществляется программно. При этом у каждого слайда нужно отключать «переход по клику»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89898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В коде 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VBA </a:t>
            </a: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для каждого уровня теста нужно </a:t>
            </a:r>
            <a:r>
              <a:rPr b="0" lang="ru-RU" sz="1000" spc="-1" strike="noStrike">
                <a:solidFill>
                  <a:srgbClr val="ff0000"/>
                </a:solidFill>
                <a:latin typeface="Arial"/>
                <a:ea typeface="Arial"/>
              </a:rPr>
              <a:t>указать номера первого и последнего слайда </a:t>
            </a: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каждого уровня в функциях 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wrk_start_L1</a:t>
            </a: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, 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wrk_start_L</a:t>
            </a: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2, 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wrk_start_L</a:t>
            </a: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3. Также нужно заменить на слайде 1 кнопку «Начать тест» на 3 или 2 кнопки «Уровень 1», «Уровень 2»… Если многоуровневый тест не нужен, то вместо трех кнопок оставляется одна – «Начать тест»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89898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По-умолчанию включена возможность повторения сделанных ошибок. Если во 2-м слайде удалить кнопку «исправить», то исправление задания предлагаться не будет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89898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Добавлен </a:t>
            </a:r>
            <a:r>
              <a:rPr b="0" lang="ru-RU" sz="1000" spc="-1" strike="noStrike">
                <a:solidFill>
                  <a:srgbClr val="ff0000"/>
                </a:solidFill>
                <a:latin typeface="Arial"/>
                <a:ea typeface="Arial"/>
              </a:rPr>
              <a:t>шаблон исправления неправильного текста с клавиатуры</a:t>
            </a: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. Шаблон имеет 2 эталона, располагающихся внизу вне зоны видимости слайда – «неправильный текст» (слева) и «правильный текст» (справа). Все что Вам необходимо сделать – заполнить эти два поля. Вставка текста осуществляется через выбор объекта 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TextBox </a:t>
            </a: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правой кнопкой, а затем меню «Объект 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TextBox</a:t>
            </a: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» 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=&gt; Edi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1285920" y="59421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5"/>
          <p:cNvSpPr/>
          <p:nvPr/>
        </p:nvSpPr>
        <p:spPr>
          <a:xfrm>
            <a:off x="3571920" y="59421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6"/>
          <p:cNvSpPr/>
          <p:nvPr/>
        </p:nvSpPr>
        <p:spPr>
          <a:xfrm>
            <a:off x="5857920" y="59421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7"/>
          <p:cNvSpPr/>
          <p:nvPr/>
        </p:nvSpPr>
        <p:spPr>
          <a:xfrm>
            <a:off x="3071880" y="50133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ариант 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уровень 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ариант 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уровень 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несколькими правильными ответ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кругленный прямоугольник 3"/>
          <p:cNvSpPr/>
          <p:nvPr/>
        </p:nvSpPr>
        <p:spPr>
          <a:xfrm>
            <a:off x="92880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12"/>
          <p:cNvSpPr/>
          <p:nvPr/>
        </p:nvSpPr>
        <p:spPr>
          <a:xfrm>
            <a:off x="92880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13"/>
          <p:cNvSpPr/>
          <p:nvPr/>
        </p:nvSpPr>
        <p:spPr>
          <a:xfrm>
            <a:off x="3643200" y="25002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14"/>
          <p:cNvSpPr/>
          <p:nvPr/>
        </p:nvSpPr>
        <p:spPr>
          <a:xfrm>
            <a:off x="3643200" y="39290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5"/>
          <p:cNvSpPr/>
          <p:nvPr/>
        </p:nvSpPr>
        <p:spPr>
          <a:xfrm>
            <a:off x="6286680" y="24289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16"/>
          <p:cNvSpPr/>
          <p:nvPr/>
        </p:nvSpPr>
        <p:spPr>
          <a:xfrm>
            <a:off x="628668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ариант 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уровень 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ариант 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уровень 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несколькими правильными ответ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кругленный прямоугольник 3"/>
          <p:cNvSpPr/>
          <p:nvPr/>
        </p:nvSpPr>
        <p:spPr>
          <a:xfrm>
            <a:off x="92880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12"/>
          <p:cNvSpPr/>
          <p:nvPr/>
        </p:nvSpPr>
        <p:spPr>
          <a:xfrm>
            <a:off x="92880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13"/>
          <p:cNvSpPr/>
          <p:nvPr/>
        </p:nvSpPr>
        <p:spPr>
          <a:xfrm>
            <a:off x="3643200" y="25002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14"/>
          <p:cNvSpPr/>
          <p:nvPr/>
        </p:nvSpPr>
        <p:spPr>
          <a:xfrm>
            <a:off x="3643200" y="39290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15"/>
          <p:cNvSpPr/>
          <p:nvPr/>
        </p:nvSpPr>
        <p:spPr>
          <a:xfrm>
            <a:off x="6286680" y="24289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16"/>
          <p:cNvSpPr/>
          <p:nvPr/>
        </p:nvSpPr>
        <p:spPr>
          <a:xfrm>
            <a:off x="628668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ариант 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уровень 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ариант 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уровень 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несколькими правильными ответ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Скругленный прямоугольник 3"/>
          <p:cNvSpPr/>
          <p:nvPr/>
        </p:nvSpPr>
        <p:spPr>
          <a:xfrm>
            <a:off x="92880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12"/>
          <p:cNvSpPr/>
          <p:nvPr/>
        </p:nvSpPr>
        <p:spPr>
          <a:xfrm>
            <a:off x="92880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13"/>
          <p:cNvSpPr/>
          <p:nvPr/>
        </p:nvSpPr>
        <p:spPr>
          <a:xfrm>
            <a:off x="3643200" y="25002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14"/>
          <p:cNvSpPr/>
          <p:nvPr/>
        </p:nvSpPr>
        <p:spPr>
          <a:xfrm>
            <a:off x="3643200" y="39290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15"/>
          <p:cNvSpPr/>
          <p:nvPr/>
        </p:nvSpPr>
        <p:spPr>
          <a:xfrm>
            <a:off x="6286680" y="24289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16"/>
          <p:cNvSpPr/>
          <p:nvPr/>
        </p:nvSpPr>
        <p:spPr>
          <a:xfrm>
            <a:off x="628668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Шаблон исправления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356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с исправлением текста (заполните 2 поля внизу, вне поля слайда. Левое – неправильным текстом, правое - правильным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Dmitri Ivanov</cp:lastModifiedBy>
  <dcterms:modified xsi:type="dcterms:W3CDTF">2008-10-25T23:38:55Z</dcterms:modified>
  <cp:revision>710</cp:revision>
  <dc:subject/>
  <dc:title>Слайд 1</dc:title>
</cp:coreProperties>
</file>