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9F0-3A6D-4CC3-907D-07249106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4DE-B41C-4EEF-A97A-0FBE6F62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60D-30BD-4202-B207-A1259F72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6B0-0643-4183-9BE6-DB57301D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9DE-7ADF-48BE-835D-19BE1A1B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6D3-0BF2-4A9B-A639-9020550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B37-CD2E-4570-8661-E740EFB2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D7F-886C-47B6-8B54-06C3E827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4E5-8383-4AC8-B390-2AC33F09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C25-7B66-4061-A6AC-D250884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41E-1908-4B56-8D2F-B4489031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7C3-41E3-41F7-A9EA-C905D91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D70-004A-4BD8-95B3-D7ECF3E7F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a_AlbionicTitulCm"/>
              </a:rPr>
              <a:t>Защитники От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49320" y="4400640"/>
            <a:ext cx="1650960" cy="1792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865080" y="3633840"/>
            <a:ext cx="164016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 rot="20376600">
            <a:off x="2367000" y="4216320"/>
            <a:ext cx="100944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 rot="20352000">
            <a:off x="1797120" y="5446800"/>
            <a:ext cx="1023840" cy="1244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6"/>
          <a:stretch/>
        </p:blipFill>
        <p:spPr>
          <a:xfrm rot="1257600">
            <a:off x="7224840" y="3559320"/>
            <a:ext cx="944280" cy="1163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"/>
          <p:cNvPicPr/>
          <p:nvPr/>
        </p:nvPicPr>
        <p:blipFill>
          <a:blip r:embed="rId7"/>
          <a:stretch/>
        </p:blipFill>
        <p:spPr>
          <a:xfrm rot="1249200">
            <a:off x="6113520" y="3889440"/>
            <a:ext cx="949320" cy="114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"/>
          <p:cNvPicPr/>
          <p:nvPr/>
        </p:nvPicPr>
        <p:blipFill>
          <a:blip r:embed="rId8"/>
          <a:stretch/>
        </p:blipFill>
        <p:spPr>
          <a:xfrm rot="1200000">
            <a:off x="7840440" y="4570200"/>
            <a:ext cx="10126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9"/>
          <a:stretch/>
        </p:blipFill>
        <p:spPr>
          <a:xfrm rot="1176600">
            <a:off x="6521040" y="5151600"/>
            <a:ext cx="1052640" cy="129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"/>
          <p:cNvPicPr/>
          <p:nvPr/>
        </p:nvPicPr>
        <p:blipFill>
          <a:blip r:embed="rId10"/>
          <a:stretch/>
        </p:blipFill>
        <p:spPr>
          <a:xfrm rot="20285400">
            <a:off x="676440" y="266760"/>
            <a:ext cx="1187280" cy="1351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"/>
          <p:cNvPicPr/>
          <p:nvPr/>
        </p:nvPicPr>
        <p:blipFill>
          <a:blip r:embed="rId11"/>
          <a:stretch/>
        </p:blipFill>
        <p:spPr>
          <a:xfrm rot="20318400">
            <a:off x="3403440" y="281160"/>
            <a:ext cx="1036800" cy="1293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"/>
          <p:cNvPicPr/>
          <p:nvPr/>
        </p:nvPicPr>
        <p:blipFill>
          <a:blip r:embed="rId12"/>
          <a:stretch/>
        </p:blipFill>
        <p:spPr>
          <a:xfrm rot="1295400">
            <a:off x="5468400" y="341280"/>
            <a:ext cx="928800" cy="1214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"/>
          <p:cNvPicPr/>
          <p:nvPr/>
        </p:nvPicPr>
        <p:blipFill>
          <a:blip r:embed="rId13"/>
          <a:stretch/>
        </p:blipFill>
        <p:spPr>
          <a:xfrm rot="1744800">
            <a:off x="7048080" y="274680"/>
            <a:ext cx="117324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6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501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2340000" y="452520"/>
            <a:ext cx="4535640" cy="60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77760" y="2273400"/>
            <a:ext cx="3036960" cy="45846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3049560" y="25653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4406760" cy="330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246320" y="907920"/>
            <a:ext cx="73389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1280" y="3068280"/>
            <a:ext cx="413856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AlbionicTitulCm"/>
              </a:rPr>
              <a:t>ЧТО ЛИШНЕ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6360" cy="2662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144360" y="189000"/>
            <a:ext cx="4932360" cy="1749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2965680" cy="2935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4156200" cy="237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0" y="2852640"/>
            <a:ext cx="489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AlbionicTitulCm"/>
              </a:rPr>
              <a:t>ЗАГАД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4221000"/>
            <a:ext cx="77724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395280" y="479520"/>
            <a:ext cx="3181320" cy="2120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665520" cy="262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3"/>
          <a:stretch/>
        </p:blipFill>
        <p:spPr>
          <a:xfrm rot="17877600">
            <a:off x="-122760" y="4415040"/>
            <a:ext cx="3987720" cy="897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4"/>
          <a:stretch/>
        </p:blipFill>
        <p:spPr>
          <a:xfrm>
            <a:off x="4716360" y="755640"/>
            <a:ext cx="374976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71920" cy="2670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173400" cy="2925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3"/>
          <a:stretch/>
        </p:blipFill>
        <p:spPr>
          <a:xfrm>
            <a:off x="165240" y="3789360"/>
            <a:ext cx="3178080" cy="2295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4"/>
          <a:stretch/>
        </p:blipFill>
        <p:spPr>
          <a:xfrm>
            <a:off x="4932360" y="3968640"/>
            <a:ext cx="271944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611280" y="390600"/>
            <a:ext cx="2914560" cy="2678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4356000" y="803160"/>
            <a:ext cx="3934080" cy="2217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2927520" cy="2976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4"/>
          <a:stretch/>
        </p:blipFill>
        <p:spPr>
          <a:xfrm>
            <a:off x="3965400" y="3933720"/>
            <a:ext cx="517860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45831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т загадка: словно птиц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ится в небе голуб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рода, моря, грани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загадки под кры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2395440" y="3157560"/>
            <a:ext cx="443232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Чудо птица, алый хвост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летела в стаю звез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2914560" y="2346480"/>
            <a:ext cx="315756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учек нет на горизонт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друг раскрылся в небе зонтик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рез несколько мину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устился …......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5" descr=""/>
          <p:cNvPicPr/>
          <p:nvPr/>
        </p:nvPicPr>
        <p:blipFill>
          <a:blip r:embed="rId1"/>
          <a:stretch/>
        </p:blipFill>
        <p:spPr>
          <a:xfrm>
            <a:off x="3133800" y="2925720"/>
            <a:ext cx="2949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, ребята, на границ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Нашу землю стережет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Чтоб работать и учитьс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Мог спокойно наш наро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2717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водой железный кит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нём и ночью кит не спит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нём и ночью под вод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храняет твой пок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70614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зает черепаха, стальная рубах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аг в овраг , черепаха - куда вра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2577960" y="2133720"/>
            <a:ext cx="3988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31800" y="2707920"/>
            <a:ext cx="5832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AlbionicTitulCm"/>
              </a:rPr>
              <a:t>КОМУ ЧТО НУЖ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13:42Z</dcterms:created>
  <dc:creator>Иннокентий</dc:creator>
  <dc:description/>
  <dc:language>en-US</dc:language>
  <cp:lastModifiedBy>Иннокентий</cp:lastModifiedBy>
  <dcterms:modified xsi:type="dcterms:W3CDTF">2012-02-25T09:50:52Z</dcterms:modified>
  <cp:revision>30</cp:revision>
  <dc:subject/>
  <dc:title>Презентация PowerPoint</dc:title>
</cp:coreProperties>
</file>