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458-3CDC-478E-BFB9-A896097D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D7E-0441-4194-8A99-2FE618B5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0AC-C887-4B56-B793-4DBE84FF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DB1-583C-44A5-8D73-4B928F07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C25-9CAC-4EDD-9E73-9CE6E36D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F94-F8A8-4F3B-A1A7-2FAC89A4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C3E-CA26-4871-AAAD-23169DFE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CC7-7C89-4224-9E3A-E4605CF6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D2C-DC5E-4965-8842-632BE3DA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122-1394-4AA2-AD1F-31F0ECBF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EDB-E9EA-415A-A13C-CB0A53B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2DD-B89E-43F7-BD78-C6ADA36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86EC-60E1-4A81-A411-5276DD56E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360" y="356760"/>
            <a:ext cx="8318520" cy="381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doni MT Black"/>
              </a:rPr>
              <a:t>23 февраля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doni MT Black"/>
              </a:rPr>
              <a:t>День Защитника Отечества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doni MT Black"/>
              </a:rPr>
              <a:t> История празд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фото маш"/>
          <p:cNvPicPr/>
          <p:nvPr/>
        </p:nvPicPr>
        <p:blipFill>
          <a:blip r:embed="rId1"/>
          <a:stretch/>
        </p:blipFill>
        <p:spPr>
          <a:xfrm>
            <a:off x="469800" y="214200"/>
            <a:ext cx="8174160" cy="53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285840" y="578736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шина боевого управления ракетных вой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1571760"/>
            <a:ext cx="8569080" cy="288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военно-морской флот входят соединения различных боевых кораблей, морская авиация, береговые базы, на которых располагаются боевые корабли и самол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фото подв"/>
          <p:cNvPicPr/>
          <p:nvPr/>
        </p:nvPicPr>
        <p:blipFill>
          <a:blip r:embed="rId1"/>
          <a:stretch/>
        </p:blipFill>
        <p:spPr>
          <a:xfrm>
            <a:off x="179280" y="380880"/>
            <a:ext cx="4321440" cy="463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фото тяж"/>
          <p:cNvPicPr/>
          <p:nvPr/>
        </p:nvPicPr>
        <p:blipFill>
          <a:blip r:embed="rId2"/>
          <a:stretch/>
        </p:blipFill>
        <p:spPr>
          <a:xfrm>
            <a:off x="5076720" y="404640"/>
            <a:ext cx="3888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076720" y="5641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оевой корабл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5688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водная лод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1571400"/>
            <a:ext cx="8425080" cy="30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ойска противовоздушной обороны вооружены зенитными ракетами и самолетами-истреби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фото зенитной установки"/>
          <p:cNvPicPr/>
          <p:nvPr/>
        </p:nvPicPr>
        <p:blipFill>
          <a:blip r:embed="rId1"/>
          <a:stretch/>
        </p:blipFill>
        <p:spPr>
          <a:xfrm>
            <a:off x="285840" y="333360"/>
            <a:ext cx="4176720" cy="496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фото истреб"/>
          <p:cNvPicPr/>
          <p:nvPr/>
        </p:nvPicPr>
        <p:blipFill>
          <a:blip r:embed="rId2"/>
          <a:stretch/>
        </p:blipFill>
        <p:spPr>
          <a:xfrm>
            <a:off x="4621320" y="285840"/>
            <a:ext cx="4165560" cy="501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428760" y="585936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енитная  раке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5003640" y="54324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молёт -истребите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893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мо слово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рм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произошло от латинского -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"арма"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"оружие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20901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Мы славим тех, кто не плака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От боли своей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Но слез не скрыва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На могилах друзей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Тех, кто мужчиной бы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Не на словах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Тех лучши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Сынов человечества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Тех, кто на страже Отечества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42242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Monotype Corsiva"/>
              </a:rPr>
              <a:t>Сегодня - праздник всех отцов,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Monotype Corsiva"/>
              </a:rPr>
              <a:t>Всех сыновей, всех, кто готов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Monotype Corsiva"/>
              </a:rPr>
              <a:t>Свой дом и маму защитить,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Monotype Corsiva"/>
              </a:rPr>
              <a:t>Всех нас от бед отгор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открытка к 23 февраля"/>
          <p:cNvPicPr/>
          <p:nvPr/>
        </p:nvPicPr>
        <p:blipFill>
          <a:blip r:embed="rId1"/>
          <a:stretch/>
        </p:blipFill>
        <p:spPr>
          <a:xfrm>
            <a:off x="4532400" y="333360"/>
            <a:ext cx="41828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6760" y="999720"/>
            <a:ext cx="8425080" cy="30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ЗДРАВЛЯЕМ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АС С ПРАЗДНИКОМ!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Днем Защитника Отечеств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176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жской праздник возник в 1918 году как день рождения Красной Армии в ознаменование победы под Нарвой и Псковом над немецкими вой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22-м, 23 февраля было объявлено "Днем Красной Армии". Позднее праздник переименовали в "День Советской Армии", а уже в наши дни, в "День Защитника Отечеств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нь первой победы стал днем рождения армии. Это как бы обозначило на будущее ее судьбу. Начав с победы, она с той поры не раз громила врагов нашей Родины. Не было ни одного захватчика, который бы не почувствовал на себе силу ее оруж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мия стала называться Советской, а затем - Российской, а 23 февраля ежегодно отмечался в СССР как всенародный праздник - День Советской Армии и Военно-Морского Флота, в ознаменование всеобщей мобилизации революционных сил на защиту социалистического Отечества, а также мужественного сопротивления отрядов Красной Армии захватч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оссийская Арми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это вооруженные силы нашей Родины, которые защищают ее независимость и своб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Arial"/>
              </a:rPr>
              <a:t>В вооруженные силы РФ входя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ухопутные войс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енно-воздушные си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кетные войска стратегического назнач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енно-морской фло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йска противовоздушной обороны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1643040"/>
            <a:ext cx="8137440" cy="2643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ухопутные войска - пехота, артиллерия, ракетные части, та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фото артиллерии"/>
          <p:cNvPicPr/>
          <p:nvPr/>
        </p:nvPicPr>
        <p:blipFill>
          <a:blip r:embed="rId1"/>
          <a:stretch/>
        </p:blipFill>
        <p:spPr>
          <a:xfrm>
            <a:off x="0" y="785880"/>
            <a:ext cx="4500720" cy="4608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611280" y="55760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тиллер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фото пехоты и танков"/>
          <p:cNvPicPr/>
          <p:nvPr/>
        </p:nvPicPr>
        <p:blipFill>
          <a:blip r:embed="rId2"/>
          <a:stretch/>
        </p:blipFill>
        <p:spPr>
          <a:xfrm>
            <a:off x="4500720" y="836640"/>
            <a:ext cx="4643280" cy="4537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4030560" y="5637960"/>
            <a:ext cx="48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хот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фото ракетной части"/>
          <p:cNvPicPr/>
          <p:nvPr/>
        </p:nvPicPr>
        <p:blipFill>
          <a:blip r:embed="rId1"/>
          <a:stretch/>
        </p:blipFill>
        <p:spPr>
          <a:xfrm>
            <a:off x="-71280" y="620640"/>
            <a:ext cx="4572000" cy="48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фото боевого танка т 55"/>
          <p:cNvPicPr/>
          <p:nvPr/>
        </p:nvPicPr>
        <p:blipFill>
          <a:blip r:embed="rId2"/>
          <a:stretch/>
        </p:blipFill>
        <p:spPr>
          <a:xfrm>
            <a:off x="4500720" y="622440"/>
            <a:ext cx="4643280" cy="4822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50920" y="5922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кетные част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932360" y="5859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ан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642680"/>
            <a:ext cx="8858160" cy="302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 военно-воздушные силы входят бомбардировочные истребительные, а также вертолетные части и соед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фото многоцелевого вертолёта"/>
          <p:cNvPicPr/>
          <p:nvPr/>
        </p:nvPicPr>
        <p:blipFill>
          <a:blip r:embed="rId1"/>
          <a:stretch/>
        </p:blipFill>
        <p:spPr>
          <a:xfrm>
            <a:off x="4572000" y="76500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324000" y="5490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мбардировочные истреби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356000" y="550296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толетные части и соед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фото стратегич"/>
          <p:cNvPicPr/>
          <p:nvPr/>
        </p:nvPicPr>
        <p:blipFill>
          <a:blip r:embed="rId2"/>
          <a:stretch/>
        </p:blipFill>
        <p:spPr>
          <a:xfrm>
            <a:off x="250920" y="757080"/>
            <a:ext cx="403524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5640" y="1260360"/>
            <a:ext cx="8713800" cy="3740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 ракетные войска входят части, вооруженные мощными ракетами, которые могут доставить в любую точку земного шара всесокрушающий атомный заря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32:56Z</dcterms:created>
  <dc:creator>Катя</dc:creator>
  <dc:description/>
  <dc:language>en-US</dc:language>
  <cp:lastModifiedBy>Admin</cp:lastModifiedBy>
  <dcterms:modified xsi:type="dcterms:W3CDTF">2011-02-28T20:40:41Z</dcterms:modified>
  <cp:revision>10</cp:revision>
  <dc:subject/>
  <dc:title>23 февраля.  День Защитника Отечества. История праздника.</dc:title>
</cp:coreProperties>
</file>