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2.gif" ContentType="image/gif"/>
  <Override PartName="/ppt/media/image10.png" ContentType="image/png"/>
  <Override PartName="/ppt/media/image28.wmf" ContentType="image/x-wmf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11.gif" ContentType="image/gif"/>
  <Override PartName="/ppt/media/image5.jpeg" ContentType="image/jpeg"/>
  <Override PartName="/ppt/media/image26.jpeg" ContentType="image/jpeg"/>
  <Override PartName="/ppt/media/image4.png" ContentType="image/png"/>
  <Override PartName="/ppt/media/image24.gif" ContentType="image/gif"/>
  <Override PartName="/ppt/media/image27.wmf" ContentType="image/x-wmf"/>
  <Override PartName="/ppt/media/image17.gif" ContentType="image/gif"/>
  <Override PartName="/ppt/media/image2.jpeg" ContentType="image/jpeg"/>
  <Override PartName="/ppt/media/image25.jpeg" ContentType="image/jpeg"/>
  <Override PartName="/ppt/media/image22.gif" ContentType="image/gif"/>
  <Override PartName="/ppt/media/image18.jpeg" ContentType="image/jpeg"/>
  <Override PartName="/ppt/media/image16.gif" ContentType="image/gif"/>
  <Override PartName="/ppt/media/image20.png" ContentType="image/png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3.png" ContentType="image/png"/>
  <Override PartName="/ppt/media/image23.gif" ContentType="image/gi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B6AC-5E50-4AA4-80EE-6D74A26B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475-4D1D-4376-876C-F22BC8E3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320F4-8930-42C6-80FC-8AC736D7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543ED-D6A9-4A37-8618-3B62584D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5A9F8-9ABF-44C2-9B15-468BD15A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6BB4F-9615-4729-ABCF-50B16FA4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9E20D-476F-410B-AA21-1A1AA113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81720-6798-43C1-9698-C5E5B09D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72256-AD79-4BE6-9347-86E5DFDF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2079F-D441-453E-986C-46E4B43C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EC112-2CE6-4ED2-84DA-2D2195CE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D4327-3F46-4654-8703-7B636374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8DE0-38B4-41C7-92E1-A2943B41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968EC-C8E8-479E-B666-E9937768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14ECB-A07B-4CB7-83E3-7C9DD349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D9334-A5F0-4923-96C8-3610B3BA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8BA87-9E02-456F-8D86-AB056C81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03BEB-2F94-4081-83E4-27973D65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48B73-1BC5-419D-8F33-3B3547D1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2A84F-8AE7-4F37-9251-F5868F9F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7FC43-4F99-46B3-9FAA-A1506775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8A963-32C5-43EC-BA40-0EC7D896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569C1-0D67-49B6-BEBB-121C34CE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69E2-8B7B-4762-811F-9320B990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747C8-3A3F-431E-B946-6C119ED5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F41C5-04AD-474A-BFCB-337E9C5E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52C25-53BB-4F92-94F1-8F66A3C2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4E23D-FE0B-423C-BB8F-CC60EE57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344C2-DF77-4A0E-9DFE-1C11E832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4871B-6F47-4568-8754-4D002FCF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BBF64-7DBD-4D4C-8BF6-C6D8C691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B1D34-9016-4430-AA04-AC21F964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4EEE3-5F7F-4CB2-A44A-47927631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EFD1D-E6E0-4C37-97CC-D159E6E7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AAFD-797B-4B54-A9E3-B06E737B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7C9D3-7DC8-4DB5-B46C-48E71FA5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FE7E9-74E5-4349-B9AA-ED1E9763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B2D28-D578-444A-98AC-BE01884E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195E7-914B-44E9-871D-26D70288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BDC33-DEC5-4F23-BADB-57D323D3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2334F-A597-43A6-B275-17DC81A4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A696D-82C7-458D-BC1B-66612D05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C274F-ADC3-4AB1-951F-11958204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52E10-3C73-426A-8D0C-762294EC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2A565-0437-47A0-AEAA-D5533CD6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B332-905B-47FB-A9CC-4E1E365F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02EBE-C94E-4539-B92F-A584FED8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FD00E-F052-403B-9FF1-2EC6B084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EFFC2-4EEA-492A-B2CD-35622030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0DA7F-0D06-4957-A84C-6BB2BDFF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5FBE7-05DB-4E90-B17A-12D613CF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F5DB18-8397-49BB-919B-0A281F35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FAC2B-D7AA-44DB-BD7F-42F1C1D5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AB6269-FB95-44BD-B0CE-AE02F60E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5FE89-BD09-4F12-B01F-429B2B16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070E1-347F-4397-BA85-2F39E7EE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31DF-9B0A-45A4-A402-E682EA70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F4E2E-1F1C-4891-9093-E80E490D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A5323-31E9-4822-A22F-B147DF2D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B0E56-E8FF-4DF9-88CD-34311BBD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B7E1C-56B4-4613-AF70-23F7437F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F232E-4FDA-4197-956A-6AC2531C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271A73-689C-4099-99FE-8DC58B9F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60827-2F47-445F-A851-0C3D8AA5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040E6C-14D6-49AE-9037-867380BC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F14203-12EA-4853-BA09-F142F1D8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DF4D37-65F2-47B8-A4AE-59DC9AA2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0904-8C38-4D92-AB17-D3BFCDE3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FF59B6-58C7-4F60-9368-9E064FEC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E4D700-2007-41B1-972C-802A8422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5F06E-ACF2-49E1-BFC6-420D0837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0E69E2-CC03-46BB-866D-A33E10EF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C7D23E-5457-46BD-AFFB-8E30A6EC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0B6EC-7193-4E4E-96F5-B902C383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7098F6-EF52-476A-9828-BF4DA93F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AFDBF4-24B8-41CF-8E92-816ED9D4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328BD-A007-42BC-9550-29493194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41F9E7-7E8C-49DE-B9AB-D6DE7675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F7FF-5FD5-4ED7-98E3-C9968CBE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277E6F-5739-4BB3-B704-AFE8D6CB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5CB638-05DF-4DCD-AB56-CCD3647B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555C4A-53DC-4519-87F4-93C2E3D9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11EE9F-509D-4471-9E97-C236091B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A0E582-44B5-4416-9076-C4E3A613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991D5C-CE8C-4D9C-8893-0FA607F7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0E0BFD-C6A0-4F2E-ACFB-27397091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009891-86AC-4224-8B51-43B69F40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6925DB-13CE-4621-9C16-B5E2AE79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538BEA-25E5-4E46-98B5-FEF7CF30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091B-3ED5-4C12-A4CC-D1CBE307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F07488-91EE-41A9-90EF-0D5B80AE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A893-E050-4D16-9EAE-E0480A76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906-8C4C-40F3-9696-83907AA2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931B-536F-4D06-8CB5-6674DC29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AFFE-4D87-4505-8F92-9720D3CA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867A-7CA9-4CB8-95A9-84F1D1E7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07BC-E0CF-402E-AF85-EBBF5535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7D5B-64BB-4070-8964-A8549CC4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69F5B-EE69-4AE8-BB97-64D652E8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F7858-8A83-476B-B542-6D0743CE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0C43C-D914-4C65-A2DD-64394312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F4564-659D-4991-BCB1-88A05021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F5400-0C8F-4C61-B695-6E6992ED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A95-BBC6-4145-A7C8-AB80BE41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C77CF-998C-4CE8-A061-3DD50AC9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AFC0F-7943-4A80-9BA1-D9644675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81623-641E-45E0-BD09-2893F1A1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BFD44-D4B6-4389-A802-41EFFB78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480A0-6653-4684-B857-D6DB11BE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B5AF2-D659-4592-9CC2-F881A414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7789A-759C-4909-AA10-E9196A85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2C849-2B5D-4826-82FC-0BC5E560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5303C-C388-4994-953B-C0F83C5B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C413D-4454-403C-8C50-FC25D3B3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1C88-64E0-4D90-8CDB-29BBF416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8BF9C-11B6-44D0-88FD-E7BF71EC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A0D79-2D98-464C-A3DF-1CA52BA1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395B6-81B0-4849-BBC6-84D22000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80D6A-F6F4-4F5C-A558-40EFEBD5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C88DC-9552-4286-A4E2-961EBEE5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A1377-0B56-4370-A9E5-3CB2EA03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91466-70AE-47E7-832A-83412AEF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B998A-2654-47AE-9164-30EE3AE3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0B259-87F2-43E9-B5E5-15E2079B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9EAF4-6EB8-4E1B-9D27-732DEA71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04C7-2BDE-4D21-A873-A12DC2C9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54FF0-52F5-4928-8734-A2B7D810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2FF01-DC19-454C-BFDD-8794B02F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37991-F41E-4644-8FDC-25B92E0A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C01B4-EECB-4395-9DC9-55F7C99F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F62B2-4287-4069-9805-59E260DD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3BC51-4F50-4D2E-B9DA-D9C1A62E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3899B-DF82-42F2-A149-DA065BE5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EF280-FE4C-445F-A89A-FCDBF501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35367-A3A4-4407-98D1-158A618D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B2039-5C6E-487C-81DF-4298F66D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E506-5FD7-41EB-97FA-11EA939A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A77D3-B3D0-42C3-B1DA-271A9372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A64A5-9CF8-4E5F-9232-EE1B8F77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8EE2A-8873-4E53-ABAA-54D84850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B6E2C-E12D-4F25-A733-C6AFFBE6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C55D2-C732-4C05-A393-9F1908DD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3B414-0272-4666-9D91-F498A71F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93605-63BC-42E5-BC19-84819914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5E8C8-463C-41AE-AB15-3E19B72B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0D14A-B250-4C4B-8D97-7936C729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A5E60-9523-415D-93CA-E8A2850D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593-E5D7-426B-8209-118DD262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8FBEE-56CD-45B6-99B5-702323AC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A6967-04FC-4BC0-8884-B92505FD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F01A8-5127-40D2-B19A-165DA890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4F725-89B5-43B8-B8C1-AC1443EA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37926-3E95-46DA-AB82-87BE6C46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E6B61-3197-4354-A4C8-A8E8636E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5A574-E57D-4978-9C84-F000C895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FFD1C-2E64-4C61-9F27-1CEB0902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81C04-0B95-41AA-A47F-23ED03DE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A4079-26E8-4ED4-AF9A-3CE48AC0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D190-FC08-4756-9E51-F190E61A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3461B-C04C-4F2D-BF7C-8857DC5F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8E92A-B5B7-4FA3-9D6B-E42D0F7D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D709A-82DF-44D3-9589-F61752E4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1A90B-0A0C-43F6-9C67-CB2BF407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BA1E7-D849-4FBF-9370-D8B6D92C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0E8B7-B734-4EFE-BBAD-794105DD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49497-CBBD-4BB0-8BD8-6387FB93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3CFC8-3E72-4E6F-9A63-231F7FA5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47710-0BA3-42F8-B5C0-E8EDB0FE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ABFD3-2323-487C-A550-72F59C11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A4C-9420-4696-A6D4-F76D33CC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2B001-AAB5-407F-A08B-34CB031E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5E724-D086-4BA6-9950-72911378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B350F-B3AE-46EF-A4B4-B10A99D1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4D9FD-2536-471A-B432-0C4BA82C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FE9D0-4099-4BE9-B89E-2A951C85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C564C-2F60-4621-A1F6-EE5E3957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54BB5-599B-4042-A7E1-D9B581BB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C1245-398D-4D98-9842-20E8456E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1C54C-FBB5-493B-B426-E1D0A7D4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C98C8-B380-4563-ABC0-0444D1E6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5F36-20A4-45D4-B440-B20817E27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CDD7-FFF8-4ECF-AD85-7981B5FB7E8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5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EB14-29C1-4D3F-9019-009291DB1CD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9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1151-C400-4698-85E7-4F83B860928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54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B2B9-74E0-4189-9372-CFE36116152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049C-A659-4145-9EB0-97A247294D2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513D-DE53-4FBD-8B8F-BB9660FAF4C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D1D7-5448-4F3A-84D4-C639CD141DA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3A47-9E17-4B8C-B350-AD42584F6C2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139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70A2-D518-403F-BD9A-C35AD02A33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D7E4-A2BA-4381-AB8D-6953FFE40C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2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234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ADEA-FA3F-4EC0-93EC-485DA4307A1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281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F2A2-156E-45B0-B4A8-5F9CEA65F5A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7229-E793-4DF2-81F9-336E755E5FC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0B5F-C8ED-4CD1-81B5-53B4CF0298E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Родительско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собрани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о 2 «В» классе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Verdana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Verdana"/>
              </a:rPr>
              <a:t>«Критерии оценок во 2 классе.   Как к ней относиться»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858000" y="502920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омбинированная контроль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воспринимать  отметки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 отметку. </a:t>
            </a:r>
            <a:r>
              <a:rPr b="1" lang="ru-RU" sz="2800" spc="-1" strike="noStrike">
                <a:solidFill>
                  <a:srgbClr val="692aa2"/>
                </a:solidFill>
                <a:latin typeface="Arial"/>
              </a:rPr>
              <a:t>Ему очень хочется быть в ваших глазах хорош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</a:t>
            </a:r>
            <a:r>
              <a:rPr b="0" lang="ru-RU" sz="2800" spc="-1" strike="noStrike" u="sng">
                <a:solidFill>
                  <a:srgbClr val="0a0aff"/>
                </a:solidFill>
                <a:uFillTx/>
                <a:latin typeface="Arial"/>
              </a:rPr>
              <a:t>врать и изворачиваться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чтобы избежать 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4" descr="j0282745"/>
          <p:cNvPicPr/>
          <p:nvPr/>
        </p:nvPicPr>
        <p:blipFill>
          <a:blip r:embed="rId1"/>
          <a:stretch/>
        </p:blipFill>
        <p:spPr>
          <a:xfrm>
            <a:off x="4267080" y="236232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ясните ему, что важен не только высокий результат. Больше важны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зна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которые он сможет                       приобрести в результате                    ежедневного, упорного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5" descr="AG00319_"/>
          <p:cNvPicPr/>
          <p:nvPr/>
        </p:nvPicPr>
        <p:blipFill>
          <a:blip r:embed="rId1"/>
          <a:stretch/>
        </p:blipFill>
        <p:spPr>
          <a:xfrm>
            <a:off x="4464000" y="3544920"/>
            <a:ext cx="4680000" cy="3313080"/>
          </a:xfrm>
          <a:prstGeom prst="rect">
            <a:avLst/>
          </a:prstGeom>
          <a:ln w="0">
            <a:noFill/>
          </a:ln>
        </p:spPr>
      </p:pic>
      <p:pic>
        <p:nvPicPr>
          <p:cNvPr id="720" name="Рисунок 4" descr="24.jpg"/>
          <p:cNvPicPr/>
          <p:nvPr/>
        </p:nvPicPr>
        <p:blipFill>
          <a:blip r:embed="rId2"/>
          <a:stretch/>
        </p:blipFill>
        <p:spPr>
          <a:xfrm>
            <a:off x="533520" y="4572000"/>
            <a:ext cx="18478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36480" cy="142236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4" descr="Рисунок16"/>
          <p:cNvPicPr/>
          <p:nvPr/>
        </p:nvPicPr>
        <p:blipFill>
          <a:blip r:embed="rId2"/>
          <a:stretch/>
        </p:blipFill>
        <p:spPr>
          <a:xfrm>
            <a:off x="7543800" y="3581280"/>
            <a:ext cx="121932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воего тру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чтобы ребёнку хотелось вам подра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4" descr="J0076204"/>
          <p:cNvPicPr/>
          <p:nvPr/>
        </p:nvPicPr>
        <p:blipFill>
          <a:blip r:embed="rId1"/>
          <a:stretch/>
        </p:blipFill>
        <p:spPr>
          <a:xfrm>
            <a:off x="3048120" y="4114800"/>
            <a:ext cx="5616360" cy="22096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8" descr="Учитель"/>
          <p:cNvPicPr/>
          <p:nvPr/>
        </p:nvPicPr>
        <p:blipFill>
          <a:blip r:embed="rId2"/>
          <a:stretch/>
        </p:blipFill>
        <p:spPr>
          <a:xfrm>
            <a:off x="762120" y="47242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1720" y="151920"/>
            <a:ext cx="7407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64305"/>
                </a:solidFill>
                <a:latin typeface="Corbel"/>
              </a:rPr>
              <a:t>Родительское собрание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Corbel"/>
              </a:rPr>
              <a:t>Повестка дня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Результаты учебно – воспитательного процесса за 1 полугоди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Оценка. Отмет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терии оценки .Как к ней относиться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Разно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?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Хорошее, как и плохое, запоминается ребёнком надолго и его хочется    повтор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усть ребёнок получает хорошую  отметку ради того, чтобы его             отметили. Вскоре это                                   станет привыч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4" descr="Карандаш"/>
          <p:cNvPicPr/>
          <p:nvPr/>
        </p:nvPicPr>
        <p:blipFill>
          <a:blip r:embed="rId3"/>
          <a:stretch/>
        </p:blipFill>
        <p:spPr>
          <a:xfrm>
            <a:off x="7543800" y="2438280"/>
            <a:ext cx="190512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01000" cy="990360"/>
          </a:xfrm>
          <a:prstGeom prst="rect">
            <a:avLst/>
          </a:prstGeom>
          <a:solidFill>
            <a:srgbClr val="f7ebb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8" descr="Учитель"/>
          <p:cNvPicPr/>
          <p:nvPr/>
        </p:nvPicPr>
        <p:blipFill>
          <a:blip r:embed="rId2"/>
          <a:stretch/>
        </p:blipFill>
        <p:spPr>
          <a:xfrm>
            <a:off x="3809880" y="304920"/>
            <a:ext cx="18687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8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739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746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1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754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768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773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Прямоугольник 48"/>
          <p:cNvSpPr/>
          <p:nvPr/>
        </p:nvSpPr>
        <p:spPr>
          <a:xfrm>
            <a:off x="6019920" y="2362320"/>
            <a:ext cx="28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8" descr="Учитель"/>
          <p:cNvPicPr/>
          <p:nvPr/>
        </p:nvPicPr>
        <p:blipFill>
          <a:blip r:embed="rId1"/>
          <a:stretch/>
        </p:blipFill>
        <p:spPr>
          <a:xfrm>
            <a:off x="762120" y="48769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 бесконтро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ясн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удности, с которыми встречается ребенок при выполнении домашнего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стро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бенка на выполнение заданий тех уроков, которые были сегодня, а задания на следующий день надо только повто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             индивидуален для каждого ребенка                 Не Следует ни торопиться, и ни затяг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суждайте с ребёнком то, что                                           задал учитель учить дома. Он                       руководствуется учебным планом и                         и утверждённой школьной програм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до помнить 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Рисунок 4" descr="1september.jpg"/>
          <p:cNvPicPr/>
          <p:nvPr/>
        </p:nvPicPr>
        <p:blipFill>
          <a:blip r:embed="rId1"/>
          <a:stretch/>
        </p:blipFill>
        <p:spPr>
          <a:xfrm>
            <a:off x="7620120" y="152280"/>
            <a:ext cx="13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мните об этом!!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522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учитьс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аша родительская обязанность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Статья 52                                «Закон «Закон об образован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5" descr="j0088510"/>
          <p:cNvPicPr/>
          <p:nvPr/>
        </p:nvPicPr>
        <p:blipFill>
          <a:blip r:embed="rId1"/>
          <a:stretch/>
        </p:blipFill>
        <p:spPr>
          <a:xfrm>
            <a:off x="5943600" y="3200400"/>
            <a:ext cx="30052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его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00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8915400" cy="68580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спехов и терпения ВАМ в воспитании и обучении детей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WordArt 2"/>
          <p:cNvSpPr txBox="1"/>
          <p:nvPr/>
        </p:nvSpPr>
        <p:spPr>
          <a:xfrm rot="20901000">
            <a:off x="831960" y="1698120"/>
            <a:ext cx="7418160" cy="271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804" name="Picture 3" descr="j0305589[1]"/>
          <p:cNvPicPr/>
          <p:nvPr/>
        </p:nvPicPr>
        <p:blipFill>
          <a:blip r:embed="rId1"/>
          <a:stretch/>
        </p:blipFill>
        <p:spPr>
          <a:xfrm>
            <a:off x="6556320" y="4549680"/>
            <a:ext cx="1647720" cy="139392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8" descr="Учитель"/>
          <p:cNvPicPr/>
          <p:nvPr/>
        </p:nvPicPr>
        <p:blipFill>
          <a:blip r:embed="rId2"/>
          <a:stretch/>
        </p:blipFill>
        <p:spPr>
          <a:xfrm>
            <a:off x="457200" y="9907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Rectangle 2" descr=""/>
          <p:cNvPicPr/>
          <p:nvPr/>
        </p:nvPicPr>
        <p:blipFill>
          <a:blip r:embed="rId2"/>
          <a:stretch/>
        </p:blipFill>
        <p:spPr>
          <a:xfrm>
            <a:off x="1214280" y="142920"/>
            <a:ext cx="7429680" cy="6429240"/>
          </a:xfrm>
          <a:prstGeom prst="rect">
            <a:avLst/>
          </a:prstGeom>
          <a:ln w="0">
            <a:noFill/>
          </a:ln>
        </p:spPr>
      </p:pic>
      <p:sp>
        <p:nvSpPr>
          <p:cNvPr id="676" name="Прямоугольник 4"/>
          <p:cNvSpPr/>
          <p:nvPr/>
        </p:nvSpPr>
        <p:spPr>
          <a:xfrm>
            <a:off x="2500200" y="5857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932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ad9326"/>
                </a:solidFill>
                <a:latin typeface="Arial"/>
              </a:rPr>
              <a:t>Р. Кипл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4" descr="Карандаш"/>
          <p:cNvPicPr/>
          <p:nvPr/>
        </p:nvPicPr>
        <p:blipFill>
          <a:blip r:embed="rId3"/>
          <a:stretch/>
        </p:blipFill>
        <p:spPr>
          <a:xfrm>
            <a:off x="7929720" y="3929040"/>
            <a:ext cx="1684080" cy="24606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" descr="Глобус"/>
          <p:cNvPicPr/>
          <p:nvPr/>
        </p:nvPicPr>
        <p:blipFill>
          <a:blip r:embed="rId4"/>
          <a:stretch/>
        </p:blipFill>
        <p:spPr>
          <a:xfrm>
            <a:off x="142920" y="142920"/>
            <a:ext cx="1238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1" name=""/>
          <p:cNvSpPr/>
          <p:nvPr/>
        </p:nvSpPr>
        <p:spPr>
          <a:xfrm>
            <a:off x="-69480" y="-32040"/>
            <a:ext cx="827460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о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 критериях оценивания знаний учащихся 2-4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ниципального общеобразовательного учреж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1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Общие по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1. Настоящее положение регламентирует порядок оцени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х достижен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ровня знаний и умен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выков учащихся при текущем и итоговом контр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ающихся 2-4 классов и разработано на основ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она РФ «Об образовании» в ред. от 02.02.2011 №2-Ф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ожения о порядке проведения промежуточной аттес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ереводных классах школ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пового положения об общеобразовательном учреждении, утвержден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ановлением правительства РФ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9 марта  2001г. № 196 (в ред. от 10.03.2009 № 21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йствующих нормативных требований по оценке знаний, умени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выков учащихся по отдельным учебным предметам и образовательным областя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тодического письма «Контроль результа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я в начальной школе», №1561/14-15 от 19.11.1998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2. Система контроля и оценки ставит следующую задачу: развить 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кольников умение проверять и контролировать себ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итически оценивать свою деятельность, находить ошибки и пути их устра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3. С учетом современных требований к оценочной деятельности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альной школе вводится четырехбалльная система цифровых оце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меняется оценка «очень плох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тметка 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ритерии оц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или 1ошибка и 2 ис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685" name="Рисунок 4" descr="335ohp.jpg"/>
          <p:cNvPicPr/>
          <p:nvPr/>
        </p:nvPicPr>
        <p:blipFill>
          <a:blip r:embed="rId2"/>
          <a:stretch/>
        </p:blipFill>
        <p:spPr>
          <a:xfrm>
            <a:off x="228600" y="1143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77120" y="49528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Фаина</cp:lastModifiedBy>
  <dcterms:modified xsi:type="dcterms:W3CDTF">2012-01-26T19:21:39Z</dcterms:modified>
  <cp:revision>82</cp:revision>
  <dc:subject/>
  <dc:title>PowerPoint Template</dc:title>
</cp:coreProperties>
</file>