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ACDF-6717-412D-A443-E327DAD2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23D-91CE-4286-A54F-0123BF7A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3DC-68CF-4670-8688-16B2CA1C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60DE-9D70-46AF-91DD-B0D64F8E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5752-CC19-47F5-99C5-17AA77E9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CB37-29BE-471B-8D24-7EE916F2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677E-E3B4-4570-9D55-391CB449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ADB8-279B-4D7C-BAB4-82FE1D9B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D64E-E679-4971-9A8A-C5B30B09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2D3B-8E75-4D57-A3E8-2483CD97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D7F8-DAB2-4B92-9A15-A0ACE7B1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3A12-E030-4B99-9CB2-DE119275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EE7E-52D6-4602-8FFD-B2F4374F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B3FE-C23C-46C9-8F71-6BA2F8FF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3849-66ED-4E5D-AAE3-F913F5B6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4387-377E-494B-9E78-79F124A8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80DA-389B-4155-AD58-61DC6209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7E18-03C5-4EDC-A6EE-E802D977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B9DE-DB72-42A1-8DBF-EF943586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E4EF-5302-4395-A287-CBEE8283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15D6-1E8A-4BE3-87B8-086A6A52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342D-9F20-4047-9113-6A5C0071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219B-B5A5-4FC3-B5AA-89908C07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5020-1696-4EE4-A604-F59F926E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b47"/>
            </a:gs>
            <a:gs pos="100000">
              <a:srgbClr val="63812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EABC-CDA9-4F90-8264-E06A438F2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b47"/>
            </a:gs>
            <a:gs pos="100000">
              <a:srgbClr val="63812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1B84-8E7F-438E-AF17-97778BAC6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b47"/>
            </a:gs>
            <a:gs pos="100000">
              <a:srgbClr val="63812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454680"/>
            <a:ext cx="6248520" cy="19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00"/>
                </a:solidFill>
                <a:latin typeface="Bookman Old Style"/>
              </a:rPr>
              <a:t>Презентация по биологии на тему:</a:t>
            </a:r>
            <a:r>
              <a:rPr b="0" i="1" lang="en-US" sz="4400" spc="-1" strike="noStrike">
                <a:solidFill>
                  <a:srgbClr val="003300"/>
                </a:solidFill>
                <a:latin typeface="Bookman Old Style"/>
              </a:rPr>
              <a:t> </a:t>
            </a: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Bookman Old Style"/>
              </a:rPr>
              <a:t>«Развитие человека»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962520" y="4876920"/>
            <a:ext cx="3124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Овчарова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11 «Б»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200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2664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b47"/>
            </a:gs>
            <a:gs pos="100000">
              <a:srgbClr val="63812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 Black"/>
              </a:rPr>
              <a:t>Основные стадии антропогенеза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57150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b47"/>
            </a:gs>
            <a:gs pos="100000">
              <a:srgbClr val="63812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b462a"/>
                </a:solidFill>
                <a:latin typeface="Bookman Old Style"/>
              </a:rPr>
              <a:t>Движущие силы антропогенеза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ологические фак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иологическая эволю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циальные фак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рудов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щественный образ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ыш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b47"/>
            </a:gs>
            <a:gs pos="100000">
              <a:srgbClr val="63812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439560"/>
            <a:ext cx="7467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00"/>
                </a:solidFill>
                <a:latin typeface="Bookman Old Style"/>
              </a:rPr>
              <a:t>Сущностные характеристики человека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ет изготовлять орудия труда при помощи орудий труда и использовать их как средство производства материальных б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нает простейшие нравственные запов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ладает потребностями, чувственными восприятиями, умственными навы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может ни сформироваться, ни существовать вне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го жизнедеятельность имеет не изначально запрограммированный, а сознательно-волево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b47"/>
            </a:gs>
            <a:gs pos="100000">
              <a:srgbClr val="63812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1369080"/>
            <a:ext cx="62485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b462a"/>
                </a:solidFill>
                <a:latin typeface="Bookman Old Style"/>
              </a:rPr>
              <a:t>Антропология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160" y="289512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b462a"/>
                </a:solidFill>
                <a:latin typeface="Bookman Old Style"/>
              </a:rPr>
              <a:t>Антропология – наука, изучающая происхождение человека, возникшая на рубеже </a:t>
            </a:r>
            <a:r>
              <a:rPr b="0" i="1" lang="en-US" sz="3200" spc="-1" strike="noStrike">
                <a:solidFill>
                  <a:srgbClr val="3b462a"/>
                </a:solidFill>
                <a:latin typeface="Bookman Old Style"/>
              </a:rPr>
              <a:t>XVIII-XIX </a:t>
            </a:r>
            <a:r>
              <a:rPr b="0" i="1" lang="ru-RU" sz="3200" spc="-1" strike="noStrike">
                <a:solidFill>
                  <a:srgbClr val="3b462a"/>
                </a:solidFill>
                <a:latin typeface="Bookman Old Style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b47"/>
            </a:gs>
            <a:gs pos="100000">
              <a:srgbClr val="63812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b462a"/>
                </a:solidFill>
                <a:latin typeface="Bookman Old Style"/>
              </a:rPr>
              <a:t>Антропогенез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a331a"/>
                </a:solidFill>
                <a:latin typeface="Bookman Old Style"/>
              </a:rPr>
              <a:t>Антропогене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3b462a"/>
                </a:solidFill>
                <a:latin typeface="Bookman Old Style"/>
              </a:rPr>
              <a:t>– длительный   процесс становления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b47"/>
            </a:gs>
            <a:gs pos="100000">
              <a:srgbClr val="63812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b462a"/>
                </a:solidFill>
                <a:latin typeface="Bookman Old Style"/>
              </a:rPr>
              <a:t>Системное положение современного человека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арство 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царство Многоклет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п Хордов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тип Позвоночные (Череп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с Млекопита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класс Плацент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1"/>
                </a:solidFill>
                <a:latin typeface="Arial"/>
              </a:rPr>
              <a:t>отряд Прим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тряд Человекообраз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ейство Люди (Гоминиды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 Человек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 Человек разумн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 sapie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ви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разумный разумный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 sapiens sapie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b47"/>
            </a:gs>
            <a:gs pos="100000">
              <a:srgbClr val="63812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00"/>
                </a:solidFill>
                <a:latin typeface="Bookman Old Style"/>
              </a:rPr>
              <a:t>Основные стадии антропогенеза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3573360"/>
            <a:ext cx="338472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84720" y="2852640"/>
            <a:ext cx="21600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3789360"/>
            <a:ext cx="216000" cy="792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2852640"/>
            <a:ext cx="1871640" cy="2174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4365720"/>
            <a:ext cx="4032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2852640"/>
            <a:ext cx="1727280" cy="609840"/>
          </a:xfrm>
          <a:prstGeom prst="wedgeRectCallout">
            <a:avLst>
              <a:gd name="adj1" fmla="val -46689"/>
              <a:gd name="adj2" fmla="val 7005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риопит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 млн.лет наз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285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195640" y="3933720"/>
            <a:ext cx="1728720" cy="609840"/>
          </a:xfrm>
          <a:prstGeom prst="wedgeRectCallout">
            <a:avLst>
              <a:gd name="adj1" fmla="val -41277"/>
              <a:gd name="adj2" fmla="val 7005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мапит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млн.лет наз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916280"/>
            <a:ext cx="2448000" cy="753840"/>
          </a:xfrm>
          <a:prstGeom prst="wedgeRectCallout">
            <a:avLst>
              <a:gd name="adj1" fmla="val 2333"/>
              <a:gd name="adj2" fmla="val 7589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встралопит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5 млн.лет наз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3634920" y="4723920"/>
            <a:ext cx="1089000" cy="1219320"/>
          </a:xfrm>
          <a:prstGeom prst="wedgeRectCallout">
            <a:avLst>
              <a:gd name="adj1" fmla="val -42277"/>
              <a:gd name="adj2" fmla="val 6015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bilis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еловек умел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105520" y="4797000"/>
            <a:ext cx="1828800" cy="1374840"/>
          </a:xfrm>
          <a:prstGeom prst="wedgeRectCallout">
            <a:avLst>
              <a:gd name="adj1" fmla="val -23092"/>
              <a:gd name="adj2" fmla="val 6374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ec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Человек прямоходящ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7164000" y="4723920"/>
            <a:ext cx="1274760" cy="1219320"/>
          </a:xfrm>
          <a:prstGeom prst="wedgeRectCallout">
            <a:avLst>
              <a:gd name="adj1" fmla="val -45893"/>
              <a:gd name="adj2" fmla="val 600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pi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Человек разум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b47"/>
            </a:gs>
            <a:gs pos="100000">
              <a:srgbClr val="63812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561240"/>
            <a:ext cx="746748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 Black"/>
              </a:rPr>
              <a:t>Homo habilis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3300"/>
                </a:solidFill>
                <a:latin typeface="Arial Black"/>
              </a:rPr>
              <a:t>(3,5 – 1,5 </a:t>
            </a:r>
            <a:r>
              <a:rPr b="1" lang="ru-RU" sz="3200" spc="-1" strike="noStrike">
                <a:solidFill>
                  <a:srgbClr val="003300"/>
                </a:solidFill>
                <a:latin typeface="Arial Black"/>
              </a:rPr>
              <a:t>млн.лет назад)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2933640" cy="4248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076720" y="4653000"/>
            <a:ext cx="2952720" cy="1663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1773360"/>
            <a:ext cx="33847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b47"/>
            </a:gs>
            <a:gs pos="100000">
              <a:srgbClr val="63812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134640"/>
            <a:ext cx="74674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 Black"/>
              </a:rPr>
              <a:t>Homo erectus</a:t>
            </a:r>
            <a:r>
              <a:rPr b="1" lang="ru-RU" sz="3600" spc="-1" strike="noStrike">
                <a:solidFill>
                  <a:srgbClr val="003300"/>
                </a:solidFill>
                <a:latin typeface="Arial Black"/>
              </a:rPr>
              <a:t> </a:t>
            </a:r>
            <a:br>
              <a:rPr sz="3600"/>
            </a:br>
            <a:r>
              <a:rPr b="1" lang="ru-RU" sz="3200" spc="-1" strike="noStrike">
                <a:solidFill>
                  <a:srgbClr val="003300"/>
                </a:solidFill>
                <a:latin typeface="Arial Black"/>
              </a:rPr>
              <a:t>(1,5 млн. – 350 тыс. лет</a:t>
            </a:r>
            <a:r>
              <a:rPr b="1" lang="en-US" sz="32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3300"/>
                </a:solidFill>
                <a:latin typeface="Arial Black"/>
              </a:rPr>
              <a:t>назад)</a:t>
            </a:r>
            <a:br>
              <a:rPr sz="3200"/>
            </a:b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168720" cy="2952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124080" y="3352680"/>
            <a:ext cx="2908440" cy="3240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791320" y="1219320"/>
            <a:ext cx="308592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b47"/>
            </a:gs>
            <a:gs pos="100000">
              <a:srgbClr val="63812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 Black"/>
              </a:rPr>
              <a:t>Homo sapiens</a:t>
            </a:r>
            <a:r>
              <a:rPr b="1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003300"/>
                </a:solidFill>
                <a:latin typeface="Arial Black"/>
              </a:rPr>
              <a:t>(350-35 </a:t>
            </a:r>
            <a:r>
              <a:rPr b="1" lang="ru-RU" sz="3200" spc="-1" strike="noStrike">
                <a:solidFill>
                  <a:srgbClr val="003300"/>
                </a:solidFill>
                <a:latin typeface="Arial Black"/>
              </a:rPr>
              <a:t>тыс.лет назад)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114720" cy="4448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2104920" cy="2381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191120" y="1828800"/>
            <a:ext cx="352728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b47"/>
            </a:gs>
            <a:gs pos="100000">
              <a:srgbClr val="63812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74160"/>
            <a:ext cx="7467480" cy="16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 Black"/>
              </a:rPr>
              <a:t>Homo sapiens sapiens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(35</a:t>
            </a:r>
            <a:r>
              <a:rPr b="0" lang="ru-RU" sz="3200" spc="-1" strike="noStrike">
                <a:solidFill>
                  <a:srgbClr val="003300"/>
                </a:solidFill>
                <a:latin typeface="Arial Black"/>
              </a:rPr>
              <a:t> тыс.лет назад – настоящее время)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43000" y="47242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1656000" cy="244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276720" y="1981080"/>
            <a:ext cx="374328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6:56:50Z</dcterms:created>
  <dc:creator>Oleg</dc:creator>
  <dc:description/>
  <dc:language>en-US</dc:language>
  <cp:lastModifiedBy>Машук</cp:lastModifiedBy>
  <dcterms:modified xsi:type="dcterms:W3CDTF">2008-05-22T06:59:27Z</dcterms:modified>
  <cp:revision>17</cp:revision>
  <dc:subject/>
  <dc:title>Обществознание. Введение.</dc:title>
</cp:coreProperties>
</file>