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gif" ContentType="image/gif"/>
  <Override PartName="/ppt/media/image12.jpeg" ContentType="image/jpeg"/>
  <Override PartName="/ppt/media/image7.jpeg" ContentType="image/jpeg"/>
  <Override PartName="/ppt/media/image19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4FC7-FC20-43C0-AD0F-69206E31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474-DB3A-4A6B-A5BE-5C92B56C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9609-51E3-41FD-A1F9-74635CC0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D48E-780A-4155-9E27-B7D102E8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7403-192D-490F-AF77-B83CDFFA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8F2C-E94A-445C-BE14-5E5E7A3B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1E6B-613D-43EA-8AA6-21143979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F8B9-F626-4F76-8712-D155BAD4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692F-AB16-48E5-B427-B5B26012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DF9B-40A5-4990-9C2B-6AA52E14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4B6D-EFD4-4530-9CDB-F3AAA32D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682A-2582-4E7C-9028-2252051E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5302-021F-46DA-9010-C3816334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DDCD-E4B0-4E77-9474-95958FB0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C394-5D98-4A9C-9A18-A5C6E80A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DB7F-88B8-4234-A1DE-368513F0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1E41-9D2F-47CD-9629-0393D2B9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476-0272-49CB-9E23-F4D1E537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9A4C-DA38-4139-8EA4-E95EA69B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565D-40C8-44C6-BA58-BA518567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847-92F8-4035-A2E5-9FC3CD59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EC59-F91F-49CB-AD13-F37E95E1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ECD6-422C-4E24-A249-ADF911BE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B62-9662-4C4F-87BA-E9133FB9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AA48-7315-47E8-9683-006603237F0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3BA2-13E8-4827-9CEA-EA3C2F184696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8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Comic Sans MS"/>
              </a:rPr>
              <a:t>Архитектурная школа папы Карло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537080" cy="3376800"/>
          </a:xfrm>
          <a:prstGeom prst="rect">
            <a:avLst/>
          </a:prstGeom>
          <a:ln w="38160">
            <a:solidFill>
              <a:srgbClr val="2f1311"/>
            </a:solidFill>
            <a:miter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4941720"/>
            <a:ext cx="7386480" cy="11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Comic Sans MS"/>
              </a:rPr>
              <a:t>Опыт совместной деятельности воспитателя и дете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2f1311"/>
                </a:solidFill>
                <a:latin typeface="Comic Sans MS"/>
              </a:rPr>
              <a:t>по конструированию с детьми дошкольного возраста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Comic Sans MS"/>
              </a:rPr>
              <a:t>Юдина Л.И., воспитатель 1 квалификационной категории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Comic Sans MS"/>
              </a:rPr>
              <a:t>МДОУ № 6 «Родничок» комбинированного вид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Comic Sans MS"/>
              </a:rPr>
              <a:t>Продолжительность реализации программ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Программа рассчитана на 4 года.  Предусматривает 4 этапа работы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1 этап с детьми 3-4 л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2 этап с детьми 4-5 л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3 этап с детьми 5-6 л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4 этап с детьми 6-7 л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15" descr=""/>
          <p:cNvPicPr/>
          <p:nvPr/>
        </p:nvPicPr>
        <p:blipFill>
          <a:blip r:embed="rId5"/>
          <a:stretch/>
        </p:blipFill>
        <p:spPr>
          <a:xfrm>
            <a:off x="4125960" y="1598760"/>
            <a:ext cx="3429000" cy="4497120"/>
          </a:xfrm>
          <a:prstGeom prst="rect">
            <a:avLst/>
          </a:prstGeom>
          <a:ln w="38160">
            <a:solidFill>
              <a:srgbClr val="2f131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Comic Sans MS"/>
              </a:rPr>
              <a:t>Режим занят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В кружке  занимается 12 человек, каждый ребенок занимается 1 раз в неделю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15 минут во 2 младшей группе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20 минут в средней групп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25 минут в старшей групп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30 минут в подготовительной групп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6" descr="P1010886"/>
          <p:cNvPicPr/>
          <p:nvPr/>
        </p:nvPicPr>
        <p:blipFill>
          <a:blip r:embed="rId6"/>
          <a:stretch/>
        </p:blipFill>
        <p:spPr>
          <a:xfrm>
            <a:off x="3708360" y="2247840"/>
            <a:ext cx="39416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04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Comic Sans MS"/>
              </a:rPr>
              <a:t>Пальчиковая гимнастика, физминутки для снятия мышечного и зрительного напряжения – необходимое условие успешной работы детей на занятиях кружка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Picture 6" descr="P1020042"/>
          <p:cNvPicPr/>
          <p:nvPr/>
        </p:nvPicPr>
        <p:blipFill>
          <a:blip r:embed="rId1"/>
          <a:stretch/>
        </p:blipFill>
        <p:spPr>
          <a:xfrm>
            <a:off x="1258920" y="1990800"/>
            <a:ext cx="5473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Comic Sans MS"/>
              </a:rPr>
              <a:t>Методы и прием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Comic Sans MS"/>
              </a:rPr>
              <a:t>В кружковой работе широко используют разные виды конструирования, разнообразные методы и приемы обуч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2f1311"/>
                </a:solidFill>
                <a:latin typeface="Comic Sans MS"/>
              </a:rPr>
              <a:t>Практические методы обучения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Comic Sans MS"/>
              </a:rPr>
              <a:t>упражнен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Comic Sans MS"/>
              </a:rPr>
              <a:t>моделирование (лекала, схемы)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Comic Sans MS"/>
              </a:rPr>
              <a:t>игровой метод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7d47d"/>
                </a:solidFill>
                <a:latin typeface="Comic Sans MS"/>
              </a:rPr>
              <a:t>Словесные методы и приемы: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Comic Sans MS"/>
              </a:rPr>
              <a:t>объяснени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Comic Sans MS"/>
              </a:rPr>
              <a:t>пояснени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Comic Sans MS"/>
              </a:rPr>
              <a:t>обсуждени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Comic Sans MS"/>
              </a:rPr>
              <a:t>педагогическая оценк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Comic Sans MS"/>
              </a:rPr>
              <a:t>рассказ воспитателем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Comic Sans MS"/>
              </a:rPr>
              <a:t>рассказы дете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Comic Sans MS"/>
              </a:rPr>
              <a:t>бесед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7d47d"/>
                </a:solidFill>
                <a:latin typeface="Comic Sans MS"/>
              </a:rPr>
              <a:t>Наглядные методы: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Comic Sans MS"/>
              </a:rPr>
              <a:t>наблюдение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Comic Sans MS"/>
              </a:rPr>
              <a:t>рассматривание готовых схем, построек, поделок на занятиях кружка, на выставках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Comic Sans MS"/>
              </a:rPr>
              <a:t>показ образца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Comic Sans MS"/>
              </a:rPr>
              <a:t>показ способ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2f1311"/>
                </a:solidFill>
                <a:latin typeface="Comic Sans MS"/>
              </a:rPr>
              <a:t>Все методы и приемы используются в комплексе, чередуются и дополняют друг друга, позволяя мне донести детям знания, помочь им освоить специальные умения и навыки, развить внимание, мышление и творческое воображени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Picture 5" descr="P1010893"/>
          <p:cNvPicPr/>
          <p:nvPr/>
        </p:nvPicPr>
        <p:blipFill>
          <a:blip r:embed="rId5"/>
          <a:stretch/>
        </p:blipFill>
        <p:spPr>
          <a:xfrm>
            <a:off x="263520" y="2490840"/>
            <a:ext cx="36162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Comic Sans MS"/>
              </a:rPr>
              <a:t>Результаты рабо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В результате проведенной работы кружка дети овладели определенными знаниями, умениями, навыками, осознали свои способности, у детей сформировались общетрудовые и специальные умения, способы самоконтрол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4032360" y="1601640"/>
            <a:ext cx="3617640" cy="4489560"/>
          </a:xfrm>
          <a:prstGeom prst="rect">
            <a:avLst/>
          </a:prstGeom>
          <a:ln w="38160">
            <a:solidFill>
              <a:srgbClr val="2f131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7d47d"/>
                </a:solidFill>
                <a:latin typeface="Comic Sans MS"/>
              </a:rPr>
              <a:t>Дети владеют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Comic Sans MS"/>
              </a:rPr>
              <a:t>элементарными трудовыми умениями при работе с природным и бросовым материалом, тканью, простейшими инструментами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Comic Sans MS"/>
              </a:rPr>
              <a:t>( ножницами, линейками, лекалами)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Comic Sans MS"/>
              </a:rPr>
              <a:t>знают и выполняют правила безопасности пользовании ножницам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Comic Sans MS"/>
              </a:rPr>
              <a:t>умеют планировать работу, понятно рассказывать об основных этапах воплощения замысл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Comic Sans MS"/>
              </a:rPr>
              <a:t>выполнять чертеж по линейке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Comic Sans MS"/>
              </a:rPr>
              <a:t>конструировать по собственному замыслу, по готовому образцу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Comic Sans MS"/>
              </a:rPr>
              <a:t>преобразовывать конструкции в высоту, в длину, в ширину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Comic Sans MS"/>
              </a:rPr>
              <a:t>овладевают действиями построения выразительных сюжетных композиций по теме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владеют умениями, обеспечивающими культуру труда на всех этапах трудового процесса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- бережное отношение с инструментами;- поддержание порядка на рабочем мест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используют ручные умения в повседневной жизни детского сада (изготовление подарков), проявляя при этом творчество и фантазию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проявляют индивидуальные творческие способности при оформлении поделок из бросового материала, создавая композиции на фоновых полях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полностью  реализуют творческий замысел, воплощая то, что запланировал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Comic Sans MS"/>
              </a:rPr>
              <a:t>Формы проведения итогов реализации программы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6" name="Picture 9" descr="P1010888"/>
          <p:cNvPicPr/>
          <p:nvPr/>
        </p:nvPicPr>
        <p:blipFill>
          <a:blip r:embed="rId1"/>
          <a:stretch/>
        </p:blipFill>
        <p:spPr>
          <a:xfrm>
            <a:off x="623880" y="1598760"/>
            <a:ext cx="2895480" cy="21715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ередвижные выставки детских работ в образовательном учреждении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участие в конкурсе в рамках проекта «Оленегорск - молодым»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участие в конкурсе рукописной книги в рамках городской экологической недели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для презентации детских работ родителям (сотрудникам, малышам)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- в спортивный уголок изготовлен инвентарь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- резные вазочки для салфеток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- макет детского сада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- игрушки на городскую елку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ежегодный творческий отчет на заседании педагогического совета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истематизация работы (предоставления опыта работы)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Picture 12" descr="P1010892"/>
          <p:cNvPicPr/>
          <p:nvPr/>
        </p:nvPicPr>
        <p:blipFill>
          <a:blip r:embed="rId12"/>
          <a:stretch/>
        </p:blipFill>
        <p:spPr>
          <a:xfrm>
            <a:off x="622440" y="3922560"/>
            <a:ext cx="28969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Comic Sans MS"/>
              </a:rPr>
              <a:t>НЕМНОГО ИСТОРИ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Comic Sans MS"/>
              </a:rPr>
              <a:t>Давным-давно, когда еще не было энциклопедии, в которой писали про архитектуру и архитекторов, наши предки научились строить дома. С этого всё и началось. А знаете, какие были у человека самые первые дома? Пещеры и шалаши. Кто строил пещеры? Совершенно верно, природа, а вот шалаш – дело рук человека и, может быть, первобытного архитектор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Comic Sans MS"/>
              </a:rPr>
              <a:t>   </a:t>
            </a:r>
            <a:r>
              <a:rPr b="0" lang="ru-RU" sz="1600" spc="-1" strike="noStrike">
                <a:solidFill>
                  <a:srgbClr val="2f1311"/>
                </a:solidFill>
                <a:latin typeface="Comic Sans MS"/>
              </a:rPr>
              <a:t>Чтобы поступить в архитектурную школу имени папы Карло, детям надо пройти испытание. Нужно запомнить названия-пароли всех деталей строительного набора геометрических тел, которые вырезал папа Карло из нового полена. Раньше взрослые думали, что такое дело детям по зубам, и шифровали настоящие, правильные названия другими, тоже вполне подходящими словами. Например: кубик, кирпичик, брусочек. Но теперь, когда сам господин Компьютер захаживает в детскую и слагает колыбельные песенки, продолжать скрывать истину по меньшей степени странно. Нечего и сомневаться, что такое испытание для поступления в нашу архитектурную школу, школу конструирования детям вполне по силам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7d47d"/>
                </a:solidFill>
                <a:latin typeface="Comic Sans MS"/>
              </a:rPr>
              <a:t>Дидактический материал и техническое оснащение занятия: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Comic Sans MS"/>
              </a:rPr>
              <a:t>набор строительных деталей для каждого ребенк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Comic Sans MS"/>
              </a:rPr>
              <a:t>образцы схем и чертежей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Comic Sans MS"/>
              </a:rPr>
              <a:t>лекала, карандаш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Comic Sans MS"/>
              </a:rPr>
              <a:t>мелкие игрушки для обыгрывания построек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Comic Sans MS"/>
              </a:rPr>
              <a:t>природный и бросовый материал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Comic Sans MS"/>
              </a:rPr>
              <a:t>ножницы, клей, цветная бумаг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Comic Sans MS"/>
              </a:rPr>
              <a:t>набор фоновых полей (фланелеграф)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Comic Sans MS"/>
              </a:rPr>
              <a:t>детали различных форм для художественного конструирова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Comic Sans MS"/>
              </a:rPr>
              <a:t>СПАСИБО ЗА  ВНИМАНИЕ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2" name="Picture 9" descr="кот"/>
          <p:cNvPicPr/>
          <p:nvPr/>
        </p:nvPicPr>
        <p:blipFill>
          <a:blip r:embed="rId1"/>
          <a:stretch/>
        </p:blipFill>
        <p:spPr>
          <a:xfrm>
            <a:off x="2195640" y="3436920"/>
            <a:ext cx="3744720" cy="29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Comic Sans MS"/>
              </a:rPr>
              <a:t>Что такое конструирование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Comic Sans MS"/>
              </a:rPr>
              <a:t>Термин «конструирование» (от латинского слова соnstruerе) означает приведение в определенное взаимоположение различных предметов, частей, элементов.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Comic Sans MS"/>
              </a:rPr>
              <a:t>Под детским конструированием принято понимать разнообразные постройки из строительного материала, изготовление поделок и игрушек из бумаги, картона, дерева и других материалов. По своему характеру оно более всего сходно с изобразительной деятельностью и игрой - в нем также отражается окружающая действительность. Постройки и поделки детей служат для практического использования (постройки — для игры, поделки — для украшения елки, для подарка маме и т.д.), поэтому должны соответствовать своему назначению.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Comic Sans MS"/>
              </a:rPr>
              <a:t>Конструктивная деятельность — это практическая деятельность, направленная на получение определенного, заранее задуманного реального продукта, соответствующего его функциональному назначению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Comic Sans MS"/>
              </a:rPr>
              <a:t>Актуальност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Comic Sans MS"/>
              </a:rPr>
              <a:t>На занятиях в архитектурной школе</a:t>
            </a:r>
            <a:r>
              <a:rPr b="0" lang="ru-RU" sz="2000" spc="-1" strike="noStrike">
                <a:solidFill>
                  <a:srgbClr val="2f1311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2f1311"/>
                </a:solidFill>
                <a:latin typeface="Comic Sans MS"/>
              </a:rPr>
              <a:t>осуществляется развитие сенсорных и мыслительных способностей детей. На занятиях кружка дети приобретают не только конструктивно-технические умения (сооружать отдельные предметы из строительного материала — здания, мосты и т.д. или делать из бумаги различные поделки — елочные игрушки, кораблики и т.д.), но и обобщенные умения — целенаправленно рассматривать предметы, сравнивать их между собой и расчленять на части, видеть в них общее и различное, находить основные конструктивные части, от которых зависит расположение других частей, делать умозаключения и обобщения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2f1311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5" descr="P1010884"/>
          <p:cNvPicPr/>
          <p:nvPr/>
        </p:nvPicPr>
        <p:blipFill>
          <a:blip r:embed="rId2"/>
          <a:stretch/>
        </p:blipFill>
        <p:spPr>
          <a:xfrm>
            <a:off x="3780000" y="1954080"/>
            <a:ext cx="38700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Comic Sans MS"/>
              </a:rPr>
              <a:t>Совместная деятельность детей на занятиях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Comic Sans MS"/>
              </a:rPr>
              <a:t>Совместная деятельность детей на занятиях (коллективные постройки, поделки) играет большую роль в воспитании первоначальных навыков работы в коллективе — умения предварительно договориться (распределить обязанности, отобрать материал, необходимый для выполнения постройки или поделки, спланировать процесс их изготовления и т. д.) и работать дружно, не мешая друг другу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7" descr="P1010885"/>
          <p:cNvPicPr/>
          <p:nvPr/>
        </p:nvPicPr>
        <p:blipFill>
          <a:blip r:embed="rId2"/>
          <a:stretch/>
        </p:blipFill>
        <p:spPr>
          <a:xfrm>
            <a:off x="3635280" y="2014560"/>
            <a:ext cx="37450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Comic Sans MS"/>
              </a:rPr>
              <a:t>Изготовление подарк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Comic Sans MS"/>
              </a:rPr>
              <a:t>Изготовление детьми различных поделок и игрушек для подарка маме, бабушке, сестре, младшему товарищу или сверстнику воспитывает заботливое и внимательное отношение к близким, к товарищам, желание сделать им что-то приятное. Именно это желание часто заставляет ребенка трудиться с особым усердием и старанием, что делает его деятельность еще более полнокровной и приносит ему большое удовлетворение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7" descr="079b"/>
          <p:cNvPicPr/>
          <p:nvPr/>
        </p:nvPicPr>
        <p:blipFill>
          <a:blip r:embed="rId2"/>
          <a:stretch/>
        </p:blipFill>
        <p:spPr>
          <a:xfrm>
            <a:off x="611280" y="1557360"/>
            <a:ext cx="35290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7d47d"/>
                </a:solidFill>
                <a:latin typeface="Comic Sans MS"/>
              </a:rPr>
              <a:t>Цель работы: </a:t>
            </a:r>
            <a:r>
              <a:rPr b="0" lang="ru-RU" sz="1600" spc="-1" strike="noStrike">
                <a:solidFill>
                  <a:srgbClr val="f7d47d"/>
                </a:solidFill>
                <a:latin typeface="Comic Sans MS"/>
              </a:rPr>
              <a:t>ознакомление дошкольников с доступным по возрасту видом   художественного труда (конструирование из строительного материала, художественное конструирование на фоновых полях, конструирование из природного и бросового материала) и освоение позиции субъекта элементарной трудовой деятельности.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Picture 9" descr="P1010887"/>
          <p:cNvPicPr/>
          <p:nvPr/>
        </p:nvPicPr>
        <p:blipFill>
          <a:blip r:embed="rId1"/>
          <a:stretch/>
        </p:blipFill>
        <p:spPr>
          <a:xfrm>
            <a:off x="263520" y="2490840"/>
            <a:ext cx="3616200" cy="2712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P1010891"/>
          <p:cNvPicPr/>
          <p:nvPr/>
        </p:nvPicPr>
        <p:blipFill>
          <a:blip r:embed="rId2"/>
          <a:stretch/>
        </p:blipFill>
        <p:spPr>
          <a:xfrm>
            <a:off x="4032360" y="2490840"/>
            <a:ext cx="36176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Comic Sans MS"/>
              </a:rPr>
              <a:t>Задачи программ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f1311"/>
                </a:solidFill>
                <a:uFillTx/>
                <a:latin typeface="Comic Sans MS"/>
              </a:rPr>
              <a:t>Обучающа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Учить детей осваивать специальные трудовые умения и способы самоконтроля для работы со строительными деталями, с лекалами, со схемами, природным и бросовым материало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f1311"/>
                </a:solidFill>
                <a:uFillTx/>
                <a:latin typeface="Comic Sans MS"/>
              </a:rPr>
              <a:t>Развивающа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Развивать творческую активность, фантазию, глазоме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f1311"/>
                </a:solidFill>
                <a:uFillTx/>
                <a:latin typeface="Comic Sans MS"/>
              </a:rPr>
              <a:t>Воспитательна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Развитие познавательных способностей. Формировать положительное восприятие мира. Интерес к ручному труд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Comic Sans MS"/>
              </a:rPr>
              <a:t>На занятиях у детей формируются навыки учебной деятельности: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Comic Sans MS"/>
              </a:rPr>
              <a:t>внимательно слушать объяснение воспитателя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Comic Sans MS"/>
              </a:rPr>
              <a:t>действовать по предложенному плану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Comic Sans MS"/>
              </a:rPr>
              <a:t>самостоятельно выполнять поставленную задачу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Comic Sans MS"/>
              </a:rPr>
              <a:t>правильно оценивать результат своей деятельности и работы сверстник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09:24:18Z</dcterms:created>
  <dc:creator>нее</dc:creator>
  <dc:description/>
  <dc:language>en-US</dc:language>
  <cp:lastModifiedBy>Admin</cp:lastModifiedBy>
  <dcterms:modified xsi:type="dcterms:W3CDTF">2012-02-26T15:54:40Z</dcterms:modified>
  <cp:revision>8</cp:revision>
  <dc:subject/>
  <dc:title>Архитектурная школа папы Карло</dc:title>
</cp:coreProperties>
</file>