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EDF-4F09-4077-95B3-7B252A8C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D38-198E-4180-8C65-86FB2847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01F-860E-4A2D-AEA1-AEF32128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565-D254-4872-B03E-A9BF540A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334-826E-4211-9A8E-EFF45DDA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055-A0CD-4543-8FC8-CB24E530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35D-9C99-4CB1-9646-B0ACA7DB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C01-0BE6-48B4-A826-837AB470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41F-57AD-40AE-9C27-16884A44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DA8-09D0-405F-A226-5CCFFDB9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42C-476C-43FE-8307-B63B506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69A-D540-4263-AD70-29F9617B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1B47-752E-4DE7-B5B7-CFDEB5BAA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мажные складные модели и их использование на уроках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алышева И. Н.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БОУ СОШ № 3 г. Вяз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7" descr="фотомодели 001"/>
          <p:cNvPicPr/>
          <p:nvPr/>
        </p:nvPicPr>
        <p:blipFill>
          <a:blip r:embed="rId1"/>
          <a:stretch/>
        </p:blipFill>
        <p:spPr>
          <a:xfrm>
            <a:off x="2000160" y="4286160"/>
            <a:ext cx="1701720" cy="127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8" descr="фотомодели 007"/>
          <p:cNvPicPr/>
          <p:nvPr/>
        </p:nvPicPr>
        <p:blipFill>
          <a:blip r:embed="rId2"/>
          <a:stretch/>
        </p:blipFill>
        <p:spPr>
          <a:xfrm>
            <a:off x="1643040" y="2500200"/>
            <a:ext cx="17254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фотомодели 013"/>
          <p:cNvPicPr/>
          <p:nvPr/>
        </p:nvPicPr>
        <p:blipFill>
          <a:blip r:embed="rId3"/>
          <a:stretch/>
        </p:blipFill>
        <p:spPr>
          <a:xfrm>
            <a:off x="6000840" y="4351320"/>
            <a:ext cx="15714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392360" cy="507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ложим от луча НА уг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вный 60◦.На второй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роне отложим отрез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Д =6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единим т.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режем из той же полов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ста острый угол по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до т. Н и по лучу 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907920"/>
            <a:ext cx="4100400" cy="511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фотомодели 016"/>
          <p:cNvPicPr/>
          <p:nvPr/>
        </p:nvPicPr>
        <p:blipFill>
          <a:blip r:embed="rId2"/>
          <a:stretch/>
        </p:blipFill>
        <p:spPr>
          <a:xfrm>
            <a:off x="4716360" y="2205000"/>
            <a:ext cx="3952800" cy="2965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249120" y="189000"/>
            <a:ext cx="8499600" cy="97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 Построим отрезок АД, длина которого равна искомому    рас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4 – «Две параллельные плоскости»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47527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рямоугольном ли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маги чертят 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ллельны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2920" y="1413000"/>
            <a:ext cx="4038840" cy="47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фотомодели 018"/>
          <p:cNvPicPr/>
          <p:nvPr/>
        </p:nvPicPr>
        <p:blipFill>
          <a:blip r:embed="rId2"/>
          <a:stretch/>
        </p:blipFill>
        <p:spPr>
          <a:xfrm>
            <a:off x="4572000" y="2133720"/>
            <a:ext cx="388152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560" y="1196640"/>
            <a:ext cx="8497800" cy="56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фотомодели 021"/>
          <p:cNvPicPr/>
          <p:nvPr/>
        </p:nvPicPr>
        <p:blipFill>
          <a:blip r:embed="rId2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250920" y="333360"/>
            <a:ext cx="849780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тем по ним делают разрезы с двух сторон на треть длин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ибают края в одну сто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ним сверху и снизу загибают оставшиеся части листа, которые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ужат моделью параллельных 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208720" cy="52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фотомодели 020"/>
          <p:cNvPicPr/>
          <p:nvPr/>
        </p:nvPicPr>
        <p:blipFill>
          <a:blip r:embed="rId2"/>
          <a:stretch/>
        </p:blipFill>
        <p:spPr>
          <a:xfrm>
            <a:off x="1258920" y="1611360"/>
            <a:ext cx="64087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дача 3. Даны пересекающиеся прямые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точка А, не лежащая в плоскости этих прямых. Докажите, что через точку А проходит плоскость, параллельная прямым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верхней части за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одим прямы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, 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жней – отмечаем на обор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ста точку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меч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 помощью этой модели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акже иллюстр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ойства паралл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86080" cy="47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фотомодели 001"/>
          <p:cNvPicPr/>
          <p:nvPr/>
        </p:nvPicPr>
        <p:blipFill>
          <a:blip r:embed="rId2"/>
          <a:stretch/>
        </p:blipFill>
        <p:spPr>
          <a:xfrm>
            <a:off x="4572000" y="1989000"/>
            <a:ext cx="402264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981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1 – «Две пересекающиеся плоск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5472000" cy="56167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гнутый пополам лист бумаги слу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делью двух пересекающихся плос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иния сгиба – прямая их пере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зображая в отдельных частях за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рямые, отрезки, многоугольники,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демонстрировать различны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взаимного расположения пло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фигур, лежащих в двух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лоскостях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ямая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ресекает плоскость </a:t>
            </a:r>
            <a:r>
              <a:rPr b="0" i="1" lang="el-GR" sz="20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рез две пересекающиеся прямые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а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оходит плоскость 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и притом только 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2959200" cy="561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модели 002"/>
          <p:cNvPicPr/>
          <p:nvPr/>
        </p:nvPicPr>
        <p:blipFill>
          <a:blip r:embed="rId2"/>
          <a:stretch/>
        </p:blipFill>
        <p:spPr>
          <a:xfrm>
            <a:off x="5940360" y="105264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модели 003"/>
          <p:cNvPicPr/>
          <p:nvPr/>
        </p:nvPicPr>
        <p:blipFill>
          <a:blip r:embed="rId3"/>
          <a:stretch/>
        </p:blipFill>
        <p:spPr>
          <a:xfrm>
            <a:off x="5940360" y="407664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2879640" cy="42498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║в, с ∩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фотомодели 004"/>
          <p:cNvPicPr/>
          <p:nvPr/>
        </p:nvPicPr>
        <p:blipFill>
          <a:blip r:embed="rId1"/>
          <a:stretch/>
        </p:blipFill>
        <p:spPr>
          <a:xfrm>
            <a:off x="3348000" y="1484280"/>
            <a:ext cx="547200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solidFill>
            <a:srgbClr val="f7fa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Модель 2 – «Трехгранный уго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solidFill>
            <a:srgbClr val="f7fad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готовка модели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гну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полам и разрезанны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инии сгиба до серед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ямоугольный лист бума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на из половинок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ще раз согнута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этой модели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фигур можно выполнять сразу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трех попарно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лоск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1125000"/>
            <a:ext cx="4186080" cy="500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фотомодели 006"/>
          <p:cNvPicPr/>
          <p:nvPr/>
        </p:nvPicPr>
        <p:blipFill>
          <a:blip r:embed="rId2"/>
          <a:stretch/>
        </p:blipFill>
        <p:spPr>
          <a:xfrm>
            <a:off x="4500720" y="2116080"/>
            <a:ext cx="417492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cc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2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з точки А, удаленной от плоск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 расстояни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проведены к этой плоскости по углом 30◦ наклонные АВ и АС. Угол между их проекциями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вен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0◦. Вычислите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5689440" cy="5400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усть половина листа служит мод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лоскости Ὑ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1.     Изобразим наклонные АВ и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т.В – на первой ли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и под углом 30◦ отрезок 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.А – на второй линии сгиба, посколь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 нее проводят сразу две накло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741760" cy="540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фотомодели 007"/>
          <p:cNvPicPr/>
          <p:nvPr/>
        </p:nvPicPr>
        <p:blipFill>
          <a:blip r:embed="rId2"/>
          <a:stretch/>
        </p:blipFill>
        <p:spPr>
          <a:xfrm>
            <a:off x="622764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фотомодели 008"/>
          <p:cNvPicPr/>
          <p:nvPr/>
        </p:nvPicPr>
        <p:blipFill>
          <a:blip r:embed="rId3"/>
          <a:stretch/>
        </p:blipFill>
        <p:spPr>
          <a:xfrm>
            <a:off x="6156360" y="2997360"/>
            <a:ext cx="2311200" cy="1733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5940360" y="1628640"/>
            <a:ext cx="2741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фотомодели 009"/>
          <p:cNvPicPr/>
          <p:nvPr/>
        </p:nvPicPr>
        <p:blipFill>
          <a:blip r:embed="rId4"/>
          <a:stretch/>
        </p:blipFill>
        <p:spPr>
          <a:xfrm>
            <a:off x="6227640" y="4941720"/>
            <a:ext cx="2268720" cy="17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3754440" cy="543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2. Проведем перпендикуляр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точки А к плоскости 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ние перпендикуляр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чка пересечения ли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гибов –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образим отрезок АД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торой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40000" y="692280"/>
            <a:ext cx="4470120" cy="540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фотомодели 010"/>
          <p:cNvPicPr/>
          <p:nvPr/>
        </p:nvPicPr>
        <p:blipFill>
          <a:blip r:embed="rId2"/>
          <a:stretch/>
        </p:blipFill>
        <p:spPr>
          <a:xfrm>
            <a:off x="4140360" y="1501920"/>
            <a:ext cx="446400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4248000" cy="5040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3. Построим искомый отрезок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от луча Д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ложим угол, равный 120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его второй стороне отметим отрезок ДС = Д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единим Точки В 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836280"/>
            <a:ext cx="4038480" cy="504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отомодели 011"/>
          <p:cNvPicPr/>
          <p:nvPr/>
        </p:nvPicPr>
        <p:blipFill>
          <a:blip r:embed="rId2"/>
          <a:stretch/>
        </p:blipFill>
        <p:spPr>
          <a:xfrm>
            <a:off x="4859280" y="19810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3 – «Двугранный угол»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Задача 3.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Параллельные прямые АВ и СД принадлежат разным граням двугранного угла, равного 60◦. Точки А и Д удалены от ребра угла на 8 см и 6,5 см соответственно. Найдите расстояние между прямыми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835520" cy="417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  Построим         линейный      угол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угранного    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линии сгиба отметим точку    Н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 из  нее в каж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е листа луч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пендикулярные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9408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фотомодели 012"/>
          <p:cNvPicPr/>
          <p:nvPr/>
        </p:nvPicPr>
        <p:blipFill>
          <a:blip r:embed="rId2"/>
          <a:stretch/>
        </p:blipFill>
        <p:spPr>
          <a:xfrm>
            <a:off x="5724360" y="2060640"/>
            <a:ext cx="2953080" cy="221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фотомодели 014"/>
          <p:cNvPicPr/>
          <p:nvPr/>
        </p:nvPicPr>
        <p:blipFill>
          <a:blip r:embed="rId3"/>
          <a:stretch/>
        </p:blipFill>
        <p:spPr>
          <a:xfrm>
            <a:off x="5724360" y="422100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403704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им на стор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нейного угла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= 8 см и НД = 6,5 с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в соответ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ах листа прямые А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С параллельно линии сги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Тогда они будут параллель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ду соб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052280"/>
            <a:ext cx="410040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фотомодели 015"/>
          <p:cNvPicPr/>
          <p:nvPr/>
        </p:nvPicPr>
        <p:blipFill>
          <a:blip r:embed="rId2"/>
          <a:stretch/>
        </p:blipFill>
        <p:spPr>
          <a:xfrm>
            <a:off x="4788000" y="2349360"/>
            <a:ext cx="3956040" cy="2967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684360" y="333360"/>
            <a:ext cx="8064360" cy="73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 Изобразим прямые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6:18:47Z</dcterms:created>
  <dc:creator>Николай</dc:creator>
  <dc:description/>
  <dc:language>en-US</dc:language>
  <cp:lastModifiedBy>ИРИНА</cp:lastModifiedBy>
  <dcterms:modified xsi:type="dcterms:W3CDTF">2012-02-26T11:14:53Z</dcterms:modified>
  <cp:revision>17</cp:revision>
  <dc:subject/>
  <dc:title>МУНИЦИП</dc:title>
</cp:coreProperties>
</file>