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2105-DE4B-47A8-81AA-36A2E741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D3AE-95FB-4774-B3E4-11C8F0C2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5700-9E30-437D-A095-88AFEBC9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DF25-FDF3-49C0-9F51-A8D03173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FB14-597E-4671-BBD3-612AF75F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DD32-B52F-4787-A1DD-719D2613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B51F-7DD0-4F26-8A52-3C55DAC5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B94C-547A-4940-AE07-739D6B9E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B962-22D3-4143-AD6E-925372F7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30F9-5622-46FB-8827-89438500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9D57-885D-474E-8453-2A47C72C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3D98-B749-41B9-83B5-89506015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1275-CEFE-486C-A4CF-ADD14E11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966C-9AF2-41EA-8C15-1CCC55D5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505D-B931-4BC5-A780-884A3029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B6A6-F68D-4300-BD61-8ABEE621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1BD1-7D86-4F69-89FF-6D4D021B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B12D-8C5C-4264-973F-52FDD100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7473-8BFE-4F29-B082-DCCBF7AB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DB38-7011-4668-901D-7A724ACB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62DB-7506-4A1A-9588-A122AA3A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FB4E-7552-4A33-9C89-13E79C5A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18D0-C94B-4B01-8945-F5794BFD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5F15-DED4-42F1-AE4E-F81125B4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A61F-BB8F-4862-A96E-45391FA25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4CB1-29DD-45B4-A0ED-C5A4AEC9C5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Царство грибов в живой природ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уценко Ю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ница 6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л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УСО школы №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рибок или плесен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484280"/>
            <a:ext cx="8007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треча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стенах домов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подвалах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непроветриваемых помещениях с повышенной влажностью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ванных комнат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2476800" cy="1800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580000" y="4869000"/>
            <a:ext cx="2346480" cy="1757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835280" y="4869000"/>
            <a:ext cx="242568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лесень в ванной комнат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560" y="1915920"/>
            <a:ext cx="410508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Ванна - идеальное место для развития грибка и плесе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4920" y="3645000"/>
            <a:ext cx="80074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оры летают в воздухе и, попадая во влажную и теплую среду ванны без солнечного света, начинают размножаться. Для спор температура 20 градусов, отсутствие солнца и 90% влажность – это идеальные условия прожи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Грибок или плесень в ванной комнате"/>
          <p:cNvPicPr/>
          <p:nvPr/>
        </p:nvPicPr>
        <p:blipFill>
          <a:blip r:embed="rId1"/>
          <a:stretch/>
        </p:blipFill>
        <p:spPr>
          <a:xfrm>
            <a:off x="4284720" y="1916280"/>
            <a:ext cx="2317680" cy="1780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697800" y="1916280"/>
            <a:ext cx="24112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лесень на стенах дом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4920" y="980640"/>
            <a:ext cx="460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рибы поселяются в зоне негерметичных межпанельных швов сборных панельных зд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ерметик в стыковых соединениях отслаивается из-за недоброкачественной подготовки стыкуемых поверхностей - плохой очистки и обезжирив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образовавшейся полости накапливается влага. В зоне стыка после зимы появляется плесень и неприятный зап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разгерметизация шва"/>
          <p:cNvPicPr/>
          <p:nvPr/>
        </p:nvPicPr>
        <p:blipFill>
          <a:blip r:embed="rId1"/>
          <a:stretch/>
        </p:blipFill>
        <p:spPr>
          <a:xfrm>
            <a:off x="7093080" y="1484280"/>
            <a:ext cx="1881000" cy="2451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292720" y="4076640"/>
            <a:ext cx="3683160" cy="2232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протечки наружных стен"/>
          <p:cNvPicPr/>
          <p:nvPr/>
        </p:nvPicPr>
        <p:blipFill>
          <a:blip r:embed="rId3"/>
          <a:stretch/>
        </p:blipFill>
        <p:spPr>
          <a:xfrm>
            <a:off x="5076720" y="1484280"/>
            <a:ext cx="18781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Причины появления грибков и плесени: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79280" y="765000"/>
            <a:ext cx="59054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работающая система вентиляции в ванной комнат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ытые короба воздуховод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менение температурного-влажностного режим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течка кровл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0560" y="4220640"/>
            <a:ext cx="5832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филактика (помещение должно хорошо вентилироваться, уровень влажности - 60-70 %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материалы для герметизации стыков, инструменты,  "/>
          <p:cNvPicPr/>
          <p:nvPr/>
        </p:nvPicPr>
        <p:blipFill>
          <a:blip r:embed="rId1"/>
          <a:stretch/>
        </p:blipFill>
        <p:spPr>
          <a:xfrm>
            <a:off x="6300720" y="2849400"/>
            <a:ext cx="2692440" cy="2019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300720" y="765000"/>
            <a:ext cx="2692440" cy="2019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4000" y="364500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Способы борьбы с ним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4869000"/>
            <a:ext cx="8713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ключить возможность протечки из-за негерметичности (полиуретановая пена типа "Макрофлекс", прокладка "Вилатерм", мастика, кроме того, пена очень боится солнца, ее обязательно нужно окрашивать эластичными солнцезащитными покрытиями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образовании грибка, в первую очередь, необходимо проконсультиро-ваться со специалистами для определения микросреды его возникновения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52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икозы или грибковые кожные заболев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Для развития и роста грибков необходима влажная среда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Развиваются грибки в нейтральной или слабо щелочной среде (наиболее благоприятным значением РН для них является 6 — 6,7. РН кожи здорового человека составляет 5,5 )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Грибки легко переносят низкие температуры. Они остаются жизнеспособными и сохраняют способность вызывать развитие болезни даже после замораживания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Грибки хорошо переносят высушивание. Оно лишь на время задерживает или прекращает их рост и размножение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Заражение микозами происходит контактным путем непосредственно от больного человека или его вещей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Факторы, влияющие на грибок и его развитие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21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зрас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например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кроспор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стригущий лишай»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ражает в основном детей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козы стоп и грибок ногт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аоборот, преимущественно взрослых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нижение иммунитет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званное стрессом, переутомлением, курением, злоупотреблением алкоголя, длительным применением антибиотиков, недостаточным питанием, беременностью, анеми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Заболевания сосудов и периферической нервной систем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сопровождающиеся нарушениями кровообращения и обменных процессов в коже, результатом которых является нарушение её структуры и снижение резистентности по отношению к грибковой инфек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равмы кож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результате порезов, давления тесной обуви, ушибов, потерто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рофилактика грибковых заболеваний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4000" y="1341000"/>
            <a:ext cx="66960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режное отношение к коже, предупреж-дение травм. Следует избегать ношения плохо подогнанной и грубой обуви, тесного белья и одежд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2852640"/>
            <a:ext cx="85215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Использование специальной индивидуальной обуви при посещении бассейна и бани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Осуществление качественной обработки инструментов для маникюра и педикюр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Ветеринарный контроль состояния здоровья домашних животных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Исключение использования обуви, белья, одежды, полотенец и предметов туалета других людей, даже очень близких, исключение хождения дома босиком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Кипячение белья и проглаживание его горячим утюгом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Экологические нарушения биосферы"/>
          <p:cNvPicPr/>
          <p:nvPr/>
        </p:nvPicPr>
        <p:blipFill>
          <a:blip r:embed="rId1"/>
          <a:stretch/>
        </p:blipFill>
        <p:spPr>
          <a:xfrm>
            <a:off x="7236000" y="1197000"/>
            <a:ext cx="16668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4T07:43:44Z</dcterms:created>
  <dc:creator>Александр Луценко</dc:creator>
  <dc:description/>
  <dc:language>en-US</dc:language>
  <cp:lastModifiedBy>Александр Луценко</cp:lastModifiedBy>
  <dcterms:modified xsi:type="dcterms:W3CDTF">2008-05-24T16:11:29Z</dcterms:modified>
  <cp:revision>7</cp:revision>
  <dc:subject/>
  <dc:title>Царство грибов в живой природе</dc:title>
</cp:coreProperties>
</file>