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9438-1155-4C98-825F-5A126BECF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E8B8-4C58-4C39-8549-2718B26AF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D0FD-E5BB-41E3-8FCB-1B64BC546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ED81-BA5F-4294-8123-BCDA27307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2E59F1-DEDB-4DC7-948A-224B2E036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DD8A78-BF99-4ECA-BBA8-C67CD9A98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59A4B3-E1C5-40BE-9544-181104563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A6887B-791B-458A-9ED9-BE16D7800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9E5FFC-6601-46B9-80AE-35999EA66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4297E7-2FE7-432A-8BC7-512607544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B81EBB-BFAF-4EED-AF52-3C9EB29C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33D0-9B80-45EE-B58F-80BC2E75A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730A13-8A82-4515-AD2D-FE5AB262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706C35-B663-4179-8474-B475EA7B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702E83-EB1B-4665-BD2D-BE8226D29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4B1EF8-32F8-4C8B-A35A-957C8DBD3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D911D9-3A18-4640-AB8D-36048CEBD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C04E-17D1-4F12-A436-3ABC9CBB7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C92E-B349-49DE-BB25-CD50CC868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A516-C74F-4F73-B573-32D462ED7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6A97-725C-4FB9-86B4-2F80C6D2C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FF4F-ADD7-46B3-9A20-00C1B7EB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DB43-40C8-491C-B876-945DD2DB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EA3B-B5C3-43BA-B08C-1D22BAEC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A38A2-9983-4554-A030-5AE16F74C4F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BF0F7-CA84-4343-9FDC-83C04D18958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50920" y="692280"/>
            <a:ext cx="85690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6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717171"/>
                    </a:gs>
                    <a:gs pos="50000">
                      <a:srgbClr val="ffffff"/>
                    </a:gs>
                    <a:gs pos="100000">
                      <a:srgbClr val="717171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717171"/>
                    </a:gs>
                    <a:gs pos="50000">
                      <a:srgbClr val="ffffff"/>
                    </a:gs>
                    <a:gs pos="100000">
                      <a:srgbClr val="717171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Государственный природный заповедник 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717171"/>
                  </a:gs>
                  <a:gs pos="50000">
                    <a:srgbClr val="ffffff"/>
                  </a:gs>
                  <a:gs pos="100000">
                    <a:srgbClr val="717171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 rot="368400">
            <a:off x="1476360" y="2420640"/>
            <a:ext cx="6114960" cy="21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Денежкин Камень"</a:t>
            </a:r>
            <a:endParaRPr b="0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cc"/>
                </a:solidFill>
                <a:latin typeface="Arial"/>
              </a:rPr>
              <a:t>Фаун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556000" y="1052640"/>
            <a:ext cx="4176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Фаун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поведник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"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енежки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амен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" представлена типичными таежными видами. Пограничное расположение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поведник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ежду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Европой и Азией и между северней и северной тайгой делают его уникальным среди других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поведнико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Урала. Млекопитающие представлены 38 видами из 6 отрядов, то есть все виды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характерны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для Северного Урала вероятно обитают в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поведник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 территории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поведник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можно встретить 135 видов птиц, из 12 отрядов, что составляет 67% видового состава этого региона. Из них гнездится 111 видов. На весенних и осенних пролетах встречается 24 вида птиц. Большинство видов - типично таежные, хорошо приспособленные к жизни в лесу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2354400" cy="18828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395280" y="2781360"/>
            <a:ext cx="199080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cc"/>
                </a:solidFill>
                <a:latin typeface="Arial"/>
              </a:rPr>
              <a:t>Орлан-белохвос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cc"/>
              </a:solidFill>
              <a:latin typeface="Arial"/>
              <a:ea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250920" y="4076640"/>
            <a:ext cx="2233440" cy="14972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971640" y="5589720"/>
            <a:ext cx="77148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cc"/>
                </a:solidFill>
                <a:latin typeface="Arial"/>
              </a:rPr>
              <a:t>Фили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cc"/>
              </a:solidFill>
              <a:latin typeface="Arial"/>
              <a:ea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6732720" y="836640"/>
            <a:ext cx="2315880" cy="18525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6948360" y="2708280"/>
            <a:ext cx="184788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cc"/>
                </a:solidFill>
                <a:latin typeface="Arial"/>
              </a:rPr>
              <a:t>Обыкновенный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cc"/>
                </a:solidFill>
                <a:latin typeface="Arial"/>
              </a:rPr>
              <a:t>таймен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cc"/>
              </a:solidFill>
              <a:latin typeface="Arial"/>
              <a:ea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4"/>
          <a:srcRect l="0" t="15349" r="0" b="0"/>
          <a:stretch/>
        </p:blipFill>
        <p:spPr>
          <a:xfrm>
            <a:off x="6769080" y="4076640"/>
            <a:ext cx="2195640" cy="15843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7545240" y="5661000"/>
            <a:ext cx="771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cc"/>
                </a:solidFill>
                <a:latin typeface="Arial"/>
              </a:rPr>
              <a:t>Берку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cc"/>
              </a:solidFill>
              <a:latin typeface="Arial"/>
              <a:ea typeface="Arial"/>
            </a:endParaRPr>
          </a:p>
        </p:txBody>
      </p:sp>
    </p:spTree>
  </p:cSld>
  <p:transition spd="med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339640" y="0"/>
            <a:ext cx="403236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cc"/>
                </a:solidFill>
                <a:latin typeface="Arial"/>
              </a:rPr>
              <a:t>Туризм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195640" y="836280"/>
            <a:ext cx="42480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зможно использование кордонов заповедника как базовых пунктов для одно-двухдневных походов (с ночёвкой в палатках) на сопредельные территории - Главный Уральский хребет (г. Гумбольдта, Палласа) и хребет Шемур. Доставки на кордоны возможна транспортом повышенной проходимости, в зимнее время не все кордоны доступны для пассажирского транспорта (только снегоходы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зможна организация отдыха в сельской местности, на базе заповедника в селе Всеволодо-Благодатское. Размещение в деревенских домиках с печным отоплением, экскурсии по «экологической тропе», к памятникам природ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84120" y="2205000"/>
            <a:ext cx="1379520" cy="21607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6408720" y="549360"/>
            <a:ext cx="2627280" cy="19699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6408720" y="2565360"/>
            <a:ext cx="2627280" cy="19717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6443640" y="4708440"/>
            <a:ext cx="2592360" cy="18162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5"/>
          <a:srcRect l="7665" t="13497" r="15232" b="15623"/>
          <a:stretch/>
        </p:blipFill>
        <p:spPr>
          <a:xfrm>
            <a:off x="34920" y="549360"/>
            <a:ext cx="2195640" cy="14205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6"/>
          <a:stretch/>
        </p:blipFill>
        <p:spPr>
          <a:xfrm>
            <a:off x="61920" y="4653000"/>
            <a:ext cx="2133720" cy="13809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cc"/>
                </a:solidFill>
                <a:latin typeface="Arial"/>
              </a:rPr>
              <a:t>Адрес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24477, Россия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ердловская область, Североуральский район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. Всеволодо-Благодатско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л: (343-10)-902-16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акс (343-10)-2-90-89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e-mail: preserve@uralnet.r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cc"/>
                </a:solidFill>
                <a:latin typeface="Arial"/>
              </a:rPr>
              <a:t>Общая информаци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316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убъект РФ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Свердловская обла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ата создания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6 августа 1991 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бщая площадь (га)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7819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лощадь охранной зоны (га)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835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личество участков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иродная зона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горная тайга, северная тай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24000" y="2565360"/>
            <a:ext cx="4038480" cy="261144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cc"/>
                </a:solidFill>
                <a:latin typeface="Arial"/>
              </a:rPr>
              <a:t>Расположени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48320" y="1125000"/>
            <a:ext cx="43164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осударственны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природный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аповедник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"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енежки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мень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" расположен в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евероуральско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физико-географическом районе в 40 километрах к северо-западу от г. Североуральска. Территория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аповедник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вытянута в меридиональном направлении. Южная точка имеет координату 60020 СШ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еверна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60050 СШ. Средняя долгота 590 30 ВД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4316400" cy="41702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cc"/>
                </a:solidFill>
                <a:latin typeface="Arial"/>
              </a:rPr>
              <a:t>Рельеф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8920" y="836280"/>
            <a:ext cx="59770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современные границы заповедника входят массив Денежкин Камень, восточные склоны Главного Уральского хребта, долина р. Сольва и южная часть хребта Хоза-Тумп. Массив Денежкин Камень (1492 м над у.м., наибольшая высота) занимает восточную часть заповедника и сложен комплексом ультраосновных и основных пород. Главный Уральский хребет (1410 м над у.м.) сложен прочными породами докембрия. Через территорию параллельно Главному Уральскому хребту тянется гряда островных гор и хребтов, отделенных друг от друга широкими речными долинами. Наименьшая абсолютная высота - 225 м находится в месте пересечения восточной границы заповедника рекой Шегультан. Основными горными породами на территории заповедника являются габбро и габбро-диориты. В южной и центральной частях они образуют сплошной массив с более или менее значительными вкраплениями пироксенитов. В юго-восточном углу заповедника преобладают гранодиориты, кварцевые диориты и платограниты, а северо-западный угол занят девонскими и силурийскими отложения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372360" y="981000"/>
            <a:ext cx="2325600" cy="15512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723000" y="2997360"/>
            <a:ext cx="2421000" cy="14983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5867280" y="4724280"/>
            <a:ext cx="2159280" cy="16239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cc"/>
                </a:solidFill>
                <a:latin typeface="Arial"/>
              </a:rPr>
              <a:t>Климат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3357720"/>
            <a:ext cx="822960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лимат заповедника континентальный. Зима продолжительная, холодная, часты морозы до -40 С. Зима начинается уже в 20-х числах октября. Устойчивый снежный покров сохраняется 6-7 месяцев. Снежный покров мощный - до 130 см у подножий гор. Снег лежит до середины апреля, а в горах - до середины июля. В отдельные годы снежники в горах не тают все лето. Все остальные сезоны как бы сжаты по времен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841320" y="1052640"/>
            <a:ext cx="3270240" cy="21715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219640" y="1052640"/>
            <a:ext cx="2895840" cy="21715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cc"/>
                </a:solidFill>
                <a:latin typeface="Arial"/>
              </a:rPr>
              <a:t>Водоем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3860280"/>
            <a:ext cx="822960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иболее крупные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к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поведник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Тальтия, берущая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чал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на хребте Хоза-Тумп, Шегультан с многочисленными притоками, собирающими воду как с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енежкин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Камня так и с Уральского хребта,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сьв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 притоками Сольва, Супрея, Талая, начинающимися на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енежкино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Камне и на Главном Уральском хребте. Сосьва через Тавду, Тобол и Иртыш впадает в Об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92160" y="148428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132000" y="1473120"/>
            <a:ext cx="2895840" cy="21718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6227640" y="1413000"/>
            <a:ext cx="2808360" cy="223200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32000" y="43920"/>
            <a:ext cx="54928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cc"/>
                </a:solidFill>
                <a:latin typeface="Arial"/>
              </a:rPr>
              <a:t>Почв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51280" y="1052280"/>
            <a:ext cx="511344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характер почвообразовательных процессов в условиях заповедника влияет резко пересеченный рельеф, низкие температуры и значительное количество осадков. В горной части преобладают маломощные щебенчатые подзолистые почвы: горнолесные, горнолуговые и горнотундровые. Вследствие большой увлажненности верхних горизонтов встречаются заболоченные участки, удивительные высокогорные болота. В равнинной части мощность почв не превышает 40-50 см. Здесь в основном лесные дерново-подзолистые почвы, тяжело-суглинистые и хрящевато-щебнистые, в ряде мест глеево-подзолистые и торфяно-болотны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1280" y="189000"/>
            <a:ext cx="2916360" cy="2025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971640" y="2349360"/>
            <a:ext cx="2916000" cy="1971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36360" y="4437000"/>
            <a:ext cx="2880000" cy="20271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cc"/>
                </a:solidFill>
                <a:latin typeface="Arial"/>
              </a:rPr>
              <a:t>Растительность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419280" y="980640"/>
            <a:ext cx="561636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склонах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енежкиног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Камня и Главного Уральского хребта выделяются три пояса растительности: горно-таежный, подгольцовый и горно-тундровый. На территории представлены основные ландшафтные зоны Северного Урала: высокопродуктивные сосновые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ес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долин и предгорий, темнохвойные горнотаёжные леса, криволесье, субальпийские луга,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орны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тундры, подгольцы и болота. Покрытая лесом площадь составляет 89,9% территории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поведник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000" y="1052640"/>
            <a:ext cx="3024000" cy="21715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08000" y="3716280"/>
            <a:ext cx="3024000" cy="2089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cc"/>
                </a:solidFill>
                <a:latin typeface="Arial"/>
              </a:rPr>
              <a:t>Флор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68360" y="836280"/>
            <a:ext cx="46800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территории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поведник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звестно 557 видов сосудистых растений, относящихся к 68 семейства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 флоре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поведник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роизрастает 48 из 144 видов сосудистых растений, включенных в Красную книгу Среднего Урала, что составляет 33%, из них 8 реликтов и 15 эндемиков Урала. Пять видов занесены в Красную книгу РСФСР (1988): незабудочник уральский, калипсо луковичная, минуарция Гельма, венерин башмачок настоящий, надбородник безлистный, три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следних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занесены также в Красную книгу СССР (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984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08000" y="692280"/>
            <a:ext cx="2171520" cy="21715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6864480" y="692280"/>
            <a:ext cx="2171520" cy="21715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6845400" y="2924280"/>
            <a:ext cx="219060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cc"/>
                </a:solidFill>
                <a:latin typeface="Arial"/>
              </a:rPr>
              <a:t>Минуарция Гельм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cc"/>
              </a:solidFill>
              <a:latin typeface="Arial"/>
              <a:ea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39640" y="3500280"/>
            <a:ext cx="1266840" cy="19051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108000" y="5445000"/>
            <a:ext cx="2276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cc"/>
                </a:solidFill>
                <a:latin typeface="Arial"/>
              </a:rPr>
              <a:t>Венерин башмачок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cc"/>
                </a:solidFill>
                <a:latin typeface="Arial"/>
              </a:rPr>
              <a:t>настоящ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cc"/>
              </a:solidFill>
              <a:latin typeface="Arial"/>
              <a:ea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4"/>
          <a:srcRect l="0" t="0" r="28175" b="0"/>
          <a:stretch/>
        </p:blipFill>
        <p:spPr>
          <a:xfrm>
            <a:off x="7164360" y="3500280"/>
            <a:ext cx="1368360" cy="18860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 txBox="1"/>
          <p:nvPr/>
        </p:nvSpPr>
        <p:spPr>
          <a:xfrm>
            <a:off x="6664320" y="5445000"/>
            <a:ext cx="237168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cc"/>
                </a:solidFill>
                <a:latin typeface="Arial"/>
              </a:rPr>
              <a:t>Калипсо луковична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cc"/>
              </a:solidFill>
              <a:latin typeface="Arial"/>
              <a:ea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95280" y="2876400"/>
            <a:ext cx="160956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cc"/>
                </a:solidFill>
                <a:latin typeface="Arial"/>
              </a:rPr>
              <a:t>Незабудочни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cc"/>
                </a:solidFill>
                <a:latin typeface="Arial"/>
              </a:rPr>
              <a:t>уральск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cc"/>
              </a:solidFill>
              <a:latin typeface="Arial"/>
              <a:ea typeface="Arial"/>
            </a:endParaRPr>
          </a:p>
        </p:txBody>
      </p:sp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9:10:11Z</dcterms:created>
  <dc:creator>Родители</dc:creator>
  <dc:description/>
  <dc:language>en-US</dc:language>
  <cp:lastModifiedBy>Admin</cp:lastModifiedBy>
  <dcterms:modified xsi:type="dcterms:W3CDTF">2012-02-26T17:14:59Z</dcterms:modified>
  <cp:revision>7</cp:revision>
  <dc:subject/>
  <dc:title>Слайд 1</dc:title>
</cp:coreProperties>
</file>