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5.png" ContentType="image/png"/>
  <Override PartName="/ppt/media/image12.wmf" ContentType="image/x-wmf"/>
  <Override PartName="/ppt/media/image54.png" ContentType="image/png"/>
  <Override PartName="/ppt/media/image53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9.wmf" ContentType="image/x-wmf"/>
  <Override PartName="/ppt/media/image1.png" ContentType="image/png"/>
  <Override PartName="/ppt/media/image68.png" ContentType="image/png"/>
  <Override PartName="/ppt/media/image31.png" ContentType="image/png"/>
  <Override PartName="/ppt/media/image1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16.png" ContentType="image/png"/>
  <Override PartName="/ppt/media/image73.wmf" ContentType="image/x-wmf"/>
  <Override PartName="/ppt/media/image3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24.png" ContentType="image/png"/>
  <Override PartName="/ppt/media/image71.png" ContentType="image/png"/>
  <Override PartName="/ppt/media/image70.png" ContentType="image/png"/>
  <Override PartName="/ppt/media/image67.png" ContentType="image/png"/>
  <Override PartName="/ppt/media/image28.wmf" ContentType="image/x-wmf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.png" ContentType="image/png"/>
  <Override PartName="/ppt/media/image14.png" ContentType="image/png"/>
  <Override PartName="/ppt/media/image58.png" ContentType="image/png"/>
  <Override PartName="/ppt/media/image3.wmf" ContentType="image/x-wmf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18.wmf" ContentType="image/x-wmf"/>
  <Override PartName="/ppt/media/image6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9.png" ContentType="image/png"/>
  <Override PartName="/ppt/media/image39.png" ContentType="image/png"/>
  <Override PartName="/ppt/media/image52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899-A4FB-4AD3-B68A-3BC5C10C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70A-ED6E-44E5-A067-EC00DBC7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371-BC66-4DAF-B645-86FD2C3E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5AB-CE92-4D13-8C10-1BA6394B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1DAB-E85E-451E-B0FC-656B4258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900F-CC0E-4ACA-8D7A-F6CF5B2A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E634-543F-4199-B141-C3D7AB62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4C6-A562-4241-A16C-4E37D504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AB97-5E8B-41F5-BFF2-557F6C85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98C-7070-4F9D-88D5-AE4A2D3F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A855-CF7E-4FA7-8F3B-D5017A30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639-7C76-4307-B47C-5D84191A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340B-EE2A-4B7C-8F29-CF66EEE7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4620-6C19-4882-9899-C68159CB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3E3-3EFF-4338-8C28-E6FFC5B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5FE9-4CEC-4C52-83F1-41F92B23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CA4A-06F9-437F-8016-46783D26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C03-F47C-4008-BC39-726C2770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932-1DF4-493A-B41A-77E9E28A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F27-E066-4685-9CFE-9BD46B1B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169-9E44-47F7-B823-6C75991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B64-ADE9-4FC8-BE2B-B4ED53F6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F93-F171-44D3-8B3C-984068A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D0B-15A2-455B-AF6D-D99C0015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8720-D0FF-4151-A614-02E842F4AA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94E-DF47-4A85-8D83-18BE0A240A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png"/><Relationship Id="rId13" Type="http://schemas.openxmlformats.org/officeDocument/2006/relationships/image" Target="../media/image24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у-ка, проверь дружо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ы готов начать ур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ё ль на мест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ё ль в порядк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учка, книжка и тетрад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е ли правильно сидя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е ль внимательно глядя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аждый хочет получ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олька лишь оценку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22194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думай и отве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образуются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гда один предмет или единица измерения делятся на равные ча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показывает число под черт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о под чертой показывает на сколько равных долей разделили единиц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Половина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мая известная доля – это, конечно, половина. Слова с приставкой «пол» можно услышать часто: полчаса, полкилометра… Разделили целое на две части – «половина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лю     называю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половин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417600" cy="1476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1150920" cy="1100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934320" y="3886200"/>
            <a:ext cx="12682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Треть.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вание доли зависит от того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 сколько равных частей разделил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единиц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Разделили на три части – «треть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лю       называю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тре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1743120" cy="1675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341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етверть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целое разделили н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, 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учается     или по другом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воря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четверть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87280" cy="723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1667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а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называются другие дол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если разделить на пять частей, то что ли «пятерть», на шесть – «шестерть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х смешных слов в русском языке нет. Чтобы назвать доли пользуются словами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пятая»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шеста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 rot="21215400">
            <a:off x="457200" y="2971440"/>
            <a:ext cx="1147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ыполни зада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те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по другому можно назвать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верть, трет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57320" y="2438280"/>
            <a:ext cx="542880" cy="962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569880" cy="923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542880" cy="86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277920" cy="876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257800" y="2514600"/>
            <a:ext cx="547560" cy="981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16765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297180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03848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48769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1127160" y="4419720"/>
            <a:ext cx="387360" cy="952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1600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2286000" y="441972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2743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4"/>
          <a:stretch/>
        </p:blipFill>
        <p:spPr>
          <a:xfrm>
            <a:off x="3200400" y="4419720"/>
            <a:ext cx="4190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Одолела нас дремот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Шевельнуться неох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Ну-ка делайте со мно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пражнение тако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Раз – поднялись, потянулис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Два – нагнулись, разогнулис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ри – в ладоши три хлоп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Головою три кив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75360" y="685800"/>
            <a:ext cx="1515960" cy="2128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1121040" cy="191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134120" y="2895480"/>
            <a:ext cx="141948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гадайте ребус и узнаете с чем мы сейчас познакомимс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Дроб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986040" cy="1957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1218960" cy="103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1143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Обыкновенная дроб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писи вида       называю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быкновенными дробями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и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рта дроби (дробная чер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мена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351000" cy="819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590760" cy="1467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191120" y="3048120"/>
            <a:ext cx="3200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457164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650"/>
                            </p:stCondLst>
                            <p:childTnLst>
                              <p:par>
                                <p:cTn id="7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быкновенные дроб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ждый может за верст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деть дробную чер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  чертой –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числит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знайт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чертою –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знаменате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обь такую, непремен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о звать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быкновенной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Назовите числитель и знаменат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аждой     дроб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353360" y="3124080"/>
            <a:ext cx="419040" cy="1114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133720" y="5410080"/>
            <a:ext cx="574560" cy="962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324480" y="5257800"/>
            <a:ext cx="665280" cy="1238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105520" y="5257800"/>
            <a:ext cx="563400" cy="1247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7238880" y="1219320"/>
            <a:ext cx="78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91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Доли </a:t>
            </a:r>
            <a:br>
              <a:rPr sz="4400"/>
            </a:b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Обыкновенные дроб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чтении дробей надо помнить: числитель дроби – количественное числительное женского рода (одна, две, восемь и т.д.), а знаменатель – порядковое числительное (седьмая, сотая, двести тридцатая и т.д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ример:       - одна пятая;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две шесты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восемьдесят три с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ятьдесят втор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343080" cy="733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14280" cy="695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00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Что показывают числитель  и  знаменатель дроби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менатель показывает, на сколько долей делят, а числитель – сколько таких долей взя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рочитайте дроби. Что показывает числитель и знаменатель каждой дроб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755880" y="5410080"/>
            <a:ext cx="549360" cy="771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68360" cy="819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5765760" y="5257800"/>
            <a:ext cx="345960" cy="1038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553080" y="5410080"/>
            <a:ext cx="527040" cy="81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524160" cy="1047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4419720" y="5638680"/>
            <a:ext cx="22860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410080" y="5638680"/>
            <a:ext cx="228600" cy="457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6172200" y="5486400"/>
            <a:ext cx="304920" cy="609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7162920" y="5562720"/>
            <a:ext cx="304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Запишите в виде обыкновенной дроб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 седьм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ыре девят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на сота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есть восьм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двадцать пят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561960" cy="866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920" cy="809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0464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733920" y="2971800"/>
            <a:ext cx="55080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486400" y="4038480"/>
            <a:ext cx="762120" cy="905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3657600" y="4724280"/>
            <a:ext cx="4381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думай и отве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1695600" cy="1314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2466720" cy="1114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1724040" cy="1657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429000" y="4191120"/>
            <a:ext cx="1676520" cy="1361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095560" cy="1209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762120" y="411480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5181480" y="2133720"/>
            <a:ext cx="42876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8001000" y="2133720"/>
            <a:ext cx="5238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2286000" y="3886200"/>
            <a:ext cx="343080" cy="885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4724280" y="3809880"/>
            <a:ext cx="409680" cy="895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7772400" y="3962520"/>
            <a:ext cx="371520" cy="904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1752480" y="1981080"/>
            <a:ext cx="360360" cy="84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768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0" dur="768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2" dur="768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4" dur="768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бота в тетради. №868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193840" cy="2286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324480" y="2133720"/>
            <a:ext cx="2286000" cy="2247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124080" y="2057400"/>
            <a:ext cx="2295720" cy="225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5867280" y="1905120"/>
            <a:ext cx="40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ьте задания по тем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ыкновенные дроби,п.23, №901, 9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Окончен урок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опять переме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шум в коридоре оп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Друг другу должны 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Успеть непременн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Скорей обо всём рассказ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001960" cy="2063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22572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знакомить с понятием доля, половина, треть, четверть, обыкновенная дробь, числитель и знаменатель дроб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ивать умение  читать и записывать обыкновенную дробь по числителю и знаменател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спитывать уважительное отношение к окружающим, внимание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опросы к рассмотрению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, треть, четвер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ыкновенная дроб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показывают числитель и знамена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 истории дроб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ама купила арбуз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азрезала его на 6 равных частей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962520" y="472428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1333800" cy="88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4479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4771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6324480" y="3276720"/>
            <a:ext cx="1333800" cy="88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5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абушке, дедушке, папе, дву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ям и се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255680" cy="243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1241280" cy="207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886200" y="990720"/>
            <a:ext cx="1077840" cy="2412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286000" y="762120"/>
            <a:ext cx="1146240" cy="259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638680" y="1600200"/>
            <a:ext cx="1001880" cy="18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29528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281952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4495680" y="19810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571500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723888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2057400" y="4114800"/>
            <a:ext cx="95256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то такое доля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Доля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каждая из равных частей единицы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ак как арбуз разрезали на 6 равных частей, значит его разделили на 6 долей и каждый получил «одну шестую» долю арбуза, или, короче  «одну шестую арбуз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Как записывают доли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записи любой доли используют горизонтальную чёрточку. Её называют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робной черт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ишут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20192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Что показывает число под черто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о под чертой показывает на сколько равных частей (долей) разделили еди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елое разделили на 5 рав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ей (доле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382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ha</cp:lastModifiedBy>
  <dcterms:modified xsi:type="dcterms:W3CDTF">2008-01-29T05:18:36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