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35E-D1F6-4D5A-B109-03C3E8FF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6AE-FEFF-4265-B362-D0AEF834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88E-0075-423D-A402-F4CDDEE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2D6-27E8-4718-879F-1488F208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3D7-D0C5-4BC0-B5A1-71847F53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764-19E4-4991-907D-968D96B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FA1-9966-414E-BFF5-1BFCB03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8CE-6C65-4A6D-8133-FFAA592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397-1BF6-40BD-853C-1155C246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917-6B93-4BBE-93C2-54EF94F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0C2-208B-4B45-B3F7-F87A99D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E19-C9D1-44C1-84E4-A16F1C88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3B48-FFEB-4C4E-BFA6-6FDBA6E94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34936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Times New Roman"/>
              </a:rPr>
              <a:t>Тема: «Движение Крови по сосуда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640" y="4508280"/>
            <a:ext cx="4168800" cy="865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Лопаленко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93720"/>
            <a:ext cx="8064360" cy="916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е казён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ветлов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ченёвского района 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уль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4130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На частоту пульса влияет рост (обратная зависимость - чем выше рост, тем меньше как правило количество сердечных сокращений в минуту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пол (у мужчин в среднем пульс несколько ниже, чем у женщин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натренированность организма (при подверженности организма постоянным активным физическим нагрузкам пульс в состоянии покоя уменьшае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уль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1484280"/>
            <a:ext cx="64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Частота пульса зависит от возра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Ребенок в лоне матери – 160 ударов в мину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Ребенок после рождения – 1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От рождения до года – 1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От года до двух лет –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От трех до семи лет – 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От 8 до 14 лет –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Средний возраст – 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Преклонный возраст – 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При болезни – 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* Время смерти – 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Определение пуль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1413000"/>
            <a:ext cx="64818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Пульс проверяется тремя пальца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указательным, средним и безымянны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иагностика по пульсу в Аюрвед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1 - Пульс «змеи» - под указательным пальц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2 - Пульс «лягушки» - под средним пальц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3 - Пульс «лебедя» - под безымянным пальц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5448240" cy="961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79640" y="270828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1473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765000"/>
            <a:ext cx="81374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Определение типов пуль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 – Пульс «змеи» (под указательным пальцем) – быстрый, затрудненный, слабый, холодный, нерегулярный. Темп: 80-100 ударов в мину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 – Пульс «лягушки» (под средним пальцем) – скачкообразный, возбужденный, рельефный, горячий, умеренный, регулярный. Темп: 70-80 ударов в мину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 – Пульс «лебедя» (под безымянным пальцем) – спокойный, сильный, уравновешенный, мягкий, насыщенный, регулярный, теплый. Темп: 60-70 ударов в мину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7068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Приборы для измерения пу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156204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435640" y="1413000"/>
            <a:ext cx="147492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08000" y="1413000"/>
            <a:ext cx="1573560" cy="157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0920" y="4970520"/>
            <a:ext cx="1873080" cy="154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635280" y="1413000"/>
            <a:ext cx="1635120" cy="163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093080" y="141300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084720" y="3068640"/>
            <a:ext cx="2899080" cy="180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50920" y="3068640"/>
            <a:ext cx="1788840" cy="178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268360" y="3141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4284720" y="4724280"/>
            <a:ext cx="2448000" cy="183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4356000" y="314172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СС в состоянии покоя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СС после физической нагруз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ин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мин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мин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мин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89360"/>
            <a:ext cx="3745080" cy="244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ЧСС увеличилась меньш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м на 1/3, - результаты хорош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больше – то плох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43280" y="3429000"/>
            <a:ext cx="0" cy="244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5877000"/>
            <a:ext cx="331344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6021360"/>
            <a:ext cx="1297080" cy="432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ремя (ми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720720" cy="503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602136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    2   3   4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716280"/>
            <a:ext cx="36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5589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300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08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869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653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4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221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05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789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937040" y="28526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фик динамики Ч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Функциональная сердечно-сосудистая проб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68360" y="907920"/>
            <a:ext cx="4537080" cy="158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ртери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вление кр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0560" y="2492280"/>
            <a:ext cx="1800360" cy="100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492280"/>
            <a:ext cx="1873440" cy="100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573360"/>
            <a:ext cx="3672000" cy="1511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х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систолическ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10 – 125 мм.рт.ст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573360"/>
            <a:ext cx="3816360" cy="1511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жн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диастолическ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60 – 80 мм.рт.ст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Кровяное дав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628640"/>
            <a:ext cx="381636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6600"/>
                </a:solidFill>
                <a:uFillTx/>
                <a:latin typeface="Arial"/>
              </a:rPr>
              <a:t>Измерение АД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Накладываем манжету на плеч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Нагнетаем воздух в манж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Удерживаем фонендоскоп на арте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ыпускаем воздух из клап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Фиксируем появление и исчезновение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Нарушения артериального да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2276280"/>
            <a:ext cx="4093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Гиперто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Гипот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Распределение крови в организ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557360"/>
            <a:ext cx="625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Мышцы –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Почки -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Кишечник –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Печень –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Мозг – 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Сосуды сердца –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Легкие и другие органы – 13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13372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Формирование новых понятий: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 кровяное давление, пуль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Выяснить: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причины движения крови и её перераспределение в организ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пыт Анджело Мосс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Вес мозга увеличивается"/>
          <p:cNvPicPr/>
          <p:nvPr/>
        </p:nvPicPr>
        <p:blipFill>
          <a:blip r:embed="rId2"/>
          <a:stretch/>
        </p:blipFill>
        <p:spPr>
          <a:xfrm>
            <a:off x="539640" y="1268280"/>
            <a:ext cx="8282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8135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очему кровь движется медленнее, чем вод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Может ли кровь сменить направление движ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очему чем больше учишь, тем выше успеваемо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Можно ли по уровню АД поставить диагноз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очему взволнованный человек не может усну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1. Страница 153-155 (чита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2. Ответить на вопросы 1-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3. Творческое задание (на выбор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Исследовать АД у членов семьи. Сделать вывод о наличии или отсутствии нару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Сообщение о профилактике нарушений 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323720"/>
            <a:ext cx="777744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Сонин Н.И., Сапин М.Р. Биология. Человек. 8.- М., 201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Воронин Л.Г., Маш Р.Д. Методика проведения опытов и наблюдений по анатомии, физиологии и гигиене человека. М., 198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Гальперин С.И. Физиология человека и животных. М., 197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Ермолаев Ю.А. Возрастная физиология. М., 198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Никишов А.И., Рохлов В.С., Человек и его здоровье. Дидактический материал. М., 200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http://www.pressfoto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http://www.8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роверка зн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ровь, межклеточное вещество и лимфа образуют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Жидкая соединительная ткань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Растворенный в плазме белок, необходимый для свертывания крови,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Плазма крови без фибриногена называется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Безъядерные форменные элементы крови, содержащие гемоглобин,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Состояние организма, при котором в крови уменьшается количество эритроцитов либо содержание гемоглобина в них,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Человек, дающий свою кровь для переливания,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Защитная реакция организма, например, против инфекций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Способность организмов защищать себя от болезнетворных микробов и вирусов -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ультура ослабленных или убитых микробов, вводимых в организм человека,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Вещества, вырабатываемые лимфоцитами при контакте с чужеродным организмом или белком,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 органам кровообращения относятся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Сосуды, по которым кровь течет от сердца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Мельчайшие кровеносные сосуды, в которых происходит  обмен веществ между кровью и тканями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Путь крови от левого желудочка до правого предсердия -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4080" y="2205000"/>
            <a:ext cx="81788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Известно, что за сутки у человека замен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около 25000 миллиграмм кр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Сколько крови образуется за 70 л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Причины движения крови по сосуд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2565360"/>
            <a:ext cx="7993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Работа серд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Разность давления крови в сосуд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Наличие клапанов в вен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Сокращение близлежащих скелетных мыш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Разность давления в грудной и брюшной полостях при вдохе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Сердце - нас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Автофигура 9"/>
          <p:cNvSpPr/>
          <p:nvPr/>
        </p:nvSpPr>
        <p:spPr>
          <a:xfrm>
            <a:off x="826920" y="1989000"/>
            <a:ext cx="4465800" cy="12240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ола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окращ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Автофигура 10"/>
          <p:cNvSpPr/>
          <p:nvPr/>
        </p:nvSpPr>
        <p:spPr>
          <a:xfrm>
            <a:off x="3419640" y="4005360"/>
            <a:ext cx="4319280" cy="12967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ст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(расслабл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Скорость движения 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55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 аорте                       50 см/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 полых венах           25 см/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 капиллярах              0,05 мм/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ровяное давление –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это давление крови на стенки кровеносных сосудов и камер сердца, возникающее в результате сокращения сердца, нагнетающего кровь в сосудистую систему, и сопротивления сосу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ровяное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авление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наиболее высоко в аорте; по мере продвижения крови по сосудам оно постепенно уменьшается, достигая наименьшей величины в верхней и нижней полых ве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ртериальный пульс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– ритмическое колебание стенки артерии в период систолы желудочков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Каждый удар пульса соответствует одному сердечному сокращению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Кровяное дав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009880"/>
            <a:ext cx="820728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Артериальное давление зависит от многих фактор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ремени суто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сихологического состояния человека (при стрессе давление повышается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риёма различных стимулирующих веществ (кофе, чай, амфетамины повышают давление) или медика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1:58Z</dcterms:created>
  <dc:creator>хосе</dc:creator>
  <dc:description>http://aida.ucoz.ru</dc:description>
  <dc:language>en-US</dc:language>
  <cp:lastModifiedBy>User</cp:lastModifiedBy>
  <dcterms:modified xsi:type="dcterms:W3CDTF">2012-02-25T14:20:24Z</dcterms:modified>
  <cp:revision>9</cp:revision>
  <dc:subject/>
  <dc:title>Слайд 1</dc:title>
</cp:coreProperties>
</file>