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EB9-D207-4BDD-931F-FD6EA986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899-0FCB-4095-9A98-D3427FD8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8492-B74F-4CDA-947A-159E6184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2CF6-2C27-4046-BDFF-9F77781A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8A99-5611-4406-943E-E68C1C2C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6943-2F72-41A3-A9B0-C3CFEBC8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C7D7-AAE2-4186-B5F5-5E6522B7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44C6-0F04-4492-8415-5FBDB3E7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2756-5296-4E33-B52D-339B3BD1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7CDB-22D7-40AE-9787-5C8DAB20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3E16-58CE-4E9B-8BA6-0A0A4A5A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4B7C-DA37-4158-9A0D-BF626792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1679-B456-4725-AD39-27133A87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6E8F-4AA4-43AD-8455-470DB5EC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EB14-D0FB-47CD-AF5F-5B049966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7CB7-B8CC-42AA-BE54-6C8F89A5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983A-46A3-4818-B68D-4C7A72C7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B41-0E6D-49C2-810D-7D143A01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F0E-AE58-44EF-85DA-131504F5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31E5-A671-425C-84CE-9BA3F1EF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018-625E-458D-A65B-C41740C7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DCFA-89A4-45B4-8322-DE126EF4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9C9-F230-413B-A9B5-D9D3BEA2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0CA-A130-4799-9768-7A710547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47E1-B581-48F3-A8FA-04B398D0CC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9C35-8067-4994-ABF0-A9CA99A57A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ИНТЕРАКТИВНЫЕ МЕТОДЫ ОБУЧЕНИЯ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05960" y="303480"/>
            <a:ext cx="548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рганизация группо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09480" y="1752480"/>
          <a:ext cx="8120160" cy="4726080"/>
        </p:xfrm>
        <a:graphic>
          <a:graphicData uri="http://schemas.openxmlformats.org/drawingml/2006/table">
            <a:tbl>
              <a:tblPr/>
              <a:tblGrid>
                <a:gridCol w="2706840"/>
                <a:gridCol w="2706480"/>
                <a:gridCol w="270684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Компоненты деятельности</a:t>
                      </a: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Функции группы, ведущие к успеш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ешение зада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казание поддерж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оли членов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Инициатор, разработчик, координатор, контролер, оценщик, интерпретатор, секретарь, «гонец», докладчик, хранитель времени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дохновитель, гармонизатор, организатор общения, доброжелательный слушател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несение, принятие предложений, сведений, мнений, их обработ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оддержка начинаний, побуждение к высказываниям, принятие чужих ид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езульта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обилизация всех членов на поиск и достижение поставленной перед группой це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Укрепление взаимной приязни членов группы и их сплоченности, что облегчает достижение групповой це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70200" y="119844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оложительные моменты использования интерактивных      методов обуче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30477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ль преподавателя перестает быть центральной: он лишь регулирует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.А.Сухомлинский говорил, что «лучший учитель тот, кто забывает о том, что он учите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очему мы говорим «да» интерактивным методам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окая 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чность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ворчество и фант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ая жизненная поз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бода само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цент на самостоятельную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заимоув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мократ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лово «Интерактив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английского язы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интер»-взаим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акт»-действ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Интерактивный» означает способность взаимодействовать или находиться в режиме беседы , диалога с кем-либо (человеком , компьютер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ит, «интерактивное обучение»-это диалогов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адачи интерактивного обу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в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муникативно-развива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циально-ориентирова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0033"/>
                </a:solidFill>
                <a:uFillTx/>
                <a:latin typeface="Times New Roman"/>
              </a:rPr>
              <a:t>Научно-методические основы интерактив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учение через опыт и сотрудн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ет различий в стилях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исковые и исследовательские мет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овые мет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хема традиционного обу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адиционная схема информационного взаимодействия образовательного процесса выглядит как двусторонняя связь между обучающим и обучающим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361960" y="4953240"/>
            <a:ext cx="4343040" cy="343080"/>
            <a:chOff x="2361960" y="4953240"/>
            <a:chExt cx="4343040" cy="343080"/>
          </a:xfrm>
        </p:grpSpPr>
        <p:sp>
          <p:nvSpPr>
            <p:cNvPr id="105" name=""/>
            <p:cNvSpPr/>
            <p:nvPr/>
          </p:nvSpPr>
          <p:spPr>
            <a:xfrm>
              <a:off x="2361960" y="4953240"/>
              <a:ext cx="171468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бучающ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91040" y="4953240"/>
              <a:ext cx="171396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бучающийс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76640" y="506736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076280" y="518148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нтерактивное обуч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подаватель не дает готовых знаний, а побуждает ученика к самостоятельному поис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666520" y="3809880"/>
            <a:ext cx="4343040" cy="1371600"/>
            <a:chOff x="2666520" y="3809880"/>
            <a:chExt cx="4343040" cy="1371600"/>
          </a:xfrm>
        </p:grpSpPr>
        <p:sp>
          <p:nvSpPr>
            <p:cNvPr id="112" name=""/>
            <p:cNvSpPr/>
            <p:nvPr/>
          </p:nvSpPr>
          <p:spPr>
            <a:xfrm>
              <a:off x="2666520" y="3809880"/>
              <a:ext cx="17146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бучающ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95600" y="3809880"/>
              <a:ext cx="17139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бучающийс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81200" y="392400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380840" y="403812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24000" y="4494960"/>
              <a:ext cx="1949400" cy="68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нтерактивное средство обуч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3467160" y="4152600"/>
              <a:ext cx="45648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867280" y="4152600"/>
              <a:ext cx="45756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24080" y="4152960"/>
              <a:ext cx="79992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5867280" y="4152960"/>
              <a:ext cx="79992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итайская притч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Скажи мне -и я забуду, покажи мне- и я запомню, дай сделать- и я пойм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71800" y="-76680"/>
            <a:ext cx="292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интерактивного урок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304920"/>
          <a:ext cx="8915400" cy="6269040"/>
        </p:xfrm>
        <a:graphic>
          <a:graphicData uri="http://schemas.openxmlformats.org/drawingml/2006/table">
            <a:tbl>
              <a:tblPr/>
              <a:tblGrid>
                <a:gridCol w="1927080"/>
                <a:gridCol w="1120680"/>
                <a:gridCol w="3608640"/>
                <a:gridCol w="225900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ая ц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ные метод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нцентрировать внимание и вызвать интерес к изучению данной 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Блицопрос”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“Микрофон”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Мозговой штурм”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лашение темы и зад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ть понимание учащимися их деятельности, чего они должны достигнуть в результате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эпиграф, слово, на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необходимой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аж учащихся для выполнен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Презентация домашнего зад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Ознакомление с раздаточным материало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Мини-ле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активное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ое усвоение материа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Аквариум” ,“Пресс”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Карусель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Стимуля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Деба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Семина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Снежный ком”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Микрофон”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Защита проекта”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Работа в малых группа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едение итог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целью закрепления материа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Большой круг”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Неожиданное предложение”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Снежный ком”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Творческое задание”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Проект”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Пресс”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Методы интерактивного обуче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-л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Работа в групп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рольный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левая 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аботк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у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в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ос-Квиз (контроль) и дру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Тренинг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Этапы тренинг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ком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жидания учас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Соглаш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ка уровня информирова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07:13:46Z</dcterms:created>
  <dc:creator>Учитель</dc:creator>
  <dc:description/>
  <dc:language>en-US</dc:language>
  <cp:lastModifiedBy>ALFA</cp:lastModifiedBy>
  <dcterms:modified xsi:type="dcterms:W3CDTF">2011-10-05T20:23:0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