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4BA-9052-49C8-A3EC-7A3D6D3E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A64-264C-4AC0-9DF5-74C3F1C1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FC7-0B71-4CC8-B01A-C5A4D131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D80-64E8-494F-8B96-117FA27B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1565-DEAA-44D4-9706-437FE3FF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8D00-E905-4CFF-9761-3AE0D540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0E6E-2F44-4EFB-B783-7F2EB74A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40DA-705A-4115-A023-6A13D821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59D0-27E6-425F-9706-98998B80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2146-B239-4F37-8F9B-F192478C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A331-CAE8-45B3-88D8-1CF9907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E4E-5F1C-4C40-A777-B800B871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51E3-7EAB-4B32-A9B3-0C08D47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916E-F7FD-4522-8DE4-B1EDD230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3C69-B360-4B0D-9399-363A4F04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9713-E981-4D0B-B63B-32E2BC2F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793A-EF7C-4B53-ADFF-5EEAF024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267-3615-40E2-892E-6BE7B387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B4B-4341-497D-B989-B466C2AA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35C-4931-44AA-A2DE-3EB718F3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09F-3121-471B-8BAB-A8583B82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A9A-1AB9-461B-AB42-75347903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58A-2B61-4DEC-A38C-8187EC8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5B9-1966-496E-9748-59C3A99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D93D-0057-49AE-97F9-285DFD30C2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36D-EB58-4BC7-8B87-C23AC3629B6E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роект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Из истории медалей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24000" y="4365360"/>
            <a:ext cx="665928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Автор проекта: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Толканов Вадим,    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подготовительная группа №2,                      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МДОУ «Катюша»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Руководитель проекта: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Малинина Тамара Владимировна,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оспитатель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категории,    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МДОУ «Катюша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273e"/>
                </a:solidFill>
                <a:latin typeface="Arial Black"/>
              </a:rPr>
              <a:t>г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67658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едаль «За отвагу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0" y="2565360"/>
            <a:ext cx="403848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Медаль «За Отвагу». Учреждена Указом Президиума Верховного Совета СССР от 17 октября 1938 г. Награждаются солдаты, матросы, сержанты, старшины, а также офицерский состав Советской Армии, "за личное мужество и отвагу в боях с врагами Советского Союза на театре военных действий, при защите неприкосновенности государственных границ или при борьбе с диверсантами, шпионами и прочими врагами Советского государства. Высшая Советская медаль за личный подвиг в ВОВ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Picture 8" descr="otvaga_sm"/>
          <p:cNvPicPr/>
          <p:nvPr/>
        </p:nvPicPr>
        <p:blipFill>
          <a:blip r:embed="rId1"/>
          <a:stretch/>
        </p:blipFill>
        <p:spPr>
          <a:xfrm>
            <a:off x="1187280" y="1341360"/>
            <a:ext cx="2455920" cy="5157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А фашисты зверел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ариков и детей не жалел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еленья сжигал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ка Русские их не прогнали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Picture 7" descr="62-18"/>
          <p:cNvPicPr/>
          <p:nvPr/>
        </p:nvPicPr>
        <p:blipFill>
          <a:blip r:embed="rId1"/>
          <a:stretch/>
        </p:blipFill>
        <p:spPr>
          <a:xfrm>
            <a:off x="250920" y="1844640"/>
            <a:ext cx="6445080" cy="4689360"/>
          </a:xfrm>
          <a:prstGeom prst="rect">
            <a:avLst/>
          </a:prstGeom>
          <a:ln w="9360">
            <a:solidFill>
              <a:srgbClr val="ffe103"/>
            </a:solidFill>
            <a:miter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250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едаль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За боевые заслуги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5" descr="MBzA"/>
          <p:cNvPicPr/>
          <p:nvPr/>
        </p:nvPicPr>
        <p:blipFill>
          <a:blip r:embed="rId1"/>
          <a:stretch/>
        </p:blipFill>
        <p:spPr>
          <a:xfrm>
            <a:off x="755640" y="1916280"/>
            <a:ext cx="2516040" cy="45370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79" name="Rectangle 6"/>
          <p:cNvSpPr/>
          <p:nvPr/>
        </p:nvSpPr>
        <p:spPr>
          <a:xfrm>
            <a:off x="4067280" y="2421000"/>
            <a:ext cx="40384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Медаль "За боевые заслуги". Учреждена Указом Президиума Верховного Совета СССР от 17 октября 1938 г. в период боевых действий в районе озера Хасан на Дальнем Востоке. Награждаются военнослужащие, а также лица, не состоящие в рядах Советской Армии, ВМФ и пограничных войск, "которые в борьбе с врагами Советского государства своими умелыми, инициативными и смелыми действиями, сопряженными с риском для их жизни, содействовали успеху боевых действий на фронте".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тяжелых боях Кавказ отстоял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Picture 6" descr="Katushi42"/>
          <p:cNvPicPr/>
          <p:nvPr/>
        </p:nvPicPr>
        <p:blipFill>
          <a:blip r:embed="rId1"/>
          <a:stretch/>
        </p:blipFill>
        <p:spPr>
          <a:xfrm>
            <a:off x="324000" y="2432160"/>
            <a:ext cx="7561080" cy="4106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4176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Европу пришли-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Будапешт взял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Picture 7" descr="РЎРѕРІРµС‚СЃРєРёРµ СЃРѕР»РґР°С‚С‹ РїСЂРѕР±РµРіР°СЋС‚ РїРѕ СѓР»РёС†Рµ РіРѕСЂСЏС‰РµРіРѕ Р‘РµСЂР»РёРЅР°"/>
          <p:cNvPicPr/>
          <p:nvPr/>
        </p:nvPicPr>
        <p:blipFill>
          <a:blip r:embed="rId1"/>
          <a:stretch/>
        </p:blipFill>
        <p:spPr>
          <a:xfrm>
            <a:off x="395280" y="1989000"/>
            <a:ext cx="6913440" cy="45500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едаль «За оборону Кавказа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95280" y="3068640"/>
            <a:ext cx="38149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Медаль учреждена в 1944 году. Вручалась всем участникам героической обороны Кавказа – военнослужащим Красной Армии, которые  стойко отражали удары врага. Битва за Кавказ была выиграна, благодаря мужеству и отваге советских солдат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Picture 8" descr="MObKavkA"/>
          <p:cNvPicPr/>
          <p:nvPr/>
        </p:nvPicPr>
        <p:blipFill>
          <a:blip r:embed="rId1"/>
          <a:stretch/>
        </p:blipFill>
        <p:spPr>
          <a:xfrm>
            <a:off x="755640" y="2133720"/>
            <a:ext cx="2281320" cy="41050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едаль  «За взятие Будапешта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211280" y="34290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Медаль учреждена в 1945 году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ручалась военнослужащим - участникам боев за прорыв обороны противника , форсирование Дуная , героический штурм и взятие Будапешт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Picture 9" descr="50700"/>
          <p:cNvPicPr/>
          <p:nvPr/>
        </p:nvPicPr>
        <p:blipFill>
          <a:blip r:embed="rId1"/>
          <a:stretch/>
        </p:blipFill>
        <p:spPr>
          <a:xfrm>
            <a:off x="755640" y="1989000"/>
            <a:ext cx="2535120" cy="4608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Австрии Победу встречал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 ней долго шли…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олько жизней отдал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Picture 17" descr="1"/>
          <p:cNvPicPr/>
          <p:nvPr/>
        </p:nvPicPr>
        <p:blipFill>
          <a:blip r:embed="rId1"/>
          <a:stretch/>
        </p:blipFill>
        <p:spPr>
          <a:xfrm>
            <a:off x="395280" y="2133720"/>
            <a:ext cx="4140360" cy="3163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92" name="Picture 18" descr="418_big"/>
          <p:cNvPicPr/>
          <p:nvPr/>
        </p:nvPicPr>
        <p:blipFill>
          <a:blip r:embed="rId2"/>
          <a:stretch/>
        </p:blipFill>
        <p:spPr>
          <a:xfrm>
            <a:off x="4788000" y="3645000"/>
            <a:ext cx="4032000" cy="29192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едаль «За победу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над Германией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140360" y="2565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Медаль "За победу над Германией в Великой Отечественной войне 1941 - 1945 гг." Учреждена Указом Президиума Верховного Совета СССР от 9 мая 1945 г. для награждения как военнослужащих, так и гражданских лиц, принимавших непосредственное участие на фронтах Отечественной войны или обеспечивших победу своей успешной работой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4" descr="MPobGermA"/>
          <p:cNvPicPr/>
          <p:nvPr/>
        </p:nvPicPr>
        <p:blipFill>
          <a:blip r:embed="rId1"/>
          <a:stretch/>
        </p:blipFill>
        <p:spPr>
          <a:xfrm>
            <a:off x="1042920" y="1844640"/>
            <a:ext cx="2384640" cy="45640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54734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Много лет пролетел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кончилась та война, но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ень Побед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азднует вся страна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Picture 6" descr="Salut_Moscow"/>
          <p:cNvPicPr/>
          <p:nvPr/>
        </p:nvPicPr>
        <p:blipFill>
          <a:blip r:embed="rId1"/>
          <a:stretch/>
        </p:blipFill>
        <p:spPr>
          <a:xfrm>
            <a:off x="324000" y="2133720"/>
            <a:ext cx="6551640" cy="44877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Актуальность 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Сколько лет пролетело, как кончилась та войн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Но память о прошлом должна быть жив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Чтоб помнили все, и детей так растили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Чтоб Родину –Мать больше жизни любил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Добрыми, честными, мудрыми были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Историю помнили, Память чтил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Цель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воспитание патриотических чувств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познакомиться с историей меда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Задач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получить теоретические знания о наградах ВОВ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выяснить, кому и за что их давали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поделиться знаниями с детьми, познакомить их со своей пробабушкой, ветераном ВОВ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воспитывать желание изучать историю ВОВ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Гипотеза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КА ЖИВА ПАМЯТЬ, МЫ СИЛЬНЫ!                                                       Методы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подбор иллюстраци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работа в сети Интернет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-изучение документов к медалям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-1336680" y="-49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54984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Юбилейные медали Победы в Великой Отечественной войн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9" name="Picture 12" descr="MPobeda30A"/>
          <p:cNvPicPr/>
          <p:nvPr/>
        </p:nvPicPr>
        <p:blipFill>
          <a:blip r:embed="rId1"/>
          <a:stretch/>
        </p:blipFill>
        <p:spPr>
          <a:xfrm>
            <a:off x="2556000" y="1916280"/>
            <a:ext cx="1833480" cy="3528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400" name="Picture 11" descr="MPobeda20A"/>
          <p:cNvPicPr/>
          <p:nvPr/>
        </p:nvPicPr>
        <p:blipFill>
          <a:blip r:embed="rId2"/>
          <a:stretch/>
        </p:blipFill>
        <p:spPr>
          <a:xfrm>
            <a:off x="250920" y="1484280"/>
            <a:ext cx="1977840" cy="35290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401" name="Picture 18" descr="MPobeda40A"/>
          <p:cNvPicPr/>
          <p:nvPr/>
        </p:nvPicPr>
        <p:blipFill>
          <a:blip r:embed="rId3"/>
          <a:stretch/>
        </p:blipFill>
        <p:spPr>
          <a:xfrm>
            <a:off x="4643280" y="2565360"/>
            <a:ext cx="1870200" cy="35290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402" name="Picture 21" descr="315px-Medal_50_Years_of_Victory_in_the_Great_Patriotic_War"/>
          <p:cNvPicPr/>
          <p:nvPr/>
        </p:nvPicPr>
        <p:blipFill>
          <a:blip r:embed="rId4"/>
          <a:stretch/>
        </p:blipFill>
        <p:spPr>
          <a:xfrm>
            <a:off x="6877080" y="3141720"/>
            <a:ext cx="1852560" cy="35290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4462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едаль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Жуков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27640" y="2276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Медаль Жукова учреждена Указом Президента РФ от 9 мая 1994 г. № 930. Медалью Жукова награждаются военнослужащие и лица вольнонаемного состава Красной Армии, Военно-Морского Флота, войск НКВД, партизаны, участники подполья за храбрость, стойкость и мужество, проявленные в боевых действиях с немецко-фашистскими захватчиками, японскими милитаристами, и в ознаменование 100-летия со дня рождения Г. К. Жукова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Основанием для награждения являются документы, подтверждающие непосредственное участие в Великой Отечественной войне 1941-1945 годов в составе действующей армии или в боевых</a:t>
            </a:r>
            <a:r>
              <a:rPr b="1" lang="ru-RU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действиях против Японии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4911840" y="1432080"/>
            <a:ext cx="38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12" descr="zhukova"/>
          <p:cNvPicPr/>
          <p:nvPr/>
        </p:nvPicPr>
        <p:blipFill>
          <a:blip r:embed="rId1"/>
          <a:stretch/>
        </p:blipFill>
        <p:spPr>
          <a:xfrm>
            <a:off x="324000" y="2060640"/>
            <a:ext cx="3962160" cy="4535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65530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мните!  Через века, через года,                                                                       Помните!                                                         О тех, кто уже не придет никогда-      Помните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8" name="Picture 18" descr="17861012184026_542"/>
          <p:cNvPicPr/>
          <p:nvPr/>
        </p:nvPicPr>
        <p:blipFill>
          <a:blip r:embed="rId1"/>
          <a:stretch/>
        </p:blipFill>
        <p:spPr>
          <a:xfrm>
            <a:off x="324000" y="2565360"/>
            <a:ext cx="8243640" cy="4041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чему ты медаль бережешь,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росил я у мам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чему их в музей не берешь,-           спросил я у мам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Picture 6" descr="Изображение 003"/>
          <p:cNvPicPr/>
          <p:nvPr/>
        </p:nvPicPr>
        <p:blipFill>
          <a:blip r:embed="rId1"/>
          <a:stretch/>
        </p:blipFill>
        <p:spPr>
          <a:xfrm>
            <a:off x="395280" y="2060640"/>
            <a:ext cx="5905440" cy="44290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627280" y="5084640"/>
            <a:ext cx="6191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тому я их берегу, -ответила мам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тому не отдам никому, ответила ма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то награды эти- память теб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 герое-бабушке и о войне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Picture 8" descr="Изображение 004"/>
          <p:cNvPicPr/>
          <p:nvPr/>
        </p:nvPicPr>
        <p:blipFill>
          <a:blip r:embed="rId1"/>
          <a:srcRect l="0" t="0" r="0" b="2821"/>
          <a:stretch/>
        </p:blipFill>
        <p:spPr>
          <a:xfrm>
            <a:off x="611280" y="333360"/>
            <a:ext cx="3657600" cy="4738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Жестоко и подло, железным напором               напали фашисты на нашу страну.                       Боясь за родных и за сына- малютку,            бабушка наша ушла на войну.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Picture 17" descr="Б"/>
          <p:cNvPicPr/>
          <p:nvPr/>
        </p:nvPicPr>
        <p:blipFill>
          <a:blip r:embed="rId1"/>
          <a:stretch/>
        </p:blipFill>
        <p:spPr>
          <a:xfrm>
            <a:off x="324000" y="1916280"/>
            <a:ext cx="7200720" cy="4651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662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ять долгих лет вместе с Армией нашей             гнала фашистов с родной стороны,                         за мужество, силу, отвагу-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грады ей были дан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6" descr="1941_51"/>
          <p:cNvPicPr/>
          <p:nvPr/>
        </p:nvPicPr>
        <p:blipFill>
          <a:blip r:embed="rId1"/>
          <a:stretch/>
        </p:blipFill>
        <p:spPr>
          <a:xfrm>
            <a:off x="395280" y="2421000"/>
            <a:ext cx="7112160" cy="4025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рден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Красной Звезды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Орден Красной Звезды учрежден для награждения за большие заслуги в деле обороны Союза ССР как в военное, так и в мирное время, в обеспечении государственной безопасност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Орденом Красной Звезды награждаются: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военнослужащие Советской Армии, Военно-Морского Флота, пограничных и внутренних войск, сотрудники органов Комитета государственной безопасности СССР, а также лица рядового и начальствующего состава органов внутренних дел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Награждение орденом Красной Звезды производится: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За личное мужество и отвагу в боях, отличную организацию и умелое руководство боевыми действиями, способствовавшими успеху наших войск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За мужество и отвагу, проявленные при исполнении воинского или служебного долга, в условиях, сопряженных с риском для жизн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4" descr="ORstarA"/>
          <p:cNvPicPr/>
          <p:nvPr/>
        </p:nvPicPr>
        <p:blipFill>
          <a:blip r:embed="rId1"/>
          <a:stretch/>
        </p:blipFill>
        <p:spPr>
          <a:xfrm>
            <a:off x="5219640" y="2852640"/>
            <a:ext cx="3537000" cy="3600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рден Отечественной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войны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I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степени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24000" y="1989000"/>
          <a:ext cx="3809880" cy="410688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410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 txBox="1"/>
          <p:nvPr/>
        </p:nvSpPr>
        <p:spPr>
          <a:xfrm>
            <a:off x="4211280" y="2636640"/>
            <a:ext cx="3809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Орденом Отечественной войны награждаются лица рядового и начальствующего состава Красной Армии, проявившие в боях за Советскую Родину храбрость, стойкость и мужество, а также военнослужащие, которые своими действиями способствовали успеху боевых операций наших войск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Кто под огнем противника установил связь, исправил технические средства, поддерживал в боевых условиях непрерывную связь командования с войсками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479840" y="324468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Picture 35" descr="OPatWarB"/>
          <p:cNvPicPr/>
          <p:nvPr/>
        </p:nvPicPr>
        <p:blipFill>
          <a:blip r:embed="rId1"/>
          <a:stretch/>
        </p:blipFill>
        <p:spPr>
          <a:xfrm>
            <a:off x="468360" y="2133720"/>
            <a:ext cx="347040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ержантом- связистом на фронте была -медалью «За отвагу» награжден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Picture 7" descr="сталинград"/>
          <p:cNvPicPr/>
          <p:nvPr/>
        </p:nvPicPr>
        <p:blipFill>
          <a:blip r:embed="rId1"/>
          <a:stretch/>
        </p:blipFill>
        <p:spPr>
          <a:xfrm>
            <a:off x="324000" y="1916280"/>
            <a:ext cx="6480000" cy="4632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2:09:31Z</dcterms:created>
  <dc:creator>1</dc:creator>
  <dc:description/>
  <dc:language>en-US</dc:language>
  <cp:lastModifiedBy>User</cp:lastModifiedBy>
  <dcterms:modified xsi:type="dcterms:W3CDTF">2012-02-26T17:52:33Z</dcterms:modified>
  <cp:revision>18</cp:revision>
  <dc:subject/>
  <dc:title>Из истории медалей</dc:title>
</cp:coreProperties>
</file>