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277-77DC-49C2-AB95-C76FDF8F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944-C117-4DA7-91E7-AC8E0D0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6EE-9C6E-4665-B730-D2D74ED3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965-E312-4634-9C15-D2835551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D01-FE72-42A3-9195-5893AB9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A1B-0773-48C5-B3AB-CF93D93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734-0E49-4E31-A3B1-D29C472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C15-CF25-4196-BF85-9460F40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F79-B997-416B-8FE2-0A950909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F8D-5AA1-4A81-BA6E-D9340BC9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74D-4B7E-41D3-89AD-8D383F7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D4C-6649-46B0-8F83-9C77ACC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FF8D-414E-4615-8688-28125B251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df"/>
            </a:gs>
            <a:gs pos="50000">
              <a:srgbClr val="ff9933"/>
            </a:gs>
            <a:gs pos="100000">
              <a:srgbClr val="feee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234936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розия металлов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cc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3880" y="2209680"/>
            <a:ext cx="6477120" cy="20574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мосферная: под действием кислор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оды находящихся в воздух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28600"/>
            <a:ext cx="106668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380880"/>
            <a:ext cx="106668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5257800"/>
            <a:ext cx="10670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5181480"/>
            <a:ext cx="1066680" cy="1143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52280"/>
            <a:ext cx="106668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1066680" cy="1143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ee3c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4680" cy="260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907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Среда щелочная или нейтральная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pH&g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19700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Среда кислотная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H&lt;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4200" y="4508640"/>
            <a:ext cx="212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0" lang="de-DE" sz="24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 + 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 =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0" lang="de-DE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243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38862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Ионы водорода движутся к катоду</a:t>
            </a:r>
            <a:r>
              <a:rPr b="0" lang="de-DE" sz="1800" spc="-1" strike="noStrike">
                <a:solidFill>
                  <a:srgbClr val="0099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принимают электроны,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восстанавливаются. Суммарное уравнение процесса</a:t>
            </a:r>
            <a:r>
              <a:rPr b="0" lang="de-DE" sz="1800" spc="-1" strike="noStrike">
                <a:solidFill>
                  <a:srgbClr val="0099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Fe</a:t>
            </a:r>
            <a:r>
              <a:rPr b="0" lang="en-US" sz="1800" spc="-1" strike="noStrike" baseline="30000">
                <a:solidFill>
                  <a:srgbClr val="0099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+2</a:t>
            </a:r>
            <a:r>
              <a:rPr b="0" lang="de-DE" sz="18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0" lang="de-DE" sz="1800" spc="-1" strike="noStrike" baseline="30000">
                <a:solidFill>
                  <a:srgbClr val="0099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=</a:t>
            </a:r>
            <a:r>
              <a:rPr b="0" lang="de-DE" sz="1800" spc="-1" strike="noStrike">
                <a:solidFill>
                  <a:srgbClr val="009900"/>
                </a:solidFill>
                <a:latin typeface="Times New Roman"/>
              </a:rPr>
              <a:t>Fe</a:t>
            </a:r>
            <a:r>
              <a:rPr b="0" lang="en-US" sz="1800" spc="-1" strike="noStrike" baseline="30000">
                <a:solidFill>
                  <a:srgbClr val="009900"/>
                </a:solidFill>
                <a:latin typeface="Times New Roman"/>
              </a:rPr>
              <a:t>2+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de-DE" sz="18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0" lang="de-DE" sz="1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9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9900"/>
                </a:solidFill>
                <a:latin typeface="Times New Roman"/>
              </a:rPr>
              <a:t>Электрохимическая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 baseline="30000">
                <a:solidFill>
                  <a:srgbClr val="009900"/>
                </a:solidFill>
                <a:latin typeface="Times New Roman"/>
              </a:rPr>
              <a:t>корроз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160" y="4508640"/>
            <a:ext cx="284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+ 2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 = 4OH</a:t>
            </a:r>
            <a:r>
              <a:rPr b="0" lang="en-US" sz="2800" spc="-1" strike="noStrike" baseline="30000">
                <a:solidFill>
                  <a:srgbClr val="0099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15960" y="5157720"/>
            <a:ext cx="34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99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+ 2 OH</a:t>
            </a:r>
            <a:r>
              <a:rPr b="0" lang="en-US" sz="2800" spc="-1" strike="noStrike" baseline="30000">
                <a:solidFill>
                  <a:srgbClr val="00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= Fe(OH)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5805360"/>
            <a:ext cx="50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4Fe(OH)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+2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 +O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= 4Fe(OH)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72"/>
            </a:gs>
            <a:gs pos="50000">
              <a:srgbClr val="ffff99"/>
            </a:gs>
            <a:gs pos="100000">
              <a:srgbClr val="bfbf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055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тоды защиты металлов от корроз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a2a2e7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2926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8720" y="1587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Покры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960" y="87804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Изоляция металла от внешней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480" y="178272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133720"/>
            <a:ext cx="287964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еметаллическ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133720"/>
            <a:ext cx="237636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Метал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5480" y="502272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133720"/>
            <a:ext cx="273528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Химическ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64200" y="322272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716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11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Эм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5080" y="462276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6360" y="5054760"/>
            <a:ext cx="11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Ма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720" y="55594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Поли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6000" y="30384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Л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74720" y="303840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Times New Roman"/>
              </a:rPr>
              <a:t>Цинк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5640" y="347040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Хром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46720" y="404640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Никел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18360" y="45514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Золо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90000" y="498312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Лу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080" y="3038400"/>
            <a:ext cx="25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Оксид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82000" y="347040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Азо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83440" y="40464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Цемент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ddac"/>
            </a:gs>
            <a:gs pos="100000">
              <a:srgbClr val="00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692280"/>
            <a:ext cx="269244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2040" y="189000"/>
            <a:ext cx="87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рименение легированных сплав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1600" y="80640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ассивация метал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520" y="159876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ведение в состав ста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легирующих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4320" y="260676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, Ni, AI, Mn, Mo, V, 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284640"/>
            <a:ext cx="48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Образуются оксидные плё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549360"/>
            <a:ext cx="0" cy="431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1268280"/>
            <a:ext cx="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bce3bc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763120" cy="2263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04320" y="1890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хим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1268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вращение металла в катодный электр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6200" y="5013360"/>
            <a:ext cx="38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текторная (анодна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49100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тод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e3bc"/>
            </a:gs>
            <a:gs pos="50000">
              <a:srgbClr val="009900"/>
            </a:gs>
            <a:gs pos="100000">
              <a:srgbClr val="bce3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71640" y="4460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Обработка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341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Внесение веществ, замедляющих корроз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0360" y="20606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ингиби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84160" y="2967120"/>
            <a:ext cx="672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Удаление веществ, вызывающих корроз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деаэрац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907920"/>
            <a:ext cx="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2565360"/>
            <a:ext cx="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59bc5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54612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Шлифование поверхностей издел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708280"/>
            <a:ext cx="8351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На таких поверхностях не задерживается влага, лучше образуется защитная оксидная плёнк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360" y="5157720"/>
            <a:ext cx="882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Поверхностный однороднее и более активно взаимодействует с кислородо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916280"/>
            <a:ext cx="0" cy="72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4437000"/>
            <a:ext cx="0" cy="719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49680" y="762120"/>
            <a:ext cx="4594320" cy="518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Рж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ест железо» - гласит русская народная послови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81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Корроз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рыжая крыса, грызёт металлический лом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911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Корроз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самопроизвольное разрушение металлов и сплавов под влиянием окружающей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daa6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55840" y="522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549360"/>
            <a:ext cx="4032360" cy="20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Вред от коррози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907920"/>
            <a:ext cx="957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57720"/>
            <a:ext cx="2736720" cy="1726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Материальны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ущер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4869000"/>
            <a:ext cx="2952720" cy="1728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Экономиче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ущер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3429000"/>
            <a:ext cx="2643120" cy="165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Эколог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послед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907640" y="2276640"/>
            <a:ext cx="129564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349360"/>
            <a:ext cx="1297080" cy="1008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565360"/>
            <a:ext cx="0" cy="208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620640"/>
            <a:ext cx="4800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ериальный ущер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71800" y="1295280"/>
            <a:ext cx="533520" cy="9144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89548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5029200"/>
            <a:ext cx="76212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86000"/>
            <a:ext cx="480060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 метал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572000"/>
            <a:ext cx="403848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ча изготовлен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металлов изд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fc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360" y="3141720"/>
            <a:ext cx="77738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Затраты на ремонт, замену деталей судов, автомобилей, аппаратуры, приборов, коммуникаций во много раз превышают стоимость метал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1197000"/>
            <a:ext cx="4895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мический ущерб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1268280"/>
            <a:ext cx="614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56720" y="1052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620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96d496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Утечка нефти, газов из разрушенных 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коррозией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трубопров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Загрязнение окруж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Отрицательное воздействие на здоровье     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47640" y="404640"/>
            <a:ext cx="53787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ологические последстви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3213000"/>
            <a:ext cx="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476280"/>
            <a:ext cx="460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коррози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924280"/>
            <a:ext cx="1923840" cy="10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Хим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852640"/>
            <a:ext cx="213840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Атмосфер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5084640"/>
            <a:ext cx="4319640" cy="935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Электрохим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1916280"/>
            <a:ext cx="3095640" cy="158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3333cc"/>
                </a:solidFill>
                <a:latin typeface="Times New Roman"/>
              </a:rPr>
              <a:t>Корроз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42560" y="2276640"/>
            <a:ext cx="180036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2276640"/>
            <a:ext cx="1657440" cy="43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3573360"/>
            <a:ext cx="0" cy="1511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cc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533520"/>
            <a:ext cx="6477120" cy="20574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мическая: под действием газов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и влаги, при действ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кой темп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844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1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4:04:25Z</dcterms:created>
  <dc:creator>1</dc:creator>
  <dc:description/>
  <dc:language>en-US</dc:language>
  <cp:lastModifiedBy>николай</cp:lastModifiedBy>
  <dcterms:modified xsi:type="dcterms:W3CDTF">2012-02-26T17:56:55Z</dcterms:modified>
  <cp:revision>10</cp:revision>
  <dc:subject/>
  <dc:title>Презентация PowerPoint</dc:title>
</cp:coreProperties>
</file>