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7F3-D33C-4EF2-9582-84441026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CB3-0D47-4094-9183-7CF1D0D3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5BAF1-721E-429D-B294-A474EFF5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00127-835F-4CE4-8F3C-E4A3D023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9B8A6-522D-44FD-BF13-C36A152F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362F8-8E9C-4F9E-A286-F649E03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B1EDE-A980-40F2-BBA6-59CFEEBA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1B357-3557-4F12-8026-03570EB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B183D-EA41-4117-9C1C-4DF4D445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03CD9-350F-4E96-B5FD-8C708921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D10D6-6524-41F7-A8B1-368AFE1C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1A906-7FAE-4DF1-9E7A-0347F099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C31-C070-4D43-A290-69BE8B71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107BF-8FC7-4CD9-BD7E-5010F906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B4DD1-3C4C-40A6-9770-121BF94A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45D24-A6F6-41A3-9024-83C2521D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EA30D-A2A9-45E4-BE00-F5CB1FD4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1B49B-06D0-437E-ADFF-AE0D8F27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B097C-E503-42A5-96DE-4874C92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37E20-18F6-40B9-9651-A0308B3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85D81-B40C-402D-95EB-2AA862F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642A6-109E-437C-8FCE-3A469F03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66839-01D8-4DD8-A995-FC28ACC3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CF3-F38D-435C-A8A4-B0223E27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6B24E-CBC8-470B-A621-F02480FC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1C5C1-0755-443A-AB46-5A433BD2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A06BD-9B36-49D0-8D2F-90033E5D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99039-2751-45F2-B695-B5A99929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1CD48-FCF0-4806-B930-3B384228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233C9-FB13-49E8-83D1-6C81943D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72947-5D45-4B80-AE74-4DCC8CC9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F1822-6478-4AF4-A305-359EDC2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51F05-E6BD-4EFA-983F-2F72DDEC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D5C71-7487-4A50-9D0A-1E139127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891F-2476-442B-9E76-7B7C8813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4F810-7959-454E-92C6-9F787E2F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DEB36-5C9C-4CE6-BD1F-67BC1CFC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D2D40-C1E1-47EE-84C5-0FCACB76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A8B11-A38B-4030-B8D5-A574E3FD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276A9-F38E-42B2-9025-43DA3FE5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F0FEC-EC0A-4967-BDA3-D6E3DC2C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55EBF-ACC4-46A1-964D-F1B6641E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A3DE6-45D0-4A97-981B-A47A9E7F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A0772-8017-47C4-993F-55DAF4F3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7B1CE-2928-4090-BB7A-E58B3B3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431E-5B41-45B8-8313-975191B6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E1962-D926-45C7-B705-2EBEE27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27781-853D-4927-AF40-6CD19C7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309F9-E691-4E33-89FA-B9763FFE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27709-8E00-456D-842E-CDA57C20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312A1-2A47-4DBF-B9DA-DA2E9235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33B63-1214-4CA6-A0D2-0A6822AF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9336C-8959-4932-A7F9-03E56181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8C688-CE3C-453B-8499-DBA7DD58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79435-C068-4C93-ACA4-F8142550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6A517-2F4C-43F1-8D6E-CD85A155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9B9-4497-4943-B2E6-26466FB1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83F0F-97C2-498A-8268-443FF17C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2BC2D-BFEC-4F41-91E8-C105F67C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C6904-F0FA-404D-8036-B09286F7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4A4DC-CEF5-4DDE-A6A0-F8FC0F59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29BEB-91CB-4A67-BA1B-BAAC409E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25F5C-B102-48B0-8D3B-6BD10881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F89D6-238A-4CE1-A3EE-61FD3472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5562AB-63B3-454B-BD1A-B0D30BBA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8581D4-DA5D-451A-B4E4-0C5431CC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1E2FA5-852B-4EAA-8B55-195B99BD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A6BD-D8B7-40B8-BC21-9DEBCF63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9C5791-1F53-46DF-95EA-54B1E4CC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20A0A0-43FD-4464-A387-C5CAF00A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FA4106-BE79-471E-B821-2F809332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C4292B-B26E-4F90-A40C-0374AF3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A8F172-1156-48E4-A37D-48EFAB5D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1242D4-53B0-4596-B4CF-0D745BF4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77A379-7398-4C69-8D16-7F959F22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CD839D-B700-46B1-8E54-E2D50FD9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D2127B-78AF-4980-B02A-E1EACAD1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EB90-CF66-4A01-9325-70F90AF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62E8-0201-439E-B782-AD7031D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FE5F-213D-4C65-914A-BBCDD5A9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0AF-F208-472F-9830-C0E7C79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1178-1263-43B4-9AFE-F006420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75DF-2655-4636-B262-314CFCE8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927D-4163-4BBC-9B97-D0A386C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4B02-61B4-4DEC-8DD3-A3708A9C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3E40-A95D-4D24-944B-85585D8A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29F8-E6ED-4A60-A046-F779710E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B635-CD1D-4958-A89D-27A4A63B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56EB-7C80-495E-84DF-A09B1576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839F9-AFDE-4933-99EC-DDFD03FA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1A4E-5596-40FE-9E5E-1CB34A3F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C31-4C71-478E-AE47-4AF5C24B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49B8-BFE5-4C83-BD2E-EF74EE3F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62D1-568F-4CE1-BCC0-D8A4B26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3DB2-A4A1-4472-A499-0B70B44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541B-823F-4F9A-B178-606F8F7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5FA6-A5B3-466C-96BE-41F0B7DA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ACAD3-F7FD-4DC3-A5AA-5B4F9923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CEBA-BD02-4BD6-9F2E-2D6594BC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A86E-2108-4F47-A3A3-E8B46383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95D78-0499-40A1-91DA-5C6D2FE2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F9A4-49C6-4909-ACCF-D003E421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CF6-1B37-4ED0-AFC8-7766AAFD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6CD1-6A22-48D0-BDCD-4B99A337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0F71-E4BF-4AF2-BFBA-6FA8735A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2A3E-8899-4BD1-8AB8-F393804B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D9BE-B90D-4755-9908-8A6C4FE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2D02-3849-4A15-94CC-7C9F52E1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F9D0-7170-408B-8751-7FDAA6C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A7589-E3A7-42A9-94BE-377EEB9B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F159-0053-413E-AA5D-50F47572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F14B-EFA6-49D5-8046-238FCA22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3F36-D862-4082-B696-276A0D3D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353-EA0E-40F7-8BB2-967741E3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0D9EA-0BD3-4AF8-B775-A6D07A95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BEF2-BEBF-433C-8EA8-9112A888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07A6-F007-46CA-BE51-B64B6678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A6EE-E96A-40BE-9568-98766FE6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3F23D-EF0E-41C9-BF09-19F66DA3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45A26-12D3-4E21-8226-CF284FF3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9D0C-130B-48F9-B96B-54A7094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0C3B0-EDCB-4056-98C9-3D7D990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9F49-C152-4F33-85D3-6FBAC4C6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EC9C9-893C-4457-9E9A-0DBB689D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F52-FFB7-4131-B763-3E5EC872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0050E-4F61-40F3-B9A3-7F22EFD8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41CAC-A7B8-4ECB-B743-B646C9FC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0128D-08A4-4C68-B694-274D6736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16683-42E1-4696-8EEE-C4028EA6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56756-59AE-4D82-AB6F-6440B967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683F4-3EB6-4276-A068-7936344E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67C18-69E8-430C-8987-85B3C25F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B8302-EF16-44BF-B1C5-6883EBB6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C7E78-DA16-477E-960D-852D1247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B2D32-A949-4E99-BD86-71EE9AEB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614-B66A-486D-A0FD-862D1B27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67C67-A0BF-49BC-86E4-29B6CC7D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EC8C1-82ED-439A-A41A-34DCCC7A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61128-1E09-43A8-8972-FB7D0FA5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0CA9-B908-46F6-8D9C-06E17360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C400-F464-4884-862D-F4F7B624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B3F8-B3ED-4F98-BC65-14E199B6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AC3A8-E1C7-43CC-AEDF-7D8E245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7173-CA44-4D9C-A4D9-78B73B20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E56C2-E963-4868-A9A0-78087D6B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876E3-7E73-4A42-AC2D-F639377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8EA-3ADC-46FC-AAD5-96FC947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7CA37-5554-4484-887B-52136BE9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AF867-3750-468E-A6D1-D7AC3B0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EF0D-9342-4C9D-8FA7-51F0E9E7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01E65-209C-46D6-841B-25A81FF9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53616-5B48-401C-BCC2-557ACACA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372D5-BA40-4949-B4DF-0FE4F2B4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8F43F-BBFA-46D1-BAC4-503D9091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7C27-2E85-4470-9B1F-35C7638E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DEEF-2679-4E4F-8CE1-19F4BBD4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87060-3837-451A-913E-CD525E01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A02-742E-4378-B846-5F149AA5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46777-1EC9-4661-90C2-C3B4D29B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905DE-2722-4398-A59A-0D2227AB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EB891-C6D3-4E08-87EA-07B13EBD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056CA-8703-4D53-804D-7474746B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58047-FE5D-43C5-B2D5-C4BF1EE9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AC19-7E4C-4972-904F-315AD193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F5F3F-19E4-40CE-A278-5875DD80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46E04-6F17-4462-AA32-04D3BBDA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6513D-58BE-4E24-8E0F-DD4D8E4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96679-2EB3-406B-AC11-EB57C7D8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071-9632-4198-8A23-FD109EABE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1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99A1-270D-477B-95AB-D6E4CF583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6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64C6-CF44-4682-B4FB-096C9C8089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4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2E70-DFC9-45E7-BAE4-6F2AC11E7B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22A7-4AFF-41F8-ABC7-0A7299FC02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8776-2779-4D20-B447-140985200C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5B2-AEF6-4137-BA18-8D48C0B0B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9813-3C5D-4555-A704-D0990A42F0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4AB7-1377-4A9E-BEF6-EFD25A1E2E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5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85E8-272E-4961-8E27-475865D1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1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1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0A5C-C548-4CD3-9818-A5E29639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1AE7-AC8C-40A4-821A-EE745CD9B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D151-ED44-4533-B9AF-ED488C7A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5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4B93-82C5-4126-BACF-8F0AB84EA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iseau-libre.net/Photos/CAV/Martre3_CAV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61.radikal.ru/i172/0905/3c/74adb0562431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0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Le Parc national des Pyrénées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4" name="" descr="125_diaporama_Nouvielle"/>
          <p:cNvPicPr/>
          <p:nvPr/>
        </p:nvPicPr>
        <p:blipFill>
          <a:blip r:embed="rId1"/>
          <a:stretch/>
        </p:blipFill>
        <p:spPr>
          <a:xfrm>
            <a:off x="4572000" y="4365720"/>
            <a:ext cx="2857680" cy="208908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2395-041"/>
          <p:cNvPicPr/>
          <p:nvPr/>
        </p:nvPicPr>
        <p:blipFill>
          <a:blip r:embed="rId2"/>
          <a:stretch/>
        </p:blipFill>
        <p:spPr>
          <a:xfrm>
            <a:off x="1187280" y="2133720"/>
            <a:ext cx="2880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016_diaporama"/>
          <p:cNvPicPr/>
          <p:nvPr/>
        </p:nvPicPr>
        <p:blipFill>
          <a:blip r:embed="rId3"/>
          <a:stretch/>
        </p:blipFill>
        <p:spPr>
          <a:xfrm>
            <a:off x="1187280" y="4365720"/>
            <a:ext cx="2857680" cy="208908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5311-020"/>
          <p:cNvPicPr/>
          <p:nvPr/>
        </p:nvPicPr>
        <p:blipFill>
          <a:blip r:embed="rId4"/>
          <a:stretch/>
        </p:blipFill>
        <p:spPr>
          <a:xfrm>
            <a:off x="4594320" y="2133720"/>
            <a:ext cx="2857320" cy="208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2" name="" descr="081_diaporama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2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Arial"/>
              </a:rPr>
              <a:t>Merci pour l'attentio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L'auteur Dacha </a:t>
            </a: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staphourov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Le cerf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539640" y="544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Les cerfs sont des animaux de montagne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3" name="" descr="Cerf_C.Cuenin"/>
          <p:cNvPicPr/>
          <p:nvPr/>
        </p:nvPicPr>
        <p:blipFill>
          <a:blip r:embed="rId1"/>
          <a:stretch/>
        </p:blipFill>
        <p:spPr>
          <a:xfrm>
            <a:off x="1476360" y="981000"/>
            <a:ext cx="6622920" cy="3984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Le chevreuil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3940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n le rencontre dans les forêts d’altitude y compris en hiver, dans des sites fréquentés seulement par les isards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8" name="" descr="Chevreuil_C.Cuenin"/>
          <p:cNvPicPr/>
          <p:nvPr/>
        </p:nvPicPr>
        <p:blipFill>
          <a:blip r:embed="rId1"/>
          <a:stretch/>
        </p:blipFill>
        <p:spPr>
          <a:xfrm>
            <a:off x="3995640" y="1916280"/>
            <a:ext cx="4896000" cy="3263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8" dur="20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La martre       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684000" y="2133720"/>
            <a:ext cx="2832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a martre gîte dans les trous d’arbres, les vieux nids d’oiseaux ou des buissons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3" name="" descr="Картинка 7 из 8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1844640"/>
            <a:ext cx="2343240" cy="3311640"/>
          </a:xfrm>
          <a:prstGeom prst="rect">
            <a:avLst/>
          </a:prstGeom>
          <a:ln w="0">
            <a:noFill/>
          </a:ln>
        </p:spPr>
      </p:pic>
      <p:pic>
        <p:nvPicPr>
          <p:cNvPr id="1224" name="" descr="0136-062"/>
          <p:cNvPicPr/>
          <p:nvPr/>
        </p:nvPicPr>
        <p:blipFill>
          <a:blip r:embed="rId4"/>
          <a:stretch/>
        </p:blipFill>
        <p:spPr>
          <a:xfrm>
            <a:off x="4211640" y="1844640"/>
            <a:ext cx="2208240" cy="3311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L'hermine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73200" y="1815840"/>
            <a:ext cx="3682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'hermine vit dans un couvert végét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7" name="" descr="Hermine_P.Dunoguiez"/>
          <p:cNvPicPr/>
          <p:nvPr/>
        </p:nvPicPr>
        <p:blipFill>
          <a:blip r:embed="rId1"/>
          <a:stretch/>
        </p:blipFill>
        <p:spPr>
          <a:xfrm>
            <a:off x="755640" y="3693960"/>
            <a:ext cx="3384720" cy="225612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Картинка 18 из 121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916280"/>
            <a:ext cx="4476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L'isard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55640" y="1339920"/>
            <a:ext cx="36720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l’archétype de l’animal montagnard, capable de couri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ès v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149640" cy="472464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3313080" cy="24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La truite fari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’est le poisson d’altitude des montagnes européen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9" name="" descr="truite_P.Dunoguiez"/>
          <p:cNvPicPr/>
          <p:nvPr/>
        </p:nvPicPr>
        <p:blipFill>
          <a:blip r:embed="rId2"/>
          <a:stretch/>
        </p:blipFill>
        <p:spPr>
          <a:xfrm>
            <a:off x="539640" y="4221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Картинка 7 из 280"/>
          <p:cNvPicPr/>
          <p:nvPr/>
        </p:nvPicPr>
        <p:blipFill>
          <a:blip r:embed="rId3"/>
          <a:stretch/>
        </p:blipFill>
        <p:spPr>
          <a:xfrm>
            <a:off x="4500720" y="227664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" descr="Картинка 10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Les papillons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91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us de 150 espèces de papillons sont observables dans le Parc national des Pyrénées, dont plus de 50 endémiqu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4" name="" descr="grand_Apollon_J.Bauwin"/>
          <p:cNvPicPr/>
          <p:nvPr/>
        </p:nvPicPr>
        <p:blipFill>
          <a:blip r:embed="rId2"/>
          <a:stretch/>
        </p:blipFill>
        <p:spPr>
          <a:xfrm>
            <a:off x="5580000" y="13413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Картинка 4 из 375"/>
          <p:cNvPicPr/>
          <p:nvPr/>
        </p:nvPicPr>
        <p:blipFill>
          <a:blip r:embed="rId3"/>
          <a:stretch/>
        </p:blipFill>
        <p:spPr>
          <a:xfrm>
            <a:off x="3708360" y="371628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" descr="Картинка 11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Le vautour fauve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281952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vautour fauve est un des plus grands rapaces de France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9" name="" descr="Vautour_P.Dunoguiez"/>
          <p:cNvPicPr/>
          <p:nvPr/>
        </p:nvPicPr>
        <p:blipFill>
          <a:blip r:embed="rId2"/>
          <a:stretch/>
        </p:blipFill>
        <p:spPr>
          <a:xfrm>
            <a:off x="5003640" y="1197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Картинка 8 из 517"/>
          <p:cNvPicPr/>
          <p:nvPr/>
        </p:nvPicPr>
        <p:blipFill>
          <a:blip r:embed="rId3"/>
          <a:stretch/>
        </p:blipFill>
        <p:spPr>
          <a:xfrm>
            <a:off x="3708360" y="3357720"/>
            <a:ext cx="5184720" cy="336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4:36:29Z</dcterms:created>
  <dc:creator>Пользователь</dc:creator>
  <dc:description/>
  <dc:language>en-US</dc:language>
  <cp:lastModifiedBy>55374-442-8514235-86882</cp:lastModifiedBy>
  <dcterms:modified xsi:type="dcterms:W3CDTF">2011-05-10T09:09:27Z</dcterms:modified>
  <cp:revision>8</cp:revision>
  <dc:subject/>
  <dc:title>Le Parc national des Pyrénées </dc:title>
</cp:coreProperties>
</file>