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3463-2B59-49F5-9E4C-DD0767B0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030A-99BD-4CEE-8643-E119AA32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77CC-0DC6-479D-84E8-8ADD0351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4ACD-761D-48C6-94A7-20FED547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4862-7A7B-4B92-ABB6-5A49474B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6FC0-99B6-429D-9856-6BC590B4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5C10-4825-4AD7-81D2-F3B8905F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5C26-438E-466C-805A-9BBDC1F1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38CB-F14F-4151-A7FB-65AD3626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04C5-E559-49A5-A90D-B02F9D6B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48B7-38D2-4DA0-B55A-434A0911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1B43-2CF2-4C22-9578-43DBFE24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599C-B08F-4FAA-803F-E81F9C1B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5F04-578B-4D74-B0B4-73403F9E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812B-4EF8-4018-BFEF-45FCA4A8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0DF3-3656-4D1E-BB0B-29C63152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0299-F237-4429-8C65-8726D794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40F2-A5B6-49AF-B19A-B643701E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D14B-B801-446C-9156-E20A1306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A305-ED8F-43D5-9BEA-B509D1DD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D699-04E3-4F3D-A437-F3CA4D02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1517-732F-43C5-8381-2B8F48C9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67BE-8142-4889-92B7-73CBC074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9DE8-3E46-4FC1-8085-A58D45D9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7952-DD57-46BF-8439-18D7B4169A0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713B-6738-4E62-908D-2A9FBB601A6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4152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Личностно-деятельностные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технологии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2781000"/>
            <a:ext cx="4321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Деловые и ретроспективнные игры. Технология «Дебаты»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Мнемотурнир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КАРТОЧКА ОЦЕНКИ РЕЗУЛЬТАТИВНОСТИ ИГР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Ясна ли была цель игры и твоя рол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умел ли ведущий добиться игрового состоя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Оцени ведущего с точки зрения владения материалом, приемами игры, стиля обще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Оправдала ли игра твои ожид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Что показалось наиболее интересным и запомнилос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явилось желание узнать больше об эпох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Хотел бы ты еще участвовать в игр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Твои предложения: как сделать данную игру более интересной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Технология  «Дебаты»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Этапы работы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Работа с информацие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Школьники находят и отбирают информацию по предложенной тем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Работа с текстом информаци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Учащиеся выделяют главное, критически осмысливают материал, анализируют и сопоставляют с имеющимися знаниям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Составление речи, раскрывающей предложенный тезис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труктурирование своего выступления так, чтобы оно включало нужную информацию и одновременно было эмоциональным и интересным по форм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Построение линии аргументации, доказательной базы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Построение линии опроверж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. Ознакомление с правилами этикета полемик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немотурнир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Алгоритм проведения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 Сообщается организационный регламен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 Формируются подгруппы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 Задаются вопросы (письменно, устно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 Каждый обдумывает вопрос, ответы заносятся в таблицу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(“Я”),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проставляется степень уверенности в ответ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 После выполнения всех заданий, ответы обсуждаются в группе. Скорректированный ответ заносится в таблицу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(“Группа”),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проставляется степень уверенност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. Учителем сообщается правильный ответ, учащиеся записывают верный ответ в таблицу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(“Эталон”)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. Учащиеся выставляют итоговый бал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степень уверенности (0 – не уверен, 1 – сомневаюсь, 2 – уверен)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иды учебных игр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Деловая игра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Ретроспективная иг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моделируется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ситуаци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ставящая учащихся в позицию очевидцев и участников событий прошлого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каждый ученик получает роль представителя определенной общественной группы или даже исторической личности. Главным признаком игры такого типа является "эффект присутствия"  - "так могло быть"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2923560"/>
            <a:ext cx="50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игра-обсуждени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796760"/>
            <a:ext cx="5003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игра- исследов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ученик получает в ней роль   современника или потомка, изучающего исторические события (археолога, писателя, журналиста)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765000"/>
            <a:ext cx="769320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а)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игра-обсуждение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в процессе игры воссоздается воображаемая ситуация современности со спором, дискуссией (диспуты, круглые столы журналистов, телемосты и киностудии и др.). В своей обучающей основе такая игра очень близка к дискуссионной деятельности, ибо целиком строится на учебном диалог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Б)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игра- исследование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строится также на воображаемой ситуации современности, изучающей прошлое, но в отличие от предыдущей формы основана на индивидуальных действиях "героя", который пишет очерк, письмо, школьный учебник, фрагмент книги, газетную статью, научный доклад о том или ином историческом событ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75440" y="775800"/>
            <a:ext cx="7897320" cy="1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Ретроспективные игры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1341000"/>
            <a:ext cx="7693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скусственно моделирующая ситуацию прошлого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, в которой люди определенной эпохи "демонстрируют" свое мастерство, достижения, смекалку в определенном историческом контексте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аршрутная игра или воображаемое путешествие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(аналогичный термин - заочная экскурсия). Особая форма урока, когда дети переносятся в прошлое и "путешествуют" по нему в определенной пространственной среде (прогулка по древнему городу, плавание по реке, полет на хронолете и др.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роблемно-дискуссионная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В ее основе лежит воображаемая ситуация в прошлом, но при этом все действие строится не по сценарию, а вокруг обсуждения важного вопроса или проблемы. В игре предполагается спор участников, учитель сводит свою роль к минимуму, ставит проблему и промежуточные вопросы, распределяет роли участников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еловая игра с элементами ретроспективности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Игра такого рода может сочетать в себе различных участников: современников, очевидцев событий, которые "встречаются" для обсуждения важных вопросов и "дознания" прошлого с потомками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оль учител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нструктора -объяснение правил игры и последствий игровых действий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удьи-рефери, который поддерживает ход игры, контролирует соблюдение игровых правил, оценивает деятельность ребят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 ходу игры, подбадривает детей и поддерживает игровую ситуацию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редседателя-ведущего, который дает импульс к игре и регулирует весь ход игры, в своих руках держит все игровые действия участников, подводит итоги и сопоставляет моделируемую ситуацию с реальной обстановко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оли учащихс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Актеры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воссоздают в процессе игры образ созданного в их сознании персонажа, осуществляют ос действия в соответствии с целью игры,  взаимодействуют со зрителями, отвечают на вопросы и защищают свою позицию. Главная их задача - достоверно и эмоционально передать содержание изображаемого ими образа. Нередко они сопереживают своему герою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Зрители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осмысливают игровую задачу, формулируют свою позицию по отношению к героям игры, соотносят увиденные образы с собственной системой ценностей, "вживаются" в игровой контекст и мысленно создают свой собственный план игры, ставят себя на место актеров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Эксперты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оценивают создаваемы в игре образы - содержание роли, ее убедительность, достоверность, артистические способности и творчество исполнителей. В задачу экспертов входит очень сложная задача - проанализировать и сам процесс игры, ее результативность, поэтому по ходу они делают записи, создают карточки анализа. В конце игры они выступают с результатами, отмечают наиболее и наименее удачные моменты. 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сновные этапы исторической игры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Первый этап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Учитель объясняет ребятам игровую задачу. 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Второй эта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происходит на самом уроке. Учитель еще раз объясняет уже всему классу задачи и возможности игры,  дает  познавательные задания на весь урок, вводит  в игровое состояние, создается определенный настро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Игровой эта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характеризуется эмоциональным вовлечением всех учеников класса в игровое действие. Координирует игровые действия, обращает внимание на работу экспертов, не навязывая им своего мнения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На последнем оценочном этап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проводится  анализ проведенного занятия, оценка и самооценка участников, обсуждается сам ход и результативность игровых действий учеников, игровая ситуация и степень ее соответствия исторической реальности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72360" y="62136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АМЯТКА УЧАСТНИКУ  ИСТОРИЧЕСКОЙ ИГР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Осознай, в чем состоит задача игровой ситуац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верь в то, что происходит в данной ситуац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ыбери свою роль, степень участия в игре, исходя из своего опыта, способностей, характера и интерес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Тщательно готовься к игре, включая свои выступле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Чувствуй своих партнеров по игре, не перебивай, внимательно прислушивайся к их выступлениям, адекватно реагируй на ни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дчиняйся законам игры и обязательно выполняй ее правил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Участвуй в подведении итогов игры, поставь себе оценк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Оцени проигранную ситуацию с точки зрения соответствия исторической реальн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8:09:44Z</dcterms:created>
  <dc:creator>Admin</dc:creator>
  <dc:description/>
  <dc:language>en-US</dc:language>
  <cp:lastModifiedBy>Admin</cp:lastModifiedBy>
  <dcterms:modified xsi:type="dcterms:W3CDTF">2010-01-24T19:16:33Z</dcterms:modified>
  <cp:revision>3</cp:revision>
  <dc:subject/>
  <dc:title>Личностно-деятельностные технологии</dc:title>
</cp:coreProperties>
</file>