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065-0D0C-4BE7-ABD8-6F71D21D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C5D-6846-4929-9CE4-56246C18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1FE-07BE-45A6-A354-2BBD998D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402-F595-4E25-AE63-B0181A00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2E66-D5DA-43B4-B916-2C69DDA6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B6E6-F61F-480C-9C17-1036F30A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6C92-10E6-4FAF-B2F4-F1D345C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8B6F-DEFF-45E6-A0FB-28F5B618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7114-E4B1-4101-8373-A3E56AF2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F3DB-EB28-446B-9CB0-361C3B1D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2B69-F546-48AE-806C-6C541716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7C4-48AD-4D4D-97AB-49789A80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A318-33DB-4316-BA02-285B386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7166-81FC-49BF-997E-8F1133CD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1A91-BEFA-4719-AF6D-72785369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D6DF-CD4D-4E64-878F-CAEEC239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3EF3-61B0-4123-AE69-4B484458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F433-F0C0-467A-B2F7-BA52FB76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B12E-7F16-4352-B8CD-1F359B9D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DC6E-92FB-4D35-9257-5C8D52E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3036-FEE3-4D30-B738-78316B4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F56B-A592-499C-B0B3-ABCF44C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29F-BF2A-41B4-80A1-55FEA97A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E317-70C6-4B67-BF94-536C3CEE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8B46-E00F-4719-A9FE-CCAF04D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6BEB-8B6A-473E-9C38-B2E17F9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0F25-B756-4486-892D-74C9E01F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F5F6-647B-41F5-B73A-881595D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2D98-95A1-4AA9-8136-AF458837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ADFA-656F-40CC-B4AC-ECFC4CFD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D292-B81E-4AD2-92B8-5CA54061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89E2-0070-4339-8E69-C1E8852C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2A24-A85B-44F2-88BC-B888955F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545-1E35-4556-B482-6546A64B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C76A-FCA4-40FD-A1E6-745872F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CA87-2D00-4CAA-93F7-054DD809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1C15-CE16-49DD-BCBE-F3351723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F22B-D17C-4F6D-B1CF-E928B9D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FDED-61EE-42AD-92CD-A25A9E9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DAA33-CED0-46D7-B98D-9E917D8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054D-0E43-4DE4-A3D5-52092E92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0312-0050-439C-9896-9C8B609C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AF4D-52E2-4B91-BCEE-EA5B5C99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EEEC-C3C9-4D3D-9013-4D07EDA4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A96-EEF2-4C6F-B50E-C9C96170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D85F-93CC-45A7-A3E6-17F7993B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FC02F-0D19-44BA-89A5-D18F8374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28BF-2C20-4635-AAEC-7E3E4757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6EBA-31C1-452D-92F1-8EDDD651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7878-0468-4E4D-9846-409D55F1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C825-B2E6-4E0F-89AF-6BBD8DC0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840E-C422-4E9C-B9EF-CAFAB95F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57EA9-85C7-4D5C-BFC4-A984B0E9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FBC57-B028-4305-AAAF-C5029DF2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5F87-BA8E-4D2A-A290-0003D0BC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B0B-5899-4259-9836-C61FBC74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4408-BFD0-42FC-A8D3-7D0E5ECF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3DB09-14C8-429C-8DE3-B49F766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88FDE-ABFA-47E2-8F46-495E4359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A947-120F-4526-B5E2-0D70B0B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381E7-F338-452C-8706-2150A604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3EF6-2139-4FBA-9259-7CBEF33C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6BB22-DCD8-4733-8DB0-929C60DD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9DE6-86A7-4D29-8837-C3DD4E09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175B4-7B6B-41EB-A75B-4E835FA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7001-3980-48E5-BAF2-7FD0520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6BA-C324-4C15-9116-9F510F4C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BA89-D229-48EB-95ED-4F8B7D98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24CF0-1AD4-4739-884C-53035CAF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D2850-D220-4B98-A0DB-B39C4C5B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2D0E3-8161-4B69-8D3E-230F0607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A43B3-9268-487E-854F-D1C6900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F9EE-8D1C-4F94-9CFF-710CAFF7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38767-36C1-4E8F-BB24-4E2806E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CBD6-CE18-4997-B96D-31888AC6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2AC0-1369-403E-83D1-930952AA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628A-647A-4953-B195-9DE2887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EB1-DC6B-4372-85BE-6B64F52B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97E03-4922-4B2D-BE3D-D085975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1F818-4192-400E-A366-9AA008B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AD59-65EE-4F1B-BCA9-AE4DEA0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1B4C5-17C8-48A6-816C-BDFB7C5B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1937-E0B2-4B46-8025-D01220AE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68C-59D7-46C8-8DA8-B810FB64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67DA-48EE-48F9-B808-951054B6E19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1628-5A06-4595-B62C-531A944A20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517B-8D3F-4FB8-AA99-F8B3F51779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3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4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6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4D4F-BB33-456B-8F4E-3655F5D167F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2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2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3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3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4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5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2FB-E303-4953-B9F2-C47F97882DF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49A-EF2D-4386-A49F-C16BF94CFF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C67-C3C5-4C68-A970-7754812E9EA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etilab.ru/" TargetMode="External"/><Relationship Id="rId2" Type="http://schemas.openxmlformats.org/officeDocument/2006/relationships/hyperlink" Target="http://www.openlesson.ru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 «Детский сад №5 «Сказк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Ртищево Саратовской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3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бучение сочетается с двигательной активностью и сменой мизансце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4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мена темпа и рит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5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нтеграция всех видов деятель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6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риентация на принцип полифонии: «За 133 зайцами погонишься, глядишь и наловишь с десяток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зультаты исследования социо-игровой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ти умеют слушать и слышать друг друга, выражать свое мнение, договариваться, приходить к соглас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 детей развивается речевое взаимодейств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ормируется позитивное отношение к окружающему миру, другим людям, самому себе, сверстника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ти умеют отстаивать свою позицию, разумно и доброжелательно возражать взрослы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сутствует чувство страха за ошиб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писок используемой литератур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Букатов В. М. «Шишел-мышел, взял да вышел» С-Пб, 2008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setilab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.openlesson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ограмма «Детский сад 2100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ФГТ к структуре основной образовательной программы дошкольного образ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3880" cy="35146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549360"/>
            <a:ext cx="4818240" cy="2733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3924360" y="335772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hvar"/>
          <p:cNvPicPr/>
          <p:nvPr/>
        </p:nvPicPr>
        <p:blipFill>
          <a:blip r:embed="rId1"/>
          <a:stretch/>
        </p:blipFill>
        <p:spPr>
          <a:xfrm>
            <a:off x="108000" y="181080"/>
            <a:ext cx="88567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68360" y="357120"/>
            <a:ext cx="835164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7138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астер – класс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Реализация образовательной области «Художественное творчество» в старшем дошкольном возрасте, с использованием социо-игровой технолог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00000" y="4508640"/>
            <a:ext cx="78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амленко Е. 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спитатель второ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валификационной категор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ДОУ «Детский сад №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Сказк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908000" y="4292640"/>
            <a:ext cx="20894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53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681800" cy="3511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236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40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3"/>
          <p:cNvGrpSpPr/>
          <p:nvPr/>
        </p:nvGrpSpPr>
        <p:grpSpPr>
          <a:xfrm>
            <a:off x="304920" y="1676520"/>
            <a:ext cx="9144000" cy="5580000"/>
            <a:chOff x="304920" y="1676520"/>
            <a:chExt cx="9144000" cy="5580000"/>
          </a:xfrm>
        </p:grpSpPr>
        <p:sp>
          <p:nvSpPr>
            <p:cNvPr id="492" name="Rectangle 5"/>
            <p:cNvSpPr/>
            <p:nvPr/>
          </p:nvSpPr>
          <p:spPr>
            <a:xfrm>
              <a:off x="304920" y="1676520"/>
              <a:ext cx="9144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74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осоч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304920" y="320040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46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капель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304920" y="4299120"/>
              <a:ext cx="91440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45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завит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Rectangle 11"/>
            <p:cNvSpPr/>
            <p:nvPr/>
          </p:nvSpPr>
          <p:spPr>
            <a:xfrm>
              <a:off x="304920" y="5381640"/>
              <a:ext cx="914400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en-US" sz="97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</a:t>
              </a: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"кусти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496" name="Picture 6" descr="7-4-1"/>
          <p:cNvPicPr/>
          <p:nvPr/>
        </p:nvPicPr>
        <p:blipFill>
          <a:blip r:embed="rId1"/>
          <a:stretch/>
        </p:blipFill>
        <p:spPr>
          <a:xfrm>
            <a:off x="201600" y="1523880"/>
            <a:ext cx="7201080" cy="11890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7-4-2"/>
          <p:cNvPicPr/>
          <p:nvPr/>
        </p:nvPicPr>
        <p:blipFill>
          <a:blip r:embed="rId2"/>
          <a:stretch/>
        </p:blipFill>
        <p:spPr>
          <a:xfrm>
            <a:off x="201600" y="3048120"/>
            <a:ext cx="7201080" cy="742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" descr="7-4-3"/>
          <p:cNvPicPr/>
          <p:nvPr/>
        </p:nvPicPr>
        <p:blipFill>
          <a:blip r:embed="rId3"/>
          <a:stretch/>
        </p:blipFill>
        <p:spPr>
          <a:xfrm>
            <a:off x="201600" y="4146480"/>
            <a:ext cx="7178760" cy="720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" descr="7-4-4"/>
          <p:cNvPicPr/>
          <p:nvPr/>
        </p:nvPicPr>
        <p:blipFill>
          <a:blip r:embed="rId4"/>
          <a:stretch/>
        </p:blipFill>
        <p:spPr>
          <a:xfrm>
            <a:off x="179280" y="5157720"/>
            <a:ext cx="6923160" cy="15429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Узор «травк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5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2"/>
          <p:cNvGrpSpPr/>
          <p:nvPr/>
        </p:nvGrpSpPr>
        <p:grpSpPr>
          <a:xfrm>
            <a:off x="731880" y="423720"/>
            <a:ext cx="7680600" cy="5977080"/>
            <a:chOff x="731880" y="423720"/>
            <a:chExt cx="7680600" cy="5977080"/>
          </a:xfrm>
        </p:grpSpPr>
        <p:sp>
          <p:nvSpPr>
            <p:cNvPr id="502" name="Rectangle 2"/>
            <p:cNvSpPr/>
            <p:nvPr/>
          </p:nvSpPr>
          <p:spPr>
            <a:xfrm>
              <a:off x="731880" y="423720"/>
              <a:ext cx="221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УЗОР "ЯГОДКИ"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3" name="Group 11"/>
            <p:cNvGrpSpPr/>
            <p:nvPr/>
          </p:nvGrpSpPr>
          <p:grpSpPr>
            <a:xfrm>
              <a:off x="731880" y="1185840"/>
              <a:ext cx="7680600" cy="5214960"/>
              <a:chOff x="731880" y="1185840"/>
              <a:chExt cx="7680600" cy="5214960"/>
            </a:xfrm>
          </p:grpSpPr>
          <p:sp>
            <p:nvSpPr>
              <p:cNvPr id="504" name="Rectangle 3"/>
              <p:cNvSpPr/>
              <p:nvPr/>
            </p:nvSpPr>
            <p:spPr>
              <a:xfrm>
                <a:off x="731880" y="1185840"/>
                <a:ext cx="768024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Rectangle 5"/>
              <p:cNvSpPr/>
              <p:nvPr/>
            </p:nvSpPr>
            <p:spPr>
              <a:xfrm>
                <a:off x="8412120" y="1185840"/>
                <a:ext cx="36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Rectangle 6"/>
              <p:cNvSpPr/>
              <p:nvPr/>
            </p:nvSpPr>
            <p:spPr>
              <a:xfrm>
                <a:off x="731880" y="292392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Rectangle 8"/>
              <p:cNvSpPr/>
              <p:nvPr/>
            </p:nvSpPr>
            <p:spPr>
              <a:xfrm>
                <a:off x="8412120" y="2923920"/>
                <a:ext cx="36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Rectangle 9"/>
              <p:cNvSpPr/>
              <p:nvPr/>
            </p:nvSpPr>
            <p:spPr>
              <a:xfrm>
                <a:off x="731880" y="466236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en-US" sz="108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509" name="Picture 4" descr="7-6-1"/>
          <p:cNvPicPr/>
          <p:nvPr/>
        </p:nvPicPr>
        <p:blipFill>
          <a:blip r:embed="rId1"/>
          <a:stretch/>
        </p:blipFill>
        <p:spPr>
          <a:xfrm>
            <a:off x="1143000" y="91440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7-6-2"/>
          <p:cNvPicPr/>
          <p:nvPr/>
        </p:nvPicPr>
        <p:blipFill>
          <a:blip r:embed="rId2"/>
          <a:stretch/>
        </p:blipFill>
        <p:spPr>
          <a:xfrm>
            <a:off x="1143000" y="281952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7-6-3"/>
          <p:cNvPicPr/>
          <p:nvPr/>
        </p:nvPicPr>
        <p:blipFill>
          <a:blip r:embed="rId3"/>
          <a:stretch/>
        </p:blipFill>
        <p:spPr>
          <a:xfrm>
            <a:off x="1219320" y="4800600"/>
            <a:ext cx="548640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2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73236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7323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68058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73236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мастер – класс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бучение использованию социо-игровой технологии для реализации образовательной области «Художественное творчество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47640" y="62856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Comic Sans MS"/>
              </a:rPr>
              <a:t>Успехов в работе!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мастер-клас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озможностях применения социо-игровой технологии при организации образовательного процесса в соответствии с ФГ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учить приемам социо-игровой технолог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звать у участников мастер-класса интерес к социо-игровой технологии и желание развивать свой творческий потенциа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звивать творческую активность педагогического коллекти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Творчество – это не удел только гениев, создавших великие художественные произведения. Творчество существует везде, где человек воображает, комбинирует, создает что-либо ново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. С. Выгот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сновные задачи образовательной области «Художественное творчество»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тие продуктивной деятельности детей (рисование, лепка, аппликация, художественный труд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тие детского творчест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общение к изобразительному искусств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емы и методы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глядны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ование ТС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грово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ловес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1 правило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ботами малыми группами или, как их еще называют, «группы ровесников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2 правил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мена лидерст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7:54:48Z</dcterms:created>
  <dc:creator>ATTO</dc:creator>
  <dc:description/>
  <dc:language>en-US</dc:language>
  <cp:lastModifiedBy>ATTO</cp:lastModifiedBy>
  <dcterms:modified xsi:type="dcterms:W3CDTF">2012-01-26T07:50:02Z</dcterms:modified>
  <cp:revision>5</cp:revision>
  <dc:subject/>
  <dc:title>Мастер – класс  «Реализация образовательной области «Художественное творчество» в старшем дошкольном возрасте, с использованием социо-игровой технологии»</dc:title>
</cp:coreProperties>
</file>