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9.png" ContentType="image/png"/>
  <Override PartName="/ppt/media/image17.png" ContentType="image/png"/>
  <Override PartName="/ppt/media/image16.png" ContentType="image/png"/>
  <Override PartName="/ppt/media/chimes.wav" ContentType="audio/x-wav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1B2A-5B35-4FAC-BD0F-3EAAEE37D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C39B-0F4E-46CF-AB9A-63FA08B6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8DA3-BD5D-4B83-94B0-15FB62B47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03A7-FF17-46E8-86AE-E7010DF75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E892-6487-46C7-9E3C-37FAFD4C4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575F-1FDF-42B4-9AA3-744E2F08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427E-B153-473E-A497-5B67E53B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8F48-E734-4ED5-B4F2-21ED4082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7C5E-439D-45B5-A6C1-4CB0CD4E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7C38-89C3-4130-B8EA-0CE0CA20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BE49-AD84-42FE-B39B-5342FE5E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42F0-36E1-4C9F-9628-528E481E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70F7-9D7A-404F-A034-31E6FDB8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6283-8F6E-4CDB-B107-E0E6E06C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A191-52BA-4B3C-8B05-5D315E08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8907-895F-4830-A7FC-59BB34B16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6FFF-036B-49BE-931A-BBE251904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6DC18-BB15-4A6D-ACED-ADDC642D2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418E1-C267-4AE8-9AA8-83C0312B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2242A-2BD9-4838-A14F-CCD6C6C1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C335E-A51A-4155-891B-EE315087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8FDA7-D12C-429B-B9A2-9AC2E9CA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8C18-B239-4E29-88E5-F52E7233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3D6AF-2E55-4E5A-BCB8-0B720B06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A5A6D-D4B3-479B-8AB2-A546D7F3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00BCF-6B14-43C0-B622-346F954F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A4B75-06D6-40C1-8058-0BE6AA7B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1FE61-6047-42ED-8F5D-B9FA9E4B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99913-E61E-4528-A8A6-A147A626E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541BC-F388-41C0-95F0-D1390BA9F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6977D-FDD4-41E6-A17B-AB50041CC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CC062-6045-456B-9AF7-A78E74BF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0E8B3-2685-4D21-B4C3-CE7509CA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C73F-BBA7-4A14-82E2-D9131355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1B961-B93A-4EF7-863D-FAB01E59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C8EA5-F2F7-4BE8-9814-B848429C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5369E-52B1-43E1-AA8D-7D319BC3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920B7-6B10-494C-8197-75B38BD9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DD4B4-CDC9-4CA0-9C21-EFC27854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BA440-6D1C-494D-9341-8AFD1F70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DA65B-6C3A-4116-A6C9-51636D31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4002B-5EB7-43A9-AEAD-1165CBBD8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B2EC4-637E-4B4C-BECB-2BE3C2D50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97259-67F9-48E7-934F-FD50B0988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4668-60C6-41B5-9783-4E967E90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FED34-7CF0-49B6-9947-060654FC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C7EFE-DFEC-415C-934D-BCB0300D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CA49F-18E9-4BFA-AA25-FEC47405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5A7C2-BDB4-4E58-B5C6-D5ED3A37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7BABF-CEAC-4CA4-A985-D90514D1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EA8B7-BDEA-4B9D-9C56-D1EF5EC2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4A6EC-6ED1-48C2-9E19-FD30F453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850E4-CDFA-426F-A7D3-13A62C6F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E6799-653F-449B-A8A8-DD2CFF62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8B757-8B9B-4D39-9645-97AD3CDC2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CAE0-FD6E-4878-A53F-E917337E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1086B-9BCB-4D32-974A-37DB45F94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0AD94-EB7C-41E9-AA5C-0DFC2DAF7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15B85-B16A-4216-8E2D-73F4C9F5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13829-A63F-4DF9-8971-CF13B0ED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BEE1C-11A1-4945-8C90-8665F60E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65DE6-B8F1-4C67-B017-69B98671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479AF-A45C-4C9A-8A51-AE6897E2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85444-DD62-49D0-881E-9ECAE2C6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8FF40-317B-4926-B0F0-13988245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D00B9-11F1-4F19-816C-01F7987F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B6BC-7D9E-43A5-B022-C7577E4D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F5962-8C88-4AA9-B908-6694989A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B04E8-3D3D-4A5F-B7E5-08BAA8913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68BA3-94B7-417F-A87E-CAB55C064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F0AB6-D8FE-49B1-B5E1-611040EB1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89A99-0321-4BB4-8416-1893B912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B707F-3211-4FEA-BEFE-826B67E7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D8B9C-6B78-4A3D-9DED-19D500DF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BFECA-61E7-437E-BAFC-A3D40AD3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1EEB5-49DF-4464-AB65-B893E2C8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BE4DD-25BF-459F-AA95-BD45E369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C7D3-B628-4279-AFAC-A17F68FD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6A913-EB38-4B25-9FA1-D043488E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2900A-E5C3-4849-8C2C-357B92A6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A1172-81B4-4563-AD4E-85A93C5E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62CA1-650E-459F-BA3C-C8A4DE138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D2658-3E26-405A-8DB1-5D9D277D5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F5EA-A62A-48F8-8355-48DFCBA0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0977-5BF8-4718-BDF0-0D1E05D6BD8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8E2F-8A2D-4E59-A34C-26070CD332A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1ACD-AF77-4402-B32C-4383B37A23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36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38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43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9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53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57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61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50F4-C802-4AC5-9DE0-CCA94CE902C9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20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21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35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39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43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47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51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CD10-0519-411A-9126-3B4D346BECAC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8DA5-D35E-4EAA-AA07-038822F32A9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1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2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32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3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4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4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34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4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C579-65D8-4A12-A44E-8DE2905B854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9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9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0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0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0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1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etilab.ru/" TargetMode="External"/><Relationship Id="rId2" Type="http://schemas.openxmlformats.org/officeDocument/2006/relationships/hyperlink" Target="http://www.openlesson.ru/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12747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униципальное дошкольное образовательное учреждение «Детский сад №5 «Сказка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. Ртищево Саратовской об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3 правило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Обучение сочетается с двигательной активностью и сменой мизансцен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4 правило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Смена темпа и ритм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5 правило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Интеграция всех видов деятельности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6 правило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Ориентация на принцип полифонии: «За 133 зайцами погонишься, глядишь и наловишь с десяток»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зультаты исследования социо-игровой технолог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Дети умеют слушать и слышать друг друга, выражать свое мнение, договариваться, приходить к согласию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У детей развивается речевое взаимодействие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Формируется позитивное отношение к окружающему миру, другим людям, самому себе, сверстникам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Дети умеют отстаивать свою позицию, разумно и доброжелательно возражать взрослым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Отсутствует чувство страха за ошибк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писок используемой литературы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Букатов В. М. «Шишел-мышел, взял да вышел» С-Пб, 2008г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setilab.r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ww.openlesson.r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Программа «Детский сад 2100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ФГТ к структуре основной образовательной программы дошкольного образо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233880" cy="351468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684360" y="4149720"/>
            <a:ext cx="2447640" cy="244800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3708360" y="549360"/>
            <a:ext cx="4818240" cy="273348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4"/>
          <a:stretch/>
        </p:blipFill>
        <p:spPr>
          <a:xfrm>
            <a:off x="3924360" y="3357720"/>
            <a:ext cx="442908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5" descr="hvar"/>
          <p:cNvPicPr/>
          <p:nvPr/>
        </p:nvPicPr>
        <p:blipFill>
          <a:blip r:embed="rId1"/>
          <a:stretch/>
        </p:blipFill>
        <p:spPr>
          <a:xfrm>
            <a:off x="108000" y="181080"/>
            <a:ext cx="8856720" cy="64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468360" y="357120"/>
            <a:ext cx="835164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713800" cy="57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Мастер – класс </a:t>
            </a:r>
            <a:br>
              <a:rPr sz="2000"/>
            </a:b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«Реализация образовательной области «Художественное творчество» в старшем дошкольном возрасте, с использованием социо-игровой технологии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900000" y="4508640"/>
            <a:ext cx="7848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Хамленко Е. Н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оспитатель второй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квалификационной категори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МДОУ «Детский сад №5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«Сказка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1908000" y="4292640"/>
            <a:ext cx="208944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6535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4356000" y="2852640"/>
            <a:ext cx="4681800" cy="351180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03236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50403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13"/>
          <p:cNvGrpSpPr/>
          <p:nvPr/>
        </p:nvGrpSpPr>
        <p:grpSpPr>
          <a:xfrm>
            <a:off x="304920" y="1676520"/>
            <a:ext cx="9144000" cy="5580000"/>
            <a:chOff x="304920" y="1676520"/>
            <a:chExt cx="9144000" cy="5580000"/>
          </a:xfrm>
        </p:grpSpPr>
        <p:sp>
          <p:nvSpPr>
            <p:cNvPr id="492" name="Rectangle 5"/>
            <p:cNvSpPr/>
            <p:nvPr/>
          </p:nvSpPr>
          <p:spPr>
            <a:xfrm>
              <a:off x="304920" y="1676520"/>
              <a:ext cx="914400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3300"/>
                  </a:solidFill>
                  <a:latin typeface="Comic Sans MS"/>
                </a:rPr>
                <a:t>  </a:t>
              </a:r>
              <a:r>
                <a:rPr b="1" lang="ru-RU" sz="7400" spc="-1" strike="noStrike">
                  <a:solidFill>
                    <a:srgbClr val="cc3300"/>
                  </a:solidFill>
                  <a:latin typeface="Comic Sans MS"/>
                </a:rPr>
                <a:t> </a:t>
              </a:r>
              <a:r>
                <a:rPr b="1" lang="ru-RU" sz="2000" spc="-1" strike="noStrike">
                  <a:solidFill>
                    <a:srgbClr val="cc3300"/>
                  </a:solidFill>
                  <a:latin typeface="Comic Sans MS"/>
                </a:rPr>
                <a:t>                                                             </a:t>
              </a:r>
              <a:r>
                <a:rPr b="1" lang="ru-RU" sz="2000" spc="-1" strike="noStrike">
                  <a:solidFill>
                    <a:srgbClr val="cc3300"/>
                  </a:solidFill>
                  <a:latin typeface="Comic Sans MS"/>
                </a:rPr>
                <a:t>"осочки"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Rectangle 7"/>
            <p:cNvSpPr/>
            <p:nvPr/>
          </p:nvSpPr>
          <p:spPr>
            <a:xfrm>
              <a:off x="304920" y="3200400"/>
              <a:ext cx="9144000" cy="10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Comic Sans MS"/>
                </a:rPr>
                <a:t>  </a:t>
              </a:r>
              <a:r>
                <a:rPr b="1" lang="en-US" sz="4600" spc="-1" strike="noStrike">
                  <a:solidFill>
                    <a:srgbClr val="cc3300"/>
                  </a:solidFill>
                  <a:latin typeface="Comic Sans MS"/>
                </a:rPr>
                <a:t> </a:t>
              </a:r>
              <a:r>
                <a:rPr b="1" lang="en-US" sz="2000" spc="-1" strike="noStrike">
                  <a:solidFill>
                    <a:srgbClr val="cc3300"/>
                  </a:solidFill>
                  <a:latin typeface="Comic Sans MS"/>
                </a:rPr>
                <a:t>                                                              </a:t>
              </a:r>
              <a:r>
                <a:rPr b="1" lang="en-US" sz="2000" spc="-1" strike="noStrike">
                  <a:solidFill>
                    <a:srgbClr val="cc3300"/>
                  </a:solidFill>
                  <a:latin typeface="Comic Sans MS"/>
                </a:rPr>
                <a:t>"капельки"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Rectangle 9"/>
            <p:cNvSpPr/>
            <p:nvPr/>
          </p:nvSpPr>
          <p:spPr>
            <a:xfrm>
              <a:off x="304920" y="4299120"/>
              <a:ext cx="9144000" cy="10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Comic Sans MS"/>
                </a:rPr>
                <a:t>  </a:t>
              </a:r>
              <a:r>
                <a:rPr b="1" lang="en-US" sz="4500" spc="-1" strike="noStrike">
                  <a:solidFill>
                    <a:srgbClr val="cc3300"/>
                  </a:solidFill>
                  <a:latin typeface="Comic Sans MS"/>
                </a:rPr>
                <a:t> </a:t>
              </a:r>
              <a:r>
                <a:rPr b="1" lang="en-US" sz="2000" spc="-1" strike="noStrike">
                  <a:solidFill>
                    <a:srgbClr val="cc3300"/>
                  </a:solidFill>
                  <a:latin typeface="Comic Sans MS"/>
                </a:rPr>
                <a:t>                                                              </a:t>
              </a:r>
              <a:r>
                <a:rPr b="1" lang="en-US" sz="2000" spc="-1" strike="noStrike">
                  <a:solidFill>
                    <a:srgbClr val="cc3300"/>
                  </a:solidFill>
                  <a:latin typeface="Comic Sans MS"/>
                </a:rPr>
                <a:t>"завитки"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Rectangle 11"/>
            <p:cNvSpPr/>
            <p:nvPr/>
          </p:nvSpPr>
          <p:spPr>
            <a:xfrm>
              <a:off x="304920" y="5381640"/>
              <a:ext cx="9144000" cy="18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Comic Sans MS"/>
                </a:rPr>
                <a:t>  </a:t>
              </a:r>
              <a:r>
                <a:rPr b="1" lang="en-US" sz="9700" spc="-1" strike="noStrike">
                  <a:solidFill>
                    <a:srgbClr val="cc3300"/>
                  </a:solidFill>
                  <a:latin typeface="Comic Sans MS"/>
                </a:rPr>
                <a:t> </a:t>
              </a:r>
              <a:r>
                <a:rPr b="1" lang="en-US" sz="2000" spc="-1" strike="noStrike">
                  <a:solidFill>
                    <a:srgbClr val="cc3300"/>
                  </a:solidFill>
                  <a:latin typeface="Comic Sans MS"/>
                </a:rPr>
                <a:t>                                                            </a:t>
              </a:r>
              <a:r>
                <a:rPr b="1" lang="en-US" sz="2000" spc="-1" strike="noStrike">
                  <a:solidFill>
                    <a:srgbClr val="cc3300"/>
                  </a:solidFill>
                  <a:latin typeface="Comic Sans MS"/>
                </a:rPr>
                <a:t>"кустики"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496" name="Picture 6" descr="7-4-1"/>
          <p:cNvPicPr/>
          <p:nvPr/>
        </p:nvPicPr>
        <p:blipFill>
          <a:blip r:embed="rId1"/>
          <a:stretch/>
        </p:blipFill>
        <p:spPr>
          <a:xfrm>
            <a:off x="201600" y="1523880"/>
            <a:ext cx="7201080" cy="118908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8" descr="7-4-2"/>
          <p:cNvPicPr/>
          <p:nvPr/>
        </p:nvPicPr>
        <p:blipFill>
          <a:blip r:embed="rId2"/>
          <a:stretch/>
        </p:blipFill>
        <p:spPr>
          <a:xfrm>
            <a:off x="201600" y="3048120"/>
            <a:ext cx="7201080" cy="74268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0" descr="7-4-3"/>
          <p:cNvPicPr/>
          <p:nvPr/>
        </p:nvPicPr>
        <p:blipFill>
          <a:blip r:embed="rId3"/>
          <a:stretch/>
        </p:blipFill>
        <p:spPr>
          <a:xfrm>
            <a:off x="201600" y="4146480"/>
            <a:ext cx="7178760" cy="7207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2" descr="7-4-4"/>
          <p:cNvPicPr/>
          <p:nvPr/>
        </p:nvPicPr>
        <p:blipFill>
          <a:blip r:embed="rId4"/>
          <a:stretch/>
        </p:blipFill>
        <p:spPr>
          <a:xfrm>
            <a:off x="179280" y="5157720"/>
            <a:ext cx="6923160" cy="154296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Arial"/>
              </a:rPr>
              <a:t>Узор «травка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5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Group 12"/>
          <p:cNvGrpSpPr/>
          <p:nvPr/>
        </p:nvGrpSpPr>
        <p:grpSpPr>
          <a:xfrm>
            <a:off x="731880" y="423720"/>
            <a:ext cx="7680600" cy="5977080"/>
            <a:chOff x="731880" y="423720"/>
            <a:chExt cx="7680600" cy="5977080"/>
          </a:xfrm>
        </p:grpSpPr>
        <p:sp>
          <p:nvSpPr>
            <p:cNvPr id="502" name="Rectangle 2"/>
            <p:cNvSpPr/>
            <p:nvPr/>
          </p:nvSpPr>
          <p:spPr>
            <a:xfrm>
              <a:off x="731880" y="423720"/>
              <a:ext cx="2219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Comic Sans MS"/>
                </a:rPr>
                <a:t>УЗОР "ЯГОДКИ"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3" name="Group 11"/>
            <p:cNvGrpSpPr/>
            <p:nvPr/>
          </p:nvGrpSpPr>
          <p:grpSpPr>
            <a:xfrm>
              <a:off x="731880" y="1185840"/>
              <a:ext cx="7680600" cy="5214960"/>
              <a:chOff x="731880" y="1185840"/>
              <a:chExt cx="7680600" cy="5214960"/>
            </a:xfrm>
          </p:grpSpPr>
          <p:sp>
            <p:nvSpPr>
              <p:cNvPr id="504" name="Rectangle 3"/>
              <p:cNvSpPr/>
              <p:nvPr/>
            </p:nvSpPr>
            <p:spPr>
              <a:xfrm>
                <a:off x="731880" y="1185840"/>
                <a:ext cx="7680240" cy="173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Times New Roman"/>
                  </a:rPr>
                  <a:t>  </a:t>
                </a:r>
                <a:r>
                  <a:rPr b="0" lang="en-US" sz="10800" spc="-1" strike="noStrike">
                    <a:solidFill>
                      <a:srgbClr val="003366"/>
                    </a:solidFill>
                    <a:latin typeface="Times New Roman"/>
                  </a:rPr>
                  <a:t> </a:t>
                </a:r>
                <a:r>
                  <a:rPr b="0" lang="en-US" sz="1400" spc="-1" strike="noStrike">
                    <a:solidFill>
                      <a:srgbClr val="003366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5" name="Rectangle 5"/>
              <p:cNvSpPr/>
              <p:nvPr/>
            </p:nvSpPr>
            <p:spPr>
              <a:xfrm>
                <a:off x="8412120" y="1185840"/>
                <a:ext cx="360" cy="173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6" name="Rectangle 6"/>
              <p:cNvSpPr/>
              <p:nvPr/>
            </p:nvSpPr>
            <p:spPr>
              <a:xfrm>
                <a:off x="731880" y="2923920"/>
                <a:ext cx="7680240" cy="173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  </a:t>
                </a:r>
                <a:r>
                  <a:rPr b="0" lang="en-US" sz="10800" spc="-1" strike="noStrike">
                    <a:solidFill>
                      <a:srgbClr val="003366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7" name="Rectangle 8"/>
              <p:cNvSpPr/>
              <p:nvPr/>
            </p:nvSpPr>
            <p:spPr>
              <a:xfrm>
                <a:off x="8412120" y="2923920"/>
                <a:ext cx="360" cy="173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8" name="Rectangle 9"/>
              <p:cNvSpPr/>
              <p:nvPr/>
            </p:nvSpPr>
            <p:spPr>
              <a:xfrm>
                <a:off x="731880" y="4662360"/>
                <a:ext cx="7680240" cy="173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  </a:t>
                </a:r>
                <a:r>
                  <a:rPr b="0" lang="en-US" sz="10800" spc="-1" strike="noStrike">
                    <a:solidFill>
                      <a:srgbClr val="003366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pic>
        <p:nvPicPr>
          <p:cNvPr id="509" name="Picture 4" descr="7-6-1"/>
          <p:cNvPicPr/>
          <p:nvPr/>
        </p:nvPicPr>
        <p:blipFill>
          <a:blip r:embed="rId1"/>
          <a:stretch/>
        </p:blipFill>
        <p:spPr>
          <a:xfrm>
            <a:off x="1143000" y="914400"/>
            <a:ext cx="5486400" cy="17254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7" descr="7-6-2"/>
          <p:cNvPicPr/>
          <p:nvPr/>
        </p:nvPicPr>
        <p:blipFill>
          <a:blip r:embed="rId2"/>
          <a:stretch/>
        </p:blipFill>
        <p:spPr>
          <a:xfrm>
            <a:off x="1143000" y="2819520"/>
            <a:ext cx="5486400" cy="17254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0" descr="7-6-3"/>
          <p:cNvPicPr/>
          <p:nvPr/>
        </p:nvPicPr>
        <p:blipFill>
          <a:blip r:embed="rId3"/>
          <a:stretch/>
        </p:blipFill>
        <p:spPr>
          <a:xfrm>
            <a:off x="1219320" y="4800600"/>
            <a:ext cx="5486400" cy="172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3272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1692360" y="907920"/>
            <a:ext cx="6732360" cy="50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73236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63640" y="765000"/>
            <a:ext cx="680580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6732360" cy="50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Цель мастер – класс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Обучение использованию социо-игровой технологии для реализации образовательной области «Художественное творчество»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1547640" y="628560"/>
            <a:ext cx="705672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6600"/>
                </a:solidFill>
                <a:latin typeface="Comic Sans MS"/>
              </a:rPr>
              <a:t>Успехов в работе!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дачи мастер-класс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формировать представление о возможностях применения социо-игровой технологии при организации образовательного процесса в соответствии с ФГТ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бучить приемам социо-игровой технологи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ызвать у участников мастер-класса интерес к социо-игровой технологии и желание развивать свой творческий потенциал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азвивать творческую активность педагогического коллектив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«Творчество – это не удел только гениев, создавших великие художественные произведения. Творчество существует везде, где человек воображает, комбинирует, создает что-либо новое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. С. Выготск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Основные задачи образовательной области «Художественное творчество»: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азвитие продуктивной деятельности детей (рисование, лепка, аппликация, художественный труд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азвитие детского творчеств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риобщение к изобразительному искусств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иемы и методы работы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аглядны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спользование ТСО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грово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ловесны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1 правило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аботами малыми группами или, как их еще называют, «группы ровесников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2 правило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Смена лидерств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07:54:48Z</dcterms:created>
  <dc:creator>ATTO</dc:creator>
  <dc:description/>
  <dc:language>en-US</dc:language>
  <cp:lastModifiedBy>ATTO</cp:lastModifiedBy>
  <dcterms:modified xsi:type="dcterms:W3CDTF">2012-01-26T07:50:02Z</dcterms:modified>
  <cp:revision>5</cp:revision>
  <dc:subject/>
  <dc:title>Мастер – класс  «Реализация образовательной области «Художественное творчество» в старшем дошкольном возрасте, с использованием социо-игровой технологии»</dc:title>
</cp:coreProperties>
</file>