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chimes.wav" ContentType="audio/x-wav"/>
  <Override PartName="/ppt/media/image8.png" ContentType="image/png"/>
  <Override PartName="/ppt/media/image10.png" ContentType="image/png"/>
  <Override PartName="/ppt/media/image6.jpeg" ContentType="image/jpeg"/>
  <Override PartName="/ppt/media/applause.wav" ContentType="audio/x-wav"/>
  <Override PartName="/ppt/media/voltage.wav" ContentType="audio/x-wav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653-3318-4923-A8F2-D16ECC7B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247-0AAE-4EC4-AD25-DD24EDF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ED0-F1CF-45F9-804C-9556D592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086-95F0-4E3D-87A8-C6125BBF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FEF9-5C3D-42A7-9AB1-6ED98AA9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5BF8-8609-4859-8C40-60496B07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386-72FB-452F-9C10-197FCA7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4E60-44F2-44B2-8445-446F4D2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B430-1CC4-40E1-8200-B811622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E1D-8CDD-4256-B1B3-08E7FAA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E9A3-1AAF-4030-97CA-B4029B4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342-E697-452F-8B6F-DB8526F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D8C-A020-4E88-BE9F-B84B3C4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D78E-8750-4903-96EB-45C989C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EE2-F540-40F5-8FF9-8FCFF85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219-92DC-4DA8-9EA1-1AB75E67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15FB-F1D1-4ED5-A6C6-21704A6B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2D18-BEE2-4B6C-8ADD-3438FAD3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9307-D42B-4471-8D7A-6EE9C10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8992-2EB7-4FF9-A503-0E0CE86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510C-0685-4111-9579-D67BBEC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A770-478D-4170-B8FA-24A3C7C3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C59-8A8E-4815-AB87-0D146FE5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9C11-409F-4E19-9B61-4BADA37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1CC5-C1CF-4BB7-9365-03DD65A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3A56-1B9E-44C5-B71A-C5407C0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C931-FF95-4453-8970-2855BA8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9D0F-8BF5-4D2A-B4B7-2B875F1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3553-8995-416A-B99C-4EAB9FA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2AC8-B4A7-49FA-8D4B-50C70DEC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356F-BB84-41FB-8E41-F523261A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9B94-6E2C-42CC-B620-FFAF9838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5C10-8B39-4C2C-B26B-4B2D4B83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133-B521-427E-9C8A-C431651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3225-CA54-45C5-97B3-368782F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E33E-727C-4B9D-B394-E99FCC39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5274-D022-4627-B7DC-87A5B20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F84D-7673-44A6-8D2B-E9A29918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5BC3-2CC0-4EC3-8C98-9D491BF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8613-0361-489F-B877-E1AA6EA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2830-BBBE-4DE6-8632-86AEF96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B4AF-5FE7-4485-8E80-9A6E8149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3F61-230E-458D-9167-4F3C52A5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1865-62AF-4FF0-805A-1D6E1500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F0A-980D-4E96-B2DC-AEAE23B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4480-EC7C-4F32-BCA2-55D7282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4673-EB6C-49D2-A3CE-72F069A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3E8D-DC03-4144-8995-2033168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2F1C-DCDF-41BD-97C2-80A8108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FC7D-CFEA-485C-A851-6F43760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E55E-5B0F-4EFC-9AB4-BF3C3AB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428C-CB09-47DF-9AC6-840166C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6176F-501B-4673-8567-07040E0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44A2F-DB0D-4B74-9349-3690B5CF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D11D-711F-4DC7-AD9C-7DAFF2DD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CD3-AEA3-455E-92D2-748DC7BB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9ACD-6037-4787-B2AA-1C8053BE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3C5-05DD-43EA-8524-1C80DEC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75B-679B-4AEB-AFD0-9EC653A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432-5DED-4546-92C4-AA47992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F8A4-160B-4A56-8756-906395BA6EE1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D77-6609-419B-8225-1388874ED57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0BF4-CA59-44EA-ACD2-1C0FF87CBB1E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EFE-058C-4727-8A37-333C140FC948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AC7-0151-49FE-87CD-E43E0AA7065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1125360"/>
            <a:ext cx="7559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Franklin Gothic Medium"/>
              </a:rPr>
              <a:t>ТРЕНАЖЕР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УЛЬТИПЛИКАЦИОННЫЕ ГЕРОИ – РОССИЯ, АМЕРИКА, ВЕЛИКОБРИТАНИЯ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148000" y="400536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втор: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азонова Елена Леонидовн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едагог дополнительного образования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МБДОУ д/с общеразвивающего вида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«Северное сияние»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. Нижнесортымский Сургутский район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Тюменской области ХМАО-Югр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Объект 2"/>
          <p:cNvSpPr/>
          <p:nvPr/>
        </p:nvSpPr>
        <p:spPr>
          <a:xfrm>
            <a:off x="3924360" y="616572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012 год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Объект 2"/>
          <p:cNvSpPr/>
          <p:nvPr/>
        </p:nvSpPr>
        <p:spPr>
          <a:xfrm>
            <a:off x="1116000" y="3068640"/>
            <a:ext cx="59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едназначен для детей старшего дошкольного возраста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2320" y="189000"/>
            <a:ext cx="2043360" cy="2232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297000" y="213372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519120" y="4489560"/>
            <a:ext cx="2658960" cy="221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388764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3" name="Управляющая кнопка: в конец 1"/>
          <p:cNvGrpSpPr/>
          <p:nvPr/>
        </p:nvGrpSpPr>
        <p:grpSpPr>
          <a:xfrm>
            <a:off x="7669080" y="6364440"/>
            <a:ext cx="1236960" cy="664920"/>
            <a:chOff x="7669080" y="6364440"/>
            <a:chExt cx="1236960" cy="664920"/>
          </a:xfrm>
        </p:grpSpPr>
        <p:pic>
          <p:nvPicPr>
            <p:cNvPr id="224" name="Управляющая кнопка: в конец 1" descr=""/>
            <p:cNvPicPr/>
            <p:nvPr/>
          </p:nvPicPr>
          <p:blipFill>
            <a:blip r:embed="rId5"/>
            <a:stretch/>
          </p:blipFill>
          <p:spPr>
            <a:xfrm>
              <a:off x="7669080" y="6364440"/>
              <a:ext cx="1236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028000" y="6381720"/>
              <a:ext cx="865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652320" y="189000"/>
            <a:ext cx="2043360" cy="2232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297000" y="213372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519120" y="4489560"/>
            <a:ext cx="265896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4"/>
          <a:stretch/>
        </p:blipFill>
        <p:spPr>
          <a:xfrm>
            <a:off x="4091040" y="2060640"/>
            <a:ext cx="38275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30" name="Управляющая кнопка: в конец 6"/>
          <p:cNvGrpSpPr/>
          <p:nvPr/>
        </p:nvGrpSpPr>
        <p:grpSpPr>
          <a:xfrm>
            <a:off x="7669080" y="6364440"/>
            <a:ext cx="1236960" cy="664920"/>
            <a:chOff x="7669080" y="6364440"/>
            <a:chExt cx="1236960" cy="664920"/>
          </a:xfrm>
        </p:grpSpPr>
        <p:pic>
          <p:nvPicPr>
            <p:cNvPr id="231" name="Управляющая кнопка: в конец 6" descr=""/>
            <p:cNvPicPr/>
            <p:nvPr/>
          </p:nvPicPr>
          <p:blipFill>
            <a:blip r:embed="rId5"/>
            <a:stretch/>
          </p:blipFill>
          <p:spPr>
            <a:xfrm>
              <a:off x="7669080" y="6364440"/>
              <a:ext cx="1236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028000" y="6381720"/>
              <a:ext cx="865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652320" y="189000"/>
            <a:ext cx="20433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297000" y="213372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519120" y="4489560"/>
            <a:ext cx="2658960" cy="221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4"/>
          <a:stretch/>
        </p:blipFill>
        <p:spPr>
          <a:xfrm>
            <a:off x="4170240" y="2119320"/>
            <a:ext cx="3732480" cy="272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37" name="Управляющая кнопка: в конец 7"/>
          <p:cNvGrpSpPr/>
          <p:nvPr/>
        </p:nvGrpSpPr>
        <p:grpSpPr>
          <a:xfrm>
            <a:off x="7669080" y="6364440"/>
            <a:ext cx="1236960" cy="664920"/>
            <a:chOff x="7669080" y="6364440"/>
            <a:chExt cx="1236960" cy="664920"/>
          </a:xfrm>
        </p:grpSpPr>
        <p:pic>
          <p:nvPicPr>
            <p:cNvPr id="238" name="Управляющая кнопка: в конец 7" descr=""/>
            <p:cNvPicPr/>
            <p:nvPr/>
          </p:nvPicPr>
          <p:blipFill>
            <a:blip r:embed="rId5"/>
            <a:stretch/>
          </p:blipFill>
          <p:spPr>
            <a:xfrm>
              <a:off x="7669080" y="6364440"/>
              <a:ext cx="1236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028000" y="6381720"/>
              <a:ext cx="865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52320" y="189000"/>
            <a:ext cx="2043360" cy="223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084720" y="1981080"/>
            <a:ext cx="2880000" cy="288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179280" y="4541760"/>
            <a:ext cx="2659320" cy="2216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4"/>
          <a:stretch/>
        </p:blipFill>
        <p:spPr>
          <a:xfrm>
            <a:off x="2987640" y="4749840"/>
            <a:ext cx="2765520" cy="179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4" name="Picture 7" descr=""/>
          <p:cNvPicPr/>
          <p:nvPr/>
        </p:nvPicPr>
        <p:blipFill>
          <a:blip r:embed="rId5"/>
          <a:stretch/>
        </p:blipFill>
        <p:spPr>
          <a:xfrm>
            <a:off x="3041640" y="395280"/>
            <a:ext cx="2765520" cy="18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Picture 8" descr=""/>
          <p:cNvPicPr/>
          <p:nvPr/>
        </p:nvPicPr>
        <p:blipFill>
          <a:blip r:embed="rId6"/>
          <a:stretch/>
        </p:blipFill>
        <p:spPr>
          <a:xfrm>
            <a:off x="3021120" y="2562120"/>
            <a:ext cx="275724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6" name="Управляющая кнопка: возврат 1"/>
          <p:cNvGrpSpPr/>
          <p:nvPr/>
        </p:nvGrpSpPr>
        <p:grpSpPr>
          <a:xfrm>
            <a:off x="7596360" y="6370560"/>
            <a:ext cx="1382400" cy="669960"/>
            <a:chOff x="7596360" y="6370560"/>
            <a:chExt cx="1382400" cy="669960"/>
          </a:xfrm>
        </p:grpSpPr>
        <p:pic>
          <p:nvPicPr>
            <p:cNvPr id="247" name="Управляющая кнопка: возврат 1" descr=""/>
            <p:cNvPicPr/>
            <p:nvPr/>
          </p:nvPicPr>
          <p:blipFill>
            <a:blip r:embed="rId7"/>
            <a:stretch/>
          </p:blipFill>
          <p:spPr>
            <a:xfrm>
              <a:off x="7596360" y="6370560"/>
              <a:ext cx="13824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956720" y="6383160"/>
              <a:ext cx="1008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Rot by="120000">
                                      <p:cBhvr>
                                        <p:cTn id="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Rot by="120000">
                                      <p:cBhvr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59:53Z</dcterms:created>
  <dc:creator>HP TouchSmart</dc:creator>
  <dc:description/>
  <dc:language>en-US</dc:language>
  <cp:lastModifiedBy>HP TouchSmart</cp:lastModifiedBy>
  <dcterms:modified xsi:type="dcterms:W3CDTF">2012-02-26T17:25:50Z</dcterms:modified>
  <cp:revision>15</cp:revision>
  <dc:subject/>
  <dc:title>Презентация PowerPoint</dc:title>
</cp:coreProperties>
</file>