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567-7A3F-42E1-A208-AA79D9A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04D-512C-434B-9DF2-962D4D2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B5B-D96E-46AC-9F85-00504D1E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BB0-B5FE-4AA8-A279-CC7C62AF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918-400F-4797-87EC-D64A5739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392-9217-4203-B55B-67DB240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0C26-7908-429A-A4F2-E0A1DDA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CCF1-DB3C-47BD-A47F-5408C8E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000-5B74-45A2-B9D6-AD5E0A2E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3206-C2F3-407E-8C10-885666E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67CE-4A0D-44DA-A5DF-FEEEE07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90B-2546-45FA-AB75-5FB1AE1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B92-26AD-4F97-853D-9EFDB4C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BAB-4341-4AF8-BC0A-25F5555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13BB-713E-4B3C-B7E3-7063869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F8E-5D25-48BA-8422-436616DA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3E2-635C-4463-9989-6825F8CD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F0C-45FD-41FA-B7F2-7A51B71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046-228F-492A-AFEB-C0668FE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591-160F-4904-897E-AFE8B60A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89D-D7FF-47F3-A220-622B16A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4E6-52A5-48BB-9743-4C11B06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1F3-D313-4A1F-82FE-8041692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845-6033-4761-9D5D-0BA313A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10A-22D7-4B96-9F65-78F1C2749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805-F91B-4CBA-B721-235A16DDB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antclub.ru/formicidae/ponerinae/ponerini/dinoponera/dinoponera-longipes/xris/7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Насекомые – самый большой класс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ценко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7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СО школы №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Удивительное в мире насекомы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нообразие видов (29 отрядов, 2-3 млн. видов, что больше, чем всех прочих животных и растений вместе взятых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игантская численность (миллиарды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ность к поле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ая сила (гусеница может поднять груз, приблизительно в 25 раз тяжелее ее собственного веса, муравей - в 100 раз, пиявка - в 1500 ра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стижимое по сложности и целесообразности строение организм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ой необъяснимое поведение отдельных особей, семейств, коло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умное поведение общественных насекомых («сельскохозяйственное производство» муравье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Насекомые"/>
          <p:cNvPicPr/>
          <p:nvPr/>
        </p:nvPicPr>
        <p:blipFill>
          <a:blip r:embed="rId1"/>
          <a:stretch/>
        </p:blipFill>
        <p:spPr>
          <a:xfrm>
            <a:off x="7524720" y="1557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logo" descr=""/>
          <p:cNvPicPr/>
          <p:nvPr/>
        </p:nvPicPr>
        <p:blipFill>
          <a:blip r:embed="rId2"/>
          <a:stretch/>
        </p:blipFill>
        <p:spPr>
          <a:xfrm>
            <a:off x="2700360" y="5950080"/>
            <a:ext cx="39718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85080" y="3284640"/>
            <a:ext cx="1258920" cy="129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921800" y="5049720"/>
            <a:ext cx="118728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Разнообразие насекомых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4292280"/>
            <a:ext cx="8007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бщие призна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пары ног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 четко разделено на голову, грудь и брюшк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ыхание у высших насекомых осуществляется с помощью трахейной систе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инство имеют крыль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, как правило, с превращениями: яйцо – личинка - нимфа (или куколка) - взрослое насеком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воили все среды жизни (наземную, водную, воздушную, почвенную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змер насекомых – от 0,2 до 330 м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отовой аппарат приспособлен к разнообразной пище. Он может быть сосущим (бабочки), лижущим (мухи), грызущим (жуки), колюще-сосущим (комары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екоторые живут в одиночку (хищные жуки), многие – большими семьями (муравьи, термиты, пчелы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стойчивы к неблагоприятным условиям среды (от Заполярья до горячих источников при +5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6000" y="4005360"/>
            <a:ext cx="171432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48720" y="69228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оль насекомых в жизни человека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83628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красные опылители (15 % растительной пищи обязаны своим урожаем насекомым-опылителям. Они опыляют и большинство растительных кормов для животных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чвообразователи (насекомые улучшают плодородие почвы, сдерживают чрезмерное распространение многих сельскохозяйственных вредителей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нитары прир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изводят мед и лекарственные вещества, красители сочных цветов, шел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олько малая часть (около 1 %) насекомых, приносит невольный ущерб деятельности чело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80360" y="19890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2387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451640" y="4095720"/>
            <a:ext cx="1584360" cy="117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80360" y="5599080"/>
            <a:ext cx="158580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8920" y="764640"/>
            <a:ext cx="7488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ямокрылые – кузнечики, саранча, сверчки, медведки, таракановые, богомолы, термиты, стрекозы, поденки, вш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внокрылые (членистохоботные) – цикады, червецы, тл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ужесткокрылые (или клопы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жесткокрылые (или жуки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шуекрылые (или бабочки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вукрылые – мухи, комары, москиты, мошки, блох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епончатокрылые – пчелы, осы, муравьи, наездники и другие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036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лассификация отрядов насекомых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1714320" cy="1209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67640" y="5157720"/>
            <a:ext cx="13446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136836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67640" y="836640"/>
            <a:ext cx="1295280" cy="957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667640" y="3141720"/>
            <a:ext cx="1352520" cy="90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омар вида Aedes aegypti — паразит и переносчик лихорадки денге и жёлтой лихорадки"/>
          <p:cNvPicPr/>
          <p:nvPr/>
        </p:nvPicPr>
        <p:blipFill>
          <a:blip r:embed="rId6"/>
          <a:stretch/>
        </p:blipFill>
        <p:spPr>
          <a:xfrm>
            <a:off x="7667640" y="1916280"/>
            <a:ext cx="1368360" cy="1087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6165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Наука о насекомых - энтомолог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сшие общественные насекомые - мурав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981000"/>
            <a:ext cx="7561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вестно более 10 тыс. видов муравьев. Если взвесить всех муравьев, то они могут составить до 15 - 25 % общей земной биомассы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уравьи развились от ос в середине Мелового периода приблизительно 120 - 170 миллионов лет наза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пространены повсеместно, кроме Антарктиды и Крайнего Сев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и насчитывают до  1 млн. особей в муравейн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я состоит из самцов, появляющихся на период спаривания,  а затем погибающих, и самок, большая часть которых является рабочими, а одна или несколько главных самок откладывают яй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еры тела – от 0,8 до 30 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раска от светло-желтой до чер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рение развито слабо, а обоняние, вкус и осязание – хорош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большинства развиты жало и ядовитые железы, выделяющие муравьиную кисл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ищники (поедают живых существ от мухи до крокодила и даже раненого льва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619280" cy="1388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236000" y="4005360"/>
            <a:ext cx="1908000" cy="1271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51640" y="83664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80360" y="2276640"/>
            <a:ext cx="176364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Уникальные способности мурав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8920" y="62064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муравьев самый большой из всех живых существ мозг (по отношению к телу), сложные инстинк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равьи разводят и расселяют тлей для получения медвяной росы, а также поедают их, обеспечивая себя белковой пи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труда (одни собирают пищу, другие ее относят, третьи – охраняют рабочи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насекомых только муравьям свойственны "войны" и "рабовладельчество". Некоторые виды муравьев нападают на другой муравейник и уносят из него куколок. Вышедшие из куколок муравьи становятся рабами-рабоч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еление муравьев происходит в середине лета. Иногда в городе можно наблюдать тучи летящих самцов и самок черного муравья (Lasius niger), который устраивает гнезда в корнях тополей, на газонах и т.д. После того, как самка найдет подходящее место для новой колонии, она отгрызает крыл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равей - отличный семьянин. Муравьи способны отличать своих "братьев" благодаря запаху, вырабатываемому специальными железами. Рабочие муравьи в первую очередь должны прислуживать родственному клану – той муравьихе, которая их произвела. Некоторые муравьи даже способны уничтожать "чужие" яйца или скармливать их "своим" личин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08720" y="83664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08720" y="414972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380360" y="2708280"/>
            <a:ext cx="176364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667640" y="5451480"/>
            <a:ext cx="136836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89000"/>
            <a:ext cx="84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нтересное из жизни мурав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абочие муравьи никогда не спят, в среднем живут 5-7 дней. Максимальный срок жизни 18 дне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нутри муравейника (многоэтажного сооружения, большая часть которого находится под землей) – чистота и порядо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ежде чем заняться поисками пищи, муравьи принюхиваются к своим собратьям, вернувшимся с прогулки за пределы гнезда. Это позволяет колонии распределять силы путем взаимодействия между отдельными особя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юбовь к наркотическим веществам. Такие вещества способны выделять некоторые насекомые мирмикофилы. Когда муравейник переселяется с одного места на другое, муравьи забирают не только свои коконы, но и таких сожителей. Сохраняя у себя "нахлебников" и употребляя их выделения некоторые муравьи перестают работать, и колония приходит в упадок. Любят муравьи и сладкие выделения тлей, при этом защищая их от враго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Большинство муравьев вовсе не ищут встреч с человеком и бросаются на него, лишь когда «разрушитель» приближается к гнезду. Самые опасные — южноамериканские и африканские бродячие муравьи, которые сметают все на своем пути, и людям приходится покидать деревни или возводить вокруг домов огненный заслон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08720" y="3860640"/>
            <a:ext cx="1835280" cy="149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835280" cy="1408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08720" y="2062080"/>
            <a:ext cx="1835280" cy="17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093080" y="5445000"/>
            <a:ext cx="2050920" cy="13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7:43:44Z</dcterms:created>
  <dc:creator>Александр Луценко</dc:creator>
  <dc:description/>
  <dc:language>en-US</dc:language>
  <cp:lastModifiedBy>Александр Луценко</cp:lastModifiedBy>
  <dcterms:modified xsi:type="dcterms:W3CDTF">2008-11-09T14:02:44Z</dcterms:modified>
  <cp:revision>27</cp:revision>
  <dc:subject/>
  <dc:title>Царство грибов в живой природе</dc:title>
</cp:coreProperties>
</file>