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481-283C-4D73-9B63-91596CED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C9A-8565-49D3-B3E9-AE34723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F49-31C7-4BFD-934B-0836EFF7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401-7F1B-451A-B3B4-69FDE5CC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1DF-CC8A-4F52-868F-C6504538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CDF-1AD5-4CCB-90E0-EB0CBD7D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3F9-F102-4885-ADFC-63F2812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2AD-B560-499E-BD83-EC1317AD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9E0-7FE3-468E-A531-556104E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7D0-3DC7-4E8D-99E7-291D20D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2FE-A923-4A23-ACBE-550C0F9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94F-B7C5-436A-A667-5B63ED4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F0E-9C50-4ED4-9B82-D58802264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Ежу на ужин мышонок нуж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етр_Ильич_Чайковский_-_Вальс_Цветов_(mp3ostrov.com).mp3" descr=""/>
          <p:cNvPicPr/>
          <p:nvPr/>
        </p:nvPicPr>
        <p:blipFill>
          <a:blip r:embed="rId1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6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307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488360" cy="568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785960" y="85716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428760" y="221472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Нарисуйте любого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Письменно ответьте на вопрос, чтобы вы сделали со снежным цветком, если бы его наш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93560" y="920880"/>
            <a:ext cx="8199720" cy="3230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016000" y="2967120"/>
            <a:ext cx="3699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3300"/>
                </a:solidFill>
                <a:latin typeface="Arial"/>
              </a:rPr>
              <a:t>«Снежный цвето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3300"/>
                </a:solidFill>
                <a:latin typeface="Arial"/>
              </a:rPr>
              <a:t>Сергей Козл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гей Коз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9680" y="1928520"/>
            <a:ext cx="40006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дился в Москв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1939 год – 2010 год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5" descr="http://www.gorlib.ru/info/biography/kozlov/img/kozlov.jpg"/>
          <p:cNvPicPr/>
          <p:nvPr/>
        </p:nvPicPr>
        <p:blipFill>
          <a:blip r:embed="rId1"/>
          <a:stretch/>
        </p:blipFill>
        <p:spPr>
          <a:xfrm>
            <a:off x="5143680" y="1428840"/>
            <a:ext cx="3286080" cy="464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Что такое пье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500200"/>
            <a:ext cx="7572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ьеса- драматическое произведение для театрального предст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680" y="1599840"/>
            <a:ext cx="392400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600200"/>
            <a:ext cx="4186080" cy="1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то главные герои пьес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8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3429000" cy="314316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"/>
          <p:cNvPicPr/>
          <p:nvPr/>
        </p:nvPicPr>
        <p:blipFill>
          <a:blip r:embed="rId2"/>
          <a:stretch/>
        </p:blipFill>
        <p:spPr>
          <a:xfrm>
            <a:off x="4572000" y="1214280"/>
            <a:ext cx="3429000" cy="4929480"/>
          </a:xfrm>
          <a:prstGeom prst="rect">
            <a:avLst/>
          </a:prstGeom>
          <a:ln w="0">
            <a:noFill/>
          </a:ln>
        </p:spPr>
      </p:pic>
      <p:pic>
        <p:nvPicPr>
          <p:cNvPr id="55" name="Петр_Ильич_Чайковский_-_Вальс_Цветов_(mp3ostrov.com).mp3" descr=""/>
          <p:cNvPicPr/>
          <p:nvPr/>
        </p:nvPicPr>
        <p:blipFill>
          <a:blip r:embed="rId3"/>
          <a:stretch/>
        </p:blipFill>
        <p:spPr>
          <a:xfrm>
            <a:off x="828684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5800" y="357192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йчас поиграем. Вот 4 блюда, в них лежат разные предметы, под подблюдные песни девушка с завязанными глазами вынимала из блюда предмет. Каждый из них обозначал су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286160" y="3571920"/>
            <a:ext cx="3786120" cy="2571840"/>
          </a:xfrm>
          <a:prstGeom prst="rect">
            <a:avLst/>
          </a:prstGeom>
          <a:solidFill>
            <a:srgbClr val="ff9966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8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6858000" cy="578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етр_Ильич_Чайковский_-_Сцена_и_Вальс_снежинок_(mp3ostrov.com).mp3" descr=""/>
          <p:cNvPicPr/>
          <p:nvPr/>
        </p:nvPicPr>
        <p:blipFill>
          <a:blip r:embed="rId2"/>
          <a:stretch/>
        </p:blipFill>
        <p:spPr>
          <a:xfrm>
            <a:off x="850104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6514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857760" cy="471492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9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000320" cy="471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14280" y="642600"/>
            <a:ext cx="5857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олоте 2 лягушки, 2 зеленые подру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о утром умывались, полотенцем растир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раво, влево наклонялись и обратно возвращ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ами хлопали, ножками топали, вот здоровья в чем сек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друзьям большой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3642840"/>
            <a:ext cx="34290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8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6786360" cy="5429160"/>
          </a:xfrm>
          <a:prstGeom prst="rect">
            <a:avLst/>
          </a:prstGeom>
          <a:ln w="0">
            <a:noFill/>
          </a:ln>
        </p:spPr>
      </p:pic>
      <p:pic>
        <p:nvPicPr>
          <p:cNvPr id="70" name="audiobook4b_snezhnyy-cvetok_20110301.mp3" descr=""/>
          <p:cNvPicPr/>
          <p:nvPr/>
        </p:nvPicPr>
        <p:blipFill>
          <a:blip r:embed="rId2"/>
          <a:stretch/>
        </p:blipFill>
        <p:spPr>
          <a:xfrm>
            <a:off x="814392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29644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7:34:18Z</dcterms:created>
  <dc:creator>Инна</dc:creator>
  <dc:description/>
  <dc:language>en-US</dc:language>
  <cp:lastModifiedBy>владелец</cp:lastModifiedBy>
  <dcterms:modified xsi:type="dcterms:W3CDTF">2012-02-25T21:47:45Z</dcterms:modified>
  <cp:revision>50</cp:revision>
  <dc:subject/>
  <dc:title>Календарная обрядовая поэзия</dc:title>
</cp:coreProperties>
</file>